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9.gif" ContentType="image/gif"/>
  <Override PartName="/ppt/media/image10.gif" ContentType="image/gi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5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gif" ContentType="image/gif"/>
  <Override PartName="/ppt/media/image2.png" ContentType="image/png"/>
  <Override PartName="/ppt/media/image22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515-6EBA-48A7-B59C-CDBB8DAD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C1B-243B-461F-A2D4-C473D7C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33DA6-1861-4FF1-BE8A-580DB18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F5581-F32D-45D7-9A2C-F247C6E9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E00D7-2EAC-4574-A588-ECEA292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58488-F9EB-4CC4-97C7-F2B7AB2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1314-B2BB-4484-A7DA-60695F9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F1160-45AF-4CB5-94B8-E487A0D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014AD-B2B0-4D5A-814C-6A0D630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439CA-2763-4DEF-ADD4-FB4C0130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8EEE-9D44-4A4B-BE62-86381389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1E9-880B-4583-BDC9-7E04A8D7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D62-A84F-461C-8158-6093D3C8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C135-CDD6-4ED9-91C7-3512AFCD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DCB2-B8E2-49AE-8F20-3D0506B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AAE5-E22F-43BD-A8EC-578F1D79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37F-7EBE-41CD-980E-A076187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D60-41F4-4D01-A7A3-B3B65A77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411C-B7B2-47B5-9644-142DDFBC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7113-9FA5-4612-8864-DCAD7F1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F10-A4FC-4187-816D-2000317C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43D-5670-422C-9C36-3495F8A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5417-8385-448E-9373-7F1ADC1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E694-B208-40DA-A471-474EAD72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FD3-964D-48E1-A942-52949A62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8373-755A-4115-A50E-A76D0B2F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AE9B-722D-473C-9196-563FD0A7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358D-04EF-4FDC-94F9-7D411ECB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9BB6-33AF-48A1-A488-21644478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C733-8248-4F0C-91F3-174B86A6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8C652-4F4D-41EE-A0EF-CFD455D4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BD2-DCE7-44FE-96AB-94B3590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58D2-0024-418E-8703-EE3205BE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46BB-0D1C-4764-8321-CAF4C4B8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C048-EA67-488F-8C13-0192DAE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5E51-003A-4DBD-8FAD-05C575D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EEDE-DCFC-44E9-BFEA-F205E69F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969E-B513-456E-9466-36D5E190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268B-307B-4F1A-A59D-3275F722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B3DF-EAA3-49EE-B682-E9B83197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9A65-2DF6-4833-B732-C55C4A8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C590-147F-4115-A0B6-EBA24635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53A-26B4-4096-80B3-7013B1F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7B63-84E3-4753-A029-4EF1FB0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2CE9-133B-46B2-A30B-2B3E638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9AA6-3F7C-472C-8223-D6D6E511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5F2B-B8F0-4EA3-9C58-7C72CD80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0076-2A81-4ED6-9951-F3F0164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D9A3-9C18-4F6E-83A9-A767F5C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91ED-DCC1-452B-854F-17DC89C4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BA2B-3301-4670-BD5A-3B30409E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ACA3-223D-49B6-880E-FEBD1BC9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3D1D-9FFB-4183-90C8-EF7B5B82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A5C-4051-410E-B951-E6C80B3E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BDBF-FFD5-4DE8-9DE8-45EFACD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FCAF3-3E05-48FB-9283-68AC45F3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5786-65F3-4345-86A5-6E9C3C96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4446-7472-4203-A3B8-2DB601F5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BA1E-65B8-434C-B9DF-016D757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54D3-4F04-4D51-AAD7-95803F7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FC30-02CB-4D10-AED2-3D64EDD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82F0-8890-4463-8087-32EE379E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F7ADA-674D-4A83-8832-CFC9ABA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7879F-3AA0-4948-9A73-1AF73667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907-FB0D-4118-85E9-633BADB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BEFB-BA5F-431C-A47B-6D419B4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9200E-9EB2-46E4-9561-8510BD41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76DC-C452-4F5D-9890-13992C8F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2722-9DB6-4637-B30E-61018359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D057-2F7D-409F-ADFA-3947E30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DBBD-3561-4B8E-9C6E-C2C5923D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9369-FB5E-494C-B08F-8C2FE33A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C47D2-579E-4DEB-B7F5-56C5BB2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AA6AF-FCF9-4197-90C6-DED7800E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3FF19-5D55-4EF3-BBFD-0EF51539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172-C524-4263-8DCB-AEB96FF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C0AD-E7DA-4F7D-8D04-A82C81C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6FF6-48AA-4F55-B374-DA6D5DCE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3B90-0506-412D-A2FD-72ECD895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202A-8466-4F52-A238-5C86194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7F57-B694-4B10-9B53-A06212B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AE23-2A92-4F19-9B08-CEDBC919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85E4-CF76-4E80-8D24-C0201FF7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A46AE-B6EE-4DC8-A143-22B64A9D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8408E-2E21-464F-B433-A236415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2685C-0BDF-4704-9F4B-3D9ECAF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5BC-BD89-40D3-90A5-B6E668A1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7267F-AC51-4A99-9A9D-4D7260A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FCB9-E669-4EC5-B407-46B672A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F37A-DCD9-4C72-9AA9-4EFD02A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1F44-42D6-43BA-99F8-D8D5CAD5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966A-C468-4463-909D-955BB090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26E2C-4993-461D-8685-3A6A53CC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81187-6C14-4BDA-985D-76CF8068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BFFDF-5408-49DD-BAFC-8815960C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ACBCD-F7CE-4CA8-9CDC-CCA2FC7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FE109-48FD-45ED-92B3-0B36B5E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61A-EBF1-4759-9E9E-ADBFAB0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0076E-DE40-4CD8-85D8-B7CD9E0F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505B-812C-41E8-BB28-198E3762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3A43E-1F42-4E34-829E-3E7E26D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31486-27CA-428D-ABEB-F6CDE49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7AF8-6A83-4701-9101-C2E0E340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2AA9-DD8D-42DB-8288-E62C8C46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5B999-74FB-46AE-894F-8A5BA67C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43DE9-D1A1-424A-9603-1B0AD997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C728C-B40A-44AC-9021-5AB0C91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EC8C4-FB2D-4C65-8CA1-8EE4A4AE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095-B250-432A-8137-E1E478B4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4D4-0758-4C7F-B332-5A8AD517C6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DEEB-1C4B-4973-8D85-16F55AE3BB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918-03FD-439A-9598-05265F7259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251-CDA0-4722-9FD9-C4F29937F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EB2-02CD-4419-863C-2D6009E6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3643-DF87-4031-8FB0-CA79C164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0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D359-A75E-4BAE-8AA4-3C23DDE857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83CB-B0FC-4438-BF81-08FE7F7CB6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280656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76720" cy="34480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700360" y="4149720"/>
            <a:ext cx="585936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по русскому  язы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я начальных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имназии «Аврор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ркарян Анжелы   Алексеев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чебная  гимнаст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44643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88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Закрепление изученного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ктант с подготовкой. Прочитай тек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зови слова с орфограммой согласной буквой. Устно  подбери к этим словам проверочные. Напиши под  диктовку учи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ош наш лес. Там много сочных трав.  Вот  дуб.  Под дубом  рос  белый  гриб.  Рядом  частый  ельник. Там Глеб  сорвал груздь. В кустах пел дроз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Письмо по памяти.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уропатки на ночле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голубой нырнули сне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 * *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ёт и труд рядом живу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зимний холод всякий мол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дчеркните орфограммы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57520" cy="81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гадай загадки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Запишите правильные ответы в тетрадь вместе с проверочными словами. Подчеркните изучаемую орфограм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Берега зелёные, вода красная, рыбки чёр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 поле лестница лежит, дом по лестнице беж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Зимой в поле лежал, а весной в реку побежа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За тобою он плетётся, хоть на месте остаё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 rot="16200000">
            <a:off x="2124000" y="47556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 rot="8256000">
            <a:off x="7881480" y="5420880"/>
            <a:ext cx="974880" cy="9860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1908000" y="292428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133200" y="1413000"/>
            <a:ext cx="658800" cy="7110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3851280" y="0"/>
            <a:ext cx="936720" cy="6206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5651640" y="2349360"/>
            <a:ext cx="718920" cy="711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3995640" y="5805360"/>
            <a:ext cx="703440" cy="7113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8"/>
          <a:stretch/>
        </p:blipFill>
        <p:spPr>
          <a:xfrm>
            <a:off x="684360" y="6165720"/>
            <a:ext cx="644400" cy="692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" descr="поезд-2"/>
          <p:cNvPicPr/>
          <p:nvPr/>
        </p:nvPicPr>
        <p:blipFill>
          <a:blip r:embed="rId9"/>
          <a:stretch/>
        </p:blipFill>
        <p:spPr>
          <a:xfrm>
            <a:off x="3635280" y="2708280"/>
            <a:ext cx="1476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верь себя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арбу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поез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сне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сл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Догадайся!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читайте слова , какая орфограмма есть в большинстве сл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ть ли среди них лишние сло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21310"/>
                </a:solidFill>
                <a:latin typeface="Times New Roman"/>
              </a:rPr>
              <a:t>Коляска-повязка, гриб-хрип, подружка-ватрушка, молотки-городки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2131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a21310"/>
                </a:solidFill>
                <a:latin typeface="Times New Roman"/>
              </a:rPr>
              <a:t>плот-плод, лимон-бульо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овите пары согласных по глухости-звонкости. В какой части слова они находя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a5a"/>
                </a:solidFill>
                <a:latin typeface="Times New Roman"/>
              </a:rPr>
              <a:t>Сформулируйте тему ур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140360" y="5084640"/>
            <a:ext cx="354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равописание проверяемых согласных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на  конце и  в середине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о надо запомни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763560" y="1968480"/>
            <a:ext cx="2355840" cy="27939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564000" y="1628640"/>
            <a:ext cx="50450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ишите словарны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черкни согласные буквы, которые надо провер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каждому слову подберите однокоренные слова. Выдели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Обед ,  сосед ,  абза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 rot="4551000">
            <a:off x="-123840" y="384120"/>
            <a:ext cx="2352600" cy="2104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 rot="4465800">
            <a:off x="3341520" y="5038560"/>
            <a:ext cx="1609560" cy="202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место точек вставьте буквы, устно подбирая проверочные    слов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а_, заво_, медве_ь, тетра_ь, дроз_, обу_ь, дру_, пиро_, кро_ь, гру_, стол_, сосе_ка, берё_ка, ре_кий, оса_ки, боро_ка, похо_ка, сапо_ки, решё_ка,  оре_ки, кни_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Эта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зав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медв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 тетра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роз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обу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 дру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пир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кр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ру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стол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сос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берё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р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й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а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, бор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пох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сапо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ешё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,  оре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, кни</a:t>
            </a: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1:57:17Z</dcterms:created>
  <dc:creator>Princess</dc:creator>
  <dc:description/>
  <dc:language>en-US</dc:language>
  <cp:lastModifiedBy>Учитель</cp:lastModifiedBy>
  <dcterms:modified xsi:type="dcterms:W3CDTF">2015-02-08T10:55:31Z</dcterms:modified>
  <cp:revision>12</cp:revision>
  <dc:subject/>
  <dc:title>Слайд 1</dc:title>
</cp:coreProperties>
</file>