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5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gif" ContentType="image/gif"/>
  <Override PartName="/ppt/media/image2.png" ContentType="image/png"/>
  <Override PartName="/ppt/media/image22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F04-511D-42ED-B3C6-E3E2EA02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172-FE4F-4D0C-98F6-67C64AA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3D2C2-E1FF-4858-A6A1-0BB57F99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AC33-F359-45D2-BDF0-1C71513C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58AB1-BE3F-49FF-A56F-502E7F71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47AD7-E116-4098-BD4D-437C607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FB4CA-A5D8-4380-8E6E-BC38325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FD096-AAE8-40D5-B9E3-6628CE6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1BD0D-D3BE-48CB-8EB1-ADCFBA7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5B6FF-A0BD-4742-91E2-948AC460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CCA3F-1098-4318-A797-EA9E1872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81E-4983-489A-BDA3-66220CA4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CAC-ABC0-488B-B1EA-099E9B51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A74D-9E17-4CCE-9F42-377557DC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1CE5-3511-491C-9C0F-0957BCE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657-8A55-4472-B978-D50D1A19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0DEC-5358-41A2-B224-3E39C84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FCC-59D1-4D2D-A00A-8627D645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03C-A849-4C35-96A9-465F1619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2CB6-B755-433E-A3B2-AD8907E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0AF-DAF8-4490-B1F0-F2175F1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571-ADA5-494F-94D4-7AEBBCA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4DB4-18A9-4871-AC8D-8CDFC2E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0DC-A045-4992-A35A-F112A67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8560-64B5-41A3-A05E-A2675461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0A90-DA5C-40F5-9F85-D2825DB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AA00-00FE-42FD-9145-F9CC662E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7C68-7B07-49F4-B02D-D6947E43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06C6-B6DF-4DB6-A413-687A509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8667-C5AF-46DA-82CE-2108E3B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2621-6F3F-466D-A020-01B5D26E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ED7-BC0C-4FAC-812C-E413413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E7D8-AAEA-49BB-95A3-9402CB85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F86E-34F3-4F95-BCBF-388C790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E771F-3207-4BFC-A155-1BF27FE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F3FC-2D5B-4E4C-AD5A-54EE6DC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3830-DE2F-4C4C-A905-142C71F5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9C4E-0205-4232-A957-9D27CD57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8A37-D2BB-434F-A1C3-0FA3DDC4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30C7-484B-4D59-9C0B-A67E6737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5A68-20B1-488A-B052-DC58C02D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8767-7F97-4B14-98B4-6EB6AC8D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775-25AB-4775-B8D1-6EBEB92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2D6B-802F-4357-B6AB-6B4C4C0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5476-4C10-4653-8F7F-D1F60C1A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4A4B-A3D4-440C-A77F-84DC5CA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EB99-BFD1-4529-9834-F52C9CE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9CE6-EB1E-4388-AD83-FFDE31E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B0DD-A2EC-4A30-8A28-FFC3A50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2B42-E8F8-447C-B5A3-918DCD3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D485-EF08-458C-A6CA-9E87ECB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F160-EAD7-4EAC-A565-4D427977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CB87-332C-407C-A1B7-1A62118F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256-2BDE-4484-AF02-E09E522F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0915-8FA2-4FE9-97C3-8A41D77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9744-8DF8-4A98-88BA-9668ACAD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8561-4ED6-49C7-BD5B-A538814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6E4E-0B37-467C-AC3F-6D9EEA3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9338-AD66-4C7C-B2D5-DA727FF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6ADC-8D66-4342-8C4B-07DEC99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DB12-6D61-486D-9A14-67BA518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67C1-102D-4A0C-BC6F-D3D12F1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0781-F75F-4BF0-B2B5-0FB9E1C7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2583-1CAD-4F57-B0E3-023A0BD6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0E6-1233-4BCB-BAA7-13720775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538D-2856-4140-8556-C8F9512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3B85-C07B-4DAF-B703-79A61C8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680F-5CC8-428F-84EA-B7E417A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7E95-E4DD-4B50-8827-55D9F9AE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95F4-1C25-492B-ADA7-FD7CE489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9BEB-8657-4325-AA07-1E5BB57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CB58-250E-4403-9368-517DEAB3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0098-38E6-4288-8A29-A254E53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1119-85DA-463A-A86B-221DAFF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EEDD3-8B76-495A-B971-1B0FFD4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100-5BC2-470D-B15C-555E363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199B-AE4E-4D90-92A1-111D0CE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0E09C-C36E-44B0-B856-11EF7D6B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AB0EC-BA1E-4EBC-ADAB-467499B7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CF176-62BE-4187-A376-BCA6562E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F412-1219-4239-8AFB-2E157709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B8D2-A777-4FAF-9C24-C789B6E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348D-6789-4038-9CB1-7D50C8B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7925-0513-406C-9942-DEE9E02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82AC-666F-4C5B-931C-97B69D6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DB1FF-26B2-446E-8709-DD01845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FD1-16C6-4E38-9ED1-BD1F8D9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47E2-0607-4325-A015-6C7363E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0B87-632D-48D6-AD11-9C2A2F1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9E91-7292-4124-AC1C-18F1527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0F35-D0C9-4940-B1C9-38E8621F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E590-3F87-4BD7-8307-941A9876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326C7-4F81-414C-9DBC-68598B75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9B35F-DFCF-4242-8979-8264FDFF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1E9A-A618-4684-A182-14D8A80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4076-E678-42B6-AAC1-5B519BA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6DB0-4AB1-4B83-8CD8-8B31E1F5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A8A-B992-4042-878E-0CF0E1D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0549-1EBC-4DF0-B93D-708F418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87CE-FEC3-48C8-AE98-1AA2FFC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D7CE-9798-49F7-9F6A-220EE94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D3BF-7E4A-4B29-9172-09A600F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31359-60B9-410B-9759-DF3C931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0CD9-948B-4E39-8F86-1DEF284B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66CE-1B51-48B1-B6DF-86E8FCE9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A5FF-5246-4C65-A231-28FD7733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6B59F-7ADC-45BA-9ADA-6EB535B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425E3-3B2F-4EBC-8F11-4576359D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D67-BC14-471A-B2BF-F423ED2A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65E-DA81-42D5-91B2-16104865C5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CE1-F979-4962-AC24-2BBF2BC0A2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EA5-5B34-4645-BC25-82DA51A8C4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FB3-2168-43C6-AB56-782262D682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2E5-52CD-41F7-A4CE-55D706CA5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088-32F4-4B24-B601-EF5693E0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474-30D4-419E-A729-78DAFF6C9B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BD6-11AE-4720-A8E2-221818E587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280656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448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700360" y="4149720"/>
            <a:ext cx="585936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по русскому 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мназии «Аврор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карян Анжелы   Алексеев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чебная  гимнаст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4464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88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крепление изученного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ктант с подготовкой. Прочитай тек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зови слова с орфограммой согласной буквой. Устно  подбери к этим словам проверочные. Напиши под  диктовку учи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ош наш лес. Там много сочных трав.  Вот  дуб.  Под дубом  рос  белый  гриб.  Рядом  частый  ельник. Там Глеб  сорвал груздь. В кустах пел дроз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Письмо по памяти.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уропатки на ночле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голубой нырнули сне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 * *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ёт и труд рядом живу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зимний холод всякий мол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дчеркните орфограммы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57520" cy="81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гадай загадки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Запишите правильные ответы в тетрадь вместе с проверочными словами. Подчеркните изучаемую орфограм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Берега зелёные, вода красная, рыбки чёр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 поле лестница лежит, дом по лестнице беж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Зимой в поле лежал, а весной в реку побеж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За тобою он плетётся, хоть на месте остаё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 rot="16200000">
            <a:off x="2124000" y="47556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 rot="8256000">
            <a:off x="7881480" y="5420880"/>
            <a:ext cx="974880" cy="9860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1908000" y="292428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133200" y="1413000"/>
            <a:ext cx="658800" cy="7110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3851280" y="0"/>
            <a:ext cx="936720" cy="620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5651640" y="2349360"/>
            <a:ext cx="718920" cy="711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3995640" y="5805360"/>
            <a:ext cx="703440" cy="711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8"/>
          <a:stretch/>
        </p:blipFill>
        <p:spPr>
          <a:xfrm>
            <a:off x="684360" y="6165720"/>
            <a:ext cx="644400" cy="692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" descr="поезд-2"/>
          <p:cNvPicPr/>
          <p:nvPr/>
        </p:nvPicPr>
        <p:blipFill>
          <a:blip r:embed="rId9"/>
          <a:stretch/>
        </p:blipFill>
        <p:spPr>
          <a:xfrm>
            <a:off x="3635280" y="2708280"/>
            <a:ext cx="1476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верь себя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арбу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поез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сне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сл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Догадайся!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читайте слова , какая орфограмма есть в большинстве сл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ть ли среди них лишние сло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Коляска-повязка, гриб-хрип, подружка-ватрушка, молотки-городк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плот-плод, лимон-бульо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овите пары согласных по глухости-звонкости. В какой части слова они находя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a5a"/>
                </a:solidFill>
                <a:latin typeface="Times New Roman"/>
              </a:rPr>
              <a:t>Сформулируйте тему ур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354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равописание проверяемых согласных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на  конце и  в середине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о надо запомни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63560" y="1968480"/>
            <a:ext cx="2355840" cy="27939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50450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шите словар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черкни согласные буквы, которые надо провер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каждому слову подберите однокоренные слова. Выдели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Обед ,  сосед ,  абза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 rot="4551000">
            <a:off x="-123840" y="384120"/>
            <a:ext cx="2352600" cy="21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 rot="4465800">
            <a:off x="3341520" y="5038560"/>
            <a:ext cx="1609560" cy="202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место точек вставьте буквы, устно подбирая проверочные    слов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а_, заво_, медве_ь, тетра_ь, дроз_, обу_ь, дру_, пиро_, кро_ь, гру_, стол_, сосе_ка, берё_ка, ре_кий, оса_ки, боро_ка, похо_ка, сапо_ки, решё_ка,  оре_ки, кни_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Эт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зав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медв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тетр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оз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об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др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пи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к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р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стол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сос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берё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р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й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 бо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пох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сап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ешё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 ор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 кни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57:17Z</dcterms:created>
  <dc:creator>Princess</dc:creator>
  <dc:description/>
  <dc:language>en-US</dc:language>
  <cp:lastModifiedBy>Учитель</cp:lastModifiedBy>
  <dcterms:modified xsi:type="dcterms:W3CDTF">2015-02-08T10:55:31Z</dcterms:modified>
  <cp:revision>12</cp:revision>
  <dc:subject/>
  <dc:title>Слайд 1</dc:title>
</cp:coreProperties>
</file>