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1.jpeg" ContentType="image/jpe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38.png" ContentType="image/png"/>
  <Override PartName="/ppt/media/image128.png" ContentType="image/png"/>
  <Override PartName="/ppt/media/image31.png" ContentType="image/png"/>
  <Override PartName="/ppt/media/image9.png" ContentType="image/png"/>
  <Override PartName="/ppt/media/image39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53.png" ContentType="image/png"/>
  <Override PartName="/ppt/media/image129.png" ContentType="image/png"/>
  <Override PartName="/ppt/media/image32.png" ContentType="image/png"/>
  <Override PartName="/ppt/media/image133.png" ContentType="image/png"/>
  <Override PartName="/ppt/media/image134.png" ContentType="image/png"/>
  <Override PartName="/ppt/media/image160.png" ContentType="image/png"/>
  <Override PartName="/ppt/media/image161.png" ContentType="image/png"/>
  <Override PartName="/ppt/media/image162.png" ContentType="image/png"/>
  <Override PartName="/ppt/media/image151.png" ContentType="image/png"/>
  <Override PartName="/ppt/media/image40.png" ContentType="image/png"/>
  <Override PartName="/ppt/media/image137.png" ContentType="image/png"/>
  <Override PartName="/ppt/media/image163.png" ContentType="image/png"/>
  <Override PartName="/ppt/media/image152.png" ContentType="image/png"/>
  <Override PartName="/ppt/media/image41.png" ContentType="image/png"/>
  <Override PartName="/ppt/media/image138.png" ContentType="image/png"/>
  <Override PartName="/ppt/media/image164.png" ContentType="image/png"/>
  <Override PartName="/ppt/media/image153.png" ContentType="image/png"/>
  <Override PartName="/ppt/media/image42.png" ContentType="image/png"/>
  <Override PartName="/ppt/media/image139.png" ContentType="image/png"/>
  <Override PartName="/ppt/media/image165.png" ContentType="image/png"/>
  <Override PartName="/ppt/media/image43.png" ContentType="image/png"/>
  <Override PartName="/ppt/media/image166.png" ContentType="image/png"/>
  <Override PartName="/ppt/media/image44.png" ContentType="image/png"/>
  <Override PartName="/ppt/media/image130.png" ContentType="image/png"/>
  <Override PartName="/ppt/media/image167.png" ContentType="image/png"/>
  <Override PartName="/ppt/media/image45.png" ContentType="image/png"/>
  <Override PartName="/ppt/media/image131.png" ContentType="image/png"/>
  <Override PartName="/ppt/media/image168.png" ContentType="image/png"/>
  <Override PartName="/ppt/media/image46.png" ContentType="image/png"/>
  <Override PartName="/ppt/media/image132.png" ContentType="image/png"/>
  <Override PartName="/ppt/media/image169.png" ContentType="image/png"/>
  <Override PartName="/ppt/media/image150.png" ContentType="image/png"/>
  <Override PartName="/ppt/media/image146.png" ContentType="image/png"/>
  <Override PartName="/ppt/media/image145.png" ContentType="image/png"/>
  <Override PartName="/ppt/media/image144.png" ContentType="image/png"/>
  <Override PartName="/ppt/media/image143.png" ContentType="image/png"/>
  <Override PartName="/ppt/media/image56.png" ContentType="image/png"/>
  <Override PartName="/ppt/media/image142.png" ContentType="image/png"/>
  <Override PartName="/ppt/media/image55.png" ContentType="image/png"/>
  <Override PartName="/ppt/media/image141.png" ContentType="image/png"/>
  <Override PartName="/ppt/media/image54.png" ContentType="image/png"/>
  <Override PartName="/ppt/media/image140.png" ContentType="image/png"/>
  <Override PartName="/ppt/media/image100.png" ContentType="image/png"/>
  <Override PartName="/ppt/media/image49.png" ContentType="image/png"/>
  <Override PartName="/ppt/media/image136.png" ContentType="image/png"/>
  <Override PartName="/ppt/media/image135.png" ContentType="image/png"/>
  <Override PartName="/ppt/media/image109.png" ContentType="image/png"/>
  <Override PartName="/ppt/media/image37.png" ContentType="image/png"/>
  <Override PartName="/ppt/media/image62.png" ContentType="image/png"/>
  <Override PartName="/ppt/media/image159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1.png" ContentType="image/png"/>
  <Override PartName="/ppt/media/image158.png" ContentType="image/png"/>
  <Override PartName="/ppt/media/image6.png" ContentType="image/png"/>
  <Override PartName="/ppt/media/image86.png" ContentType="image/png"/>
  <Override PartName="/ppt/media/image18.png" ContentType="image/png"/>
  <Override PartName="/ppt/media/image34.png" ContentType="image/png"/>
  <Override PartName="/ppt/media/image156.png" ContentType="image/png"/>
  <Override PartName="/ppt/media/image4.png" ContentType="image/png"/>
  <Override PartName="/ppt/media/image84.png" ContentType="image/png"/>
  <Override PartName="/ppt/media/image16.png" ContentType="image/png"/>
  <Override PartName="/ppt/media/image81.png" ContentType="image/png"/>
  <Override PartName="/ppt/media/image13.png" ContentType="image/png"/>
  <Override PartName="/ppt/media/image33.png" ContentType="image/png"/>
  <Override PartName="/ppt/media/image155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154.png" ContentType="image/png"/>
  <Override PartName="/ppt/media/image2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0.png" ContentType="image/png"/>
  <Override PartName="/ppt/media/image175.png" ContentType="image/png"/>
  <Override PartName="/ppt/media/image107.png" ContentType="image/png"/>
  <Override PartName="/ppt/media/image35.png" ContentType="image/png"/>
  <Override PartName="/ppt/media/image60.png" ContentType="image/png"/>
  <Override PartName="/ppt/media/image157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14.png" ContentType="image/png"/>
  <Override PartName="/ppt/media/image82.png" ContentType="image/png"/>
  <Override PartName="/ppt/media/image25.png" ContentType="image/png"/>
  <Override PartName="/ppt/media/image93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92.png" ContentType="image/png"/>
  <Override PartName="/ppt/media/image24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0AAD-F294-42D2-B8E4-29EC59D2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DA32-B70E-4E5C-81E9-2B8039ED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723-C650-4E45-BBAC-1B093F31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F9CA-1BB8-49F3-9BAA-506313DE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CC9C-B51B-458B-9450-4CC1645A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1F0-6080-4DE9-AFB8-0315D3CB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46B-F88D-4045-89FA-770FD786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B64-0389-4D1E-A0D5-74639F9E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F99-6497-47EE-9A68-4DFD6A4F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2D2-6B57-4742-9DF0-9EE66AC3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BA1F-C94D-425E-A244-813715CB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CD7-C11E-4560-B156-F6454A41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03B9-D9E2-4145-A1BA-D40708D8DC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5.png"/><Relationship Id="rId35" Type="http://schemas.openxmlformats.org/officeDocument/2006/relationships/image" Target="../media/image26.png"/><Relationship Id="rId36" Type="http://schemas.openxmlformats.org/officeDocument/2006/relationships/image" Target="../media/image27.png"/><Relationship Id="rId37" Type="http://schemas.openxmlformats.org/officeDocument/2006/relationships/image" Target="../media/image28.png"/><Relationship Id="rId38" Type="http://schemas.openxmlformats.org/officeDocument/2006/relationships/image" Target="../media/image29.png"/><Relationship Id="rId39" Type="http://schemas.openxmlformats.org/officeDocument/2006/relationships/image" Target="../media/image30.png"/><Relationship Id="rId40" Type="http://schemas.openxmlformats.org/officeDocument/2006/relationships/image" Target="../media/image31.png"/><Relationship Id="rId41" Type="http://schemas.openxmlformats.org/officeDocument/2006/relationships/image" Target="../media/image32.png"/><Relationship Id="rId42" Type="http://schemas.openxmlformats.org/officeDocument/2006/relationships/image" Target="../media/image33.png"/><Relationship Id="rId43" Type="http://schemas.openxmlformats.org/officeDocument/2006/relationships/image" Target="../media/image34.png"/><Relationship Id="rId44" Type="http://schemas.openxmlformats.org/officeDocument/2006/relationships/image" Target="../media/image35.png"/><Relationship Id="rId45" Type="http://schemas.openxmlformats.org/officeDocument/2006/relationships/image" Target="../media/image36.png"/><Relationship Id="rId46" Type="http://schemas.openxmlformats.org/officeDocument/2006/relationships/image" Target="../media/image37.png"/><Relationship Id="rId47" Type="http://schemas.openxmlformats.org/officeDocument/2006/relationships/image" Target="../media/image38.png"/><Relationship Id="rId48" Type="http://schemas.openxmlformats.org/officeDocument/2006/relationships/image" Target="../media/image39.png"/><Relationship Id="rId49" Type="http://schemas.openxmlformats.org/officeDocument/2006/relationships/image" Target="../media/image40.png"/><Relationship Id="rId50" Type="http://schemas.openxmlformats.org/officeDocument/2006/relationships/image" Target="../media/image41.png"/><Relationship Id="rId51" Type="http://schemas.openxmlformats.org/officeDocument/2006/relationships/image" Target="../media/image42.png"/><Relationship Id="rId52" Type="http://schemas.openxmlformats.org/officeDocument/2006/relationships/image" Target="../media/image43.png"/><Relationship Id="rId53" Type="http://schemas.openxmlformats.org/officeDocument/2006/relationships/image" Target="../media/image44.png"/><Relationship Id="rId54" Type="http://schemas.openxmlformats.org/officeDocument/2006/relationships/image" Target="../media/image45.png"/><Relationship Id="rId55" Type="http://schemas.openxmlformats.org/officeDocument/2006/relationships/image" Target="../media/image46.png"/><Relationship Id="rId56" Type="http://schemas.openxmlformats.org/officeDocument/2006/relationships/image" Target="../media/image47.png"/><Relationship Id="rId57" Type="http://schemas.openxmlformats.org/officeDocument/2006/relationships/image" Target="../media/image48.png"/><Relationship Id="rId58" Type="http://schemas.openxmlformats.org/officeDocument/2006/relationships/image" Target="../media/image49.png"/><Relationship Id="rId59" Type="http://schemas.openxmlformats.org/officeDocument/2006/relationships/image" Target="../media/image50.png"/><Relationship Id="rId60" Type="http://schemas.openxmlformats.org/officeDocument/2006/relationships/image" Target="../media/image51.png"/><Relationship Id="rId61" Type="http://schemas.openxmlformats.org/officeDocument/2006/relationships/image" Target="../media/image52.png"/><Relationship Id="rId62" Type="http://schemas.openxmlformats.org/officeDocument/2006/relationships/image" Target="../media/image53.png"/><Relationship Id="rId63" Type="http://schemas.openxmlformats.org/officeDocument/2006/relationships/image" Target="../media/image54.png"/><Relationship Id="rId64" Type="http://schemas.openxmlformats.org/officeDocument/2006/relationships/image" Target="../media/image55.png"/><Relationship Id="rId65" Type="http://schemas.openxmlformats.org/officeDocument/2006/relationships/image" Target="../media/image56.png"/><Relationship Id="rId66" Type="http://schemas.openxmlformats.org/officeDocument/2006/relationships/image" Target="../media/image57.png"/><Relationship Id="rId67" Type="http://schemas.openxmlformats.org/officeDocument/2006/relationships/image" Target="../media/image58.png"/><Relationship Id="rId68" Type="http://schemas.openxmlformats.org/officeDocument/2006/relationships/image" Target="../media/image59.png"/><Relationship Id="rId69" Type="http://schemas.openxmlformats.org/officeDocument/2006/relationships/image" Target="../media/image60.png"/><Relationship Id="rId70" Type="http://schemas.openxmlformats.org/officeDocument/2006/relationships/image" Target="../media/image61.png"/><Relationship Id="rId71" Type="http://schemas.openxmlformats.org/officeDocument/2006/relationships/image" Target="../media/image62.png"/><Relationship Id="rId72" Type="http://schemas.openxmlformats.org/officeDocument/2006/relationships/image" Target="../media/image63.png"/><Relationship Id="rId73" Type="http://schemas.openxmlformats.org/officeDocument/2006/relationships/image" Target="../media/image64.png"/><Relationship Id="rId74" Type="http://schemas.openxmlformats.org/officeDocument/2006/relationships/image" Target="../media/image65.png"/><Relationship Id="rId75" Type="http://schemas.openxmlformats.org/officeDocument/2006/relationships/image" Target="../media/image66.png"/><Relationship Id="rId76" Type="http://schemas.openxmlformats.org/officeDocument/2006/relationships/image" Target="../media/image67.png"/><Relationship Id="rId77" Type="http://schemas.openxmlformats.org/officeDocument/2006/relationships/image" Target="../media/image68.png"/><Relationship Id="rId78" Type="http://schemas.openxmlformats.org/officeDocument/2006/relationships/image" Target="../media/image69.png"/><Relationship Id="rId79" Type="http://schemas.openxmlformats.org/officeDocument/2006/relationships/image" Target="../media/image70.png"/><Relationship Id="rId80" Type="http://schemas.openxmlformats.org/officeDocument/2006/relationships/image" Target="../media/image71.png"/><Relationship Id="rId81" Type="http://schemas.openxmlformats.org/officeDocument/2006/relationships/image" Target="../media/image72.png"/><Relationship Id="rId82" Type="http://schemas.openxmlformats.org/officeDocument/2006/relationships/image" Target="../media/image73.png"/><Relationship Id="rId83" Type="http://schemas.openxmlformats.org/officeDocument/2006/relationships/image" Target="../media/image74.png"/><Relationship Id="rId84" Type="http://schemas.openxmlformats.org/officeDocument/2006/relationships/image" Target="../media/image75.png"/><Relationship Id="rId85" Type="http://schemas.openxmlformats.org/officeDocument/2006/relationships/image" Target="../media/image76.png"/><Relationship Id="rId86" Type="http://schemas.openxmlformats.org/officeDocument/2006/relationships/image" Target="../media/image77.png"/><Relationship Id="rId87" Type="http://schemas.openxmlformats.org/officeDocument/2006/relationships/image" Target="../media/image78.png"/><Relationship Id="rId88" Type="http://schemas.openxmlformats.org/officeDocument/2006/relationships/image" Target="../media/image79.png"/><Relationship Id="rId89" Type="http://schemas.openxmlformats.org/officeDocument/2006/relationships/image" Target="../media/image80.png"/><Relationship Id="rId90" Type="http://schemas.openxmlformats.org/officeDocument/2006/relationships/image" Target="../media/image81.png"/><Relationship Id="rId91" Type="http://schemas.openxmlformats.org/officeDocument/2006/relationships/image" Target="../media/image82.png"/><Relationship Id="rId92" Type="http://schemas.openxmlformats.org/officeDocument/2006/relationships/image" Target="../media/image83.png"/><Relationship Id="rId9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image" Target="../media/image90.png"/><Relationship Id="rId8" Type="http://schemas.openxmlformats.org/officeDocument/2006/relationships/image" Target="../media/image91.png"/><Relationship Id="rId9" Type="http://schemas.openxmlformats.org/officeDocument/2006/relationships/image" Target="../media/image92.png"/><Relationship Id="rId10" Type="http://schemas.openxmlformats.org/officeDocument/2006/relationships/image" Target="../media/image93.png"/><Relationship Id="rId11" Type="http://schemas.openxmlformats.org/officeDocument/2006/relationships/image" Target="../media/image94.png"/><Relationship Id="rId12" Type="http://schemas.openxmlformats.org/officeDocument/2006/relationships/image" Target="../media/image95.png"/><Relationship Id="rId13" Type="http://schemas.openxmlformats.org/officeDocument/2006/relationships/image" Target="../media/image96.png"/><Relationship Id="rId14" Type="http://schemas.openxmlformats.org/officeDocument/2006/relationships/image" Target="../media/image97.png"/><Relationship Id="rId15" Type="http://schemas.openxmlformats.org/officeDocument/2006/relationships/image" Target="../media/image98.png"/><Relationship Id="rId16" Type="http://schemas.openxmlformats.org/officeDocument/2006/relationships/image" Target="../media/image99.png"/><Relationship Id="rId17" Type="http://schemas.openxmlformats.org/officeDocument/2006/relationships/image" Target="../media/image100.png"/><Relationship Id="rId18" Type="http://schemas.openxmlformats.org/officeDocument/2006/relationships/image" Target="../media/image101.png"/><Relationship Id="rId19" Type="http://schemas.openxmlformats.org/officeDocument/2006/relationships/image" Target="../media/image102.png"/><Relationship Id="rId20" Type="http://schemas.openxmlformats.org/officeDocument/2006/relationships/image" Target="../media/image103.png"/><Relationship Id="rId21" Type="http://schemas.openxmlformats.org/officeDocument/2006/relationships/image" Target="../media/image104.png"/><Relationship Id="rId22" Type="http://schemas.openxmlformats.org/officeDocument/2006/relationships/image" Target="../media/image105.png"/><Relationship Id="rId23" Type="http://schemas.openxmlformats.org/officeDocument/2006/relationships/image" Target="../media/image106.png"/><Relationship Id="rId24" Type="http://schemas.openxmlformats.org/officeDocument/2006/relationships/image" Target="../media/image107.png"/><Relationship Id="rId25" Type="http://schemas.openxmlformats.org/officeDocument/2006/relationships/image" Target="../media/image108.png"/><Relationship Id="rId26" Type="http://schemas.openxmlformats.org/officeDocument/2006/relationships/image" Target="../media/image109.png"/><Relationship Id="rId27" Type="http://schemas.openxmlformats.org/officeDocument/2006/relationships/image" Target="../media/image110.png"/><Relationship Id="rId28" Type="http://schemas.openxmlformats.org/officeDocument/2006/relationships/image" Target="../media/image111.png"/><Relationship Id="rId29" Type="http://schemas.openxmlformats.org/officeDocument/2006/relationships/image" Target="../media/image112.png"/><Relationship Id="rId30" Type="http://schemas.openxmlformats.org/officeDocument/2006/relationships/image" Target="../media/image113.png"/><Relationship Id="rId3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image" Target="../media/image116.png"/><Relationship Id="rId4" Type="http://schemas.openxmlformats.org/officeDocument/2006/relationships/image" Target="../media/image117.png"/><Relationship Id="rId5" Type="http://schemas.openxmlformats.org/officeDocument/2006/relationships/image" Target="../media/image118.png"/><Relationship Id="rId6" Type="http://schemas.openxmlformats.org/officeDocument/2006/relationships/image" Target="../media/image119.png"/><Relationship Id="rId7" Type="http://schemas.openxmlformats.org/officeDocument/2006/relationships/image" Target="../media/image120.png"/><Relationship Id="rId8" Type="http://schemas.openxmlformats.org/officeDocument/2006/relationships/image" Target="../media/image121.png"/><Relationship Id="rId9" Type="http://schemas.openxmlformats.org/officeDocument/2006/relationships/image" Target="../media/image122.png"/><Relationship Id="rId10" Type="http://schemas.openxmlformats.org/officeDocument/2006/relationships/image" Target="../media/image123.png"/><Relationship Id="rId11" Type="http://schemas.openxmlformats.org/officeDocument/2006/relationships/image" Target="../media/image124.png"/><Relationship Id="rId12" Type="http://schemas.openxmlformats.org/officeDocument/2006/relationships/image" Target="../media/image125.png"/><Relationship Id="rId13" Type="http://schemas.openxmlformats.org/officeDocument/2006/relationships/image" Target="../media/image126.png"/><Relationship Id="rId14" Type="http://schemas.openxmlformats.org/officeDocument/2006/relationships/image" Target="../media/image127.png"/><Relationship Id="rId15" Type="http://schemas.openxmlformats.org/officeDocument/2006/relationships/image" Target="../media/image128.png"/><Relationship Id="rId16" Type="http://schemas.openxmlformats.org/officeDocument/2006/relationships/image" Target="../media/image129.png"/><Relationship Id="rId17" Type="http://schemas.openxmlformats.org/officeDocument/2006/relationships/image" Target="../media/image130.png"/><Relationship Id="rId18" Type="http://schemas.openxmlformats.org/officeDocument/2006/relationships/image" Target="../media/image131.png"/><Relationship Id="rId19" Type="http://schemas.openxmlformats.org/officeDocument/2006/relationships/image" Target="../media/image132.png"/><Relationship Id="rId20" Type="http://schemas.openxmlformats.org/officeDocument/2006/relationships/image" Target="../media/image133.png"/><Relationship Id="rId21" Type="http://schemas.openxmlformats.org/officeDocument/2006/relationships/image" Target="../media/image134.png"/><Relationship Id="rId22" Type="http://schemas.openxmlformats.org/officeDocument/2006/relationships/image" Target="../media/image135.png"/><Relationship Id="rId23" Type="http://schemas.openxmlformats.org/officeDocument/2006/relationships/image" Target="../media/image136.png"/><Relationship Id="rId24" Type="http://schemas.openxmlformats.org/officeDocument/2006/relationships/image" Target="../media/image137.png"/><Relationship Id="rId25" Type="http://schemas.openxmlformats.org/officeDocument/2006/relationships/image" Target="../media/image138.png"/><Relationship Id="rId26" Type="http://schemas.openxmlformats.org/officeDocument/2006/relationships/image" Target="../media/image139.png"/><Relationship Id="rId27" Type="http://schemas.openxmlformats.org/officeDocument/2006/relationships/image" Target="../media/image140.png"/><Relationship Id="rId28" Type="http://schemas.openxmlformats.org/officeDocument/2006/relationships/image" Target="../media/image141.png"/><Relationship Id="rId29" Type="http://schemas.openxmlformats.org/officeDocument/2006/relationships/image" Target="../media/image119.png"/><Relationship Id="rId30" Type="http://schemas.openxmlformats.org/officeDocument/2006/relationships/image" Target="../media/image142.png"/><Relationship Id="rId31" Type="http://schemas.openxmlformats.org/officeDocument/2006/relationships/image" Target="../media/image119.png"/><Relationship Id="rId32" Type="http://schemas.openxmlformats.org/officeDocument/2006/relationships/image" Target="../media/image119.png"/><Relationship Id="rId33" Type="http://schemas.openxmlformats.org/officeDocument/2006/relationships/image" Target="../media/image143.png"/><Relationship Id="rId34" Type="http://schemas.openxmlformats.org/officeDocument/2006/relationships/image" Target="../media/image144.png"/><Relationship Id="rId35" Type="http://schemas.openxmlformats.org/officeDocument/2006/relationships/image" Target="../media/image145.png"/><Relationship Id="rId36" Type="http://schemas.openxmlformats.org/officeDocument/2006/relationships/image" Target="../media/image146.png"/><Relationship Id="rId37" Type="http://schemas.openxmlformats.org/officeDocument/2006/relationships/image" Target="../media/image147.png"/><Relationship Id="rId38" Type="http://schemas.openxmlformats.org/officeDocument/2006/relationships/image" Target="../media/image148.png"/><Relationship Id="rId39" Type="http://schemas.openxmlformats.org/officeDocument/2006/relationships/image" Target="../media/image149.png"/><Relationship Id="rId40" Type="http://schemas.openxmlformats.org/officeDocument/2006/relationships/image" Target="../media/image150.png"/><Relationship Id="rId41" Type="http://schemas.openxmlformats.org/officeDocument/2006/relationships/image" Target="../media/image151.png"/><Relationship Id="rId42" Type="http://schemas.openxmlformats.org/officeDocument/2006/relationships/image" Target="../media/image152.png"/><Relationship Id="rId43" Type="http://schemas.openxmlformats.org/officeDocument/2006/relationships/image" Target="../media/image153.png"/><Relationship Id="rId44" Type="http://schemas.openxmlformats.org/officeDocument/2006/relationships/image" Target="../media/image154.png"/><Relationship Id="rId45" Type="http://schemas.openxmlformats.org/officeDocument/2006/relationships/image" Target="../media/image155.png"/><Relationship Id="rId46" Type="http://schemas.openxmlformats.org/officeDocument/2006/relationships/image" Target="../media/image156.png"/><Relationship Id="rId47" Type="http://schemas.openxmlformats.org/officeDocument/2006/relationships/image" Target="../media/image157.png"/><Relationship Id="rId48" Type="http://schemas.openxmlformats.org/officeDocument/2006/relationships/image" Target="../media/image158.png"/><Relationship Id="rId49" Type="http://schemas.openxmlformats.org/officeDocument/2006/relationships/image" Target="../media/image159.png"/><Relationship Id="rId50" Type="http://schemas.openxmlformats.org/officeDocument/2006/relationships/image" Target="../media/image160.png"/><Relationship Id="rId51" Type="http://schemas.openxmlformats.org/officeDocument/2006/relationships/image" Target="../media/image161.png"/><Relationship Id="rId52" Type="http://schemas.openxmlformats.org/officeDocument/2006/relationships/image" Target="../media/image162.png"/><Relationship Id="rId53" Type="http://schemas.openxmlformats.org/officeDocument/2006/relationships/image" Target="../media/image163.png"/><Relationship Id="rId54" Type="http://schemas.openxmlformats.org/officeDocument/2006/relationships/image" Target="../media/image164.png"/><Relationship Id="rId55" Type="http://schemas.openxmlformats.org/officeDocument/2006/relationships/image" Target="../media/image165.png"/><Relationship Id="rId56" Type="http://schemas.openxmlformats.org/officeDocument/2006/relationships/image" Target="../media/image166.png"/><Relationship Id="rId57" Type="http://schemas.openxmlformats.org/officeDocument/2006/relationships/image" Target="../media/image167.png"/><Relationship Id="rId58" Type="http://schemas.openxmlformats.org/officeDocument/2006/relationships/image" Target="../media/image168.png"/><Relationship Id="rId59" Type="http://schemas.openxmlformats.org/officeDocument/2006/relationships/image" Target="../media/image169.png"/><Relationship Id="rId60" Type="http://schemas.openxmlformats.org/officeDocument/2006/relationships/image" Target="../media/image170.png"/><Relationship Id="rId61" Type="http://schemas.openxmlformats.org/officeDocument/2006/relationships/image" Target="../media/image171.png"/><Relationship Id="rId62" Type="http://schemas.openxmlformats.org/officeDocument/2006/relationships/image" Target="../media/image172.png"/><Relationship Id="rId63" Type="http://schemas.openxmlformats.org/officeDocument/2006/relationships/image" Target="../media/image173.png"/><Relationship Id="rId64" Type="http://schemas.openxmlformats.org/officeDocument/2006/relationships/image" Target="../media/image174.png"/><Relationship Id="rId65" Type="http://schemas.openxmlformats.org/officeDocument/2006/relationships/image" Target="../media/image175.png"/><Relationship Id="rId6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03152"/>
                </a:solidFill>
                <a:latin typeface="Arial"/>
                <a:ea typeface="Arial"/>
              </a:rPr>
              <a:t>АНИМАЦИЯ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37432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  <a:ea typeface="Arial"/>
              </a:rPr>
              <a:t>Из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  <a:ea typeface="Arial"/>
              </a:rPr>
              <a:t>Х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  <a:ea typeface="Arial"/>
              </a:rPr>
              <a:t>Подводный ми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4a7b"/>
                </a:solidFill>
                <a:latin typeface="Arial"/>
                <a:ea typeface="Arial"/>
              </a:rPr>
              <a:t>Рекомендуется при изучении тем «Древнерусское зодчество» 5 класс, «Подводный мир» начальная шко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Равнобедренный треугольник 1"/>
          <p:cNvSpPr/>
          <p:nvPr/>
        </p:nvSpPr>
        <p:spPr>
          <a:xfrm>
            <a:off x="2814480" y="1285920"/>
            <a:ext cx="3429000" cy="221436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2743200" y="3500280"/>
            <a:ext cx="34290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743200" y="3786120"/>
            <a:ext cx="3429000" cy="285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2743200" y="4071960"/>
            <a:ext cx="3429000" cy="285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2743200" y="4357800"/>
            <a:ext cx="3429000" cy="28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2743200" y="4643280"/>
            <a:ext cx="3429000" cy="285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2743200" y="4929120"/>
            <a:ext cx="3429000" cy="285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8"/>
          <p:cNvSpPr/>
          <p:nvPr/>
        </p:nvSpPr>
        <p:spPr>
          <a:xfrm>
            <a:off x="2743200" y="5214960"/>
            <a:ext cx="3429000" cy="285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2743200" y="5500800"/>
            <a:ext cx="3429000" cy="2854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743200" y="5786280"/>
            <a:ext cx="3429000" cy="285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Блок-схема: узел 11"/>
          <p:cNvGrpSpPr/>
          <p:nvPr/>
        </p:nvGrpSpPr>
        <p:grpSpPr>
          <a:xfrm>
            <a:off x="5827680" y="5321160"/>
            <a:ext cx="397080" cy="397080"/>
            <a:chOff x="5827680" y="5321160"/>
            <a:chExt cx="397080" cy="397080"/>
          </a:xfrm>
        </p:grpSpPr>
        <p:pic>
          <p:nvPicPr>
            <p:cNvPr id="54" name="Блок-схема: узел 11" descr=""/>
            <p:cNvPicPr/>
            <p:nvPr/>
          </p:nvPicPr>
          <p:blipFill>
            <a:blip r:embed="rId10"/>
            <a:stretch/>
          </p:blipFill>
          <p:spPr>
            <a:xfrm>
              <a:off x="5827680" y="5321160"/>
              <a:ext cx="397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927760" y="5398920"/>
              <a:ext cx="2016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Блок-схема: узел 12"/>
          <p:cNvGrpSpPr/>
          <p:nvPr/>
        </p:nvGrpSpPr>
        <p:grpSpPr>
          <a:xfrm>
            <a:off x="2682720" y="5321160"/>
            <a:ext cx="401760" cy="397080"/>
            <a:chOff x="2682720" y="5321160"/>
            <a:chExt cx="401760" cy="397080"/>
          </a:xfrm>
        </p:grpSpPr>
        <p:pic>
          <p:nvPicPr>
            <p:cNvPr id="57" name="Блок-схема: узел 12" descr=""/>
            <p:cNvPicPr/>
            <p:nvPr/>
          </p:nvPicPr>
          <p:blipFill>
            <a:blip r:embed="rId11"/>
            <a:stretch/>
          </p:blipFill>
          <p:spPr>
            <a:xfrm>
              <a:off x="2682720" y="5321160"/>
              <a:ext cx="40176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784600" y="5398920"/>
              <a:ext cx="2016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Блок-схема: узел 13"/>
          <p:cNvGrpSpPr/>
          <p:nvPr/>
        </p:nvGrpSpPr>
        <p:grpSpPr>
          <a:xfrm>
            <a:off x="2682720" y="5035680"/>
            <a:ext cx="401760" cy="395280"/>
            <a:chOff x="2682720" y="5035680"/>
            <a:chExt cx="401760" cy="395280"/>
          </a:xfrm>
        </p:grpSpPr>
        <p:pic>
          <p:nvPicPr>
            <p:cNvPr id="60" name="Блок-схема: узел 13" descr=""/>
            <p:cNvPicPr/>
            <p:nvPr/>
          </p:nvPicPr>
          <p:blipFill>
            <a:blip r:embed="rId12"/>
            <a:stretch/>
          </p:blipFill>
          <p:spPr>
            <a:xfrm>
              <a:off x="2682720" y="5035680"/>
              <a:ext cx="4017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784600" y="5113440"/>
              <a:ext cx="2016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Блок-схема: узел 14"/>
          <p:cNvGrpSpPr/>
          <p:nvPr/>
        </p:nvGrpSpPr>
        <p:grpSpPr>
          <a:xfrm>
            <a:off x="2682720" y="4748040"/>
            <a:ext cx="401760" cy="397080"/>
            <a:chOff x="2682720" y="4748040"/>
            <a:chExt cx="401760" cy="397080"/>
          </a:xfrm>
        </p:grpSpPr>
        <p:pic>
          <p:nvPicPr>
            <p:cNvPr id="63" name="Блок-схема: узел 14" descr=""/>
            <p:cNvPicPr/>
            <p:nvPr/>
          </p:nvPicPr>
          <p:blipFill>
            <a:blip r:embed="rId13"/>
            <a:stretch/>
          </p:blipFill>
          <p:spPr>
            <a:xfrm>
              <a:off x="2682720" y="4748040"/>
              <a:ext cx="40176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2784600" y="4827600"/>
              <a:ext cx="2016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Блок-схема: узел 15"/>
          <p:cNvGrpSpPr/>
          <p:nvPr/>
        </p:nvGrpSpPr>
        <p:grpSpPr>
          <a:xfrm>
            <a:off x="2682720" y="4462560"/>
            <a:ext cx="401760" cy="395280"/>
            <a:chOff x="2682720" y="4462560"/>
            <a:chExt cx="401760" cy="395280"/>
          </a:xfrm>
        </p:grpSpPr>
        <p:pic>
          <p:nvPicPr>
            <p:cNvPr id="66" name="Блок-схема: узел 15" descr=""/>
            <p:cNvPicPr/>
            <p:nvPr/>
          </p:nvPicPr>
          <p:blipFill>
            <a:blip r:embed="rId14"/>
            <a:stretch/>
          </p:blipFill>
          <p:spPr>
            <a:xfrm>
              <a:off x="2682720" y="4462560"/>
              <a:ext cx="4017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784600" y="4541760"/>
              <a:ext cx="2016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Блок-схема: узел 16"/>
          <p:cNvGrpSpPr/>
          <p:nvPr/>
        </p:nvGrpSpPr>
        <p:grpSpPr>
          <a:xfrm>
            <a:off x="2682720" y="4175280"/>
            <a:ext cx="401760" cy="396720"/>
            <a:chOff x="2682720" y="4175280"/>
            <a:chExt cx="401760" cy="396720"/>
          </a:xfrm>
        </p:grpSpPr>
        <p:pic>
          <p:nvPicPr>
            <p:cNvPr id="69" name="Блок-схема: узел 16" descr=""/>
            <p:cNvPicPr/>
            <p:nvPr/>
          </p:nvPicPr>
          <p:blipFill>
            <a:blip r:embed="rId15"/>
            <a:stretch/>
          </p:blipFill>
          <p:spPr>
            <a:xfrm>
              <a:off x="2682720" y="4175280"/>
              <a:ext cx="4017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784600" y="4255920"/>
              <a:ext cx="2016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Блок-схема: узел 17"/>
          <p:cNvGrpSpPr/>
          <p:nvPr/>
        </p:nvGrpSpPr>
        <p:grpSpPr>
          <a:xfrm>
            <a:off x="2682720" y="3895560"/>
            <a:ext cx="401760" cy="390600"/>
            <a:chOff x="2682720" y="3895560"/>
            <a:chExt cx="401760" cy="390600"/>
          </a:xfrm>
        </p:grpSpPr>
        <p:pic>
          <p:nvPicPr>
            <p:cNvPr id="72" name="Блок-схема: узел 17" descr=""/>
            <p:cNvPicPr/>
            <p:nvPr/>
          </p:nvPicPr>
          <p:blipFill>
            <a:blip r:embed="rId16"/>
            <a:stretch/>
          </p:blipFill>
          <p:spPr>
            <a:xfrm>
              <a:off x="2682720" y="3895560"/>
              <a:ext cx="4017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784600" y="3970440"/>
              <a:ext cx="2016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Блок-схема: узел 18"/>
          <p:cNvGrpSpPr/>
          <p:nvPr/>
        </p:nvGrpSpPr>
        <p:grpSpPr>
          <a:xfrm>
            <a:off x="2682720" y="3895560"/>
            <a:ext cx="401760" cy="390600"/>
            <a:chOff x="2682720" y="3895560"/>
            <a:chExt cx="401760" cy="390600"/>
          </a:xfrm>
        </p:grpSpPr>
        <p:pic>
          <p:nvPicPr>
            <p:cNvPr id="75" name="Блок-схема: узел 18" descr=""/>
            <p:cNvPicPr/>
            <p:nvPr/>
          </p:nvPicPr>
          <p:blipFill>
            <a:blip r:embed="rId17"/>
            <a:stretch/>
          </p:blipFill>
          <p:spPr>
            <a:xfrm>
              <a:off x="2682720" y="3895560"/>
              <a:ext cx="4017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784600" y="3970440"/>
              <a:ext cx="2016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Блок-схема: узел 19"/>
          <p:cNvGrpSpPr/>
          <p:nvPr/>
        </p:nvGrpSpPr>
        <p:grpSpPr>
          <a:xfrm>
            <a:off x="2682720" y="3608280"/>
            <a:ext cx="401760" cy="397080"/>
            <a:chOff x="2682720" y="3608280"/>
            <a:chExt cx="401760" cy="397080"/>
          </a:xfrm>
        </p:grpSpPr>
        <p:pic>
          <p:nvPicPr>
            <p:cNvPr id="78" name="Блок-схема: узел 19" descr=""/>
            <p:cNvPicPr/>
            <p:nvPr/>
          </p:nvPicPr>
          <p:blipFill>
            <a:blip r:embed="rId18"/>
            <a:stretch/>
          </p:blipFill>
          <p:spPr>
            <a:xfrm>
              <a:off x="2682720" y="3608280"/>
              <a:ext cx="40176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784600" y="3684600"/>
              <a:ext cx="2016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Блок-схема: узел 20"/>
          <p:cNvGrpSpPr/>
          <p:nvPr/>
        </p:nvGrpSpPr>
        <p:grpSpPr>
          <a:xfrm>
            <a:off x="5827680" y="5035680"/>
            <a:ext cx="397080" cy="395280"/>
            <a:chOff x="5827680" y="5035680"/>
            <a:chExt cx="397080" cy="395280"/>
          </a:xfrm>
        </p:grpSpPr>
        <p:pic>
          <p:nvPicPr>
            <p:cNvPr id="81" name="Блок-схема: узел 20" descr=""/>
            <p:cNvPicPr/>
            <p:nvPr/>
          </p:nvPicPr>
          <p:blipFill>
            <a:blip r:embed="rId19"/>
            <a:stretch/>
          </p:blipFill>
          <p:spPr>
            <a:xfrm>
              <a:off x="5827680" y="503568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927760" y="5113440"/>
              <a:ext cx="2016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Блок-схема: узел 21"/>
          <p:cNvGrpSpPr/>
          <p:nvPr/>
        </p:nvGrpSpPr>
        <p:grpSpPr>
          <a:xfrm>
            <a:off x="5827680" y="4748040"/>
            <a:ext cx="397080" cy="397080"/>
            <a:chOff x="5827680" y="4748040"/>
            <a:chExt cx="397080" cy="397080"/>
          </a:xfrm>
        </p:grpSpPr>
        <p:pic>
          <p:nvPicPr>
            <p:cNvPr id="84" name="Блок-схема: узел 21" descr=""/>
            <p:cNvPicPr/>
            <p:nvPr/>
          </p:nvPicPr>
          <p:blipFill>
            <a:blip r:embed="rId20"/>
            <a:stretch/>
          </p:blipFill>
          <p:spPr>
            <a:xfrm>
              <a:off x="5827680" y="4748040"/>
              <a:ext cx="397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927760" y="4827600"/>
              <a:ext cx="2016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Блок-схема: узел 22"/>
          <p:cNvGrpSpPr/>
          <p:nvPr/>
        </p:nvGrpSpPr>
        <p:grpSpPr>
          <a:xfrm>
            <a:off x="5827680" y="4462560"/>
            <a:ext cx="397080" cy="395280"/>
            <a:chOff x="5827680" y="4462560"/>
            <a:chExt cx="397080" cy="395280"/>
          </a:xfrm>
        </p:grpSpPr>
        <p:pic>
          <p:nvPicPr>
            <p:cNvPr id="87" name="Блок-схема: узел 22" descr=""/>
            <p:cNvPicPr/>
            <p:nvPr/>
          </p:nvPicPr>
          <p:blipFill>
            <a:blip r:embed="rId21"/>
            <a:stretch/>
          </p:blipFill>
          <p:spPr>
            <a:xfrm>
              <a:off x="5827680" y="44625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927760" y="4541760"/>
              <a:ext cx="2016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Блок-схема: узел 23"/>
          <p:cNvGrpSpPr/>
          <p:nvPr/>
        </p:nvGrpSpPr>
        <p:grpSpPr>
          <a:xfrm>
            <a:off x="5827680" y="4175280"/>
            <a:ext cx="397080" cy="396720"/>
            <a:chOff x="5827680" y="4175280"/>
            <a:chExt cx="397080" cy="396720"/>
          </a:xfrm>
        </p:grpSpPr>
        <p:pic>
          <p:nvPicPr>
            <p:cNvPr id="90" name="Блок-схема: узел 23" descr=""/>
            <p:cNvPicPr/>
            <p:nvPr/>
          </p:nvPicPr>
          <p:blipFill>
            <a:blip r:embed="rId22"/>
            <a:stretch/>
          </p:blipFill>
          <p:spPr>
            <a:xfrm>
              <a:off x="5827680" y="4175280"/>
              <a:ext cx="3970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927760" y="4255920"/>
              <a:ext cx="2016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Блок-схема: узел 24"/>
          <p:cNvGrpSpPr/>
          <p:nvPr/>
        </p:nvGrpSpPr>
        <p:grpSpPr>
          <a:xfrm>
            <a:off x="5827680" y="3895560"/>
            <a:ext cx="397080" cy="390600"/>
            <a:chOff x="5827680" y="3895560"/>
            <a:chExt cx="397080" cy="390600"/>
          </a:xfrm>
        </p:grpSpPr>
        <p:pic>
          <p:nvPicPr>
            <p:cNvPr id="93" name="Блок-схема: узел 24" descr=""/>
            <p:cNvPicPr/>
            <p:nvPr/>
          </p:nvPicPr>
          <p:blipFill>
            <a:blip r:embed="rId23"/>
            <a:stretch/>
          </p:blipFill>
          <p:spPr>
            <a:xfrm>
              <a:off x="5827680" y="3895560"/>
              <a:ext cx="3970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927760" y="3970440"/>
              <a:ext cx="2016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Блок-схема: узел 25"/>
          <p:cNvGrpSpPr/>
          <p:nvPr/>
        </p:nvGrpSpPr>
        <p:grpSpPr>
          <a:xfrm>
            <a:off x="5827680" y="3608280"/>
            <a:ext cx="397080" cy="397080"/>
            <a:chOff x="5827680" y="3608280"/>
            <a:chExt cx="397080" cy="397080"/>
          </a:xfrm>
        </p:grpSpPr>
        <p:pic>
          <p:nvPicPr>
            <p:cNvPr id="96" name="Блок-схема: узел 25" descr=""/>
            <p:cNvPicPr/>
            <p:nvPr/>
          </p:nvPicPr>
          <p:blipFill>
            <a:blip r:embed="rId24"/>
            <a:stretch/>
          </p:blipFill>
          <p:spPr>
            <a:xfrm>
              <a:off x="5827680" y="3608280"/>
              <a:ext cx="397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927760" y="3684600"/>
              <a:ext cx="2016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Блок-схема: узел 26"/>
          <p:cNvGrpSpPr/>
          <p:nvPr/>
        </p:nvGrpSpPr>
        <p:grpSpPr>
          <a:xfrm>
            <a:off x="5827680" y="5608800"/>
            <a:ext cx="397080" cy="395280"/>
            <a:chOff x="5827680" y="5608800"/>
            <a:chExt cx="397080" cy="395280"/>
          </a:xfrm>
        </p:grpSpPr>
        <p:pic>
          <p:nvPicPr>
            <p:cNvPr id="99" name="Блок-схема: узел 26" descr=""/>
            <p:cNvPicPr/>
            <p:nvPr/>
          </p:nvPicPr>
          <p:blipFill>
            <a:blip r:embed="rId25"/>
            <a:stretch/>
          </p:blipFill>
          <p:spPr>
            <a:xfrm>
              <a:off x="5827680" y="560880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927760" y="5684760"/>
              <a:ext cx="2016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Прямоугольник 27"/>
          <p:cNvGrpSpPr/>
          <p:nvPr/>
        </p:nvGrpSpPr>
        <p:grpSpPr>
          <a:xfrm>
            <a:off x="2682720" y="3322800"/>
            <a:ext cx="3542040" cy="536400"/>
            <a:chOff x="2682720" y="3322800"/>
            <a:chExt cx="3542040" cy="536400"/>
          </a:xfrm>
        </p:grpSpPr>
        <p:pic>
          <p:nvPicPr>
            <p:cNvPr id="102" name="Прямоугольник 27" descr=""/>
            <p:cNvPicPr/>
            <p:nvPr/>
          </p:nvPicPr>
          <p:blipFill>
            <a:blip r:embed="rId26"/>
            <a:stretch/>
          </p:blipFill>
          <p:spPr>
            <a:xfrm>
              <a:off x="2682720" y="3322800"/>
              <a:ext cx="3542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743200" y="3357720"/>
              <a:ext cx="34290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Прямоугольник 28"/>
          <p:cNvGrpSpPr/>
          <p:nvPr/>
        </p:nvGrpSpPr>
        <p:grpSpPr>
          <a:xfrm>
            <a:off x="2114640" y="976680"/>
            <a:ext cx="2878200" cy="2962440"/>
            <a:chOff x="2114640" y="976680"/>
            <a:chExt cx="2878200" cy="2962440"/>
          </a:xfrm>
        </p:grpSpPr>
        <p:pic>
          <p:nvPicPr>
            <p:cNvPr id="105" name="Прямоугольник 28" descr=""/>
            <p:cNvPicPr/>
            <p:nvPr/>
          </p:nvPicPr>
          <p:blipFill>
            <a:blip r:embed="rId27"/>
            <a:stretch/>
          </p:blipFill>
          <p:spPr>
            <a:xfrm>
              <a:off x="2114640" y="976680"/>
              <a:ext cx="2878200" cy="29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8543000">
              <a:off x="1863360" y="2226960"/>
              <a:ext cx="3384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Блок-схема: узел 29"/>
          <p:cNvGrpSpPr/>
          <p:nvPr/>
        </p:nvGrpSpPr>
        <p:grpSpPr>
          <a:xfrm>
            <a:off x="2682720" y="5608800"/>
            <a:ext cx="401760" cy="395280"/>
            <a:chOff x="2682720" y="5608800"/>
            <a:chExt cx="401760" cy="395280"/>
          </a:xfrm>
        </p:grpSpPr>
        <p:pic>
          <p:nvPicPr>
            <p:cNvPr id="108" name="Блок-схема: узел 29" descr=""/>
            <p:cNvPicPr/>
            <p:nvPr/>
          </p:nvPicPr>
          <p:blipFill>
            <a:blip r:embed="rId28"/>
            <a:stretch/>
          </p:blipFill>
          <p:spPr>
            <a:xfrm>
              <a:off x="2682720" y="5608800"/>
              <a:ext cx="4017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784600" y="5684760"/>
              <a:ext cx="2016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Блок-схема: решение 30"/>
          <p:cNvGrpSpPr/>
          <p:nvPr/>
        </p:nvGrpSpPr>
        <p:grpSpPr>
          <a:xfrm>
            <a:off x="2382840" y="3554280"/>
            <a:ext cx="439560" cy="487440"/>
            <a:chOff x="2382840" y="3554280"/>
            <a:chExt cx="439560" cy="487440"/>
          </a:xfrm>
        </p:grpSpPr>
        <p:pic>
          <p:nvPicPr>
            <p:cNvPr id="111" name="Блок-схема: решение 30" descr=""/>
            <p:cNvPicPr/>
            <p:nvPr/>
          </p:nvPicPr>
          <p:blipFill>
            <a:blip r:embed="rId29"/>
            <a:stretch/>
          </p:blipFill>
          <p:spPr>
            <a:xfrm>
              <a:off x="2382840" y="3554280"/>
              <a:ext cx="4395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8703200">
              <a:off x="2480040" y="3702600"/>
              <a:ext cx="250920" cy="1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Блок-схема: решение 31"/>
          <p:cNvGrpSpPr/>
          <p:nvPr/>
        </p:nvGrpSpPr>
        <p:grpSpPr>
          <a:xfrm>
            <a:off x="4157640" y="1427040"/>
            <a:ext cx="444600" cy="480960"/>
            <a:chOff x="4157640" y="1427040"/>
            <a:chExt cx="444600" cy="480960"/>
          </a:xfrm>
        </p:grpSpPr>
        <p:pic>
          <p:nvPicPr>
            <p:cNvPr id="114" name="Блок-схема: решение 31" descr=""/>
            <p:cNvPicPr/>
            <p:nvPr/>
          </p:nvPicPr>
          <p:blipFill>
            <a:blip r:embed="rId30"/>
            <a:stretch/>
          </p:blipFill>
          <p:spPr>
            <a:xfrm>
              <a:off x="4157640" y="142704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18703200">
              <a:off x="4255560" y="1570320"/>
              <a:ext cx="25092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Блок-схема: решение 32"/>
          <p:cNvGrpSpPr/>
          <p:nvPr/>
        </p:nvGrpSpPr>
        <p:grpSpPr>
          <a:xfrm>
            <a:off x="3797280" y="1852560"/>
            <a:ext cx="446040" cy="482760"/>
            <a:chOff x="3797280" y="1852560"/>
            <a:chExt cx="446040" cy="482760"/>
          </a:xfrm>
        </p:grpSpPr>
        <p:pic>
          <p:nvPicPr>
            <p:cNvPr id="117" name="Блок-схема: решение 32" descr=""/>
            <p:cNvPicPr/>
            <p:nvPr/>
          </p:nvPicPr>
          <p:blipFill>
            <a:blip r:embed="rId31"/>
            <a:stretch/>
          </p:blipFill>
          <p:spPr>
            <a:xfrm>
              <a:off x="3797280" y="1852560"/>
              <a:ext cx="44604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 rot="18703200">
              <a:off x="3897720" y="1999440"/>
              <a:ext cx="250560" cy="1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Блок-схема: решение 33"/>
          <p:cNvGrpSpPr/>
          <p:nvPr/>
        </p:nvGrpSpPr>
        <p:grpSpPr>
          <a:xfrm>
            <a:off x="3444840" y="2279520"/>
            <a:ext cx="438120" cy="487440"/>
            <a:chOff x="3444840" y="2279520"/>
            <a:chExt cx="438120" cy="487440"/>
          </a:xfrm>
        </p:grpSpPr>
        <p:pic>
          <p:nvPicPr>
            <p:cNvPr id="120" name="Блок-схема: решение 33" descr=""/>
            <p:cNvPicPr/>
            <p:nvPr/>
          </p:nvPicPr>
          <p:blipFill>
            <a:blip r:embed="rId32"/>
            <a:stretch/>
          </p:blipFill>
          <p:spPr>
            <a:xfrm>
              <a:off x="3444840" y="2279520"/>
              <a:ext cx="4381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18703200">
              <a:off x="3540960" y="2427480"/>
              <a:ext cx="25092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Блок-схема: решение 34"/>
          <p:cNvGrpSpPr/>
          <p:nvPr/>
        </p:nvGrpSpPr>
        <p:grpSpPr>
          <a:xfrm>
            <a:off x="3084480" y="2712960"/>
            <a:ext cx="444600" cy="480960"/>
            <a:chOff x="3084480" y="2712960"/>
            <a:chExt cx="444600" cy="480960"/>
          </a:xfrm>
        </p:grpSpPr>
        <p:pic>
          <p:nvPicPr>
            <p:cNvPr id="123" name="Блок-схема: решение 34" descr=""/>
            <p:cNvPicPr/>
            <p:nvPr/>
          </p:nvPicPr>
          <p:blipFill>
            <a:blip r:embed="rId33"/>
            <a:stretch/>
          </p:blipFill>
          <p:spPr>
            <a:xfrm>
              <a:off x="3084480" y="271296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 rot="18703200">
              <a:off x="3183840" y="2856240"/>
              <a:ext cx="25092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Блок-схема: решение 35"/>
          <p:cNvGrpSpPr/>
          <p:nvPr/>
        </p:nvGrpSpPr>
        <p:grpSpPr>
          <a:xfrm>
            <a:off x="2730600" y="3139920"/>
            <a:ext cx="439560" cy="481320"/>
            <a:chOff x="2730600" y="3139920"/>
            <a:chExt cx="439560" cy="481320"/>
          </a:xfrm>
        </p:grpSpPr>
        <p:pic>
          <p:nvPicPr>
            <p:cNvPr id="126" name="Блок-схема: решение 35" descr=""/>
            <p:cNvPicPr/>
            <p:nvPr/>
          </p:nvPicPr>
          <p:blipFill>
            <a:blip r:embed="rId34"/>
            <a:stretch/>
          </p:blipFill>
          <p:spPr>
            <a:xfrm>
              <a:off x="2730600" y="3139920"/>
              <a:ext cx="43956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 rot="18703200">
              <a:off x="2826720" y="3284640"/>
              <a:ext cx="25092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Блок-схема: решение 36"/>
          <p:cNvGrpSpPr/>
          <p:nvPr/>
        </p:nvGrpSpPr>
        <p:grpSpPr>
          <a:xfrm>
            <a:off x="4511520" y="993600"/>
            <a:ext cx="444600" cy="487440"/>
            <a:chOff x="4511520" y="993600"/>
            <a:chExt cx="444600" cy="487440"/>
          </a:xfrm>
        </p:grpSpPr>
        <p:pic>
          <p:nvPicPr>
            <p:cNvPr id="129" name="Блок-схема: решение 36" descr=""/>
            <p:cNvPicPr/>
            <p:nvPr/>
          </p:nvPicPr>
          <p:blipFill>
            <a:blip r:embed="rId35"/>
            <a:stretch/>
          </p:blipFill>
          <p:spPr>
            <a:xfrm>
              <a:off x="4511520" y="993600"/>
              <a:ext cx="4446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 rot="18703200">
              <a:off x="4612680" y="1141560"/>
              <a:ext cx="25092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Прямоугольник 37"/>
          <p:cNvGrpSpPr/>
          <p:nvPr/>
        </p:nvGrpSpPr>
        <p:grpSpPr>
          <a:xfrm>
            <a:off x="3681360" y="1006920"/>
            <a:ext cx="3011400" cy="2764440"/>
            <a:chOff x="3681360" y="1006920"/>
            <a:chExt cx="3011400" cy="2764440"/>
          </a:xfrm>
        </p:grpSpPr>
        <p:pic>
          <p:nvPicPr>
            <p:cNvPr id="132" name="Прямоугольник 37" descr=""/>
            <p:cNvPicPr/>
            <p:nvPr/>
          </p:nvPicPr>
          <p:blipFill>
            <a:blip r:embed="rId36"/>
            <a:stretch/>
          </p:blipFill>
          <p:spPr>
            <a:xfrm>
              <a:off x="3681360" y="1006920"/>
              <a:ext cx="3011400" cy="276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rot="13676400">
              <a:off x="3557160" y="2156760"/>
              <a:ext cx="3267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Блок-схема: решение 38"/>
          <p:cNvGrpSpPr/>
          <p:nvPr/>
        </p:nvGrpSpPr>
        <p:grpSpPr>
          <a:xfrm>
            <a:off x="3706920" y="1017720"/>
            <a:ext cx="504720" cy="414360"/>
            <a:chOff x="3706920" y="1017720"/>
            <a:chExt cx="504720" cy="414360"/>
          </a:xfrm>
        </p:grpSpPr>
        <p:pic>
          <p:nvPicPr>
            <p:cNvPr id="135" name="Блок-схема: решение 38" descr=""/>
            <p:cNvPicPr/>
            <p:nvPr/>
          </p:nvPicPr>
          <p:blipFill>
            <a:blip r:embed="rId37"/>
            <a:stretch/>
          </p:blipFill>
          <p:spPr>
            <a:xfrm>
              <a:off x="3706920" y="1017720"/>
              <a:ext cx="504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 rot="2242800">
              <a:off x="3838320" y="1125360"/>
              <a:ext cx="25056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Блок-схема: решение 39"/>
          <p:cNvGrpSpPr/>
          <p:nvPr/>
        </p:nvGrpSpPr>
        <p:grpSpPr>
          <a:xfrm>
            <a:off x="4078440" y="1359000"/>
            <a:ext cx="469800" cy="457200"/>
            <a:chOff x="4078440" y="1359000"/>
            <a:chExt cx="469800" cy="457200"/>
          </a:xfrm>
        </p:grpSpPr>
        <p:pic>
          <p:nvPicPr>
            <p:cNvPr id="138" name="Блок-схема: решение 39" descr=""/>
            <p:cNvPicPr/>
            <p:nvPr/>
          </p:nvPicPr>
          <p:blipFill>
            <a:blip r:embed="rId38"/>
            <a:stretch/>
          </p:blipFill>
          <p:spPr>
            <a:xfrm>
              <a:off x="4078440" y="1359000"/>
              <a:ext cx="4698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 rot="2643600">
              <a:off x="4190760" y="1493640"/>
              <a:ext cx="249120" cy="1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Блок-схема: решение 40"/>
          <p:cNvGrpSpPr/>
          <p:nvPr/>
        </p:nvGrpSpPr>
        <p:grpSpPr>
          <a:xfrm>
            <a:off x="4505400" y="1792440"/>
            <a:ext cx="474480" cy="450720"/>
            <a:chOff x="4505400" y="1792440"/>
            <a:chExt cx="474480" cy="450720"/>
          </a:xfrm>
        </p:grpSpPr>
        <p:pic>
          <p:nvPicPr>
            <p:cNvPr id="141" name="Блок-схема: решение 40" descr=""/>
            <p:cNvPicPr/>
            <p:nvPr/>
          </p:nvPicPr>
          <p:blipFill>
            <a:blip r:embed="rId39"/>
            <a:stretch/>
          </p:blipFill>
          <p:spPr>
            <a:xfrm>
              <a:off x="4505400" y="1792440"/>
              <a:ext cx="4744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 rot="2546400">
              <a:off x="4620960" y="1919160"/>
              <a:ext cx="24912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Блок-схема: решение 41"/>
          <p:cNvGrpSpPr/>
          <p:nvPr/>
        </p:nvGrpSpPr>
        <p:grpSpPr>
          <a:xfrm>
            <a:off x="4870440" y="2139840"/>
            <a:ext cx="439920" cy="487440"/>
            <a:chOff x="4870440" y="2139840"/>
            <a:chExt cx="439920" cy="487440"/>
          </a:xfrm>
        </p:grpSpPr>
        <p:pic>
          <p:nvPicPr>
            <p:cNvPr id="144" name="Блок-схема: решение 41" descr=""/>
            <p:cNvPicPr/>
            <p:nvPr/>
          </p:nvPicPr>
          <p:blipFill>
            <a:blip r:embed="rId40"/>
            <a:stretch/>
          </p:blipFill>
          <p:spPr>
            <a:xfrm>
              <a:off x="4870440" y="2139840"/>
              <a:ext cx="4399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 rot="2932200">
              <a:off x="4970520" y="2284200"/>
              <a:ext cx="24948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Блок-схема: решение 42"/>
          <p:cNvGrpSpPr/>
          <p:nvPr/>
        </p:nvGrpSpPr>
        <p:grpSpPr>
          <a:xfrm>
            <a:off x="5230800" y="2567160"/>
            <a:ext cx="431640" cy="487080"/>
            <a:chOff x="5230800" y="2567160"/>
            <a:chExt cx="431640" cy="487080"/>
          </a:xfrm>
        </p:grpSpPr>
        <p:pic>
          <p:nvPicPr>
            <p:cNvPr id="147" name="Блок-схема: решение 42" descr=""/>
            <p:cNvPicPr/>
            <p:nvPr/>
          </p:nvPicPr>
          <p:blipFill>
            <a:blip r:embed="rId41"/>
            <a:stretch/>
          </p:blipFill>
          <p:spPr>
            <a:xfrm>
              <a:off x="5230800" y="2567160"/>
              <a:ext cx="43164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rot="2988000">
              <a:off x="5325840" y="2712960"/>
              <a:ext cx="24912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Блок-схема: решение 43"/>
          <p:cNvGrpSpPr/>
          <p:nvPr/>
        </p:nvGrpSpPr>
        <p:grpSpPr>
          <a:xfrm>
            <a:off x="5578560" y="3005280"/>
            <a:ext cx="468360" cy="457200"/>
            <a:chOff x="5578560" y="3005280"/>
            <a:chExt cx="468360" cy="457200"/>
          </a:xfrm>
        </p:grpSpPr>
        <p:pic>
          <p:nvPicPr>
            <p:cNvPr id="150" name="Блок-схема: решение 43" descr=""/>
            <p:cNvPicPr/>
            <p:nvPr/>
          </p:nvPicPr>
          <p:blipFill>
            <a:blip r:embed="rId42"/>
            <a:stretch/>
          </p:blipFill>
          <p:spPr>
            <a:xfrm>
              <a:off x="5578560" y="3005280"/>
              <a:ext cx="4683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rot="2668800">
              <a:off x="5689080" y="3136680"/>
              <a:ext cx="250920" cy="1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Блок-схема: решение 44"/>
          <p:cNvGrpSpPr/>
          <p:nvPr/>
        </p:nvGrpSpPr>
        <p:grpSpPr>
          <a:xfrm>
            <a:off x="5992920" y="3444840"/>
            <a:ext cx="504720" cy="414360"/>
            <a:chOff x="5992920" y="3444840"/>
            <a:chExt cx="504720" cy="414360"/>
          </a:xfrm>
        </p:grpSpPr>
        <p:pic>
          <p:nvPicPr>
            <p:cNvPr id="153" name="Блок-схема: решение 44" descr=""/>
            <p:cNvPicPr/>
            <p:nvPr/>
          </p:nvPicPr>
          <p:blipFill>
            <a:blip r:embed="rId43"/>
            <a:stretch/>
          </p:blipFill>
          <p:spPr>
            <a:xfrm>
              <a:off x="5992920" y="3444840"/>
              <a:ext cx="504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 rot="2242800">
              <a:off x="6124320" y="3554280"/>
              <a:ext cx="25056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Блок-схема: решение 45"/>
          <p:cNvGrpSpPr/>
          <p:nvPr/>
        </p:nvGrpSpPr>
        <p:grpSpPr>
          <a:xfrm>
            <a:off x="2822400" y="3462480"/>
            <a:ext cx="335160" cy="396720"/>
            <a:chOff x="2822400" y="3462480"/>
            <a:chExt cx="335160" cy="396720"/>
          </a:xfrm>
        </p:grpSpPr>
        <p:pic>
          <p:nvPicPr>
            <p:cNvPr id="156" name="Блок-схема: решение 45" descr=""/>
            <p:cNvPicPr/>
            <p:nvPr/>
          </p:nvPicPr>
          <p:blipFill>
            <a:blip r:embed="rId44"/>
            <a:stretch/>
          </p:blipFill>
          <p:spPr>
            <a:xfrm>
              <a:off x="2822400" y="3462480"/>
              <a:ext cx="3351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940120" y="3571920"/>
              <a:ext cx="1062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Блок-схема: решение 46"/>
          <p:cNvGrpSpPr/>
          <p:nvPr/>
        </p:nvGrpSpPr>
        <p:grpSpPr>
          <a:xfrm>
            <a:off x="3108240" y="3462480"/>
            <a:ext cx="330120" cy="396720"/>
            <a:chOff x="3108240" y="3462480"/>
            <a:chExt cx="330120" cy="396720"/>
          </a:xfrm>
        </p:grpSpPr>
        <p:pic>
          <p:nvPicPr>
            <p:cNvPr id="159" name="Блок-схема: решение 46" descr=""/>
            <p:cNvPicPr/>
            <p:nvPr/>
          </p:nvPicPr>
          <p:blipFill>
            <a:blip r:embed="rId45"/>
            <a:stretch/>
          </p:blipFill>
          <p:spPr>
            <a:xfrm>
              <a:off x="3108240" y="3462480"/>
              <a:ext cx="3301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225960" y="3571920"/>
              <a:ext cx="1062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Блок-схема: решение 47"/>
          <p:cNvGrpSpPr/>
          <p:nvPr/>
        </p:nvGrpSpPr>
        <p:grpSpPr>
          <a:xfrm>
            <a:off x="3395520" y="3462480"/>
            <a:ext cx="328680" cy="396720"/>
            <a:chOff x="3395520" y="3462480"/>
            <a:chExt cx="328680" cy="396720"/>
          </a:xfrm>
        </p:grpSpPr>
        <p:pic>
          <p:nvPicPr>
            <p:cNvPr id="162" name="Блок-схема: решение 47" descr=""/>
            <p:cNvPicPr/>
            <p:nvPr/>
          </p:nvPicPr>
          <p:blipFill>
            <a:blip r:embed="rId46"/>
            <a:stretch/>
          </p:blipFill>
          <p:spPr>
            <a:xfrm>
              <a:off x="3395520" y="3462480"/>
              <a:ext cx="3286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511440" y="3571920"/>
              <a:ext cx="1065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Блок-схема: решение 48"/>
          <p:cNvGrpSpPr/>
          <p:nvPr/>
        </p:nvGrpSpPr>
        <p:grpSpPr>
          <a:xfrm>
            <a:off x="3681360" y="3462480"/>
            <a:ext cx="330120" cy="396720"/>
            <a:chOff x="3681360" y="3462480"/>
            <a:chExt cx="330120" cy="396720"/>
          </a:xfrm>
        </p:grpSpPr>
        <p:pic>
          <p:nvPicPr>
            <p:cNvPr id="165" name="Блок-схема: решение 48" descr=""/>
            <p:cNvPicPr/>
            <p:nvPr/>
          </p:nvPicPr>
          <p:blipFill>
            <a:blip r:embed="rId47"/>
            <a:stretch/>
          </p:blipFill>
          <p:spPr>
            <a:xfrm>
              <a:off x="3681360" y="3462480"/>
              <a:ext cx="3301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797280" y="3571920"/>
              <a:ext cx="1065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Блок-схема: решение 49"/>
          <p:cNvGrpSpPr/>
          <p:nvPr/>
        </p:nvGrpSpPr>
        <p:grpSpPr>
          <a:xfrm>
            <a:off x="3968640" y="3462480"/>
            <a:ext cx="328680" cy="396720"/>
            <a:chOff x="3968640" y="3462480"/>
            <a:chExt cx="328680" cy="396720"/>
          </a:xfrm>
        </p:grpSpPr>
        <p:pic>
          <p:nvPicPr>
            <p:cNvPr id="168" name="Блок-схема: решение 49" descr=""/>
            <p:cNvPicPr/>
            <p:nvPr/>
          </p:nvPicPr>
          <p:blipFill>
            <a:blip r:embed="rId48"/>
            <a:stretch/>
          </p:blipFill>
          <p:spPr>
            <a:xfrm>
              <a:off x="3968640" y="3462480"/>
              <a:ext cx="3286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083120" y="3571920"/>
              <a:ext cx="1062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Блок-схема: решение 50"/>
          <p:cNvGrpSpPr/>
          <p:nvPr/>
        </p:nvGrpSpPr>
        <p:grpSpPr>
          <a:xfrm>
            <a:off x="4254480" y="3462480"/>
            <a:ext cx="330120" cy="396720"/>
            <a:chOff x="4254480" y="3462480"/>
            <a:chExt cx="330120" cy="396720"/>
          </a:xfrm>
        </p:grpSpPr>
        <p:pic>
          <p:nvPicPr>
            <p:cNvPr id="171" name="Блок-схема: решение 50" descr=""/>
            <p:cNvPicPr/>
            <p:nvPr/>
          </p:nvPicPr>
          <p:blipFill>
            <a:blip r:embed="rId49"/>
            <a:stretch/>
          </p:blipFill>
          <p:spPr>
            <a:xfrm>
              <a:off x="4254480" y="3462480"/>
              <a:ext cx="3301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368960" y="3571920"/>
              <a:ext cx="1062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Блок-схема: решение 51"/>
          <p:cNvGrpSpPr/>
          <p:nvPr/>
        </p:nvGrpSpPr>
        <p:grpSpPr>
          <a:xfrm>
            <a:off x="4541760" y="3462480"/>
            <a:ext cx="328680" cy="396720"/>
            <a:chOff x="4541760" y="3462480"/>
            <a:chExt cx="328680" cy="396720"/>
          </a:xfrm>
        </p:grpSpPr>
        <p:pic>
          <p:nvPicPr>
            <p:cNvPr id="174" name="Блок-схема: решение 51" descr=""/>
            <p:cNvPicPr/>
            <p:nvPr/>
          </p:nvPicPr>
          <p:blipFill>
            <a:blip r:embed="rId50"/>
            <a:stretch/>
          </p:blipFill>
          <p:spPr>
            <a:xfrm>
              <a:off x="4541760" y="3462480"/>
              <a:ext cx="3286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654440" y="3571920"/>
              <a:ext cx="1065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Блок-схема: решение 52"/>
          <p:cNvGrpSpPr/>
          <p:nvPr/>
        </p:nvGrpSpPr>
        <p:grpSpPr>
          <a:xfrm>
            <a:off x="4827600" y="3462480"/>
            <a:ext cx="330120" cy="396720"/>
            <a:chOff x="4827600" y="3462480"/>
            <a:chExt cx="330120" cy="396720"/>
          </a:xfrm>
        </p:grpSpPr>
        <p:pic>
          <p:nvPicPr>
            <p:cNvPr id="177" name="Блок-схема: решение 52" descr=""/>
            <p:cNvPicPr/>
            <p:nvPr/>
          </p:nvPicPr>
          <p:blipFill>
            <a:blip r:embed="rId51"/>
            <a:stretch/>
          </p:blipFill>
          <p:spPr>
            <a:xfrm>
              <a:off x="4827600" y="3462480"/>
              <a:ext cx="3301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940280" y="3571920"/>
              <a:ext cx="1065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Блок-схема: решение 53"/>
          <p:cNvGrpSpPr/>
          <p:nvPr/>
        </p:nvGrpSpPr>
        <p:grpSpPr>
          <a:xfrm>
            <a:off x="5108400" y="3462480"/>
            <a:ext cx="335160" cy="396720"/>
            <a:chOff x="5108400" y="3462480"/>
            <a:chExt cx="335160" cy="396720"/>
          </a:xfrm>
        </p:grpSpPr>
        <p:pic>
          <p:nvPicPr>
            <p:cNvPr id="180" name="Блок-схема: решение 53" descr=""/>
            <p:cNvPicPr/>
            <p:nvPr/>
          </p:nvPicPr>
          <p:blipFill>
            <a:blip r:embed="rId52"/>
            <a:stretch/>
          </p:blipFill>
          <p:spPr>
            <a:xfrm>
              <a:off x="5108400" y="3462480"/>
              <a:ext cx="3351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226120" y="3571920"/>
              <a:ext cx="1062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Блок-схема: решение 54"/>
          <p:cNvGrpSpPr/>
          <p:nvPr/>
        </p:nvGrpSpPr>
        <p:grpSpPr>
          <a:xfrm>
            <a:off x="5394240" y="3462480"/>
            <a:ext cx="330120" cy="396720"/>
            <a:chOff x="5394240" y="3462480"/>
            <a:chExt cx="330120" cy="396720"/>
          </a:xfrm>
        </p:grpSpPr>
        <p:pic>
          <p:nvPicPr>
            <p:cNvPr id="183" name="Блок-схема: решение 54" descr=""/>
            <p:cNvPicPr/>
            <p:nvPr/>
          </p:nvPicPr>
          <p:blipFill>
            <a:blip r:embed="rId53"/>
            <a:stretch/>
          </p:blipFill>
          <p:spPr>
            <a:xfrm>
              <a:off x="5394240" y="3462480"/>
              <a:ext cx="3301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511960" y="3571920"/>
              <a:ext cx="1062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Блок-схема: решение 55"/>
          <p:cNvGrpSpPr/>
          <p:nvPr/>
        </p:nvGrpSpPr>
        <p:grpSpPr>
          <a:xfrm>
            <a:off x="5681520" y="3462480"/>
            <a:ext cx="328680" cy="396720"/>
            <a:chOff x="5681520" y="3462480"/>
            <a:chExt cx="328680" cy="396720"/>
          </a:xfrm>
        </p:grpSpPr>
        <p:pic>
          <p:nvPicPr>
            <p:cNvPr id="186" name="Блок-схема: решение 55" descr=""/>
            <p:cNvPicPr/>
            <p:nvPr/>
          </p:nvPicPr>
          <p:blipFill>
            <a:blip r:embed="rId54"/>
            <a:stretch/>
          </p:blipFill>
          <p:spPr>
            <a:xfrm>
              <a:off x="5681520" y="3462480"/>
              <a:ext cx="3286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797440" y="3571920"/>
              <a:ext cx="1065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Рамка 56"/>
          <p:cNvGrpSpPr/>
          <p:nvPr/>
        </p:nvGrpSpPr>
        <p:grpSpPr>
          <a:xfrm>
            <a:off x="3541680" y="4175280"/>
            <a:ext cx="615960" cy="830160"/>
            <a:chOff x="3541680" y="4175280"/>
            <a:chExt cx="615960" cy="830160"/>
          </a:xfrm>
        </p:grpSpPr>
        <p:pic>
          <p:nvPicPr>
            <p:cNvPr id="189" name="Рамка 56" descr=""/>
            <p:cNvPicPr/>
            <p:nvPr/>
          </p:nvPicPr>
          <p:blipFill>
            <a:blip r:embed="rId55"/>
            <a:stretch/>
          </p:blipFill>
          <p:spPr>
            <a:xfrm>
              <a:off x="3541680" y="4175280"/>
              <a:ext cx="6159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662280" y="4276800"/>
              <a:ext cx="37476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Рамка 57"/>
          <p:cNvGrpSpPr/>
          <p:nvPr/>
        </p:nvGrpSpPr>
        <p:grpSpPr>
          <a:xfrm>
            <a:off x="4754520" y="4175280"/>
            <a:ext cx="615960" cy="830160"/>
            <a:chOff x="4754520" y="4175280"/>
            <a:chExt cx="615960" cy="830160"/>
          </a:xfrm>
        </p:grpSpPr>
        <p:pic>
          <p:nvPicPr>
            <p:cNvPr id="192" name="Рамка 57" descr=""/>
            <p:cNvPicPr/>
            <p:nvPr/>
          </p:nvPicPr>
          <p:blipFill>
            <a:blip r:embed="rId56"/>
            <a:stretch/>
          </p:blipFill>
          <p:spPr>
            <a:xfrm>
              <a:off x="4754520" y="4175280"/>
              <a:ext cx="6159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876920" y="4276800"/>
              <a:ext cx="3744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Прямоугольник с двумя вырезанными соседними углами 58"/>
          <p:cNvGrpSpPr/>
          <p:nvPr/>
        </p:nvGrpSpPr>
        <p:grpSpPr>
          <a:xfrm>
            <a:off x="3322800" y="4896000"/>
            <a:ext cx="1047600" cy="461880"/>
            <a:chOff x="3322800" y="4896000"/>
            <a:chExt cx="1047600" cy="461880"/>
          </a:xfrm>
        </p:grpSpPr>
        <p:pic>
          <p:nvPicPr>
            <p:cNvPr id="195" name="Прямоугольник с двумя вырезанными соседними углами 58" descr=""/>
            <p:cNvPicPr/>
            <p:nvPr/>
          </p:nvPicPr>
          <p:blipFill>
            <a:blip r:embed="rId57"/>
            <a:stretch/>
          </p:blipFill>
          <p:spPr>
            <a:xfrm>
              <a:off x="3322800" y="4896000"/>
              <a:ext cx="104760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10800000">
              <a:off x="3416400" y="4928760"/>
              <a:ext cx="8683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Прямоугольник с двумя вырезанными соседними углами 59"/>
          <p:cNvGrpSpPr/>
          <p:nvPr/>
        </p:nvGrpSpPr>
        <p:grpSpPr>
          <a:xfrm>
            <a:off x="4541760" y="4896000"/>
            <a:ext cx="1041480" cy="457200"/>
            <a:chOff x="4541760" y="4896000"/>
            <a:chExt cx="1041480" cy="457200"/>
          </a:xfrm>
        </p:grpSpPr>
        <p:pic>
          <p:nvPicPr>
            <p:cNvPr id="198" name="Прямоугольник с двумя вырезанными соседними углами 59" descr=""/>
            <p:cNvPicPr/>
            <p:nvPr/>
          </p:nvPicPr>
          <p:blipFill>
            <a:blip r:embed="rId58"/>
            <a:stretch/>
          </p:blipFill>
          <p:spPr>
            <a:xfrm>
              <a:off x="4541760" y="4896000"/>
              <a:ext cx="10414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10800000">
              <a:off x="4628880" y="4928760"/>
              <a:ext cx="871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Прямоугольник с двумя вырезанными соседними углами 60"/>
          <p:cNvGrpSpPr/>
          <p:nvPr/>
        </p:nvGrpSpPr>
        <p:grpSpPr>
          <a:xfrm>
            <a:off x="3322800" y="3895560"/>
            <a:ext cx="1047600" cy="390600"/>
            <a:chOff x="3322800" y="3895560"/>
            <a:chExt cx="1047600" cy="390600"/>
          </a:xfrm>
        </p:grpSpPr>
        <p:pic>
          <p:nvPicPr>
            <p:cNvPr id="201" name="Прямоугольник с двумя вырезанными соседними углами 60" descr=""/>
            <p:cNvPicPr/>
            <p:nvPr/>
          </p:nvPicPr>
          <p:blipFill>
            <a:blip r:embed="rId59"/>
            <a:stretch/>
          </p:blipFill>
          <p:spPr>
            <a:xfrm>
              <a:off x="3322800" y="3895560"/>
              <a:ext cx="104760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3409920" y="3952800"/>
              <a:ext cx="8809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Прямоугольник с двумя вырезанными соседними углами 61"/>
          <p:cNvGrpSpPr/>
          <p:nvPr/>
        </p:nvGrpSpPr>
        <p:grpSpPr>
          <a:xfrm>
            <a:off x="4541760" y="3895560"/>
            <a:ext cx="1041480" cy="390600"/>
            <a:chOff x="4541760" y="3895560"/>
            <a:chExt cx="1041480" cy="390600"/>
          </a:xfrm>
        </p:grpSpPr>
        <p:pic>
          <p:nvPicPr>
            <p:cNvPr id="204" name="Прямоугольник с двумя вырезанными соседними углами 61" descr=""/>
            <p:cNvPicPr/>
            <p:nvPr/>
          </p:nvPicPr>
          <p:blipFill>
            <a:blip r:embed="rId60"/>
            <a:stretch/>
          </p:blipFill>
          <p:spPr>
            <a:xfrm>
              <a:off x="4541760" y="3895560"/>
              <a:ext cx="10414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624560" y="3952800"/>
              <a:ext cx="8809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Диагональная полоса 62"/>
          <p:cNvGrpSpPr/>
          <p:nvPr/>
        </p:nvGrpSpPr>
        <p:grpSpPr>
          <a:xfrm>
            <a:off x="3928680" y="4181400"/>
            <a:ext cx="470160" cy="798480"/>
            <a:chOff x="3928680" y="4181400"/>
            <a:chExt cx="470160" cy="798480"/>
          </a:xfrm>
        </p:grpSpPr>
        <p:pic>
          <p:nvPicPr>
            <p:cNvPr id="207" name="Диагональная полоса 62" descr=""/>
            <p:cNvPicPr/>
            <p:nvPr/>
          </p:nvPicPr>
          <p:blipFill>
            <a:blip r:embed="rId61"/>
            <a:stretch/>
          </p:blipFill>
          <p:spPr>
            <a:xfrm>
              <a:off x="4036680" y="4181400"/>
              <a:ext cx="2451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7862400">
              <a:off x="3972960" y="4403520"/>
              <a:ext cx="380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Диагональная полоса 63"/>
          <p:cNvGrpSpPr/>
          <p:nvPr/>
        </p:nvGrpSpPr>
        <p:grpSpPr>
          <a:xfrm>
            <a:off x="5149440" y="4181400"/>
            <a:ext cx="465480" cy="798480"/>
            <a:chOff x="5149440" y="4181400"/>
            <a:chExt cx="465480" cy="798480"/>
          </a:xfrm>
        </p:grpSpPr>
        <p:pic>
          <p:nvPicPr>
            <p:cNvPr id="210" name="Диагональная полоса 63" descr=""/>
            <p:cNvPicPr/>
            <p:nvPr/>
          </p:nvPicPr>
          <p:blipFill>
            <a:blip r:embed="rId62"/>
            <a:stretch/>
          </p:blipFill>
          <p:spPr>
            <a:xfrm>
              <a:off x="5265000" y="4181400"/>
              <a:ext cx="2278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7949400">
              <a:off x="5190480" y="4410000"/>
              <a:ext cx="3826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Диагональная полоса 64"/>
          <p:cNvGrpSpPr/>
          <p:nvPr/>
        </p:nvGrpSpPr>
        <p:grpSpPr>
          <a:xfrm>
            <a:off x="4477680" y="4181400"/>
            <a:ext cx="473760" cy="798480"/>
            <a:chOff x="4477680" y="4181400"/>
            <a:chExt cx="473760" cy="798480"/>
          </a:xfrm>
        </p:grpSpPr>
        <p:pic>
          <p:nvPicPr>
            <p:cNvPr id="213" name="Диагональная полоса 64" descr=""/>
            <p:cNvPicPr/>
            <p:nvPr/>
          </p:nvPicPr>
          <p:blipFill>
            <a:blip r:embed="rId63"/>
            <a:stretch/>
          </p:blipFill>
          <p:spPr>
            <a:xfrm>
              <a:off x="4587120" y="4181400"/>
              <a:ext cx="2574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8608400">
              <a:off x="4523760" y="4420800"/>
              <a:ext cx="3812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Диагональная полоса 65"/>
          <p:cNvGrpSpPr/>
          <p:nvPr/>
        </p:nvGrpSpPr>
        <p:grpSpPr>
          <a:xfrm>
            <a:off x="3259800" y="4181400"/>
            <a:ext cx="478440" cy="798480"/>
            <a:chOff x="3259800" y="4181400"/>
            <a:chExt cx="478440" cy="798480"/>
          </a:xfrm>
        </p:grpSpPr>
        <p:pic>
          <p:nvPicPr>
            <p:cNvPr id="216" name="Диагональная полоса 65" descr=""/>
            <p:cNvPicPr/>
            <p:nvPr/>
          </p:nvPicPr>
          <p:blipFill>
            <a:blip r:embed="rId64"/>
            <a:stretch/>
          </p:blipFill>
          <p:spPr>
            <a:xfrm>
              <a:off x="3364920" y="4181400"/>
              <a:ext cx="2678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8608400">
              <a:off x="3308400" y="4417560"/>
              <a:ext cx="381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Блок-схема: решение 66"/>
          <p:cNvGrpSpPr/>
          <p:nvPr/>
        </p:nvGrpSpPr>
        <p:grpSpPr>
          <a:xfrm>
            <a:off x="3608280" y="4896000"/>
            <a:ext cx="476280" cy="609480"/>
            <a:chOff x="3608280" y="4896000"/>
            <a:chExt cx="476280" cy="609480"/>
          </a:xfrm>
        </p:grpSpPr>
        <p:pic>
          <p:nvPicPr>
            <p:cNvPr id="219" name="Блок-схема: решение 66" descr=""/>
            <p:cNvPicPr/>
            <p:nvPr/>
          </p:nvPicPr>
          <p:blipFill>
            <a:blip r:embed="rId65"/>
            <a:stretch/>
          </p:blipFill>
          <p:spPr>
            <a:xfrm>
              <a:off x="3608280" y="4896000"/>
              <a:ext cx="4762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760920" y="5054760"/>
              <a:ext cx="1792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Блок-схема: решение 67"/>
          <p:cNvGrpSpPr/>
          <p:nvPr/>
        </p:nvGrpSpPr>
        <p:grpSpPr>
          <a:xfrm>
            <a:off x="3395520" y="4896000"/>
            <a:ext cx="328680" cy="461880"/>
            <a:chOff x="3395520" y="4896000"/>
            <a:chExt cx="328680" cy="461880"/>
          </a:xfrm>
        </p:grpSpPr>
        <p:pic>
          <p:nvPicPr>
            <p:cNvPr id="222" name="Блок-схема: решение 67" descr=""/>
            <p:cNvPicPr/>
            <p:nvPr/>
          </p:nvPicPr>
          <p:blipFill>
            <a:blip r:embed="rId66"/>
            <a:stretch/>
          </p:blipFill>
          <p:spPr>
            <a:xfrm>
              <a:off x="3395520" y="4896000"/>
              <a:ext cx="32868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511440" y="5018040"/>
              <a:ext cx="106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Блок-схема: решение 68"/>
          <p:cNvGrpSpPr/>
          <p:nvPr/>
        </p:nvGrpSpPr>
        <p:grpSpPr>
          <a:xfrm>
            <a:off x="4896000" y="3749760"/>
            <a:ext cx="328320" cy="468360"/>
            <a:chOff x="4896000" y="3749760"/>
            <a:chExt cx="328320" cy="468360"/>
          </a:xfrm>
        </p:grpSpPr>
        <p:pic>
          <p:nvPicPr>
            <p:cNvPr id="225" name="Блок-схема: решение 68" descr=""/>
            <p:cNvPicPr/>
            <p:nvPr/>
          </p:nvPicPr>
          <p:blipFill>
            <a:blip r:embed="rId67"/>
            <a:stretch/>
          </p:blipFill>
          <p:spPr>
            <a:xfrm>
              <a:off x="4896000" y="3749760"/>
              <a:ext cx="32832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5011560" y="3875040"/>
              <a:ext cx="106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Блок-схема: решение 69"/>
          <p:cNvGrpSpPr/>
          <p:nvPr/>
        </p:nvGrpSpPr>
        <p:grpSpPr>
          <a:xfrm>
            <a:off x="3681360" y="3749760"/>
            <a:ext cx="330120" cy="468360"/>
            <a:chOff x="3681360" y="3749760"/>
            <a:chExt cx="330120" cy="468360"/>
          </a:xfrm>
        </p:grpSpPr>
        <p:pic>
          <p:nvPicPr>
            <p:cNvPr id="228" name="Блок-схема: решение 69" descr=""/>
            <p:cNvPicPr/>
            <p:nvPr/>
          </p:nvPicPr>
          <p:blipFill>
            <a:blip r:embed="rId68"/>
            <a:stretch/>
          </p:blipFill>
          <p:spPr>
            <a:xfrm>
              <a:off x="3681360" y="3749760"/>
              <a:ext cx="33012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797280" y="3875040"/>
              <a:ext cx="106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Блок-схема: решение 70"/>
          <p:cNvGrpSpPr/>
          <p:nvPr/>
        </p:nvGrpSpPr>
        <p:grpSpPr>
          <a:xfrm>
            <a:off x="3968640" y="3895560"/>
            <a:ext cx="328680" cy="463680"/>
            <a:chOff x="3968640" y="3895560"/>
            <a:chExt cx="328680" cy="463680"/>
          </a:xfrm>
        </p:grpSpPr>
        <p:pic>
          <p:nvPicPr>
            <p:cNvPr id="231" name="Блок-схема: решение 70" descr=""/>
            <p:cNvPicPr/>
            <p:nvPr/>
          </p:nvPicPr>
          <p:blipFill>
            <a:blip r:embed="rId69"/>
            <a:stretch/>
          </p:blipFill>
          <p:spPr>
            <a:xfrm>
              <a:off x="3968640" y="3895560"/>
              <a:ext cx="3286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083120" y="4017960"/>
              <a:ext cx="106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Блок-схема: решение 71"/>
          <p:cNvGrpSpPr/>
          <p:nvPr/>
        </p:nvGrpSpPr>
        <p:grpSpPr>
          <a:xfrm>
            <a:off x="3395520" y="3895560"/>
            <a:ext cx="328680" cy="463680"/>
            <a:chOff x="3395520" y="3895560"/>
            <a:chExt cx="328680" cy="463680"/>
          </a:xfrm>
        </p:grpSpPr>
        <p:pic>
          <p:nvPicPr>
            <p:cNvPr id="234" name="Блок-схема: решение 71" descr=""/>
            <p:cNvPicPr/>
            <p:nvPr/>
          </p:nvPicPr>
          <p:blipFill>
            <a:blip r:embed="rId70"/>
            <a:stretch/>
          </p:blipFill>
          <p:spPr>
            <a:xfrm>
              <a:off x="3395520" y="3895560"/>
              <a:ext cx="3286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3511440" y="4017960"/>
              <a:ext cx="106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Блок-схема: решение 72"/>
          <p:cNvGrpSpPr/>
          <p:nvPr/>
        </p:nvGrpSpPr>
        <p:grpSpPr>
          <a:xfrm>
            <a:off x="5181480" y="3962520"/>
            <a:ext cx="328680" cy="469800"/>
            <a:chOff x="5181480" y="3962520"/>
            <a:chExt cx="328680" cy="469800"/>
          </a:xfrm>
        </p:grpSpPr>
        <p:pic>
          <p:nvPicPr>
            <p:cNvPr id="237" name="Блок-схема: решение 72" descr=""/>
            <p:cNvPicPr/>
            <p:nvPr/>
          </p:nvPicPr>
          <p:blipFill>
            <a:blip r:embed="rId71"/>
            <a:stretch/>
          </p:blipFill>
          <p:spPr>
            <a:xfrm>
              <a:off x="5181480" y="3962520"/>
              <a:ext cx="3286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297400" y="4089240"/>
              <a:ext cx="10656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Блок-схема: решение 73"/>
          <p:cNvGrpSpPr/>
          <p:nvPr/>
        </p:nvGrpSpPr>
        <p:grpSpPr>
          <a:xfrm>
            <a:off x="4608360" y="3895560"/>
            <a:ext cx="335160" cy="463680"/>
            <a:chOff x="4608360" y="3895560"/>
            <a:chExt cx="335160" cy="463680"/>
          </a:xfrm>
        </p:grpSpPr>
        <p:pic>
          <p:nvPicPr>
            <p:cNvPr id="240" name="Блок-схема: решение 73" descr=""/>
            <p:cNvPicPr/>
            <p:nvPr/>
          </p:nvPicPr>
          <p:blipFill>
            <a:blip r:embed="rId72"/>
            <a:stretch/>
          </p:blipFill>
          <p:spPr>
            <a:xfrm>
              <a:off x="4608360" y="3895560"/>
              <a:ext cx="335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726080" y="4017960"/>
              <a:ext cx="106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Блок-схема: решение 74"/>
          <p:cNvGrpSpPr/>
          <p:nvPr/>
        </p:nvGrpSpPr>
        <p:grpSpPr>
          <a:xfrm>
            <a:off x="4608360" y="4896000"/>
            <a:ext cx="335160" cy="461880"/>
            <a:chOff x="4608360" y="4896000"/>
            <a:chExt cx="335160" cy="461880"/>
          </a:xfrm>
        </p:grpSpPr>
        <p:pic>
          <p:nvPicPr>
            <p:cNvPr id="243" name="Блок-схема: решение 74" descr=""/>
            <p:cNvPicPr/>
            <p:nvPr/>
          </p:nvPicPr>
          <p:blipFill>
            <a:blip r:embed="rId73"/>
            <a:stretch/>
          </p:blipFill>
          <p:spPr>
            <a:xfrm>
              <a:off x="4608360" y="4896000"/>
              <a:ext cx="3351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726080" y="5018040"/>
              <a:ext cx="106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Блок-схема: решение 75"/>
          <p:cNvGrpSpPr/>
          <p:nvPr/>
        </p:nvGrpSpPr>
        <p:grpSpPr>
          <a:xfrm>
            <a:off x="5181480" y="4896000"/>
            <a:ext cx="328680" cy="461880"/>
            <a:chOff x="5181480" y="4896000"/>
            <a:chExt cx="328680" cy="461880"/>
          </a:xfrm>
        </p:grpSpPr>
        <p:pic>
          <p:nvPicPr>
            <p:cNvPr id="246" name="Блок-схема: решение 75" descr=""/>
            <p:cNvPicPr/>
            <p:nvPr/>
          </p:nvPicPr>
          <p:blipFill>
            <a:blip r:embed="rId74"/>
            <a:stretch/>
          </p:blipFill>
          <p:spPr>
            <a:xfrm>
              <a:off x="5181480" y="4896000"/>
              <a:ext cx="32868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297400" y="5018040"/>
              <a:ext cx="106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Блок-схема: решение 76"/>
          <p:cNvGrpSpPr/>
          <p:nvPr/>
        </p:nvGrpSpPr>
        <p:grpSpPr>
          <a:xfrm>
            <a:off x="4827600" y="4896000"/>
            <a:ext cx="469800" cy="609480"/>
            <a:chOff x="4827600" y="4896000"/>
            <a:chExt cx="469800" cy="609480"/>
          </a:xfrm>
        </p:grpSpPr>
        <p:pic>
          <p:nvPicPr>
            <p:cNvPr id="249" name="Блок-схема: решение 76" descr=""/>
            <p:cNvPicPr/>
            <p:nvPr/>
          </p:nvPicPr>
          <p:blipFill>
            <a:blip r:embed="rId75"/>
            <a:stretch/>
          </p:blipFill>
          <p:spPr>
            <a:xfrm>
              <a:off x="4827600" y="4896000"/>
              <a:ext cx="4698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975200" y="5054760"/>
              <a:ext cx="1792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Блок-схема: решение 77"/>
          <p:cNvGrpSpPr/>
          <p:nvPr/>
        </p:nvGrpSpPr>
        <p:grpSpPr>
          <a:xfrm>
            <a:off x="3968640" y="4896000"/>
            <a:ext cx="328680" cy="461880"/>
            <a:chOff x="3968640" y="4896000"/>
            <a:chExt cx="328680" cy="461880"/>
          </a:xfrm>
        </p:grpSpPr>
        <p:pic>
          <p:nvPicPr>
            <p:cNvPr id="252" name="Блок-схема: решение 77" descr=""/>
            <p:cNvPicPr/>
            <p:nvPr/>
          </p:nvPicPr>
          <p:blipFill>
            <a:blip r:embed="rId76"/>
            <a:stretch/>
          </p:blipFill>
          <p:spPr>
            <a:xfrm>
              <a:off x="3968640" y="4896000"/>
              <a:ext cx="32868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083120" y="5018040"/>
              <a:ext cx="106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Прямоугольник 78"/>
          <p:cNvSpPr/>
          <p:nvPr/>
        </p:nvSpPr>
        <p:spPr>
          <a:xfrm>
            <a:off x="4886280" y="4286160"/>
            <a:ext cx="357120" cy="5716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79"/>
          <p:cNvSpPr/>
          <p:nvPr/>
        </p:nvSpPr>
        <p:spPr>
          <a:xfrm>
            <a:off x="3672000" y="4286160"/>
            <a:ext cx="357120" cy="5716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Рамка 80"/>
          <p:cNvGrpSpPr/>
          <p:nvPr/>
        </p:nvGrpSpPr>
        <p:grpSpPr>
          <a:xfrm>
            <a:off x="4108320" y="2389320"/>
            <a:ext cx="549360" cy="542880"/>
            <a:chOff x="4108320" y="2389320"/>
            <a:chExt cx="549360" cy="542880"/>
          </a:xfrm>
        </p:grpSpPr>
        <p:pic>
          <p:nvPicPr>
            <p:cNvPr id="257" name="Рамка 80" descr=""/>
            <p:cNvPicPr/>
            <p:nvPr/>
          </p:nvPicPr>
          <p:blipFill>
            <a:blip r:embed="rId77"/>
            <a:stretch/>
          </p:blipFill>
          <p:spPr>
            <a:xfrm>
              <a:off x="4108320" y="2389320"/>
              <a:ext cx="5493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4226040" y="2482920"/>
              <a:ext cx="320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Прямоугольник 81"/>
          <p:cNvSpPr/>
          <p:nvPr/>
        </p:nvSpPr>
        <p:spPr>
          <a:xfrm>
            <a:off x="4243320" y="2500200"/>
            <a:ext cx="285840" cy="2858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Солнце 82"/>
          <p:cNvGrpSpPr/>
          <p:nvPr/>
        </p:nvGrpSpPr>
        <p:grpSpPr>
          <a:xfrm>
            <a:off x="3822840" y="176040"/>
            <a:ext cx="974520" cy="970200"/>
            <a:chOff x="3822840" y="176040"/>
            <a:chExt cx="974520" cy="970200"/>
          </a:xfrm>
        </p:grpSpPr>
        <p:pic>
          <p:nvPicPr>
            <p:cNvPr id="261" name="Солнце 82" descr=""/>
            <p:cNvPicPr/>
            <p:nvPr/>
          </p:nvPicPr>
          <p:blipFill>
            <a:blip r:embed="rId78"/>
            <a:stretch/>
          </p:blipFill>
          <p:spPr>
            <a:xfrm>
              <a:off x="3822840" y="176040"/>
              <a:ext cx="97452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162320" y="492120"/>
              <a:ext cx="3034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Блок-схема: узел 83"/>
          <p:cNvGrpSpPr/>
          <p:nvPr/>
        </p:nvGrpSpPr>
        <p:grpSpPr>
          <a:xfrm>
            <a:off x="6040440" y="3462480"/>
            <a:ext cx="330120" cy="323640"/>
            <a:chOff x="6040440" y="3462480"/>
            <a:chExt cx="330120" cy="323640"/>
          </a:xfrm>
        </p:grpSpPr>
        <p:pic>
          <p:nvPicPr>
            <p:cNvPr id="264" name="Блок-схема: узел 83" descr=""/>
            <p:cNvPicPr/>
            <p:nvPr/>
          </p:nvPicPr>
          <p:blipFill>
            <a:blip r:embed="rId79"/>
            <a:stretch/>
          </p:blipFill>
          <p:spPr>
            <a:xfrm>
              <a:off x="6040440" y="3462480"/>
              <a:ext cx="330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132600" y="353232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Блок-схема: узел 84"/>
          <p:cNvGrpSpPr/>
          <p:nvPr/>
        </p:nvGrpSpPr>
        <p:grpSpPr>
          <a:xfrm>
            <a:off x="5608800" y="3035160"/>
            <a:ext cx="334800" cy="324000"/>
            <a:chOff x="5608800" y="3035160"/>
            <a:chExt cx="334800" cy="324000"/>
          </a:xfrm>
        </p:grpSpPr>
        <p:pic>
          <p:nvPicPr>
            <p:cNvPr id="267" name="Блок-схема: узел 84" descr=""/>
            <p:cNvPicPr/>
            <p:nvPr/>
          </p:nvPicPr>
          <p:blipFill>
            <a:blip r:embed="rId80"/>
            <a:stretch/>
          </p:blipFill>
          <p:spPr>
            <a:xfrm>
              <a:off x="5608800" y="3035160"/>
              <a:ext cx="33480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5703840" y="310356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Блок-схема: узел 85"/>
          <p:cNvGrpSpPr/>
          <p:nvPr/>
        </p:nvGrpSpPr>
        <p:grpSpPr>
          <a:xfrm>
            <a:off x="5254560" y="2610000"/>
            <a:ext cx="328680" cy="322200"/>
            <a:chOff x="5254560" y="2610000"/>
            <a:chExt cx="328680" cy="322200"/>
          </a:xfrm>
        </p:grpSpPr>
        <p:pic>
          <p:nvPicPr>
            <p:cNvPr id="270" name="Блок-схема: узел 85" descr=""/>
            <p:cNvPicPr/>
            <p:nvPr/>
          </p:nvPicPr>
          <p:blipFill>
            <a:blip r:embed="rId81"/>
            <a:stretch/>
          </p:blipFill>
          <p:spPr>
            <a:xfrm>
              <a:off x="5254560" y="2610000"/>
              <a:ext cx="3286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346720" y="267480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Блок-схема: узел 86"/>
          <p:cNvGrpSpPr/>
          <p:nvPr/>
        </p:nvGrpSpPr>
        <p:grpSpPr>
          <a:xfrm>
            <a:off x="4896000" y="2176560"/>
            <a:ext cx="328320" cy="322200"/>
            <a:chOff x="4896000" y="2176560"/>
            <a:chExt cx="328320" cy="322200"/>
          </a:xfrm>
        </p:grpSpPr>
        <p:pic>
          <p:nvPicPr>
            <p:cNvPr id="273" name="Блок-схема: узел 86" descr=""/>
            <p:cNvPicPr/>
            <p:nvPr/>
          </p:nvPicPr>
          <p:blipFill>
            <a:blip r:embed="rId82"/>
            <a:stretch/>
          </p:blipFill>
          <p:spPr>
            <a:xfrm>
              <a:off x="4896000" y="2176560"/>
              <a:ext cx="32832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989600" y="224640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Блок-схема: узел 87"/>
          <p:cNvGrpSpPr/>
          <p:nvPr/>
        </p:nvGrpSpPr>
        <p:grpSpPr>
          <a:xfrm>
            <a:off x="4541760" y="1822320"/>
            <a:ext cx="328680" cy="324000"/>
            <a:chOff x="4541760" y="1822320"/>
            <a:chExt cx="328680" cy="324000"/>
          </a:xfrm>
        </p:grpSpPr>
        <p:pic>
          <p:nvPicPr>
            <p:cNvPr id="276" name="Блок-схема: узел 87" descr=""/>
            <p:cNvPicPr/>
            <p:nvPr/>
          </p:nvPicPr>
          <p:blipFill>
            <a:blip r:embed="rId83"/>
            <a:stretch/>
          </p:blipFill>
          <p:spPr>
            <a:xfrm>
              <a:off x="4541760" y="1822320"/>
              <a:ext cx="32868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632480" y="1889280"/>
              <a:ext cx="15048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Блок-схема: узел 88"/>
          <p:cNvGrpSpPr/>
          <p:nvPr/>
        </p:nvGrpSpPr>
        <p:grpSpPr>
          <a:xfrm>
            <a:off x="4108320" y="1390680"/>
            <a:ext cx="330480" cy="328680"/>
            <a:chOff x="4108320" y="1390680"/>
            <a:chExt cx="330480" cy="328680"/>
          </a:xfrm>
        </p:grpSpPr>
        <p:pic>
          <p:nvPicPr>
            <p:cNvPr id="279" name="Блок-схема: узел 88" descr=""/>
            <p:cNvPicPr/>
            <p:nvPr/>
          </p:nvPicPr>
          <p:blipFill>
            <a:blip r:embed="rId84"/>
            <a:stretch/>
          </p:blipFill>
          <p:spPr>
            <a:xfrm>
              <a:off x="4108320" y="1390680"/>
              <a:ext cx="33048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203720" y="146052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Блок-схема: узел 89"/>
          <p:cNvGrpSpPr/>
          <p:nvPr/>
        </p:nvGrpSpPr>
        <p:grpSpPr>
          <a:xfrm>
            <a:off x="3754440" y="1036800"/>
            <a:ext cx="330120" cy="322200"/>
            <a:chOff x="3754440" y="1036800"/>
            <a:chExt cx="330120" cy="322200"/>
          </a:xfrm>
        </p:grpSpPr>
        <p:pic>
          <p:nvPicPr>
            <p:cNvPr id="282" name="Блок-схема: узел 89" descr=""/>
            <p:cNvPicPr/>
            <p:nvPr/>
          </p:nvPicPr>
          <p:blipFill>
            <a:blip r:embed="rId85"/>
            <a:stretch/>
          </p:blipFill>
          <p:spPr>
            <a:xfrm>
              <a:off x="3754440" y="1036800"/>
              <a:ext cx="33012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3846600" y="110340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Блок-схема: узел 90"/>
          <p:cNvGrpSpPr/>
          <p:nvPr/>
        </p:nvGrpSpPr>
        <p:grpSpPr>
          <a:xfrm>
            <a:off x="2468520" y="3608280"/>
            <a:ext cx="330120" cy="324000"/>
            <a:chOff x="2468520" y="3608280"/>
            <a:chExt cx="330120" cy="324000"/>
          </a:xfrm>
        </p:grpSpPr>
        <p:pic>
          <p:nvPicPr>
            <p:cNvPr id="285" name="Блок-схема: узел 90" descr=""/>
            <p:cNvPicPr/>
            <p:nvPr/>
          </p:nvPicPr>
          <p:blipFill>
            <a:blip r:embed="rId86"/>
            <a:stretch/>
          </p:blipFill>
          <p:spPr>
            <a:xfrm>
              <a:off x="2468520" y="3608280"/>
              <a:ext cx="33012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560680" y="3675240"/>
              <a:ext cx="15084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Блок-схема: узел 91"/>
          <p:cNvGrpSpPr/>
          <p:nvPr/>
        </p:nvGrpSpPr>
        <p:grpSpPr>
          <a:xfrm>
            <a:off x="2755800" y="3176640"/>
            <a:ext cx="328680" cy="328680"/>
            <a:chOff x="2755800" y="3176640"/>
            <a:chExt cx="328680" cy="328680"/>
          </a:xfrm>
        </p:grpSpPr>
        <p:pic>
          <p:nvPicPr>
            <p:cNvPr id="288" name="Блок-схема: узел 91" descr=""/>
            <p:cNvPicPr/>
            <p:nvPr/>
          </p:nvPicPr>
          <p:blipFill>
            <a:blip r:embed="rId87"/>
            <a:stretch/>
          </p:blipFill>
          <p:spPr>
            <a:xfrm>
              <a:off x="2755800" y="3176640"/>
              <a:ext cx="32868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2846520" y="324648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Блок-схема: узел 92"/>
          <p:cNvGrpSpPr/>
          <p:nvPr/>
        </p:nvGrpSpPr>
        <p:grpSpPr>
          <a:xfrm>
            <a:off x="3108240" y="2822400"/>
            <a:ext cx="330120" cy="322560"/>
            <a:chOff x="3108240" y="2822400"/>
            <a:chExt cx="330120" cy="322560"/>
          </a:xfrm>
        </p:grpSpPr>
        <p:pic>
          <p:nvPicPr>
            <p:cNvPr id="291" name="Блок-схема: узел 92" descr=""/>
            <p:cNvPicPr/>
            <p:nvPr/>
          </p:nvPicPr>
          <p:blipFill>
            <a:blip r:embed="rId88"/>
            <a:stretch/>
          </p:blipFill>
          <p:spPr>
            <a:xfrm>
              <a:off x="3108240" y="2822400"/>
              <a:ext cx="330120" cy="3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3203640" y="288936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Блок-схема: узел 93"/>
          <p:cNvGrpSpPr/>
          <p:nvPr/>
        </p:nvGrpSpPr>
        <p:grpSpPr>
          <a:xfrm>
            <a:off x="3468600" y="2389320"/>
            <a:ext cx="328680" cy="330120"/>
            <a:chOff x="3468600" y="2389320"/>
            <a:chExt cx="328680" cy="330120"/>
          </a:xfrm>
        </p:grpSpPr>
        <p:pic>
          <p:nvPicPr>
            <p:cNvPr id="294" name="Блок-схема: узел 93" descr=""/>
            <p:cNvPicPr/>
            <p:nvPr/>
          </p:nvPicPr>
          <p:blipFill>
            <a:blip r:embed="rId89"/>
            <a:stretch/>
          </p:blipFill>
          <p:spPr>
            <a:xfrm>
              <a:off x="3468600" y="2389320"/>
              <a:ext cx="32868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3560760" y="246060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Блок-схема: узел 94"/>
          <p:cNvGrpSpPr/>
          <p:nvPr/>
        </p:nvGrpSpPr>
        <p:grpSpPr>
          <a:xfrm>
            <a:off x="4541760" y="1036800"/>
            <a:ext cx="328680" cy="322200"/>
            <a:chOff x="4541760" y="1036800"/>
            <a:chExt cx="328680" cy="322200"/>
          </a:xfrm>
        </p:grpSpPr>
        <p:pic>
          <p:nvPicPr>
            <p:cNvPr id="297" name="Блок-схема: узел 94" descr=""/>
            <p:cNvPicPr/>
            <p:nvPr/>
          </p:nvPicPr>
          <p:blipFill>
            <a:blip r:embed="rId90"/>
            <a:stretch/>
          </p:blipFill>
          <p:spPr>
            <a:xfrm>
              <a:off x="4541760" y="1036800"/>
              <a:ext cx="3286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4632480" y="1103400"/>
              <a:ext cx="1504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Блок-схема: узел 95"/>
          <p:cNvGrpSpPr/>
          <p:nvPr/>
        </p:nvGrpSpPr>
        <p:grpSpPr>
          <a:xfrm>
            <a:off x="3822840" y="1962000"/>
            <a:ext cx="334800" cy="324000"/>
            <a:chOff x="3822840" y="1962000"/>
            <a:chExt cx="334800" cy="324000"/>
          </a:xfrm>
        </p:grpSpPr>
        <p:pic>
          <p:nvPicPr>
            <p:cNvPr id="300" name="Блок-схема: узел 95" descr=""/>
            <p:cNvPicPr/>
            <p:nvPr/>
          </p:nvPicPr>
          <p:blipFill>
            <a:blip r:embed="rId91"/>
            <a:stretch/>
          </p:blipFill>
          <p:spPr>
            <a:xfrm>
              <a:off x="3822840" y="1962000"/>
              <a:ext cx="33480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917880" y="203184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Блок-схема: процесс 96"/>
          <p:cNvGrpSpPr/>
          <p:nvPr/>
        </p:nvGrpSpPr>
        <p:grpSpPr>
          <a:xfrm>
            <a:off x="2541600" y="5894280"/>
            <a:ext cx="3902040" cy="609840"/>
            <a:chOff x="2541600" y="5894280"/>
            <a:chExt cx="3902040" cy="609840"/>
          </a:xfrm>
        </p:grpSpPr>
        <p:pic>
          <p:nvPicPr>
            <p:cNvPr id="303" name="Блок-схема: процесс 96" descr=""/>
            <p:cNvPicPr/>
            <p:nvPr/>
          </p:nvPicPr>
          <p:blipFill>
            <a:blip r:embed="rId92"/>
            <a:stretch/>
          </p:blipFill>
          <p:spPr>
            <a:xfrm>
              <a:off x="2541600" y="5894280"/>
              <a:ext cx="39020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2600280" y="5929200"/>
              <a:ext cx="37861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Box 97"/>
          <p:cNvSpPr/>
          <p:nvPr/>
        </p:nvSpPr>
        <p:spPr>
          <a:xfrm>
            <a:off x="3980520" y="595008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ЗБ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олилиния 1"/>
          <p:cNvSpPr/>
          <p:nvPr/>
        </p:nvSpPr>
        <p:spPr>
          <a:xfrm flipH="1">
            <a:off x="5797440" y="3357720"/>
            <a:ext cx="3346560" cy="2347920"/>
          </a:xfrm>
          <a:custGeom>
            <a:avLst/>
            <a:gdLst/>
            <a:ahLst/>
            <a:rect l="l" t="t" r="r" b="b"/>
            <a:pathLst>
              <a:path w="4208428" h="1483704">
                <a:moveTo>
                  <a:pt x="426689" y="1178904"/>
                </a:moveTo>
                <a:cubicBezTo>
                  <a:pt x="531918" y="1175275"/>
                  <a:pt x="637265" y="1174201"/>
                  <a:pt x="742375" y="1168018"/>
                </a:cubicBezTo>
                <a:cubicBezTo>
                  <a:pt x="862237" y="1160967"/>
                  <a:pt x="736821" y="1159251"/>
                  <a:pt x="840346" y="1135361"/>
                </a:cubicBezTo>
                <a:cubicBezTo>
                  <a:pt x="872363" y="1127973"/>
                  <a:pt x="905748" y="1128818"/>
                  <a:pt x="938318" y="1124475"/>
                </a:cubicBezTo>
                <a:cubicBezTo>
                  <a:pt x="960196" y="1121558"/>
                  <a:pt x="981861" y="1117218"/>
                  <a:pt x="1003632" y="1113589"/>
                </a:cubicBezTo>
                <a:lnTo>
                  <a:pt x="1166918" y="1124475"/>
                </a:lnTo>
                <a:cubicBezTo>
                  <a:pt x="1287041" y="1131149"/>
                  <a:pt x="1351504" y="1121636"/>
                  <a:pt x="1449946" y="1146246"/>
                </a:cubicBezTo>
                <a:cubicBezTo>
                  <a:pt x="1461078" y="1149029"/>
                  <a:pt x="1471717" y="1153503"/>
                  <a:pt x="1482603" y="1157132"/>
                </a:cubicBezTo>
                <a:cubicBezTo>
                  <a:pt x="1602884" y="1152506"/>
                  <a:pt x="1796955" y="1135138"/>
                  <a:pt x="1928918" y="1157132"/>
                </a:cubicBezTo>
                <a:cubicBezTo>
                  <a:pt x="1941823" y="1159283"/>
                  <a:pt x="1948652" y="1176864"/>
                  <a:pt x="1961575" y="1178904"/>
                </a:cubicBezTo>
                <a:cubicBezTo>
                  <a:pt x="2019033" y="1187976"/>
                  <a:pt x="2077689" y="1186161"/>
                  <a:pt x="2135746" y="1189789"/>
                </a:cubicBezTo>
                <a:cubicBezTo>
                  <a:pt x="2146632" y="1197046"/>
                  <a:pt x="2156378" y="1206407"/>
                  <a:pt x="2168403" y="1211561"/>
                </a:cubicBezTo>
                <a:cubicBezTo>
                  <a:pt x="2182154" y="1217454"/>
                  <a:pt x="2197561" y="1218336"/>
                  <a:pt x="2211946" y="1222446"/>
                </a:cubicBezTo>
                <a:cubicBezTo>
                  <a:pt x="2222979" y="1225598"/>
                  <a:pt x="2233717" y="1229703"/>
                  <a:pt x="2244603" y="1233332"/>
                </a:cubicBezTo>
                <a:cubicBezTo>
                  <a:pt x="2338946" y="1229703"/>
                  <a:pt x="2433219" y="1222446"/>
                  <a:pt x="2527632" y="1222446"/>
                </a:cubicBezTo>
                <a:cubicBezTo>
                  <a:pt x="2643803" y="1222446"/>
                  <a:pt x="2759942" y="1227672"/>
                  <a:pt x="2875975" y="1233332"/>
                </a:cubicBezTo>
                <a:cubicBezTo>
                  <a:pt x="2908794" y="1234933"/>
                  <a:pt x="2941129" y="1242577"/>
                  <a:pt x="2973946" y="1244218"/>
                </a:cubicBezTo>
                <a:cubicBezTo>
                  <a:pt x="3086350" y="1249838"/>
                  <a:pt x="3198917" y="1251475"/>
                  <a:pt x="3311403" y="1255104"/>
                </a:cubicBezTo>
                <a:cubicBezTo>
                  <a:pt x="3350209" y="1293908"/>
                  <a:pt x="3315206" y="1263496"/>
                  <a:pt x="3376718" y="1298646"/>
                </a:cubicBezTo>
                <a:cubicBezTo>
                  <a:pt x="3452813" y="1342129"/>
                  <a:pt x="3356634" y="1299322"/>
                  <a:pt x="3463803" y="1342189"/>
                </a:cubicBezTo>
                <a:cubicBezTo>
                  <a:pt x="3558146" y="1338561"/>
                  <a:pt x="3652419" y="1331304"/>
                  <a:pt x="3746832" y="1331304"/>
                </a:cubicBezTo>
                <a:cubicBezTo>
                  <a:pt x="3803808" y="1331304"/>
                  <a:pt x="3823414" y="1350450"/>
                  <a:pt x="3877461" y="1363961"/>
                </a:cubicBezTo>
                <a:cubicBezTo>
                  <a:pt x="3959885" y="1384566"/>
                  <a:pt x="3906104" y="1373491"/>
                  <a:pt x="4040746" y="1385732"/>
                </a:cubicBezTo>
                <a:cubicBezTo>
                  <a:pt x="4044375" y="1396618"/>
                  <a:pt x="4045728" y="1408550"/>
                  <a:pt x="4051632" y="1418389"/>
                </a:cubicBezTo>
                <a:cubicBezTo>
                  <a:pt x="4056912" y="1427190"/>
                  <a:pt x="4068813" y="1430981"/>
                  <a:pt x="4073403" y="1440161"/>
                </a:cubicBezTo>
                <a:cubicBezTo>
                  <a:pt x="4080094" y="1453543"/>
                  <a:pt x="4080660" y="1469190"/>
                  <a:pt x="4084289" y="1483704"/>
                </a:cubicBezTo>
                <a:cubicBezTo>
                  <a:pt x="4095175" y="1480075"/>
                  <a:pt x="4105694" y="1475068"/>
                  <a:pt x="4116946" y="1472818"/>
                </a:cubicBezTo>
                <a:cubicBezTo>
                  <a:pt x="4142106" y="1467786"/>
                  <a:pt x="4171388" y="1475531"/>
                  <a:pt x="4193146" y="1461932"/>
                </a:cubicBezTo>
                <a:cubicBezTo>
                  <a:pt x="4205833" y="1454003"/>
                  <a:pt x="4200403" y="1432903"/>
                  <a:pt x="4204032" y="1418389"/>
                </a:cubicBezTo>
                <a:cubicBezTo>
                  <a:pt x="4200403" y="1382103"/>
                  <a:pt x="4208428" y="1342642"/>
                  <a:pt x="4193146" y="1309532"/>
                </a:cubicBezTo>
                <a:cubicBezTo>
                  <a:pt x="4184280" y="1290322"/>
                  <a:pt x="4157213" y="1287150"/>
                  <a:pt x="4138718" y="1276875"/>
                </a:cubicBezTo>
                <a:cubicBezTo>
                  <a:pt x="4124533" y="1268994"/>
                  <a:pt x="4109264" y="1263155"/>
                  <a:pt x="4095175" y="1255104"/>
                </a:cubicBezTo>
                <a:cubicBezTo>
                  <a:pt x="4036085" y="1221338"/>
                  <a:pt x="4089739" y="1242406"/>
                  <a:pt x="4029861" y="1222446"/>
                </a:cubicBezTo>
                <a:cubicBezTo>
                  <a:pt x="4019844" y="1212429"/>
                  <a:pt x="3987005" y="1182439"/>
                  <a:pt x="3986318" y="1168018"/>
                </a:cubicBezTo>
                <a:cubicBezTo>
                  <a:pt x="3975825" y="947671"/>
                  <a:pt x="3980378" y="1036404"/>
                  <a:pt x="4008089" y="939418"/>
                </a:cubicBezTo>
                <a:cubicBezTo>
                  <a:pt x="4010677" y="930359"/>
                  <a:pt x="4022742" y="875083"/>
                  <a:pt x="4029861" y="863218"/>
                </a:cubicBezTo>
                <a:cubicBezTo>
                  <a:pt x="4035141" y="854417"/>
                  <a:pt x="4044375" y="848703"/>
                  <a:pt x="4051632" y="841446"/>
                </a:cubicBezTo>
                <a:cubicBezTo>
                  <a:pt x="4019763" y="793641"/>
                  <a:pt x="4044611" y="815049"/>
                  <a:pt x="3986318" y="797904"/>
                </a:cubicBezTo>
                <a:cubicBezTo>
                  <a:pt x="3938969" y="783978"/>
                  <a:pt x="3892418" y="767347"/>
                  <a:pt x="3844803" y="754361"/>
                </a:cubicBezTo>
                <a:cubicBezTo>
                  <a:pt x="3782187" y="737284"/>
                  <a:pt x="3742289" y="731832"/>
                  <a:pt x="3681518" y="721704"/>
                </a:cubicBezTo>
                <a:cubicBezTo>
                  <a:pt x="3670632" y="718075"/>
                  <a:pt x="3652235" y="721785"/>
                  <a:pt x="3648861" y="710818"/>
                </a:cubicBezTo>
                <a:cubicBezTo>
                  <a:pt x="3601507" y="556916"/>
                  <a:pt x="3688754" y="597114"/>
                  <a:pt x="3605318" y="569304"/>
                </a:cubicBezTo>
                <a:cubicBezTo>
                  <a:pt x="3587175" y="572932"/>
                  <a:pt x="3568839" y="584677"/>
                  <a:pt x="3550889" y="580189"/>
                </a:cubicBezTo>
                <a:cubicBezTo>
                  <a:pt x="3535954" y="576455"/>
                  <a:pt x="3528251" y="559221"/>
                  <a:pt x="3518232" y="547532"/>
                </a:cubicBezTo>
                <a:cubicBezTo>
                  <a:pt x="3506425" y="533757"/>
                  <a:pt x="3496120" y="518752"/>
                  <a:pt x="3485575" y="503989"/>
                </a:cubicBezTo>
                <a:cubicBezTo>
                  <a:pt x="3477971" y="493343"/>
                  <a:pt x="3473054" y="480583"/>
                  <a:pt x="3463803" y="471332"/>
                </a:cubicBezTo>
                <a:cubicBezTo>
                  <a:pt x="3426795" y="434324"/>
                  <a:pt x="3422604" y="439261"/>
                  <a:pt x="3376718" y="427789"/>
                </a:cubicBezTo>
                <a:cubicBezTo>
                  <a:pt x="3362204" y="416903"/>
                  <a:pt x="3347113" y="406747"/>
                  <a:pt x="3333175" y="395132"/>
                </a:cubicBezTo>
                <a:cubicBezTo>
                  <a:pt x="3325291" y="388562"/>
                  <a:pt x="3320583" y="377951"/>
                  <a:pt x="3311403" y="373361"/>
                </a:cubicBezTo>
                <a:cubicBezTo>
                  <a:pt x="3298022" y="366670"/>
                  <a:pt x="3282246" y="366585"/>
                  <a:pt x="3267861" y="362475"/>
                </a:cubicBezTo>
                <a:cubicBezTo>
                  <a:pt x="3256828" y="359323"/>
                  <a:pt x="3245466" y="356721"/>
                  <a:pt x="3235203" y="351589"/>
                </a:cubicBezTo>
                <a:cubicBezTo>
                  <a:pt x="3216279" y="342127"/>
                  <a:pt x="3198918" y="329818"/>
                  <a:pt x="3180775" y="318932"/>
                </a:cubicBezTo>
                <a:cubicBezTo>
                  <a:pt x="3173518" y="304418"/>
                  <a:pt x="3165395" y="290305"/>
                  <a:pt x="3159003" y="275389"/>
                </a:cubicBezTo>
                <a:cubicBezTo>
                  <a:pt x="3154483" y="264842"/>
                  <a:pt x="3153249" y="252995"/>
                  <a:pt x="3148118" y="242732"/>
                </a:cubicBezTo>
                <a:cubicBezTo>
                  <a:pt x="3138656" y="223808"/>
                  <a:pt x="3126347" y="206447"/>
                  <a:pt x="3115461" y="188304"/>
                </a:cubicBezTo>
                <a:cubicBezTo>
                  <a:pt x="3092817" y="97731"/>
                  <a:pt x="3125466" y="189425"/>
                  <a:pt x="3061032" y="112104"/>
                </a:cubicBezTo>
                <a:cubicBezTo>
                  <a:pt x="3053686" y="103289"/>
                  <a:pt x="3057492" y="88261"/>
                  <a:pt x="3050146" y="79446"/>
                </a:cubicBezTo>
                <a:cubicBezTo>
                  <a:pt x="3041707" y="69319"/>
                  <a:pt x="2988838" y="34946"/>
                  <a:pt x="2973946" y="25018"/>
                </a:cubicBezTo>
                <a:cubicBezTo>
                  <a:pt x="2948546" y="28647"/>
                  <a:pt x="2921859" y="27136"/>
                  <a:pt x="2897746" y="35904"/>
                </a:cubicBezTo>
                <a:cubicBezTo>
                  <a:pt x="2880695" y="42104"/>
                  <a:pt x="2868967" y="58016"/>
                  <a:pt x="2854203" y="68561"/>
                </a:cubicBezTo>
                <a:cubicBezTo>
                  <a:pt x="2843557" y="76165"/>
                  <a:pt x="2833571" y="85178"/>
                  <a:pt x="2821546" y="90332"/>
                </a:cubicBezTo>
                <a:cubicBezTo>
                  <a:pt x="2807795" y="96225"/>
                  <a:pt x="2792517" y="97589"/>
                  <a:pt x="2778003" y="101218"/>
                </a:cubicBezTo>
                <a:cubicBezTo>
                  <a:pt x="2767117" y="112104"/>
                  <a:pt x="2750214" y="119270"/>
                  <a:pt x="2745346" y="133875"/>
                </a:cubicBezTo>
                <a:cubicBezTo>
                  <a:pt x="2734956" y="165047"/>
                  <a:pt x="2759019" y="210016"/>
                  <a:pt x="2734461" y="231846"/>
                </a:cubicBezTo>
                <a:cubicBezTo>
                  <a:pt x="2712596" y="251282"/>
                  <a:pt x="2676404" y="224589"/>
                  <a:pt x="2647375" y="220961"/>
                </a:cubicBezTo>
                <a:cubicBezTo>
                  <a:pt x="2632861" y="213704"/>
                  <a:pt x="2619026" y="204887"/>
                  <a:pt x="2603832" y="199189"/>
                </a:cubicBezTo>
                <a:cubicBezTo>
                  <a:pt x="2589824" y="193936"/>
                  <a:pt x="2574040" y="194197"/>
                  <a:pt x="2560289" y="188304"/>
                </a:cubicBezTo>
                <a:cubicBezTo>
                  <a:pt x="2548264" y="183150"/>
                  <a:pt x="2540570" y="168473"/>
                  <a:pt x="2527632" y="166532"/>
                </a:cubicBezTo>
                <a:cubicBezTo>
                  <a:pt x="2466523" y="157365"/>
                  <a:pt x="2404261" y="159275"/>
                  <a:pt x="2342575" y="155646"/>
                </a:cubicBezTo>
                <a:cubicBezTo>
                  <a:pt x="2331689" y="141132"/>
                  <a:pt x="2322747" y="124933"/>
                  <a:pt x="2309918" y="112104"/>
                </a:cubicBezTo>
                <a:cubicBezTo>
                  <a:pt x="2256261" y="58447"/>
                  <a:pt x="2188633" y="96241"/>
                  <a:pt x="2113975" y="101218"/>
                </a:cubicBezTo>
                <a:cubicBezTo>
                  <a:pt x="2106718" y="108475"/>
                  <a:pt x="2102327" y="121302"/>
                  <a:pt x="2092203" y="122989"/>
                </a:cubicBezTo>
                <a:cubicBezTo>
                  <a:pt x="2036773" y="132228"/>
                  <a:pt x="2060564" y="107170"/>
                  <a:pt x="2026889" y="90332"/>
                </a:cubicBezTo>
                <a:cubicBezTo>
                  <a:pt x="2002913" y="78344"/>
                  <a:pt x="1904437" y="69583"/>
                  <a:pt x="1896261" y="68561"/>
                </a:cubicBezTo>
                <a:cubicBezTo>
                  <a:pt x="1889004" y="57675"/>
                  <a:pt x="1880340" y="47606"/>
                  <a:pt x="1874489" y="35904"/>
                </a:cubicBezTo>
                <a:cubicBezTo>
                  <a:pt x="1869357" y="25641"/>
                  <a:pt x="1874963" y="4869"/>
                  <a:pt x="1863603" y="3246"/>
                </a:cubicBezTo>
                <a:cubicBezTo>
                  <a:pt x="1840885" y="0"/>
                  <a:pt x="1798289" y="25018"/>
                  <a:pt x="1798289" y="25018"/>
                </a:cubicBezTo>
                <a:cubicBezTo>
                  <a:pt x="1772889" y="21389"/>
                  <a:pt x="1747249" y="19164"/>
                  <a:pt x="1722089" y="14132"/>
                </a:cubicBezTo>
                <a:cubicBezTo>
                  <a:pt x="1710837" y="11882"/>
                  <a:pt x="1700907" y="3246"/>
                  <a:pt x="1689432" y="3246"/>
                </a:cubicBezTo>
                <a:cubicBezTo>
                  <a:pt x="1573261" y="3246"/>
                  <a:pt x="1457203" y="10503"/>
                  <a:pt x="1341089" y="14132"/>
                </a:cubicBezTo>
                <a:lnTo>
                  <a:pt x="1254003" y="101218"/>
                </a:lnTo>
                <a:cubicBezTo>
                  <a:pt x="1229927" y="125294"/>
                  <a:pt x="1214731" y="136220"/>
                  <a:pt x="1199575" y="166532"/>
                </a:cubicBezTo>
                <a:cubicBezTo>
                  <a:pt x="1153338" y="259007"/>
                  <a:pt x="1264781" y="106820"/>
                  <a:pt x="1145146" y="286275"/>
                </a:cubicBezTo>
                <a:cubicBezTo>
                  <a:pt x="1137889" y="297161"/>
                  <a:pt x="1129226" y="307230"/>
                  <a:pt x="1123375" y="318932"/>
                </a:cubicBezTo>
                <a:cubicBezTo>
                  <a:pt x="1108698" y="348287"/>
                  <a:pt x="1121091" y="355137"/>
                  <a:pt x="1090718" y="373361"/>
                </a:cubicBezTo>
                <a:cubicBezTo>
                  <a:pt x="1066972" y="387609"/>
                  <a:pt x="995065" y="393246"/>
                  <a:pt x="981861" y="395132"/>
                </a:cubicBezTo>
                <a:cubicBezTo>
                  <a:pt x="960089" y="402389"/>
                  <a:pt x="937073" y="406641"/>
                  <a:pt x="916546" y="416904"/>
                </a:cubicBezTo>
                <a:cubicBezTo>
                  <a:pt x="887518" y="431418"/>
                  <a:pt x="860947" y="452574"/>
                  <a:pt x="829461" y="460446"/>
                </a:cubicBezTo>
                <a:lnTo>
                  <a:pt x="742375" y="482218"/>
                </a:lnTo>
                <a:cubicBezTo>
                  <a:pt x="724232" y="511247"/>
                  <a:pt x="718564" y="553995"/>
                  <a:pt x="687946" y="569304"/>
                </a:cubicBezTo>
                <a:cubicBezTo>
                  <a:pt x="673432" y="576561"/>
                  <a:pt x="658492" y="583024"/>
                  <a:pt x="644403" y="591075"/>
                </a:cubicBezTo>
                <a:cubicBezTo>
                  <a:pt x="633044" y="597566"/>
                  <a:pt x="623448" y="606995"/>
                  <a:pt x="611746" y="612846"/>
                </a:cubicBezTo>
                <a:cubicBezTo>
                  <a:pt x="601483" y="617978"/>
                  <a:pt x="589975" y="620103"/>
                  <a:pt x="579089" y="623732"/>
                </a:cubicBezTo>
                <a:cubicBezTo>
                  <a:pt x="568203" y="634618"/>
                  <a:pt x="559487" y="648230"/>
                  <a:pt x="546432" y="656389"/>
                </a:cubicBezTo>
                <a:cubicBezTo>
                  <a:pt x="539767" y="660554"/>
                  <a:pt x="476237" y="684823"/>
                  <a:pt x="459346" y="689046"/>
                </a:cubicBezTo>
                <a:cubicBezTo>
                  <a:pt x="441396" y="693533"/>
                  <a:pt x="422768" y="695064"/>
                  <a:pt x="404918" y="699932"/>
                </a:cubicBezTo>
                <a:cubicBezTo>
                  <a:pt x="382777" y="705971"/>
                  <a:pt x="361375" y="714447"/>
                  <a:pt x="339603" y="721704"/>
                </a:cubicBezTo>
                <a:lnTo>
                  <a:pt x="306946" y="732589"/>
                </a:lnTo>
                <a:cubicBezTo>
                  <a:pt x="299689" y="743475"/>
                  <a:pt x="293348" y="755030"/>
                  <a:pt x="285175" y="765246"/>
                </a:cubicBezTo>
                <a:cubicBezTo>
                  <a:pt x="278764" y="773260"/>
                  <a:pt x="267993" y="777838"/>
                  <a:pt x="263403" y="787018"/>
                </a:cubicBezTo>
                <a:cubicBezTo>
                  <a:pt x="253140" y="807544"/>
                  <a:pt x="247198" y="830068"/>
                  <a:pt x="241632" y="852332"/>
                </a:cubicBezTo>
                <a:cubicBezTo>
                  <a:pt x="238003" y="866846"/>
                  <a:pt x="238284" y="882952"/>
                  <a:pt x="230746" y="895875"/>
                </a:cubicBezTo>
                <a:cubicBezTo>
                  <a:pt x="179192" y="984253"/>
                  <a:pt x="174380" y="976996"/>
                  <a:pt x="100118" y="1026504"/>
                </a:cubicBezTo>
                <a:cubicBezTo>
                  <a:pt x="57915" y="1054640"/>
                  <a:pt x="79871" y="1044138"/>
                  <a:pt x="34803" y="1059161"/>
                </a:cubicBezTo>
                <a:cubicBezTo>
                  <a:pt x="26243" y="1072001"/>
                  <a:pt x="0" y="1105161"/>
                  <a:pt x="2146" y="1124475"/>
                </a:cubicBezTo>
                <a:cubicBezTo>
                  <a:pt x="7986" y="1177035"/>
                  <a:pt x="16265" y="1191406"/>
                  <a:pt x="56575" y="1211561"/>
                </a:cubicBezTo>
                <a:cubicBezTo>
                  <a:pt x="66838" y="1216693"/>
                  <a:pt x="78346" y="1218818"/>
                  <a:pt x="89232" y="1222446"/>
                </a:cubicBezTo>
                <a:cubicBezTo>
                  <a:pt x="183575" y="1218818"/>
                  <a:pt x="278797" y="1224913"/>
                  <a:pt x="372261" y="1211561"/>
                </a:cubicBezTo>
                <a:cubicBezTo>
                  <a:pt x="506215" y="1192425"/>
                  <a:pt x="262542" y="1146034"/>
                  <a:pt x="437575" y="1189789"/>
                </a:cubicBezTo>
                <a:cubicBezTo>
                  <a:pt x="447599" y="1199813"/>
                  <a:pt x="471814" y="1230522"/>
                  <a:pt x="492003" y="1222446"/>
                </a:cubicBezTo>
                <a:cubicBezTo>
                  <a:pt x="504150" y="1217587"/>
                  <a:pt x="513775" y="1189789"/>
                  <a:pt x="513775" y="1189789"/>
                </a:cubicBezTo>
              </a:path>
            </a:pathLst>
          </a:custGeom>
          <a:solidFill>
            <a:srgbClr val="31859c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олилиния 2"/>
          <p:cNvSpPr/>
          <p:nvPr/>
        </p:nvSpPr>
        <p:spPr>
          <a:xfrm flipH="1">
            <a:off x="0" y="3716280"/>
            <a:ext cx="9323280" cy="2347920"/>
          </a:xfrm>
          <a:custGeom>
            <a:avLst/>
            <a:gdLst/>
            <a:ahLst/>
            <a:rect l="l" t="t" r="r" b="b"/>
            <a:pathLst>
              <a:path w="4208428" h="1483704">
                <a:moveTo>
                  <a:pt x="426689" y="1178904"/>
                </a:moveTo>
                <a:cubicBezTo>
                  <a:pt x="531918" y="1175275"/>
                  <a:pt x="637265" y="1174201"/>
                  <a:pt x="742375" y="1168018"/>
                </a:cubicBezTo>
                <a:cubicBezTo>
                  <a:pt x="862237" y="1160967"/>
                  <a:pt x="736821" y="1159251"/>
                  <a:pt x="840346" y="1135361"/>
                </a:cubicBezTo>
                <a:cubicBezTo>
                  <a:pt x="872363" y="1127973"/>
                  <a:pt x="905748" y="1128818"/>
                  <a:pt x="938318" y="1124475"/>
                </a:cubicBezTo>
                <a:cubicBezTo>
                  <a:pt x="960196" y="1121558"/>
                  <a:pt x="981861" y="1117218"/>
                  <a:pt x="1003632" y="1113589"/>
                </a:cubicBezTo>
                <a:lnTo>
                  <a:pt x="1166918" y="1124475"/>
                </a:lnTo>
                <a:cubicBezTo>
                  <a:pt x="1287041" y="1131149"/>
                  <a:pt x="1351504" y="1121636"/>
                  <a:pt x="1449946" y="1146246"/>
                </a:cubicBezTo>
                <a:cubicBezTo>
                  <a:pt x="1461078" y="1149029"/>
                  <a:pt x="1471717" y="1153503"/>
                  <a:pt x="1482603" y="1157132"/>
                </a:cubicBezTo>
                <a:cubicBezTo>
                  <a:pt x="1602884" y="1152506"/>
                  <a:pt x="1796955" y="1135138"/>
                  <a:pt x="1928918" y="1157132"/>
                </a:cubicBezTo>
                <a:cubicBezTo>
                  <a:pt x="1941823" y="1159283"/>
                  <a:pt x="1948652" y="1176864"/>
                  <a:pt x="1961575" y="1178904"/>
                </a:cubicBezTo>
                <a:cubicBezTo>
                  <a:pt x="2019033" y="1187976"/>
                  <a:pt x="2077689" y="1186161"/>
                  <a:pt x="2135746" y="1189789"/>
                </a:cubicBezTo>
                <a:cubicBezTo>
                  <a:pt x="2146632" y="1197046"/>
                  <a:pt x="2156378" y="1206407"/>
                  <a:pt x="2168403" y="1211561"/>
                </a:cubicBezTo>
                <a:cubicBezTo>
                  <a:pt x="2182154" y="1217454"/>
                  <a:pt x="2197561" y="1218336"/>
                  <a:pt x="2211946" y="1222446"/>
                </a:cubicBezTo>
                <a:cubicBezTo>
                  <a:pt x="2222979" y="1225598"/>
                  <a:pt x="2233717" y="1229703"/>
                  <a:pt x="2244603" y="1233332"/>
                </a:cubicBezTo>
                <a:cubicBezTo>
                  <a:pt x="2338946" y="1229703"/>
                  <a:pt x="2433219" y="1222446"/>
                  <a:pt x="2527632" y="1222446"/>
                </a:cubicBezTo>
                <a:cubicBezTo>
                  <a:pt x="2643803" y="1222446"/>
                  <a:pt x="2759942" y="1227672"/>
                  <a:pt x="2875975" y="1233332"/>
                </a:cubicBezTo>
                <a:cubicBezTo>
                  <a:pt x="2908794" y="1234933"/>
                  <a:pt x="2941129" y="1242577"/>
                  <a:pt x="2973946" y="1244218"/>
                </a:cubicBezTo>
                <a:cubicBezTo>
                  <a:pt x="3086350" y="1249838"/>
                  <a:pt x="3198917" y="1251475"/>
                  <a:pt x="3311403" y="1255104"/>
                </a:cubicBezTo>
                <a:cubicBezTo>
                  <a:pt x="3350209" y="1293908"/>
                  <a:pt x="3315206" y="1263496"/>
                  <a:pt x="3376718" y="1298646"/>
                </a:cubicBezTo>
                <a:cubicBezTo>
                  <a:pt x="3452813" y="1342129"/>
                  <a:pt x="3356634" y="1299322"/>
                  <a:pt x="3463803" y="1342189"/>
                </a:cubicBezTo>
                <a:cubicBezTo>
                  <a:pt x="3558146" y="1338561"/>
                  <a:pt x="3652419" y="1331304"/>
                  <a:pt x="3746832" y="1331304"/>
                </a:cubicBezTo>
                <a:cubicBezTo>
                  <a:pt x="3803808" y="1331304"/>
                  <a:pt x="3823414" y="1350450"/>
                  <a:pt x="3877461" y="1363961"/>
                </a:cubicBezTo>
                <a:cubicBezTo>
                  <a:pt x="3959885" y="1384566"/>
                  <a:pt x="3906104" y="1373491"/>
                  <a:pt x="4040746" y="1385732"/>
                </a:cubicBezTo>
                <a:cubicBezTo>
                  <a:pt x="4044375" y="1396618"/>
                  <a:pt x="4045728" y="1408550"/>
                  <a:pt x="4051632" y="1418389"/>
                </a:cubicBezTo>
                <a:cubicBezTo>
                  <a:pt x="4056912" y="1427190"/>
                  <a:pt x="4068813" y="1430981"/>
                  <a:pt x="4073403" y="1440161"/>
                </a:cubicBezTo>
                <a:cubicBezTo>
                  <a:pt x="4080094" y="1453543"/>
                  <a:pt x="4080660" y="1469190"/>
                  <a:pt x="4084289" y="1483704"/>
                </a:cubicBezTo>
                <a:cubicBezTo>
                  <a:pt x="4095175" y="1480075"/>
                  <a:pt x="4105694" y="1475068"/>
                  <a:pt x="4116946" y="1472818"/>
                </a:cubicBezTo>
                <a:cubicBezTo>
                  <a:pt x="4142106" y="1467786"/>
                  <a:pt x="4171388" y="1475531"/>
                  <a:pt x="4193146" y="1461932"/>
                </a:cubicBezTo>
                <a:cubicBezTo>
                  <a:pt x="4205833" y="1454003"/>
                  <a:pt x="4200403" y="1432903"/>
                  <a:pt x="4204032" y="1418389"/>
                </a:cubicBezTo>
                <a:cubicBezTo>
                  <a:pt x="4200403" y="1382103"/>
                  <a:pt x="4208428" y="1342642"/>
                  <a:pt x="4193146" y="1309532"/>
                </a:cubicBezTo>
                <a:cubicBezTo>
                  <a:pt x="4184280" y="1290322"/>
                  <a:pt x="4157213" y="1287150"/>
                  <a:pt x="4138718" y="1276875"/>
                </a:cubicBezTo>
                <a:cubicBezTo>
                  <a:pt x="4124533" y="1268994"/>
                  <a:pt x="4109264" y="1263155"/>
                  <a:pt x="4095175" y="1255104"/>
                </a:cubicBezTo>
                <a:cubicBezTo>
                  <a:pt x="4036085" y="1221338"/>
                  <a:pt x="4089739" y="1242406"/>
                  <a:pt x="4029861" y="1222446"/>
                </a:cubicBezTo>
                <a:cubicBezTo>
                  <a:pt x="4019844" y="1212429"/>
                  <a:pt x="3987005" y="1182439"/>
                  <a:pt x="3986318" y="1168018"/>
                </a:cubicBezTo>
                <a:cubicBezTo>
                  <a:pt x="3975825" y="947671"/>
                  <a:pt x="3980378" y="1036404"/>
                  <a:pt x="4008089" y="939418"/>
                </a:cubicBezTo>
                <a:cubicBezTo>
                  <a:pt x="4010677" y="930359"/>
                  <a:pt x="4022742" y="875083"/>
                  <a:pt x="4029861" y="863218"/>
                </a:cubicBezTo>
                <a:cubicBezTo>
                  <a:pt x="4035141" y="854417"/>
                  <a:pt x="4044375" y="848703"/>
                  <a:pt x="4051632" y="841446"/>
                </a:cubicBezTo>
                <a:cubicBezTo>
                  <a:pt x="4019763" y="793641"/>
                  <a:pt x="4044611" y="815049"/>
                  <a:pt x="3986318" y="797904"/>
                </a:cubicBezTo>
                <a:cubicBezTo>
                  <a:pt x="3938969" y="783978"/>
                  <a:pt x="3892418" y="767347"/>
                  <a:pt x="3844803" y="754361"/>
                </a:cubicBezTo>
                <a:cubicBezTo>
                  <a:pt x="3782187" y="737284"/>
                  <a:pt x="3742289" y="731832"/>
                  <a:pt x="3681518" y="721704"/>
                </a:cubicBezTo>
                <a:cubicBezTo>
                  <a:pt x="3670632" y="718075"/>
                  <a:pt x="3652235" y="721785"/>
                  <a:pt x="3648861" y="710818"/>
                </a:cubicBezTo>
                <a:cubicBezTo>
                  <a:pt x="3601507" y="556916"/>
                  <a:pt x="3688754" y="597114"/>
                  <a:pt x="3605318" y="569304"/>
                </a:cubicBezTo>
                <a:cubicBezTo>
                  <a:pt x="3587175" y="572932"/>
                  <a:pt x="3568839" y="584677"/>
                  <a:pt x="3550889" y="580189"/>
                </a:cubicBezTo>
                <a:cubicBezTo>
                  <a:pt x="3535954" y="576455"/>
                  <a:pt x="3528251" y="559221"/>
                  <a:pt x="3518232" y="547532"/>
                </a:cubicBezTo>
                <a:cubicBezTo>
                  <a:pt x="3506425" y="533757"/>
                  <a:pt x="3496120" y="518752"/>
                  <a:pt x="3485575" y="503989"/>
                </a:cubicBezTo>
                <a:cubicBezTo>
                  <a:pt x="3477971" y="493343"/>
                  <a:pt x="3473054" y="480583"/>
                  <a:pt x="3463803" y="471332"/>
                </a:cubicBezTo>
                <a:cubicBezTo>
                  <a:pt x="3426795" y="434324"/>
                  <a:pt x="3422604" y="439261"/>
                  <a:pt x="3376718" y="427789"/>
                </a:cubicBezTo>
                <a:cubicBezTo>
                  <a:pt x="3362204" y="416903"/>
                  <a:pt x="3347113" y="406747"/>
                  <a:pt x="3333175" y="395132"/>
                </a:cubicBezTo>
                <a:cubicBezTo>
                  <a:pt x="3325291" y="388562"/>
                  <a:pt x="3320583" y="377951"/>
                  <a:pt x="3311403" y="373361"/>
                </a:cubicBezTo>
                <a:cubicBezTo>
                  <a:pt x="3298022" y="366670"/>
                  <a:pt x="3282246" y="366585"/>
                  <a:pt x="3267861" y="362475"/>
                </a:cubicBezTo>
                <a:cubicBezTo>
                  <a:pt x="3256828" y="359323"/>
                  <a:pt x="3245466" y="356721"/>
                  <a:pt x="3235203" y="351589"/>
                </a:cubicBezTo>
                <a:cubicBezTo>
                  <a:pt x="3216279" y="342127"/>
                  <a:pt x="3198918" y="329818"/>
                  <a:pt x="3180775" y="318932"/>
                </a:cubicBezTo>
                <a:cubicBezTo>
                  <a:pt x="3173518" y="304418"/>
                  <a:pt x="3165395" y="290305"/>
                  <a:pt x="3159003" y="275389"/>
                </a:cubicBezTo>
                <a:cubicBezTo>
                  <a:pt x="3154483" y="264842"/>
                  <a:pt x="3153249" y="252995"/>
                  <a:pt x="3148118" y="242732"/>
                </a:cubicBezTo>
                <a:cubicBezTo>
                  <a:pt x="3138656" y="223808"/>
                  <a:pt x="3126347" y="206447"/>
                  <a:pt x="3115461" y="188304"/>
                </a:cubicBezTo>
                <a:cubicBezTo>
                  <a:pt x="3092817" y="97731"/>
                  <a:pt x="3125466" y="189425"/>
                  <a:pt x="3061032" y="112104"/>
                </a:cubicBezTo>
                <a:cubicBezTo>
                  <a:pt x="3053686" y="103289"/>
                  <a:pt x="3057492" y="88261"/>
                  <a:pt x="3050146" y="79446"/>
                </a:cubicBezTo>
                <a:cubicBezTo>
                  <a:pt x="3041707" y="69319"/>
                  <a:pt x="2988838" y="34946"/>
                  <a:pt x="2973946" y="25018"/>
                </a:cubicBezTo>
                <a:cubicBezTo>
                  <a:pt x="2948546" y="28647"/>
                  <a:pt x="2921859" y="27136"/>
                  <a:pt x="2897746" y="35904"/>
                </a:cubicBezTo>
                <a:cubicBezTo>
                  <a:pt x="2880695" y="42104"/>
                  <a:pt x="2868967" y="58016"/>
                  <a:pt x="2854203" y="68561"/>
                </a:cubicBezTo>
                <a:cubicBezTo>
                  <a:pt x="2843557" y="76165"/>
                  <a:pt x="2833571" y="85178"/>
                  <a:pt x="2821546" y="90332"/>
                </a:cubicBezTo>
                <a:cubicBezTo>
                  <a:pt x="2807795" y="96225"/>
                  <a:pt x="2792517" y="97589"/>
                  <a:pt x="2778003" y="101218"/>
                </a:cubicBezTo>
                <a:cubicBezTo>
                  <a:pt x="2767117" y="112104"/>
                  <a:pt x="2750214" y="119270"/>
                  <a:pt x="2745346" y="133875"/>
                </a:cubicBezTo>
                <a:cubicBezTo>
                  <a:pt x="2734956" y="165047"/>
                  <a:pt x="2759019" y="210016"/>
                  <a:pt x="2734461" y="231846"/>
                </a:cubicBezTo>
                <a:cubicBezTo>
                  <a:pt x="2712596" y="251282"/>
                  <a:pt x="2676404" y="224589"/>
                  <a:pt x="2647375" y="220961"/>
                </a:cubicBezTo>
                <a:cubicBezTo>
                  <a:pt x="2632861" y="213704"/>
                  <a:pt x="2619026" y="204887"/>
                  <a:pt x="2603832" y="199189"/>
                </a:cubicBezTo>
                <a:cubicBezTo>
                  <a:pt x="2589824" y="193936"/>
                  <a:pt x="2574040" y="194197"/>
                  <a:pt x="2560289" y="188304"/>
                </a:cubicBezTo>
                <a:cubicBezTo>
                  <a:pt x="2548264" y="183150"/>
                  <a:pt x="2540570" y="168473"/>
                  <a:pt x="2527632" y="166532"/>
                </a:cubicBezTo>
                <a:cubicBezTo>
                  <a:pt x="2466523" y="157365"/>
                  <a:pt x="2404261" y="159275"/>
                  <a:pt x="2342575" y="155646"/>
                </a:cubicBezTo>
                <a:cubicBezTo>
                  <a:pt x="2331689" y="141132"/>
                  <a:pt x="2322747" y="124933"/>
                  <a:pt x="2309918" y="112104"/>
                </a:cubicBezTo>
                <a:cubicBezTo>
                  <a:pt x="2256261" y="58447"/>
                  <a:pt x="2188633" y="96241"/>
                  <a:pt x="2113975" y="101218"/>
                </a:cubicBezTo>
                <a:cubicBezTo>
                  <a:pt x="2106718" y="108475"/>
                  <a:pt x="2102327" y="121302"/>
                  <a:pt x="2092203" y="122989"/>
                </a:cubicBezTo>
                <a:cubicBezTo>
                  <a:pt x="2036773" y="132228"/>
                  <a:pt x="2060564" y="107170"/>
                  <a:pt x="2026889" y="90332"/>
                </a:cubicBezTo>
                <a:cubicBezTo>
                  <a:pt x="2002913" y="78344"/>
                  <a:pt x="1904437" y="69583"/>
                  <a:pt x="1896261" y="68561"/>
                </a:cubicBezTo>
                <a:cubicBezTo>
                  <a:pt x="1889004" y="57675"/>
                  <a:pt x="1880340" y="47606"/>
                  <a:pt x="1874489" y="35904"/>
                </a:cubicBezTo>
                <a:cubicBezTo>
                  <a:pt x="1869357" y="25641"/>
                  <a:pt x="1874963" y="4869"/>
                  <a:pt x="1863603" y="3246"/>
                </a:cubicBezTo>
                <a:cubicBezTo>
                  <a:pt x="1840885" y="0"/>
                  <a:pt x="1798289" y="25018"/>
                  <a:pt x="1798289" y="25018"/>
                </a:cubicBezTo>
                <a:cubicBezTo>
                  <a:pt x="1772889" y="21389"/>
                  <a:pt x="1747249" y="19164"/>
                  <a:pt x="1722089" y="14132"/>
                </a:cubicBezTo>
                <a:cubicBezTo>
                  <a:pt x="1710837" y="11882"/>
                  <a:pt x="1700907" y="3246"/>
                  <a:pt x="1689432" y="3246"/>
                </a:cubicBezTo>
                <a:cubicBezTo>
                  <a:pt x="1573261" y="3246"/>
                  <a:pt x="1457203" y="10503"/>
                  <a:pt x="1341089" y="14132"/>
                </a:cubicBezTo>
                <a:lnTo>
                  <a:pt x="1254003" y="101218"/>
                </a:lnTo>
                <a:cubicBezTo>
                  <a:pt x="1229927" y="125294"/>
                  <a:pt x="1214731" y="136220"/>
                  <a:pt x="1199575" y="166532"/>
                </a:cubicBezTo>
                <a:cubicBezTo>
                  <a:pt x="1153338" y="259007"/>
                  <a:pt x="1264781" y="106820"/>
                  <a:pt x="1145146" y="286275"/>
                </a:cubicBezTo>
                <a:cubicBezTo>
                  <a:pt x="1137889" y="297161"/>
                  <a:pt x="1129226" y="307230"/>
                  <a:pt x="1123375" y="318932"/>
                </a:cubicBezTo>
                <a:cubicBezTo>
                  <a:pt x="1108698" y="348287"/>
                  <a:pt x="1121091" y="355137"/>
                  <a:pt x="1090718" y="373361"/>
                </a:cubicBezTo>
                <a:cubicBezTo>
                  <a:pt x="1066972" y="387609"/>
                  <a:pt x="995065" y="393246"/>
                  <a:pt x="981861" y="395132"/>
                </a:cubicBezTo>
                <a:cubicBezTo>
                  <a:pt x="960089" y="402389"/>
                  <a:pt x="937073" y="406641"/>
                  <a:pt x="916546" y="416904"/>
                </a:cubicBezTo>
                <a:cubicBezTo>
                  <a:pt x="887518" y="431418"/>
                  <a:pt x="860947" y="452574"/>
                  <a:pt x="829461" y="460446"/>
                </a:cubicBezTo>
                <a:lnTo>
                  <a:pt x="742375" y="482218"/>
                </a:lnTo>
                <a:cubicBezTo>
                  <a:pt x="724232" y="511247"/>
                  <a:pt x="718564" y="553995"/>
                  <a:pt x="687946" y="569304"/>
                </a:cubicBezTo>
                <a:cubicBezTo>
                  <a:pt x="673432" y="576561"/>
                  <a:pt x="658492" y="583024"/>
                  <a:pt x="644403" y="591075"/>
                </a:cubicBezTo>
                <a:cubicBezTo>
                  <a:pt x="633044" y="597566"/>
                  <a:pt x="623448" y="606995"/>
                  <a:pt x="611746" y="612846"/>
                </a:cubicBezTo>
                <a:cubicBezTo>
                  <a:pt x="601483" y="617978"/>
                  <a:pt x="589975" y="620103"/>
                  <a:pt x="579089" y="623732"/>
                </a:cubicBezTo>
                <a:cubicBezTo>
                  <a:pt x="568203" y="634618"/>
                  <a:pt x="559487" y="648230"/>
                  <a:pt x="546432" y="656389"/>
                </a:cubicBezTo>
                <a:cubicBezTo>
                  <a:pt x="539767" y="660554"/>
                  <a:pt x="476237" y="684823"/>
                  <a:pt x="459346" y="689046"/>
                </a:cubicBezTo>
                <a:cubicBezTo>
                  <a:pt x="441396" y="693533"/>
                  <a:pt x="422768" y="695064"/>
                  <a:pt x="404918" y="699932"/>
                </a:cubicBezTo>
                <a:cubicBezTo>
                  <a:pt x="382777" y="705971"/>
                  <a:pt x="361375" y="714447"/>
                  <a:pt x="339603" y="721704"/>
                </a:cubicBezTo>
                <a:lnTo>
                  <a:pt x="306946" y="732589"/>
                </a:lnTo>
                <a:cubicBezTo>
                  <a:pt x="299689" y="743475"/>
                  <a:pt x="293348" y="755030"/>
                  <a:pt x="285175" y="765246"/>
                </a:cubicBezTo>
                <a:cubicBezTo>
                  <a:pt x="278764" y="773260"/>
                  <a:pt x="267993" y="777838"/>
                  <a:pt x="263403" y="787018"/>
                </a:cubicBezTo>
                <a:cubicBezTo>
                  <a:pt x="253140" y="807544"/>
                  <a:pt x="247198" y="830068"/>
                  <a:pt x="241632" y="852332"/>
                </a:cubicBezTo>
                <a:cubicBezTo>
                  <a:pt x="238003" y="866846"/>
                  <a:pt x="238284" y="882952"/>
                  <a:pt x="230746" y="895875"/>
                </a:cubicBezTo>
                <a:cubicBezTo>
                  <a:pt x="179192" y="984253"/>
                  <a:pt x="174380" y="976996"/>
                  <a:pt x="100118" y="1026504"/>
                </a:cubicBezTo>
                <a:cubicBezTo>
                  <a:pt x="57915" y="1054640"/>
                  <a:pt x="79871" y="1044138"/>
                  <a:pt x="34803" y="1059161"/>
                </a:cubicBezTo>
                <a:cubicBezTo>
                  <a:pt x="26243" y="1072001"/>
                  <a:pt x="0" y="1105161"/>
                  <a:pt x="2146" y="1124475"/>
                </a:cubicBezTo>
                <a:cubicBezTo>
                  <a:pt x="7986" y="1177035"/>
                  <a:pt x="16265" y="1191406"/>
                  <a:pt x="56575" y="1211561"/>
                </a:cubicBezTo>
                <a:cubicBezTo>
                  <a:pt x="66838" y="1216693"/>
                  <a:pt x="78346" y="1218818"/>
                  <a:pt x="89232" y="1222446"/>
                </a:cubicBezTo>
                <a:cubicBezTo>
                  <a:pt x="183575" y="1218818"/>
                  <a:pt x="278797" y="1224913"/>
                  <a:pt x="372261" y="1211561"/>
                </a:cubicBezTo>
                <a:cubicBezTo>
                  <a:pt x="506215" y="1192425"/>
                  <a:pt x="262542" y="1146034"/>
                  <a:pt x="437575" y="1189789"/>
                </a:cubicBezTo>
                <a:cubicBezTo>
                  <a:pt x="447599" y="1199813"/>
                  <a:pt x="471814" y="1230522"/>
                  <a:pt x="492003" y="1222446"/>
                </a:cubicBezTo>
                <a:cubicBezTo>
                  <a:pt x="504150" y="1217587"/>
                  <a:pt x="513775" y="1189789"/>
                  <a:pt x="513775" y="1189789"/>
                </a:cubicBezTo>
              </a:path>
            </a:pathLst>
          </a:custGeom>
          <a:solidFill>
            <a:srgbClr val="31859c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олилиния 3"/>
          <p:cNvSpPr/>
          <p:nvPr/>
        </p:nvSpPr>
        <p:spPr>
          <a:xfrm>
            <a:off x="-47520" y="4724280"/>
            <a:ext cx="9397800" cy="2449800"/>
          </a:xfrm>
          <a:custGeom>
            <a:avLst/>
            <a:gdLst/>
            <a:ahLst/>
            <a:rect l="l" t="t" r="r" b="b"/>
            <a:pathLst>
              <a:path w="9397927" h="1961288">
                <a:moveTo>
                  <a:pt x="57984" y="252231"/>
                </a:moveTo>
                <a:cubicBezTo>
                  <a:pt x="104463" y="244485"/>
                  <a:pt x="145480" y="241139"/>
                  <a:pt x="188612" y="219574"/>
                </a:cubicBezTo>
                <a:cubicBezTo>
                  <a:pt x="227315" y="200223"/>
                  <a:pt x="227440" y="197595"/>
                  <a:pt x="264812" y="186917"/>
                </a:cubicBezTo>
                <a:cubicBezTo>
                  <a:pt x="279197" y="182807"/>
                  <a:pt x="293408" y="176681"/>
                  <a:pt x="308355" y="176031"/>
                </a:cubicBezTo>
                <a:cubicBezTo>
                  <a:pt x="460654" y="169409"/>
                  <a:pt x="613155" y="168774"/>
                  <a:pt x="765555" y="165146"/>
                </a:cubicBezTo>
                <a:cubicBezTo>
                  <a:pt x="780069" y="161517"/>
                  <a:pt x="794713" y="158370"/>
                  <a:pt x="809098" y="154260"/>
                </a:cubicBezTo>
                <a:cubicBezTo>
                  <a:pt x="820131" y="151108"/>
                  <a:pt x="830304" y="144113"/>
                  <a:pt x="841755" y="143374"/>
                </a:cubicBezTo>
                <a:cubicBezTo>
                  <a:pt x="943209" y="136828"/>
                  <a:pt x="1045005" y="137324"/>
                  <a:pt x="1146555" y="132488"/>
                </a:cubicBezTo>
                <a:cubicBezTo>
                  <a:pt x="1197427" y="130066"/>
                  <a:pt x="1248155" y="125231"/>
                  <a:pt x="1298955" y="121603"/>
                </a:cubicBezTo>
                <a:cubicBezTo>
                  <a:pt x="1426969" y="100267"/>
                  <a:pt x="1310359" y="121487"/>
                  <a:pt x="1407812" y="99831"/>
                </a:cubicBezTo>
                <a:cubicBezTo>
                  <a:pt x="1425874" y="95817"/>
                  <a:pt x="1444291" y="93433"/>
                  <a:pt x="1462241" y="88946"/>
                </a:cubicBezTo>
                <a:cubicBezTo>
                  <a:pt x="1527108" y="72730"/>
                  <a:pt x="1472151" y="69486"/>
                  <a:pt x="1581984" y="67174"/>
                </a:cubicBezTo>
                <a:lnTo>
                  <a:pt x="2529041" y="56288"/>
                </a:lnTo>
                <a:cubicBezTo>
                  <a:pt x="2594284" y="34542"/>
                  <a:pt x="2546244" y="45486"/>
                  <a:pt x="2659669" y="56288"/>
                </a:cubicBezTo>
                <a:cubicBezTo>
                  <a:pt x="2703166" y="60431"/>
                  <a:pt x="2746755" y="63545"/>
                  <a:pt x="2790298" y="67174"/>
                </a:cubicBezTo>
                <a:cubicBezTo>
                  <a:pt x="2869805" y="93677"/>
                  <a:pt x="2833348" y="83380"/>
                  <a:pt x="2899155" y="99831"/>
                </a:cubicBezTo>
                <a:cubicBezTo>
                  <a:pt x="2906412" y="107088"/>
                  <a:pt x="2911747" y="117013"/>
                  <a:pt x="2920927" y="121603"/>
                </a:cubicBezTo>
                <a:cubicBezTo>
                  <a:pt x="2941453" y="131866"/>
                  <a:pt x="2986241" y="143374"/>
                  <a:pt x="2986241" y="143374"/>
                </a:cubicBezTo>
                <a:cubicBezTo>
                  <a:pt x="3006522" y="163655"/>
                  <a:pt x="3033428" y="196254"/>
                  <a:pt x="3062441" y="208688"/>
                </a:cubicBezTo>
                <a:cubicBezTo>
                  <a:pt x="3076192" y="214581"/>
                  <a:pt x="3091114" y="217922"/>
                  <a:pt x="3105984" y="219574"/>
                </a:cubicBezTo>
                <a:cubicBezTo>
                  <a:pt x="3156602" y="225198"/>
                  <a:pt x="3207584" y="226831"/>
                  <a:pt x="3258384" y="230460"/>
                </a:cubicBezTo>
                <a:cubicBezTo>
                  <a:pt x="3346332" y="245118"/>
                  <a:pt x="3302762" y="234367"/>
                  <a:pt x="3389012" y="263117"/>
                </a:cubicBezTo>
                <a:lnTo>
                  <a:pt x="3421669" y="274003"/>
                </a:lnTo>
                <a:cubicBezTo>
                  <a:pt x="3432555" y="270374"/>
                  <a:pt x="3446213" y="271231"/>
                  <a:pt x="3454327" y="263117"/>
                </a:cubicBezTo>
                <a:cubicBezTo>
                  <a:pt x="3541666" y="175778"/>
                  <a:pt x="3456630" y="211549"/>
                  <a:pt x="3530527" y="186917"/>
                </a:cubicBezTo>
                <a:lnTo>
                  <a:pt x="3867984" y="208688"/>
                </a:lnTo>
                <a:cubicBezTo>
                  <a:pt x="4162386" y="224746"/>
                  <a:pt x="4041559" y="197653"/>
                  <a:pt x="4172784" y="230460"/>
                </a:cubicBezTo>
                <a:cubicBezTo>
                  <a:pt x="4386870" y="223203"/>
                  <a:pt x="4600839" y="210323"/>
                  <a:pt x="4815041" y="208688"/>
                </a:cubicBezTo>
                <a:cubicBezTo>
                  <a:pt x="5949985" y="200024"/>
                  <a:pt x="5247742" y="247659"/>
                  <a:pt x="5870955" y="197803"/>
                </a:cubicBezTo>
                <a:cubicBezTo>
                  <a:pt x="5896951" y="192604"/>
                  <a:pt x="5932442" y="187846"/>
                  <a:pt x="5958041" y="176031"/>
                </a:cubicBezTo>
                <a:cubicBezTo>
                  <a:pt x="5994876" y="159030"/>
                  <a:pt x="6027117" y="129559"/>
                  <a:pt x="6066898" y="121603"/>
                </a:cubicBezTo>
                <a:cubicBezTo>
                  <a:pt x="6104322" y="114118"/>
                  <a:pt x="6128989" y="110082"/>
                  <a:pt x="6164869" y="99831"/>
                </a:cubicBezTo>
                <a:cubicBezTo>
                  <a:pt x="6175902" y="96679"/>
                  <a:pt x="6186395" y="91729"/>
                  <a:pt x="6197527" y="88946"/>
                </a:cubicBezTo>
                <a:cubicBezTo>
                  <a:pt x="6215477" y="84459"/>
                  <a:pt x="6234005" y="82548"/>
                  <a:pt x="6251955" y="78060"/>
                </a:cubicBezTo>
                <a:cubicBezTo>
                  <a:pt x="6263087" y="75277"/>
                  <a:pt x="6273480" y="69957"/>
                  <a:pt x="6284612" y="67174"/>
                </a:cubicBezTo>
                <a:cubicBezTo>
                  <a:pt x="6302562" y="62686"/>
                  <a:pt x="6320979" y="60302"/>
                  <a:pt x="6339041" y="56288"/>
                </a:cubicBezTo>
                <a:cubicBezTo>
                  <a:pt x="6353646" y="53043"/>
                  <a:pt x="6367715" y="47055"/>
                  <a:pt x="6382584" y="45403"/>
                </a:cubicBezTo>
                <a:cubicBezTo>
                  <a:pt x="6462472" y="36527"/>
                  <a:pt x="6542860" y="38483"/>
                  <a:pt x="6622069" y="23631"/>
                </a:cubicBezTo>
                <a:cubicBezTo>
                  <a:pt x="6651479" y="18117"/>
                  <a:pt x="6680126" y="9117"/>
                  <a:pt x="6709155" y="1860"/>
                </a:cubicBezTo>
                <a:cubicBezTo>
                  <a:pt x="6814384" y="5489"/>
                  <a:pt x="6920324" y="0"/>
                  <a:pt x="7024841" y="12746"/>
                </a:cubicBezTo>
                <a:cubicBezTo>
                  <a:pt x="7070401" y="18302"/>
                  <a:pt x="7112854" y="39242"/>
                  <a:pt x="7155469" y="56288"/>
                </a:cubicBezTo>
                <a:cubicBezTo>
                  <a:pt x="7174489" y="63896"/>
                  <a:pt x="7228687" y="88419"/>
                  <a:pt x="7253441" y="88946"/>
                </a:cubicBezTo>
                <a:cubicBezTo>
                  <a:pt x="7579959" y="95893"/>
                  <a:pt x="7906584" y="96203"/>
                  <a:pt x="8233155" y="99831"/>
                </a:cubicBezTo>
                <a:cubicBezTo>
                  <a:pt x="8254926" y="107088"/>
                  <a:pt x="8277161" y="113080"/>
                  <a:pt x="8298469" y="121603"/>
                </a:cubicBezTo>
                <a:cubicBezTo>
                  <a:pt x="8363552" y="147635"/>
                  <a:pt x="8334360" y="137195"/>
                  <a:pt x="8385555" y="154260"/>
                </a:cubicBezTo>
                <a:cubicBezTo>
                  <a:pt x="8427138" y="195841"/>
                  <a:pt x="8384967" y="158262"/>
                  <a:pt x="8450869" y="197803"/>
                </a:cubicBezTo>
                <a:cubicBezTo>
                  <a:pt x="8544441" y="253947"/>
                  <a:pt x="8483156" y="230337"/>
                  <a:pt x="8548841" y="252231"/>
                </a:cubicBezTo>
                <a:cubicBezTo>
                  <a:pt x="8559727" y="259488"/>
                  <a:pt x="8570139" y="267512"/>
                  <a:pt x="8581498" y="274003"/>
                </a:cubicBezTo>
                <a:cubicBezTo>
                  <a:pt x="8621590" y="296913"/>
                  <a:pt x="8654841" y="303805"/>
                  <a:pt x="8690355" y="339317"/>
                </a:cubicBezTo>
                <a:cubicBezTo>
                  <a:pt x="8697612" y="346574"/>
                  <a:pt x="8702694" y="357045"/>
                  <a:pt x="8712127" y="361088"/>
                </a:cubicBezTo>
                <a:cubicBezTo>
                  <a:pt x="8729133" y="368376"/>
                  <a:pt x="8748494" y="367960"/>
                  <a:pt x="8766555" y="371974"/>
                </a:cubicBezTo>
                <a:cubicBezTo>
                  <a:pt x="8876628" y="396435"/>
                  <a:pt x="8736891" y="377631"/>
                  <a:pt x="8962498" y="393746"/>
                </a:cubicBezTo>
                <a:cubicBezTo>
                  <a:pt x="9005274" y="404439"/>
                  <a:pt x="9027175" y="408731"/>
                  <a:pt x="9071355" y="426403"/>
                </a:cubicBezTo>
                <a:cubicBezTo>
                  <a:pt x="9086422" y="432430"/>
                  <a:pt x="9100384" y="440917"/>
                  <a:pt x="9114898" y="448174"/>
                </a:cubicBezTo>
                <a:cubicBezTo>
                  <a:pt x="9177441" y="510717"/>
                  <a:pt x="9144985" y="494490"/>
                  <a:pt x="9201984" y="513488"/>
                </a:cubicBezTo>
                <a:cubicBezTo>
                  <a:pt x="9212870" y="520745"/>
                  <a:pt x="9225390" y="526009"/>
                  <a:pt x="9234641" y="535260"/>
                </a:cubicBezTo>
                <a:cubicBezTo>
                  <a:pt x="9268808" y="569428"/>
                  <a:pt x="9258162" y="593871"/>
                  <a:pt x="9267298" y="644117"/>
                </a:cubicBezTo>
                <a:cubicBezTo>
                  <a:pt x="9269974" y="658837"/>
                  <a:pt x="9274555" y="673146"/>
                  <a:pt x="9278184" y="687660"/>
                </a:cubicBezTo>
                <a:cubicBezTo>
                  <a:pt x="9274555" y="905374"/>
                  <a:pt x="9273995" y="1123161"/>
                  <a:pt x="9267298" y="1340803"/>
                </a:cubicBezTo>
                <a:cubicBezTo>
                  <a:pt x="9266729" y="1359296"/>
                  <a:pt x="9260899" y="1377281"/>
                  <a:pt x="9256412" y="1395231"/>
                </a:cubicBezTo>
                <a:cubicBezTo>
                  <a:pt x="9253629" y="1406363"/>
                  <a:pt x="9249155" y="1417002"/>
                  <a:pt x="9245527" y="1427888"/>
                </a:cubicBezTo>
                <a:cubicBezTo>
                  <a:pt x="9241898" y="1453288"/>
                  <a:pt x="9239673" y="1478928"/>
                  <a:pt x="9234641" y="1504088"/>
                </a:cubicBezTo>
                <a:cubicBezTo>
                  <a:pt x="9232391" y="1515340"/>
                  <a:pt x="9231869" y="1528632"/>
                  <a:pt x="9223755" y="1536746"/>
                </a:cubicBezTo>
                <a:cubicBezTo>
                  <a:pt x="9212280" y="1548221"/>
                  <a:pt x="9194726" y="1551260"/>
                  <a:pt x="9180212" y="1558517"/>
                </a:cubicBezTo>
                <a:cubicBezTo>
                  <a:pt x="9183841" y="1583917"/>
                  <a:pt x="9177897" y="1612716"/>
                  <a:pt x="9191098" y="1634717"/>
                </a:cubicBezTo>
                <a:cubicBezTo>
                  <a:pt x="9201984" y="1652860"/>
                  <a:pt x="9227585" y="1656160"/>
                  <a:pt x="9245527" y="1667374"/>
                </a:cubicBezTo>
                <a:cubicBezTo>
                  <a:pt x="9293762" y="1697521"/>
                  <a:pt x="9260483" y="1683246"/>
                  <a:pt x="9310841" y="1700031"/>
                </a:cubicBezTo>
                <a:cubicBezTo>
                  <a:pt x="9342951" y="1721439"/>
                  <a:pt x="9349962" y="1723029"/>
                  <a:pt x="9376155" y="1754460"/>
                </a:cubicBezTo>
                <a:cubicBezTo>
                  <a:pt x="9384531" y="1764511"/>
                  <a:pt x="9390670" y="1776231"/>
                  <a:pt x="9397927" y="1787117"/>
                </a:cubicBezTo>
                <a:cubicBezTo>
                  <a:pt x="9394298" y="1801631"/>
                  <a:pt x="9395340" y="1818212"/>
                  <a:pt x="9387041" y="1830660"/>
                </a:cubicBezTo>
                <a:cubicBezTo>
                  <a:pt x="9372543" y="1852407"/>
                  <a:pt x="9301446" y="1870667"/>
                  <a:pt x="9289069" y="1874203"/>
                </a:cubicBezTo>
                <a:cubicBezTo>
                  <a:pt x="9175327" y="1906701"/>
                  <a:pt x="9193105" y="1896608"/>
                  <a:pt x="9049584" y="1906860"/>
                </a:cubicBezTo>
                <a:cubicBezTo>
                  <a:pt x="9020555" y="1914117"/>
                  <a:pt x="8992308" y="1926039"/>
                  <a:pt x="8962498" y="1928631"/>
                </a:cubicBezTo>
                <a:cubicBezTo>
                  <a:pt x="8690138" y="1952315"/>
                  <a:pt x="8794759" y="1936632"/>
                  <a:pt x="8646812" y="1961288"/>
                </a:cubicBezTo>
                <a:lnTo>
                  <a:pt x="6437012" y="1950403"/>
                </a:lnTo>
                <a:cubicBezTo>
                  <a:pt x="6410598" y="1950026"/>
                  <a:pt x="6386826" y="1933222"/>
                  <a:pt x="6360812" y="1928631"/>
                </a:cubicBezTo>
                <a:cubicBezTo>
                  <a:pt x="6324900" y="1922294"/>
                  <a:pt x="6288241" y="1921374"/>
                  <a:pt x="6251955" y="1917746"/>
                </a:cubicBezTo>
                <a:cubicBezTo>
                  <a:pt x="5742440" y="1747902"/>
                  <a:pt x="5177851" y="1906106"/>
                  <a:pt x="4640869" y="1895974"/>
                </a:cubicBezTo>
                <a:cubicBezTo>
                  <a:pt x="4589562" y="1895006"/>
                  <a:pt x="4539269" y="1881460"/>
                  <a:pt x="4488469" y="1874203"/>
                </a:cubicBezTo>
                <a:cubicBezTo>
                  <a:pt x="4463069" y="1870574"/>
                  <a:pt x="4437926" y="1863489"/>
                  <a:pt x="4412269" y="1863317"/>
                </a:cubicBezTo>
                <a:lnTo>
                  <a:pt x="2790298" y="1852431"/>
                </a:lnTo>
                <a:cubicBezTo>
                  <a:pt x="2481869" y="1845174"/>
                  <a:pt x="2173230" y="1844178"/>
                  <a:pt x="1865012" y="1830660"/>
                </a:cubicBezTo>
                <a:cubicBezTo>
                  <a:pt x="1759324" y="1826025"/>
                  <a:pt x="1654536" y="1809078"/>
                  <a:pt x="1549327" y="1798003"/>
                </a:cubicBezTo>
                <a:lnTo>
                  <a:pt x="1342498" y="1776231"/>
                </a:lnTo>
                <a:cubicBezTo>
                  <a:pt x="1309841" y="1768974"/>
                  <a:pt x="1277472" y="1760274"/>
                  <a:pt x="1244527" y="1754460"/>
                </a:cubicBezTo>
                <a:cubicBezTo>
                  <a:pt x="1215718" y="1749376"/>
                  <a:pt x="1186427" y="1747527"/>
                  <a:pt x="1157441" y="1743574"/>
                </a:cubicBezTo>
                <a:lnTo>
                  <a:pt x="1005041" y="1721803"/>
                </a:lnTo>
                <a:cubicBezTo>
                  <a:pt x="976012" y="1718174"/>
                  <a:pt x="946709" y="1716308"/>
                  <a:pt x="917955" y="1710917"/>
                </a:cubicBezTo>
                <a:cubicBezTo>
                  <a:pt x="805053" y="1689748"/>
                  <a:pt x="864887" y="1697310"/>
                  <a:pt x="798212" y="1678260"/>
                </a:cubicBezTo>
                <a:cubicBezTo>
                  <a:pt x="702531" y="1650922"/>
                  <a:pt x="800312" y="1682589"/>
                  <a:pt x="722012" y="1656488"/>
                </a:cubicBezTo>
                <a:cubicBezTo>
                  <a:pt x="489784" y="1660117"/>
                  <a:pt x="257557" y="1670892"/>
                  <a:pt x="25327" y="1667374"/>
                </a:cubicBezTo>
                <a:cubicBezTo>
                  <a:pt x="15065" y="1667219"/>
                  <a:pt x="3659" y="1655866"/>
                  <a:pt x="3555" y="1645603"/>
                </a:cubicBezTo>
                <a:cubicBezTo>
                  <a:pt x="0" y="1293631"/>
                  <a:pt x="7540" y="941611"/>
                  <a:pt x="14441" y="589688"/>
                </a:cubicBezTo>
                <a:cubicBezTo>
                  <a:pt x="14804" y="571190"/>
                  <a:pt x="22285" y="553510"/>
                  <a:pt x="25327" y="535260"/>
                </a:cubicBezTo>
                <a:cubicBezTo>
                  <a:pt x="29545" y="509951"/>
                  <a:pt x="30443" y="484061"/>
                  <a:pt x="36212" y="459060"/>
                </a:cubicBezTo>
                <a:cubicBezTo>
                  <a:pt x="41372" y="436699"/>
                  <a:pt x="50727" y="415517"/>
                  <a:pt x="57984" y="393746"/>
                </a:cubicBezTo>
                <a:cubicBezTo>
                  <a:pt x="61613" y="382860"/>
                  <a:pt x="66983" y="372407"/>
                  <a:pt x="68869" y="361088"/>
                </a:cubicBezTo>
                <a:cubicBezTo>
                  <a:pt x="72498" y="339317"/>
                  <a:pt x="74967" y="317320"/>
                  <a:pt x="79755" y="295774"/>
                </a:cubicBezTo>
                <a:cubicBezTo>
                  <a:pt x="82244" y="284573"/>
                  <a:pt x="81461" y="270002"/>
                  <a:pt x="90641" y="263117"/>
                </a:cubicBezTo>
                <a:cubicBezTo>
                  <a:pt x="99350" y="256586"/>
                  <a:pt x="112412" y="263117"/>
                  <a:pt x="123298" y="263117"/>
                </a:cubicBezTo>
              </a:path>
            </a:pathLst>
          </a:cu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93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Счетверенная стрелка 4"/>
          <p:cNvGrpSpPr/>
          <p:nvPr/>
        </p:nvGrpSpPr>
        <p:grpSpPr>
          <a:xfrm>
            <a:off x="4657680" y="-36360"/>
            <a:ext cx="328680" cy="444240"/>
            <a:chOff x="4657680" y="-36360"/>
            <a:chExt cx="328680" cy="444240"/>
          </a:xfrm>
        </p:grpSpPr>
        <p:pic>
          <p:nvPicPr>
            <p:cNvPr id="310" name="Счетверенная стрелка 4" descr=""/>
            <p:cNvPicPr/>
            <p:nvPr/>
          </p:nvPicPr>
          <p:blipFill>
            <a:blip r:embed="rId1"/>
            <a:stretch/>
          </p:blipFill>
          <p:spPr>
            <a:xfrm>
              <a:off x="4657680" y="-36360"/>
              <a:ext cx="3286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4740120" y="141120"/>
              <a:ext cx="16668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Капля 5"/>
          <p:cNvGrpSpPr/>
          <p:nvPr/>
        </p:nvGrpSpPr>
        <p:grpSpPr>
          <a:xfrm>
            <a:off x="4443480" y="103320"/>
            <a:ext cx="830160" cy="1164960"/>
            <a:chOff x="4443480" y="103320"/>
            <a:chExt cx="830160" cy="1164960"/>
          </a:xfrm>
        </p:grpSpPr>
        <p:pic>
          <p:nvPicPr>
            <p:cNvPr id="313" name="Капля 5" descr=""/>
            <p:cNvPicPr/>
            <p:nvPr/>
          </p:nvPicPr>
          <p:blipFill>
            <a:blip r:embed="rId2"/>
            <a:stretch/>
          </p:blipFill>
          <p:spPr>
            <a:xfrm>
              <a:off x="4443480" y="103320"/>
              <a:ext cx="8301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 rot="18873000">
              <a:off x="4613760" y="578160"/>
              <a:ext cx="49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Прямоугольник 6"/>
          <p:cNvGrpSpPr/>
          <p:nvPr/>
        </p:nvGrpSpPr>
        <p:grpSpPr>
          <a:xfrm>
            <a:off x="3359160" y="2382840"/>
            <a:ext cx="2992320" cy="4073400"/>
            <a:chOff x="3359160" y="2382840"/>
            <a:chExt cx="2992320" cy="4073400"/>
          </a:xfrm>
        </p:grpSpPr>
        <p:pic>
          <p:nvPicPr>
            <p:cNvPr id="31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359160" y="2382840"/>
              <a:ext cx="2992320" cy="40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3419640" y="2421000"/>
              <a:ext cx="2881080" cy="39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Трапеция 7"/>
          <p:cNvGrpSpPr/>
          <p:nvPr/>
        </p:nvGrpSpPr>
        <p:grpSpPr>
          <a:xfrm>
            <a:off x="3340080" y="1657440"/>
            <a:ext cx="3030480" cy="841320"/>
            <a:chOff x="3340080" y="1657440"/>
            <a:chExt cx="3030480" cy="841320"/>
          </a:xfrm>
        </p:grpSpPr>
        <p:pic>
          <p:nvPicPr>
            <p:cNvPr id="319" name="Трапеция 7" descr=""/>
            <p:cNvPicPr/>
            <p:nvPr/>
          </p:nvPicPr>
          <p:blipFill>
            <a:blip r:embed="rId4"/>
            <a:stretch/>
          </p:blipFill>
          <p:spPr>
            <a:xfrm>
              <a:off x="3340080" y="1657440"/>
              <a:ext cx="30304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4189320" y="1893960"/>
              <a:ext cx="13413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Месяц 8"/>
          <p:cNvGrpSpPr/>
          <p:nvPr/>
        </p:nvGrpSpPr>
        <p:grpSpPr>
          <a:xfrm>
            <a:off x="4511520" y="2243160"/>
            <a:ext cx="689040" cy="396720"/>
            <a:chOff x="4511520" y="2243160"/>
            <a:chExt cx="689040" cy="396720"/>
          </a:xfrm>
        </p:grpSpPr>
        <p:pic>
          <p:nvPicPr>
            <p:cNvPr id="322" name="Месяц 8" descr=""/>
            <p:cNvPicPr/>
            <p:nvPr/>
          </p:nvPicPr>
          <p:blipFill>
            <a:blip r:embed="rId5"/>
            <a:stretch/>
          </p:blipFill>
          <p:spPr>
            <a:xfrm>
              <a:off x="4511520" y="224316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 rot="5400000">
              <a:off x="4808160" y="2219400"/>
              <a:ext cx="103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Месяц 9"/>
          <p:cNvGrpSpPr/>
          <p:nvPr/>
        </p:nvGrpSpPr>
        <p:grpSpPr>
          <a:xfrm>
            <a:off x="3938760" y="2243160"/>
            <a:ext cx="688680" cy="396720"/>
            <a:chOff x="3938760" y="2243160"/>
            <a:chExt cx="688680" cy="396720"/>
          </a:xfrm>
        </p:grpSpPr>
        <p:pic>
          <p:nvPicPr>
            <p:cNvPr id="325" name="Месяц 9" descr=""/>
            <p:cNvPicPr/>
            <p:nvPr/>
          </p:nvPicPr>
          <p:blipFill>
            <a:blip r:embed="rId6"/>
            <a:stretch/>
          </p:blipFill>
          <p:spPr>
            <a:xfrm>
              <a:off x="3938760" y="2243160"/>
              <a:ext cx="6886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 rot="5400000">
              <a:off x="4231800" y="2219400"/>
              <a:ext cx="103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Месяц 10"/>
          <p:cNvGrpSpPr/>
          <p:nvPr/>
        </p:nvGrpSpPr>
        <p:grpSpPr>
          <a:xfrm>
            <a:off x="5084640" y="2243160"/>
            <a:ext cx="693720" cy="396720"/>
            <a:chOff x="5084640" y="2243160"/>
            <a:chExt cx="693720" cy="396720"/>
          </a:xfrm>
        </p:grpSpPr>
        <p:pic>
          <p:nvPicPr>
            <p:cNvPr id="328" name="Месяц 10" descr=""/>
            <p:cNvPicPr/>
            <p:nvPr/>
          </p:nvPicPr>
          <p:blipFill>
            <a:blip r:embed="rId7"/>
            <a:stretch/>
          </p:blipFill>
          <p:spPr>
            <a:xfrm>
              <a:off x="5084640" y="2243160"/>
              <a:ext cx="6937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 rot="5400000">
              <a:off x="5383440" y="2220120"/>
              <a:ext cx="1015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Прямоугольник 11"/>
          <p:cNvGrpSpPr/>
          <p:nvPr/>
        </p:nvGrpSpPr>
        <p:grpSpPr>
          <a:xfrm>
            <a:off x="6095880" y="2382840"/>
            <a:ext cx="255600" cy="4073400"/>
            <a:chOff x="6095880" y="2382840"/>
            <a:chExt cx="255600" cy="4073400"/>
          </a:xfrm>
        </p:grpSpPr>
        <p:pic>
          <p:nvPicPr>
            <p:cNvPr id="331" name="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6095880" y="2382840"/>
              <a:ext cx="255600" cy="40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6156360" y="2421000"/>
              <a:ext cx="144360" cy="39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Прямоугольник 12"/>
          <p:cNvGrpSpPr/>
          <p:nvPr/>
        </p:nvGrpSpPr>
        <p:grpSpPr>
          <a:xfrm>
            <a:off x="3359160" y="2382840"/>
            <a:ext cx="262080" cy="4073400"/>
            <a:chOff x="3359160" y="2382840"/>
            <a:chExt cx="262080" cy="4073400"/>
          </a:xfrm>
        </p:grpSpPr>
        <p:pic>
          <p:nvPicPr>
            <p:cNvPr id="334" name="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3359160" y="2382840"/>
              <a:ext cx="262080" cy="40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419640" y="2421000"/>
              <a:ext cx="144360" cy="39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Месяц 13"/>
          <p:cNvGrpSpPr/>
          <p:nvPr/>
        </p:nvGrpSpPr>
        <p:grpSpPr>
          <a:xfrm>
            <a:off x="3359160" y="2243160"/>
            <a:ext cx="695160" cy="396720"/>
            <a:chOff x="3359160" y="2243160"/>
            <a:chExt cx="695160" cy="396720"/>
          </a:xfrm>
        </p:grpSpPr>
        <p:pic>
          <p:nvPicPr>
            <p:cNvPr id="337" name="Месяц 13" descr=""/>
            <p:cNvPicPr/>
            <p:nvPr/>
          </p:nvPicPr>
          <p:blipFill>
            <a:blip r:embed="rId10"/>
            <a:stretch/>
          </p:blipFill>
          <p:spPr>
            <a:xfrm>
              <a:off x="3359160" y="2243160"/>
              <a:ext cx="6951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 rot="5400000">
              <a:off x="3656880" y="2220120"/>
              <a:ext cx="10152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Месяц 14"/>
          <p:cNvGrpSpPr/>
          <p:nvPr/>
        </p:nvGrpSpPr>
        <p:grpSpPr>
          <a:xfrm>
            <a:off x="5662440" y="2243160"/>
            <a:ext cx="689040" cy="396720"/>
            <a:chOff x="5662440" y="2243160"/>
            <a:chExt cx="689040" cy="396720"/>
          </a:xfrm>
        </p:grpSpPr>
        <p:pic>
          <p:nvPicPr>
            <p:cNvPr id="340" name="Месяц 14" descr=""/>
            <p:cNvPicPr/>
            <p:nvPr/>
          </p:nvPicPr>
          <p:blipFill>
            <a:blip r:embed="rId11"/>
            <a:stretch/>
          </p:blipFill>
          <p:spPr>
            <a:xfrm>
              <a:off x="5662440" y="224316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 rot="5400000">
              <a:off x="5959800" y="2220120"/>
              <a:ext cx="1015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Прямоугольник 15"/>
          <p:cNvGrpSpPr/>
          <p:nvPr/>
        </p:nvGrpSpPr>
        <p:grpSpPr>
          <a:xfrm>
            <a:off x="4511520" y="944640"/>
            <a:ext cx="689040" cy="828720"/>
            <a:chOff x="4511520" y="944640"/>
            <a:chExt cx="689040" cy="828720"/>
          </a:xfrm>
        </p:grpSpPr>
        <p:pic>
          <p:nvPicPr>
            <p:cNvPr id="343" name="Прямоугольник 15" descr=""/>
            <p:cNvPicPr/>
            <p:nvPr/>
          </p:nvPicPr>
          <p:blipFill>
            <a:blip r:embed="rId12"/>
            <a:stretch/>
          </p:blipFill>
          <p:spPr>
            <a:xfrm>
              <a:off x="4511520" y="944640"/>
              <a:ext cx="6890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4572000" y="981000"/>
              <a:ext cx="57636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Блок-схема: задержка 16"/>
          <p:cNvGrpSpPr/>
          <p:nvPr/>
        </p:nvGrpSpPr>
        <p:grpSpPr>
          <a:xfrm>
            <a:off x="4797360" y="1090440"/>
            <a:ext cx="298440" cy="719280"/>
            <a:chOff x="4797360" y="1090440"/>
            <a:chExt cx="298440" cy="719280"/>
          </a:xfrm>
        </p:grpSpPr>
        <p:pic>
          <p:nvPicPr>
            <p:cNvPr id="346" name="Блок-схема: задержка 16" descr=""/>
            <p:cNvPicPr/>
            <p:nvPr/>
          </p:nvPicPr>
          <p:blipFill>
            <a:blip r:embed="rId13"/>
            <a:stretch/>
          </p:blipFill>
          <p:spPr>
            <a:xfrm>
              <a:off x="4797360" y="1090440"/>
              <a:ext cx="2984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 rot="16200000">
              <a:off x="4689360" y="1410840"/>
              <a:ext cx="52236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Блок-схема: задержка 17"/>
          <p:cNvGrpSpPr/>
          <p:nvPr/>
        </p:nvGrpSpPr>
        <p:grpSpPr>
          <a:xfrm>
            <a:off x="4584600" y="1090440"/>
            <a:ext cx="292320" cy="719280"/>
            <a:chOff x="4584600" y="1090440"/>
            <a:chExt cx="292320" cy="719280"/>
          </a:xfrm>
        </p:grpSpPr>
        <p:pic>
          <p:nvPicPr>
            <p:cNvPr id="349" name="Блок-схема: задержка 17" descr=""/>
            <p:cNvPicPr/>
            <p:nvPr/>
          </p:nvPicPr>
          <p:blipFill>
            <a:blip r:embed="rId14"/>
            <a:stretch/>
          </p:blipFill>
          <p:spPr>
            <a:xfrm>
              <a:off x="4584600" y="1090440"/>
              <a:ext cx="2923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 rot="16200000">
              <a:off x="4473360" y="1410480"/>
              <a:ext cx="522360" cy="1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Трапеция 18"/>
          <p:cNvGrpSpPr/>
          <p:nvPr/>
        </p:nvGrpSpPr>
        <p:grpSpPr>
          <a:xfrm>
            <a:off x="3071880" y="6345360"/>
            <a:ext cx="3573360" cy="396720"/>
            <a:chOff x="3071880" y="6345360"/>
            <a:chExt cx="3573360" cy="396720"/>
          </a:xfrm>
        </p:grpSpPr>
        <p:pic>
          <p:nvPicPr>
            <p:cNvPr id="352" name="Трапеция 18" descr=""/>
            <p:cNvPicPr/>
            <p:nvPr/>
          </p:nvPicPr>
          <p:blipFill>
            <a:blip r:embed="rId15"/>
            <a:stretch/>
          </p:blipFill>
          <p:spPr>
            <a:xfrm>
              <a:off x="3071880" y="6345360"/>
              <a:ext cx="35733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3359160" y="6400800"/>
              <a:ext cx="3002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Прямоугольник 19"/>
          <p:cNvGrpSpPr/>
          <p:nvPr/>
        </p:nvGrpSpPr>
        <p:grpSpPr>
          <a:xfrm>
            <a:off x="3071880" y="6608880"/>
            <a:ext cx="3573360" cy="322200"/>
            <a:chOff x="3071880" y="6608880"/>
            <a:chExt cx="3573360" cy="322200"/>
          </a:xfrm>
        </p:grpSpPr>
        <p:pic>
          <p:nvPicPr>
            <p:cNvPr id="355" name="Прямоугольник 19" descr=""/>
            <p:cNvPicPr/>
            <p:nvPr/>
          </p:nvPicPr>
          <p:blipFill>
            <a:blip r:embed="rId16"/>
            <a:stretch/>
          </p:blipFill>
          <p:spPr>
            <a:xfrm>
              <a:off x="3071880" y="6608880"/>
              <a:ext cx="357336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132000" y="6642000"/>
              <a:ext cx="345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Блок-схема: задержка 20"/>
          <p:cNvGrpSpPr/>
          <p:nvPr/>
        </p:nvGrpSpPr>
        <p:grpSpPr>
          <a:xfrm>
            <a:off x="3790800" y="2816280"/>
            <a:ext cx="330480" cy="1116000"/>
            <a:chOff x="3790800" y="2816280"/>
            <a:chExt cx="330480" cy="1116000"/>
          </a:xfrm>
        </p:grpSpPr>
        <p:pic>
          <p:nvPicPr>
            <p:cNvPr id="358" name="Блок-схема: задержка 20" descr=""/>
            <p:cNvPicPr/>
            <p:nvPr/>
          </p:nvPicPr>
          <p:blipFill>
            <a:blip r:embed="rId17"/>
            <a:stretch/>
          </p:blipFill>
          <p:spPr>
            <a:xfrm>
              <a:off x="3790800" y="2816280"/>
              <a:ext cx="3304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 rot="16200000">
              <a:off x="3529080" y="3354120"/>
              <a:ext cx="86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Блок-схема: задержка 21"/>
          <p:cNvGrpSpPr/>
          <p:nvPr/>
        </p:nvGrpSpPr>
        <p:grpSpPr>
          <a:xfrm>
            <a:off x="4505400" y="4468680"/>
            <a:ext cx="772920" cy="1992600"/>
            <a:chOff x="4505400" y="4468680"/>
            <a:chExt cx="772920" cy="1992600"/>
          </a:xfrm>
        </p:grpSpPr>
        <p:pic>
          <p:nvPicPr>
            <p:cNvPr id="361" name="Блок-схема: задержка 21" descr=""/>
            <p:cNvPicPr/>
            <p:nvPr/>
          </p:nvPicPr>
          <p:blipFill>
            <a:blip r:embed="rId18"/>
            <a:stretch/>
          </p:blipFill>
          <p:spPr>
            <a:xfrm>
              <a:off x="4505400" y="4468680"/>
              <a:ext cx="772920" cy="19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 rot="16200000">
              <a:off x="4096440" y="5353560"/>
              <a:ext cx="1596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Прямоугольник 22"/>
          <p:cNvGrpSpPr/>
          <p:nvPr/>
        </p:nvGrpSpPr>
        <p:grpSpPr>
          <a:xfrm>
            <a:off x="3505320" y="4114800"/>
            <a:ext cx="2706480" cy="249120"/>
            <a:chOff x="3505320" y="4114800"/>
            <a:chExt cx="2706480" cy="249120"/>
          </a:xfrm>
        </p:grpSpPr>
        <p:pic>
          <p:nvPicPr>
            <p:cNvPr id="364" name="Прямоугольник 22" descr=""/>
            <p:cNvPicPr/>
            <p:nvPr/>
          </p:nvPicPr>
          <p:blipFill>
            <a:blip r:embed="rId19"/>
            <a:stretch/>
          </p:blipFill>
          <p:spPr>
            <a:xfrm>
              <a:off x="3505320" y="4114800"/>
              <a:ext cx="2706480" cy="2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3564000" y="4149720"/>
              <a:ext cx="25923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Блок-схема: задержка 23"/>
          <p:cNvGrpSpPr/>
          <p:nvPr/>
        </p:nvGrpSpPr>
        <p:grpSpPr>
          <a:xfrm>
            <a:off x="4363920" y="2816280"/>
            <a:ext cx="336600" cy="1116000"/>
            <a:chOff x="4363920" y="2816280"/>
            <a:chExt cx="336600" cy="1116000"/>
          </a:xfrm>
        </p:grpSpPr>
        <p:pic>
          <p:nvPicPr>
            <p:cNvPr id="367" name="Блок-схема: задержка 23" descr=""/>
            <p:cNvPicPr/>
            <p:nvPr/>
          </p:nvPicPr>
          <p:blipFill>
            <a:blip r:embed="rId20"/>
            <a:stretch/>
          </p:blipFill>
          <p:spPr>
            <a:xfrm>
              <a:off x="4363920" y="2816280"/>
              <a:ext cx="3366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 rot="16200000">
              <a:off x="4105080" y="3354120"/>
              <a:ext cx="8604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Блок-схема: задержка 24"/>
          <p:cNvGrpSpPr/>
          <p:nvPr/>
        </p:nvGrpSpPr>
        <p:grpSpPr>
          <a:xfrm>
            <a:off x="5516640" y="4475160"/>
            <a:ext cx="334800" cy="1114560"/>
            <a:chOff x="5516640" y="4475160"/>
            <a:chExt cx="334800" cy="1114560"/>
          </a:xfrm>
        </p:grpSpPr>
        <p:pic>
          <p:nvPicPr>
            <p:cNvPr id="370" name="Блок-схема: задержка 24" descr=""/>
            <p:cNvPicPr/>
            <p:nvPr/>
          </p:nvPicPr>
          <p:blipFill>
            <a:blip r:embed="rId21"/>
            <a:stretch/>
          </p:blipFill>
          <p:spPr>
            <a:xfrm>
              <a:off x="5516640" y="4475160"/>
              <a:ext cx="3348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 rot="16200000">
              <a:off x="5257080" y="5010840"/>
              <a:ext cx="86040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Блок-схема: задержка 25"/>
          <p:cNvGrpSpPr/>
          <p:nvPr/>
        </p:nvGrpSpPr>
        <p:grpSpPr>
          <a:xfrm>
            <a:off x="3865680" y="4541760"/>
            <a:ext cx="328320" cy="1120680"/>
            <a:chOff x="3865680" y="4541760"/>
            <a:chExt cx="328320" cy="1120680"/>
          </a:xfrm>
        </p:grpSpPr>
        <p:pic>
          <p:nvPicPr>
            <p:cNvPr id="373" name="Блок-схема: задержка 25" descr=""/>
            <p:cNvPicPr/>
            <p:nvPr/>
          </p:nvPicPr>
          <p:blipFill>
            <a:blip r:embed="rId22"/>
            <a:stretch/>
          </p:blipFill>
          <p:spPr>
            <a:xfrm>
              <a:off x="3865680" y="4541760"/>
              <a:ext cx="3283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 rot="16200000">
              <a:off x="3601800" y="5083200"/>
              <a:ext cx="8604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Блок-схема: задержка 26"/>
          <p:cNvGrpSpPr/>
          <p:nvPr/>
        </p:nvGrpSpPr>
        <p:grpSpPr>
          <a:xfrm>
            <a:off x="5516640" y="2816280"/>
            <a:ext cx="334800" cy="1116000"/>
            <a:chOff x="5516640" y="2816280"/>
            <a:chExt cx="334800" cy="1116000"/>
          </a:xfrm>
        </p:grpSpPr>
        <p:pic>
          <p:nvPicPr>
            <p:cNvPr id="376" name="Блок-схема: задержка 26" descr=""/>
            <p:cNvPicPr/>
            <p:nvPr/>
          </p:nvPicPr>
          <p:blipFill>
            <a:blip r:embed="rId23"/>
            <a:stretch/>
          </p:blipFill>
          <p:spPr>
            <a:xfrm>
              <a:off x="5516640" y="2816280"/>
              <a:ext cx="3348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 rot="16200000">
              <a:off x="5257800" y="3354120"/>
              <a:ext cx="86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Блок-схема: задержка 27"/>
          <p:cNvGrpSpPr/>
          <p:nvPr/>
        </p:nvGrpSpPr>
        <p:grpSpPr>
          <a:xfrm>
            <a:off x="4943520" y="2816280"/>
            <a:ext cx="330120" cy="1116000"/>
            <a:chOff x="4943520" y="2816280"/>
            <a:chExt cx="330120" cy="1116000"/>
          </a:xfrm>
        </p:grpSpPr>
        <p:pic>
          <p:nvPicPr>
            <p:cNvPr id="379" name="Блок-схема: задержка 27" descr=""/>
            <p:cNvPicPr/>
            <p:nvPr/>
          </p:nvPicPr>
          <p:blipFill>
            <a:blip r:embed="rId24"/>
            <a:stretch/>
          </p:blipFill>
          <p:spPr>
            <a:xfrm>
              <a:off x="4943520" y="2816280"/>
              <a:ext cx="3301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 rot="16200000">
              <a:off x="4681440" y="3354120"/>
              <a:ext cx="8604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Полилиния 28"/>
          <p:cNvSpPr/>
          <p:nvPr/>
        </p:nvSpPr>
        <p:spPr>
          <a:xfrm>
            <a:off x="439560" y="2201760"/>
            <a:ext cx="1389240" cy="3135240"/>
          </a:xfrm>
          <a:custGeom>
            <a:avLst/>
            <a:gdLst/>
            <a:ahLst/>
            <a:rect l="l" t="t" r="r" b="b"/>
            <a:pathLst>
              <a:path w="1389088" h="3135161">
                <a:moveTo>
                  <a:pt x="953145" y="3045228"/>
                </a:moveTo>
                <a:cubicBezTo>
                  <a:pt x="1100886" y="2946739"/>
                  <a:pt x="909301" y="3066101"/>
                  <a:pt x="1377688" y="3012571"/>
                </a:cubicBezTo>
                <a:cubicBezTo>
                  <a:pt x="1389088" y="3011268"/>
                  <a:pt x="1372707" y="2989753"/>
                  <a:pt x="1366803" y="2979914"/>
                </a:cubicBezTo>
                <a:cubicBezTo>
                  <a:pt x="1361523" y="2971113"/>
                  <a:pt x="1352288" y="2965400"/>
                  <a:pt x="1345031" y="2958143"/>
                </a:cubicBezTo>
                <a:cubicBezTo>
                  <a:pt x="1341402" y="2947257"/>
                  <a:pt x="1339277" y="2935748"/>
                  <a:pt x="1334145" y="2925485"/>
                </a:cubicBezTo>
                <a:cubicBezTo>
                  <a:pt x="1304421" y="2866036"/>
                  <a:pt x="1317904" y="2920364"/>
                  <a:pt x="1301488" y="2860171"/>
                </a:cubicBezTo>
                <a:cubicBezTo>
                  <a:pt x="1297321" y="2844893"/>
                  <a:pt x="1281361" y="2769666"/>
                  <a:pt x="1268831" y="2740428"/>
                </a:cubicBezTo>
                <a:cubicBezTo>
                  <a:pt x="1252256" y="2701753"/>
                  <a:pt x="1247155" y="2697028"/>
                  <a:pt x="1225288" y="2664228"/>
                </a:cubicBezTo>
                <a:cubicBezTo>
                  <a:pt x="1202637" y="2573617"/>
                  <a:pt x="1213477" y="2627639"/>
                  <a:pt x="1203517" y="2468285"/>
                </a:cubicBezTo>
                <a:cubicBezTo>
                  <a:pt x="1190222" y="2255568"/>
                  <a:pt x="1213628" y="2335334"/>
                  <a:pt x="1181745" y="2239685"/>
                </a:cubicBezTo>
                <a:cubicBezTo>
                  <a:pt x="1178117" y="2217914"/>
                  <a:pt x="1175648" y="2195917"/>
                  <a:pt x="1170860" y="2174371"/>
                </a:cubicBezTo>
                <a:cubicBezTo>
                  <a:pt x="1168371" y="2163170"/>
                  <a:pt x="1163126" y="2152747"/>
                  <a:pt x="1159974" y="2141714"/>
                </a:cubicBezTo>
                <a:cubicBezTo>
                  <a:pt x="1155864" y="2127329"/>
                  <a:pt x="1152717" y="2112685"/>
                  <a:pt x="1149088" y="2098171"/>
                </a:cubicBezTo>
                <a:cubicBezTo>
                  <a:pt x="1145460" y="1956657"/>
                  <a:pt x="1144352" y="1815055"/>
                  <a:pt x="1138203" y="1673628"/>
                </a:cubicBezTo>
                <a:cubicBezTo>
                  <a:pt x="1135444" y="1610165"/>
                  <a:pt x="1124602" y="1600195"/>
                  <a:pt x="1116431" y="1543000"/>
                </a:cubicBezTo>
                <a:cubicBezTo>
                  <a:pt x="1090570" y="1361975"/>
                  <a:pt x="1119271" y="1513660"/>
                  <a:pt x="1094660" y="1390600"/>
                </a:cubicBezTo>
                <a:cubicBezTo>
                  <a:pt x="1098288" y="1245457"/>
                  <a:pt x="1098952" y="1100210"/>
                  <a:pt x="1105545" y="955171"/>
                </a:cubicBezTo>
                <a:cubicBezTo>
                  <a:pt x="1106411" y="936121"/>
                  <a:pt x="1135608" y="854100"/>
                  <a:pt x="1138203" y="846314"/>
                </a:cubicBezTo>
                <a:lnTo>
                  <a:pt x="1149088" y="813657"/>
                </a:lnTo>
                <a:cubicBezTo>
                  <a:pt x="1152717" y="802771"/>
                  <a:pt x="1157191" y="792132"/>
                  <a:pt x="1159974" y="781000"/>
                </a:cubicBezTo>
                <a:cubicBezTo>
                  <a:pt x="1173643" y="726325"/>
                  <a:pt x="1166129" y="751650"/>
                  <a:pt x="1181745" y="704800"/>
                </a:cubicBezTo>
                <a:cubicBezTo>
                  <a:pt x="1185374" y="675771"/>
                  <a:pt x="1188183" y="646628"/>
                  <a:pt x="1192631" y="617714"/>
                </a:cubicBezTo>
                <a:cubicBezTo>
                  <a:pt x="1195444" y="599427"/>
                  <a:pt x="1200704" y="581572"/>
                  <a:pt x="1203517" y="563285"/>
                </a:cubicBezTo>
                <a:cubicBezTo>
                  <a:pt x="1219778" y="457589"/>
                  <a:pt x="1196498" y="503058"/>
                  <a:pt x="1236174" y="443543"/>
                </a:cubicBezTo>
                <a:cubicBezTo>
                  <a:pt x="1243654" y="406144"/>
                  <a:pt x="1247700" y="381431"/>
                  <a:pt x="1257945" y="345571"/>
                </a:cubicBezTo>
                <a:cubicBezTo>
                  <a:pt x="1261097" y="334538"/>
                  <a:pt x="1265679" y="323947"/>
                  <a:pt x="1268831" y="312914"/>
                </a:cubicBezTo>
                <a:cubicBezTo>
                  <a:pt x="1272941" y="298529"/>
                  <a:pt x="1275418" y="283701"/>
                  <a:pt x="1279717" y="269371"/>
                </a:cubicBezTo>
                <a:cubicBezTo>
                  <a:pt x="1286311" y="247390"/>
                  <a:pt x="1294231" y="225828"/>
                  <a:pt x="1301488" y="204057"/>
                </a:cubicBezTo>
                <a:cubicBezTo>
                  <a:pt x="1305117" y="193171"/>
                  <a:pt x="1309591" y="182532"/>
                  <a:pt x="1312374" y="171400"/>
                </a:cubicBezTo>
                <a:lnTo>
                  <a:pt x="1334145" y="84314"/>
                </a:lnTo>
                <a:cubicBezTo>
                  <a:pt x="1337774" y="69800"/>
                  <a:pt x="1340300" y="54964"/>
                  <a:pt x="1345031" y="40771"/>
                </a:cubicBezTo>
                <a:cubicBezTo>
                  <a:pt x="1348660" y="29885"/>
                  <a:pt x="1364031" y="16228"/>
                  <a:pt x="1355917" y="8114"/>
                </a:cubicBezTo>
                <a:cubicBezTo>
                  <a:pt x="1347803" y="0"/>
                  <a:pt x="1334146" y="15371"/>
                  <a:pt x="1323260" y="19000"/>
                </a:cubicBezTo>
                <a:cubicBezTo>
                  <a:pt x="1316003" y="26257"/>
                  <a:pt x="1310289" y="35491"/>
                  <a:pt x="1301488" y="40771"/>
                </a:cubicBezTo>
                <a:cubicBezTo>
                  <a:pt x="1291649" y="46675"/>
                  <a:pt x="1277791" y="44489"/>
                  <a:pt x="1268831" y="51657"/>
                </a:cubicBezTo>
                <a:cubicBezTo>
                  <a:pt x="1258615" y="59830"/>
                  <a:pt x="1254317" y="73428"/>
                  <a:pt x="1247060" y="84314"/>
                </a:cubicBezTo>
                <a:cubicBezTo>
                  <a:pt x="1243431" y="98828"/>
                  <a:pt x="1238850" y="113137"/>
                  <a:pt x="1236174" y="127857"/>
                </a:cubicBezTo>
                <a:cubicBezTo>
                  <a:pt x="1216159" y="237935"/>
                  <a:pt x="1236758" y="169645"/>
                  <a:pt x="1214403" y="236714"/>
                </a:cubicBezTo>
                <a:cubicBezTo>
                  <a:pt x="1212101" y="252830"/>
                  <a:pt x="1197666" y="358087"/>
                  <a:pt x="1192631" y="378228"/>
                </a:cubicBezTo>
                <a:cubicBezTo>
                  <a:pt x="1187065" y="400492"/>
                  <a:pt x="1183590" y="424448"/>
                  <a:pt x="1170860" y="443543"/>
                </a:cubicBezTo>
                <a:cubicBezTo>
                  <a:pt x="1156346" y="465314"/>
                  <a:pt x="1135592" y="484034"/>
                  <a:pt x="1127317" y="508857"/>
                </a:cubicBezTo>
                <a:cubicBezTo>
                  <a:pt x="1123688" y="519743"/>
                  <a:pt x="1121563" y="531251"/>
                  <a:pt x="1116431" y="541514"/>
                </a:cubicBezTo>
                <a:cubicBezTo>
                  <a:pt x="1110580" y="553216"/>
                  <a:pt x="1100511" y="562469"/>
                  <a:pt x="1094660" y="574171"/>
                </a:cubicBezTo>
                <a:cubicBezTo>
                  <a:pt x="1089528" y="584434"/>
                  <a:pt x="1088294" y="596281"/>
                  <a:pt x="1083774" y="606828"/>
                </a:cubicBezTo>
                <a:cubicBezTo>
                  <a:pt x="1035722" y="718949"/>
                  <a:pt x="1089787" y="567021"/>
                  <a:pt x="1040231" y="715685"/>
                </a:cubicBezTo>
                <a:cubicBezTo>
                  <a:pt x="1034873" y="747832"/>
                  <a:pt x="1029284" y="792072"/>
                  <a:pt x="1018460" y="824543"/>
                </a:cubicBezTo>
                <a:cubicBezTo>
                  <a:pt x="1012281" y="843081"/>
                  <a:pt x="1006178" y="861890"/>
                  <a:pt x="996688" y="878971"/>
                </a:cubicBezTo>
                <a:cubicBezTo>
                  <a:pt x="987877" y="894831"/>
                  <a:pt x="973647" y="907129"/>
                  <a:pt x="964031" y="922514"/>
                </a:cubicBezTo>
                <a:cubicBezTo>
                  <a:pt x="955431" y="936275"/>
                  <a:pt x="951996" y="953075"/>
                  <a:pt x="942260" y="966057"/>
                </a:cubicBezTo>
                <a:cubicBezTo>
                  <a:pt x="929944" y="982478"/>
                  <a:pt x="918190" y="1003109"/>
                  <a:pt x="898717" y="1009600"/>
                </a:cubicBezTo>
                <a:lnTo>
                  <a:pt x="833403" y="1031371"/>
                </a:lnTo>
                <a:cubicBezTo>
                  <a:pt x="757203" y="1027742"/>
                  <a:pt x="680449" y="1030352"/>
                  <a:pt x="604803" y="1020485"/>
                </a:cubicBezTo>
                <a:cubicBezTo>
                  <a:pt x="594626" y="1019158"/>
                  <a:pt x="591571" y="1004407"/>
                  <a:pt x="583031" y="998714"/>
                </a:cubicBezTo>
                <a:cubicBezTo>
                  <a:pt x="569529" y="989713"/>
                  <a:pt x="553577" y="984994"/>
                  <a:pt x="539488" y="976943"/>
                </a:cubicBezTo>
                <a:cubicBezTo>
                  <a:pt x="528129" y="970452"/>
                  <a:pt x="517717" y="962428"/>
                  <a:pt x="506831" y="955171"/>
                </a:cubicBezTo>
                <a:cubicBezTo>
                  <a:pt x="492317" y="933400"/>
                  <a:pt x="471562" y="914680"/>
                  <a:pt x="463288" y="889857"/>
                </a:cubicBezTo>
                <a:cubicBezTo>
                  <a:pt x="459660" y="878971"/>
                  <a:pt x="458306" y="867039"/>
                  <a:pt x="452403" y="857200"/>
                </a:cubicBezTo>
                <a:cubicBezTo>
                  <a:pt x="447123" y="848399"/>
                  <a:pt x="437201" y="843313"/>
                  <a:pt x="430631" y="835428"/>
                </a:cubicBezTo>
                <a:cubicBezTo>
                  <a:pt x="419016" y="821490"/>
                  <a:pt x="408860" y="806399"/>
                  <a:pt x="397974" y="791885"/>
                </a:cubicBezTo>
                <a:cubicBezTo>
                  <a:pt x="387438" y="760278"/>
                  <a:pt x="388337" y="753427"/>
                  <a:pt x="365317" y="726571"/>
                </a:cubicBezTo>
                <a:cubicBezTo>
                  <a:pt x="351959" y="710986"/>
                  <a:pt x="336288" y="697542"/>
                  <a:pt x="321774" y="683028"/>
                </a:cubicBezTo>
                <a:cubicBezTo>
                  <a:pt x="310888" y="672142"/>
                  <a:pt x="296002" y="664140"/>
                  <a:pt x="289117" y="650371"/>
                </a:cubicBezTo>
                <a:cubicBezTo>
                  <a:pt x="271938" y="616014"/>
                  <a:pt x="250072" y="567783"/>
                  <a:pt x="223803" y="541514"/>
                </a:cubicBezTo>
                <a:cubicBezTo>
                  <a:pt x="209289" y="527000"/>
                  <a:pt x="197339" y="509357"/>
                  <a:pt x="180260" y="497971"/>
                </a:cubicBezTo>
                <a:cubicBezTo>
                  <a:pt x="86672" y="435580"/>
                  <a:pt x="205083" y="510382"/>
                  <a:pt x="114945" y="465314"/>
                </a:cubicBezTo>
                <a:cubicBezTo>
                  <a:pt x="87479" y="451581"/>
                  <a:pt x="80768" y="442022"/>
                  <a:pt x="60517" y="421771"/>
                </a:cubicBezTo>
                <a:cubicBezTo>
                  <a:pt x="56888" y="410885"/>
                  <a:pt x="54763" y="399377"/>
                  <a:pt x="49631" y="389114"/>
                </a:cubicBezTo>
                <a:cubicBezTo>
                  <a:pt x="0" y="289853"/>
                  <a:pt x="25408" y="437724"/>
                  <a:pt x="38745" y="508857"/>
                </a:cubicBezTo>
                <a:cubicBezTo>
                  <a:pt x="40636" y="518944"/>
                  <a:pt x="53260" y="523371"/>
                  <a:pt x="60517" y="530628"/>
                </a:cubicBezTo>
                <a:cubicBezTo>
                  <a:pt x="84268" y="601880"/>
                  <a:pt x="51281" y="531947"/>
                  <a:pt x="104060" y="574171"/>
                </a:cubicBezTo>
                <a:cubicBezTo>
                  <a:pt x="174400" y="630444"/>
                  <a:pt x="76404" y="590352"/>
                  <a:pt x="158488" y="617714"/>
                </a:cubicBezTo>
                <a:cubicBezTo>
                  <a:pt x="165745" y="624971"/>
                  <a:pt x="172246" y="633074"/>
                  <a:pt x="180260" y="639485"/>
                </a:cubicBezTo>
                <a:cubicBezTo>
                  <a:pt x="190476" y="647658"/>
                  <a:pt x="204302" y="651411"/>
                  <a:pt x="212917" y="661257"/>
                </a:cubicBezTo>
                <a:cubicBezTo>
                  <a:pt x="230147" y="680949"/>
                  <a:pt x="241946" y="704800"/>
                  <a:pt x="256460" y="726571"/>
                </a:cubicBezTo>
                <a:cubicBezTo>
                  <a:pt x="262153" y="735110"/>
                  <a:pt x="270974" y="741086"/>
                  <a:pt x="278231" y="748343"/>
                </a:cubicBezTo>
                <a:cubicBezTo>
                  <a:pt x="298189" y="808217"/>
                  <a:pt x="277125" y="754572"/>
                  <a:pt x="310888" y="813657"/>
                </a:cubicBezTo>
                <a:cubicBezTo>
                  <a:pt x="318939" y="827746"/>
                  <a:pt x="324609" y="843111"/>
                  <a:pt x="332660" y="857200"/>
                </a:cubicBezTo>
                <a:cubicBezTo>
                  <a:pt x="350971" y="889244"/>
                  <a:pt x="352360" y="887786"/>
                  <a:pt x="376203" y="911628"/>
                </a:cubicBezTo>
                <a:cubicBezTo>
                  <a:pt x="379831" y="922514"/>
                  <a:pt x="380203" y="935105"/>
                  <a:pt x="387088" y="944285"/>
                </a:cubicBezTo>
                <a:cubicBezTo>
                  <a:pt x="418928" y="986739"/>
                  <a:pt x="436403" y="995305"/>
                  <a:pt x="474174" y="1020485"/>
                </a:cubicBezTo>
                <a:cubicBezTo>
                  <a:pt x="477803" y="1031371"/>
                  <a:pt x="478015" y="1044085"/>
                  <a:pt x="485060" y="1053143"/>
                </a:cubicBezTo>
                <a:cubicBezTo>
                  <a:pt x="503963" y="1077447"/>
                  <a:pt x="550374" y="1118457"/>
                  <a:pt x="550374" y="1118457"/>
                </a:cubicBezTo>
                <a:cubicBezTo>
                  <a:pt x="571567" y="1182036"/>
                  <a:pt x="544678" y="1123645"/>
                  <a:pt x="593917" y="1172885"/>
                </a:cubicBezTo>
                <a:cubicBezTo>
                  <a:pt x="603168" y="1182136"/>
                  <a:pt x="607515" y="1195327"/>
                  <a:pt x="615688" y="1205543"/>
                </a:cubicBezTo>
                <a:cubicBezTo>
                  <a:pt x="622099" y="1213557"/>
                  <a:pt x="631302" y="1219104"/>
                  <a:pt x="637460" y="1227314"/>
                </a:cubicBezTo>
                <a:cubicBezTo>
                  <a:pt x="653160" y="1248247"/>
                  <a:pt x="666489" y="1270857"/>
                  <a:pt x="681003" y="1292628"/>
                </a:cubicBezTo>
                <a:cubicBezTo>
                  <a:pt x="715504" y="1344379"/>
                  <a:pt x="698637" y="1312875"/>
                  <a:pt x="724545" y="1390600"/>
                </a:cubicBezTo>
                <a:cubicBezTo>
                  <a:pt x="728174" y="1401486"/>
                  <a:pt x="729066" y="1413710"/>
                  <a:pt x="735431" y="1423257"/>
                </a:cubicBezTo>
                <a:lnTo>
                  <a:pt x="757203" y="1455914"/>
                </a:lnTo>
                <a:cubicBezTo>
                  <a:pt x="783962" y="1670000"/>
                  <a:pt x="750472" y="1383464"/>
                  <a:pt x="778974" y="1782485"/>
                </a:cubicBezTo>
                <a:cubicBezTo>
                  <a:pt x="780521" y="1804143"/>
                  <a:pt x="795910" y="1878050"/>
                  <a:pt x="800745" y="1902228"/>
                </a:cubicBezTo>
                <a:cubicBezTo>
                  <a:pt x="797117" y="1963914"/>
                  <a:pt x="796008" y="2025799"/>
                  <a:pt x="789860" y="2087285"/>
                </a:cubicBezTo>
                <a:cubicBezTo>
                  <a:pt x="788718" y="2098703"/>
                  <a:pt x="784547" y="2109912"/>
                  <a:pt x="778974" y="2119943"/>
                </a:cubicBezTo>
                <a:cubicBezTo>
                  <a:pt x="766267" y="2142816"/>
                  <a:pt x="735431" y="2185257"/>
                  <a:pt x="735431" y="2185257"/>
                </a:cubicBezTo>
                <a:cubicBezTo>
                  <a:pt x="731802" y="2199771"/>
                  <a:pt x="728655" y="2214415"/>
                  <a:pt x="724545" y="2228800"/>
                </a:cubicBezTo>
                <a:cubicBezTo>
                  <a:pt x="721393" y="2239833"/>
                  <a:pt x="714423" y="2250008"/>
                  <a:pt x="713660" y="2261457"/>
                </a:cubicBezTo>
                <a:cubicBezTo>
                  <a:pt x="706647" y="2366648"/>
                  <a:pt x="745877" y="2501604"/>
                  <a:pt x="681003" y="2598914"/>
                </a:cubicBezTo>
                <a:cubicBezTo>
                  <a:pt x="675310" y="2607453"/>
                  <a:pt x="666488" y="2613428"/>
                  <a:pt x="659231" y="2620685"/>
                </a:cubicBezTo>
                <a:cubicBezTo>
                  <a:pt x="651974" y="2642457"/>
                  <a:pt x="653688" y="2669772"/>
                  <a:pt x="637460" y="2686000"/>
                </a:cubicBezTo>
                <a:lnTo>
                  <a:pt x="593917" y="2729543"/>
                </a:lnTo>
                <a:cubicBezTo>
                  <a:pt x="586660" y="2736800"/>
                  <a:pt x="577838" y="2742774"/>
                  <a:pt x="572145" y="2751314"/>
                </a:cubicBezTo>
                <a:cubicBezTo>
                  <a:pt x="544681" y="2792511"/>
                  <a:pt x="559625" y="2774720"/>
                  <a:pt x="528603" y="2805743"/>
                </a:cubicBezTo>
                <a:lnTo>
                  <a:pt x="506831" y="2871057"/>
                </a:lnTo>
                <a:cubicBezTo>
                  <a:pt x="503202" y="2881943"/>
                  <a:pt x="498195" y="2892462"/>
                  <a:pt x="495945" y="2903714"/>
                </a:cubicBezTo>
                <a:cubicBezTo>
                  <a:pt x="492317" y="2921857"/>
                  <a:pt x="489928" y="2940293"/>
                  <a:pt x="485060" y="2958143"/>
                </a:cubicBezTo>
                <a:cubicBezTo>
                  <a:pt x="479022" y="2980283"/>
                  <a:pt x="463288" y="3023457"/>
                  <a:pt x="463288" y="3023457"/>
                </a:cubicBezTo>
                <a:cubicBezTo>
                  <a:pt x="459660" y="3048857"/>
                  <a:pt x="449850" y="3074127"/>
                  <a:pt x="452403" y="3099657"/>
                </a:cubicBezTo>
                <a:cubicBezTo>
                  <a:pt x="453705" y="3112675"/>
                  <a:pt x="461192" y="3130691"/>
                  <a:pt x="474174" y="3132314"/>
                </a:cubicBezTo>
                <a:cubicBezTo>
                  <a:pt x="496946" y="3135161"/>
                  <a:pt x="516568" y="3111689"/>
                  <a:pt x="539488" y="3110543"/>
                </a:cubicBezTo>
                <a:cubicBezTo>
                  <a:pt x="808069" y="3097114"/>
                  <a:pt x="684725" y="3104834"/>
                  <a:pt x="909603" y="3088771"/>
                </a:cubicBezTo>
                <a:cubicBezTo>
                  <a:pt x="927746" y="3085142"/>
                  <a:pt x="949817" y="3089730"/>
                  <a:pt x="964031" y="3077885"/>
                </a:cubicBezTo>
                <a:cubicBezTo>
                  <a:pt x="975524" y="3068307"/>
                  <a:pt x="963424" y="3043921"/>
                  <a:pt x="974917" y="3034343"/>
                </a:cubicBezTo>
                <a:cubicBezTo>
                  <a:pt x="989131" y="3022498"/>
                  <a:pt x="1029345" y="3023457"/>
                  <a:pt x="1029345" y="3023457"/>
                </a:cubicBezTo>
              </a:path>
            </a:pathLst>
          </a:custGeom>
          <a:solidFill>
            <a:srgbClr val="4a452a"/>
          </a:solidFill>
          <a:ln w="93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олилиния 29"/>
          <p:cNvSpPr/>
          <p:nvPr/>
        </p:nvSpPr>
        <p:spPr>
          <a:xfrm>
            <a:off x="179280" y="476280"/>
            <a:ext cx="2210040" cy="3560760"/>
          </a:xfrm>
          <a:custGeom>
            <a:avLst/>
            <a:gdLst/>
            <a:ahLst/>
            <a:rect l="l" t="t" r="r" b="b"/>
            <a:pathLst>
              <a:path w="2209800" h="3559629">
                <a:moveTo>
                  <a:pt x="1491343" y="2394857"/>
                </a:moveTo>
                <a:cubicBezTo>
                  <a:pt x="1473200" y="2396671"/>
                  <a:pt x="1448293" y="2378652"/>
                  <a:pt x="1382486" y="2362200"/>
                </a:cubicBezTo>
                <a:cubicBezTo>
                  <a:pt x="1298509" y="2306216"/>
                  <a:pt x="1410493" y="2390524"/>
                  <a:pt x="1328057" y="2275115"/>
                </a:cubicBezTo>
                <a:cubicBezTo>
                  <a:pt x="1321388" y="2265778"/>
                  <a:pt x="1306601" y="2266718"/>
                  <a:pt x="1295400" y="2264229"/>
                </a:cubicBezTo>
                <a:cubicBezTo>
                  <a:pt x="1273854" y="2259441"/>
                  <a:pt x="1251857" y="2256972"/>
                  <a:pt x="1230086" y="2253343"/>
                </a:cubicBezTo>
                <a:cubicBezTo>
                  <a:pt x="1186543" y="2256972"/>
                  <a:pt x="1142302" y="2255660"/>
                  <a:pt x="1099457" y="2264229"/>
                </a:cubicBezTo>
                <a:cubicBezTo>
                  <a:pt x="1086628" y="2266795"/>
                  <a:pt x="1078502" y="2280149"/>
                  <a:pt x="1066800" y="2286000"/>
                </a:cubicBezTo>
                <a:cubicBezTo>
                  <a:pt x="1056537" y="2291132"/>
                  <a:pt x="1045029" y="2293257"/>
                  <a:pt x="1034143" y="2296886"/>
                </a:cubicBezTo>
                <a:lnTo>
                  <a:pt x="979715" y="2351315"/>
                </a:lnTo>
                <a:cubicBezTo>
                  <a:pt x="968829" y="2362201"/>
                  <a:pt x="955596" y="2371163"/>
                  <a:pt x="947057" y="2383972"/>
                </a:cubicBezTo>
                <a:cubicBezTo>
                  <a:pt x="939800" y="2394858"/>
                  <a:pt x="936380" y="2409695"/>
                  <a:pt x="925286" y="2416629"/>
                </a:cubicBezTo>
                <a:cubicBezTo>
                  <a:pt x="905825" y="2428792"/>
                  <a:pt x="859972" y="2438400"/>
                  <a:pt x="859972" y="2438400"/>
                </a:cubicBezTo>
                <a:cubicBezTo>
                  <a:pt x="852715" y="2445657"/>
                  <a:pt x="847001" y="2454892"/>
                  <a:pt x="838200" y="2460172"/>
                </a:cubicBezTo>
                <a:cubicBezTo>
                  <a:pt x="828361" y="2466075"/>
                  <a:pt x="815806" y="2465925"/>
                  <a:pt x="805543" y="2471057"/>
                </a:cubicBezTo>
                <a:cubicBezTo>
                  <a:pt x="793841" y="2476908"/>
                  <a:pt x="783772" y="2485572"/>
                  <a:pt x="772886" y="2492829"/>
                </a:cubicBezTo>
                <a:cubicBezTo>
                  <a:pt x="769378" y="2492328"/>
                  <a:pt x="640667" y="2474543"/>
                  <a:pt x="631372" y="2471057"/>
                </a:cubicBezTo>
                <a:cubicBezTo>
                  <a:pt x="621762" y="2467453"/>
                  <a:pt x="617614" y="2455697"/>
                  <a:pt x="609600" y="2449286"/>
                </a:cubicBezTo>
                <a:cubicBezTo>
                  <a:pt x="599384" y="2441113"/>
                  <a:pt x="587829" y="2434772"/>
                  <a:pt x="576943" y="2427515"/>
                </a:cubicBezTo>
                <a:cubicBezTo>
                  <a:pt x="557752" y="2429434"/>
                  <a:pt x="460570" y="2451533"/>
                  <a:pt x="424543" y="2427515"/>
                </a:cubicBezTo>
                <a:cubicBezTo>
                  <a:pt x="363976" y="2387137"/>
                  <a:pt x="435353" y="2405666"/>
                  <a:pt x="391886" y="2362200"/>
                </a:cubicBezTo>
                <a:cubicBezTo>
                  <a:pt x="383772" y="2354086"/>
                  <a:pt x="370115" y="2354943"/>
                  <a:pt x="359229" y="2351315"/>
                </a:cubicBezTo>
                <a:cubicBezTo>
                  <a:pt x="337458" y="2358572"/>
                  <a:pt x="292960" y="2350157"/>
                  <a:pt x="293915" y="2373086"/>
                </a:cubicBezTo>
                <a:cubicBezTo>
                  <a:pt x="300212" y="2524234"/>
                  <a:pt x="257221" y="2580311"/>
                  <a:pt x="326572" y="2667000"/>
                </a:cubicBezTo>
                <a:cubicBezTo>
                  <a:pt x="332983" y="2675014"/>
                  <a:pt x="341086" y="2681515"/>
                  <a:pt x="348343" y="2688772"/>
                </a:cubicBezTo>
                <a:cubicBezTo>
                  <a:pt x="351972" y="2699658"/>
                  <a:pt x="354097" y="2711166"/>
                  <a:pt x="359229" y="2721429"/>
                </a:cubicBezTo>
                <a:cubicBezTo>
                  <a:pt x="365080" y="2733131"/>
                  <a:pt x="375687" y="2742131"/>
                  <a:pt x="381000" y="2754086"/>
                </a:cubicBezTo>
                <a:cubicBezTo>
                  <a:pt x="390321" y="2775057"/>
                  <a:pt x="402772" y="2819400"/>
                  <a:pt x="402772" y="2819400"/>
                </a:cubicBezTo>
                <a:cubicBezTo>
                  <a:pt x="399143" y="2859314"/>
                  <a:pt x="398851" y="2899674"/>
                  <a:pt x="391886" y="2939143"/>
                </a:cubicBezTo>
                <a:cubicBezTo>
                  <a:pt x="376568" y="3025946"/>
                  <a:pt x="376807" y="2980187"/>
                  <a:pt x="348343" y="3037115"/>
                </a:cubicBezTo>
                <a:cubicBezTo>
                  <a:pt x="343211" y="3047378"/>
                  <a:pt x="341086" y="3058886"/>
                  <a:pt x="337457" y="3069772"/>
                </a:cubicBezTo>
                <a:cubicBezTo>
                  <a:pt x="341086" y="3131458"/>
                  <a:pt x="342194" y="3193343"/>
                  <a:pt x="348343" y="3254829"/>
                </a:cubicBezTo>
                <a:cubicBezTo>
                  <a:pt x="349485" y="3266247"/>
                  <a:pt x="356446" y="3276354"/>
                  <a:pt x="359229" y="3287486"/>
                </a:cubicBezTo>
                <a:lnTo>
                  <a:pt x="381000" y="3374572"/>
                </a:lnTo>
                <a:cubicBezTo>
                  <a:pt x="377372" y="3407229"/>
                  <a:pt x="378760" y="3440843"/>
                  <a:pt x="370115" y="3472543"/>
                </a:cubicBezTo>
                <a:cubicBezTo>
                  <a:pt x="367415" y="3482445"/>
                  <a:pt x="358584" y="3493632"/>
                  <a:pt x="348343" y="3494315"/>
                </a:cubicBezTo>
                <a:cubicBezTo>
                  <a:pt x="301137" y="3497462"/>
                  <a:pt x="254000" y="3487058"/>
                  <a:pt x="206829" y="3483429"/>
                </a:cubicBezTo>
                <a:cubicBezTo>
                  <a:pt x="203200" y="3472543"/>
                  <a:pt x="198058" y="3462050"/>
                  <a:pt x="195943" y="3450772"/>
                </a:cubicBezTo>
                <a:cubicBezTo>
                  <a:pt x="187148" y="3403863"/>
                  <a:pt x="188544" y="3354768"/>
                  <a:pt x="174172" y="3309257"/>
                </a:cubicBezTo>
                <a:cubicBezTo>
                  <a:pt x="166293" y="3284306"/>
                  <a:pt x="138904" y="3268766"/>
                  <a:pt x="130629" y="3243943"/>
                </a:cubicBezTo>
                <a:cubicBezTo>
                  <a:pt x="115606" y="3198875"/>
                  <a:pt x="126108" y="3220833"/>
                  <a:pt x="97972" y="3178629"/>
                </a:cubicBezTo>
                <a:cubicBezTo>
                  <a:pt x="94343" y="3145972"/>
                  <a:pt x="92488" y="3113068"/>
                  <a:pt x="87086" y="3080657"/>
                </a:cubicBezTo>
                <a:cubicBezTo>
                  <a:pt x="85200" y="3069339"/>
                  <a:pt x="77541" y="3059396"/>
                  <a:pt x="76200" y="3048000"/>
                </a:cubicBezTo>
                <a:cubicBezTo>
                  <a:pt x="70249" y="2997419"/>
                  <a:pt x="71266" y="2946181"/>
                  <a:pt x="65315" y="2895600"/>
                </a:cubicBezTo>
                <a:cubicBezTo>
                  <a:pt x="63974" y="2884204"/>
                  <a:pt x="60333" y="2872782"/>
                  <a:pt x="54429" y="2862943"/>
                </a:cubicBezTo>
                <a:cubicBezTo>
                  <a:pt x="49148" y="2854142"/>
                  <a:pt x="39914" y="2848429"/>
                  <a:pt x="32657" y="2841172"/>
                </a:cubicBezTo>
                <a:lnTo>
                  <a:pt x="10886" y="2775857"/>
                </a:lnTo>
                <a:lnTo>
                  <a:pt x="0" y="2743200"/>
                </a:lnTo>
                <a:cubicBezTo>
                  <a:pt x="3629" y="2637972"/>
                  <a:pt x="6503" y="2532715"/>
                  <a:pt x="10886" y="2427515"/>
                </a:cubicBezTo>
                <a:cubicBezTo>
                  <a:pt x="13760" y="2358536"/>
                  <a:pt x="13546" y="2289233"/>
                  <a:pt x="21772" y="2220686"/>
                </a:cubicBezTo>
                <a:cubicBezTo>
                  <a:pt x="28120" y="2167788"/>
                  <a:pt x="53631" y="2130503"/>
                  <a:pt x="97972" y="2100943"/>
                </a:cubicBezTo>
                <a:cubicBezTo>
                  <a:pt x="108858" y="2093686"/>
                  <a:pt x="118674" y="2084485"/>
                  <a:pt x="130629" y="2079172"/>
                </a:cubicBezTo>
                <a:cubicBezTo>
                  <a:pt x="372788" y="1971545"/>
                  <a:pt x="61254" y="2124743"/>
                  <a:pt x="239486" y="2035629"/>
                </a:cubicBezTo>
                <a:cubicBezTo>
                  <a:pt x="246743" y="2028372"/>
                  <a:pt x="255977" y="2022658"/>
                  <a:pt x="261257" y="2013857"/>
                </a:cubicBezTo>
                <a:cubicBezTo>
                  <a:pt x="267161" y="2004018"/>
                  <a:pt x="272143" y="1992675"/>
                  <a:pt x="272143" y="1981200"/>
                </a:cubicBezTo>
                <a:cubicBezTo>
                  <a:pt x="272143" y="1956253"/>
                  <a:pt x="250493" y="1935148"/>
                  <a:pt x="239486" y="1915886"/>
                </a:cubicBezTo>
                <a:cubicBezTo>
                  <a:pt x="231435" y="1901797"/>
                  <a:pt x="223742" y="1887410"/>
                  <a:pt x="217715" y="1872343"/>
                </a:cubicBezTo>
                <a:cubicBezTo>
                  <a:pt x="184359" y="1788954"/>
                  <a:pt x="215899" y="1826986"/>
                  <a:pt x="174172" y="1785257"/>
                </a:cubicBezTo>
                <a:cubicBezTo>
                  <a:pt x="144286" y="1695602"/>
                  <a:pt x="155645" y="1742661"/>
                  <a:pt x="141515" y="1643743"/>
                </a:cubicBezTo>
                <a:cubicBezTo>
                  <a:pt x="145143" y="1592943"/>
                  <a:pt x="143014" y="1541400"/>
                  <a:pt x="152400" y="1491343"/>
                </a:cubicBezTo>
                <a:cubicBezTo>
                  <a:pt x="154291" y="1481256"/>
                  <a:pt x="164992" y="1474162"/>
                  <a:pt x="174172" y="1469572"/>
                </a:cubicBezTo>
                <a:cubicBezTo>
                  <a:pt x="194698" y="1459309"/>
                  <a:pt x="239486" y="1447800"/>
                  <a:pt x="239486" y="1447800"/>
                </a:cubicBezTo>
                <a:cubicBezTo>
                  <a:pt x="250372" y="1451429"/>
                  <a:pt x="261880" y="1453554"/>
                  <a:pt x="272143" y="1458686"/>
                </a:cubicBezTo>
                <a:cubicBezTo>
                  <a:pt x="283845" y="1464537"/>
                  <a:pt x="292845" y="1475144"/>
                  <a:pt x="304800" y="1480457"/>
                </a:cubicBezTo>
                <a:cubicBezTo>
                  <a:pt x="325771" y="1489778"/>
                  <a:pt x="370115" y="1502229"/>
                  <a:pt x="370115" y="1502229"/>
                </a:cubicBezTo>
                <a:cubicBezTo>
                  <a:pt x="406401" y="1494972"/>
                  <a:pt x="445874" y="1497006"/>
                  <a:pt x="478972" y="1480457"/>
                </a:cubicBezTo>
                <a:cubicBezTo>
                  <a:pt x="506511" y="1466688"/>
                  <a:pt x="544286" y="1415143"/>
                  <a:pt x="544286" y="1415143"/>
                </a:cubicBezTo>
                <a:cubicBezTo>
                  <a:pt x="539497" y="1348099"/>
                  <a:pt x="540694" y="1274971"/>
                  <a:pt x="522515" y="1208315"/>
                </a:cubicBezTo>
                <a:cubicBezTo>
                  <a:pt x="516477" y="1186174"/>
                  <a:pt x="508000" y="1164772"/>
                  <a:pt x="500743" y="1143000"/>
                </a:cubicBezTo>
                <a:lnTo>
                  <a:pt x="478972" y="1077686"/>
                </a:lnTo>
                <a:cubicBezTo>
                  <a:pt x="471715" y="1052286"/>
                  <a:pt x="464151" y="1026972"/>
                  <a:pt x="457200" y="1001486"/>
                </a:cubicBezTo>
                <a:cubicBezTo>
                  <a:pt x="423683" y="878590"/>
                  <a:pt x="471689" y="1048550"/>
                  <a:pt x="435429" y="903515"/>
                </a:cubicBezTo>
                <a:cubicBezTo>
                  <a:pt x="432646" y="892383"/>
                  <a:pt x="428172" y="881743"/>
                  <a:pt x="424543" y="870857"/>
                </a:cubicBezTo>
                <a:cubicBezTo>
                  <a:pt x="428172" y="776514"/>
                  <a:pt x="429149" y="682032"/>
                  <a:pt x="435429" y="587829"/>
                </a:cubicBezTo>
                <a:cubicBezTo>
                  <a:pt x="436424" y="572901"/>
                  <a:pt x="441062" y="558294"/>
                  <a:pt x="446315" y="544286"/>
                </a:cubicBezTo>
                <a:cubicBezTo>
                  <a:pt x="452013" y="529092"/>
                  <a:pt x="460829" y="515257"/>
                  <a:pt x="468086" y="500743"/>
                </a:cubicBezTo>
                <a:cubicBezTo>
                  <a:pt x="477398" y="454183"/>
                  <a:pt x="480656" y="426196"/>
                  <a:pt x="500743" y="381000"/>
                </a:cubicBezTo>
                <a:cubicBezTo>
                  <a:pt x="506057" y="369045"/>
                  <a:pt x="515258" y="359229"/>
                  <a:pt x="522515" y="348343"/>
                </a:cubicBezTo>
                <a:cubicBezTo>
                  <a:pt x="526143" y="337457"/>
                  <a:pt x="527828" y="325716"/>
                  <a:pt x="533400" y="315686"/>
                </a:cubicBezTo>
                <a:cubicBezTo>
                  <a:pt x="547329" y="290614"/>
                  <a:pt x="572290" y="249740"/>
                  <a:pt x="598715" y="228600"/>
                </a:cubicBezTo>
                <a:cubicBezTo>
                  <a:pt x="608931" y="220427"/>
                  <a:pt x="620486" y="214086"/>
                  <a:pt x="631372" y="206829"/>
                </a:cubicBezTo>
                <a:cubicBezTo>
                  <a:pt x="653531" y="339791"/>
                  <a:pt x="626058" y="214434"/>
                  <a:pt x="664029" y="315686"/>
                </a:cubicBezTo>
                <a:cubicBezTo>
                  <a:pt x="708499" y="434269"/>
                  <a:pt x="636067" y="281531"/>
                  <a:pt x="696686" y="402772"/>
                </a:cubicBezTo>
                <a:cubicBezTo>
                  <a:pt x="712072" y="479700"/>
                  <a:pt x="701722" y="439652"/>
                  <a:pt x="729343" y="522515"/>
                </a:cubicBezTo>
                <a:cubicBezTo>
                  <a:pt x="735848" y="542030"/>
                  <a:pt x="748551" y="585266"/>
                  <a:pt x="762000" y="598715"/>
                </a:cubicBezTo>
                <a:cubicBezTo>
                  <a:pt x="770114" y="606829"/>
                  <a:pt x="783771" y="605972"/>
                  <a:pt x="794657" y="609600"/>
                </a:cubicBezTo>
                <a:cubicBezTo>
                  <a:pt x="907203" y="595533"/>
                  <a:pt x="861057" y="619401"/>
                  <a:pt x="936172" y="544286"/>
                </a:cubicBezTo>
                <a:lnTo>
                  <a:pt x="968829" y="511629"/>
                </a:lnTo>
                <a:lnTo>
                  <a:pt x="990600" y="489857"/>
                </a:lnTo>
                <a:cubicBezTo>
                  <a:pt x="997857" y="468086"/>
                  <a:pt x="1007872" y="447046"/>
                  <a:pt x="1012372" y="424543"/>
                </a:cubicBezTo>
                <a:cubicBezTo>
                  <a:pt x="1016513" y="403839"/>
                  <a:pt x="1022985" y="359773"/>
                  <a:pt x="1034143" y="337457"/>
                </a:cubicBezTo>
                <a:cubicBezTo>
                  <a:pt x="1039994" y="325755"/>
                  <a:pt x="1049424" y="316159"/>
                  <a:pt x="1055915" y="304800"/>
                </a:cubicBezTo>
                <a:cubicBezTo>
                  <a:pt x="1063966" y="290711"/>
                  <a:pt x="1067410" y="273816"/>
                  <a:pt x="1077686" y="261257"/>
                </a:cubicBezTo>
                <a:cubicBezTo>
                  <a:pt x="1108828" y="223194"/>
                  <a:pt x="1143778" y="187723"/>
                  <a:pt x="1186543" y="163286"/>
                </a:cubicBezTo>
                <a:cubicBezTo>
                  <a:pt x="1200632" y="155235"/>
                  <a:pt x="1215572" y="148772"/>
                  <a:pt x="1230086" y="141515"/>
                </a:cubicBezTo>
                <a:cubicBezTo>
                  <a:pt x="1237343" y="134258"/>
                  <a:pt x="1243056" y="125023"/>
                  <a:pt x="1251857" y="119743"/>
                </a:cubicBezTo>
                <a:cubicBezTo>
                  <a:pt x="1261697" y="113839"/>
                  <a:pt x="1273968" y="113377"/>
                  <a:pt x="1284515" y="108857"/>
                </a:cubicBezTo>
                <a:cubicBezTo>
                  <a:pt x="1299430" y="102465"/>
                  <a:pt x="1313142" y="93478"/>
                  <a:pt x="1328057" y="87086"/>
                </a:cubicBezTo>
                <a:cubicBezTo>
                  <a:pt x="1338604" y="82566"/>
                  <a:pt x="1350452" y="81332"/>
                  <a:pt x="1360715" y="76200"/>
                </a:cubicBezTo>
                <a:cubicBezTo>
                  <a:pt x="1372417" y="70349"/>
                  <a:pt x="1381347" y="59583"/>
                  <a:pt x="1393372" y="54429"/>
                </a:cubicBezTo>
                <a:cubicBezTo>
                  <a:pt x="1407123" y="48536"/>
                  <a:pt x="1422907" y="48796"/>
                  <a:pt x="1436915" y="43543"/>
                </a:cubicBezTo>
                <a:cubicBezTo>
                  <a:pt x="1452109" y="37845"/>
                  <a:pt x="1465263" y="27470"/>
                  <a:pt x="1480457" y="21772"/>
                </a:cubicBezTo>
                <a:cubicBezTo>
                  <a:pt x="1512043" y="9927"/>
                  <a:pt x="1572384" y="3974"/>
                  <a:pt x="1600200" y="0"/>
                </a:cubicBezTo>
                <a:cubicBezTo>
                  <a:pt x="1621972" y="7257"/>
                  <a:pt x="1645454" y="10627"/>
                  <a:pt x="1665515" y="21772"/>
                </a:cubicBezTo>
                <a:cubicBezTo>
                  <a:pt x="1678972" y="29248"/>
                  <a:pt x="1688786" y="42227"/>
                  <a:pt x="1698172" y="54429"/>
                </a:cubicBezTo>
                <a:cubicBezTo>
                  <a:pt x="1725178" y="89536"/>
                  <a:pt x="1743053" y="131967"/>
                  <a:pt x="1774372" y="163286"/>
                </a:cubicBezTo>
                <a:cubicBezTo>
                  <a:pt x="1831125" y="220039"/>
                  <a:pt x="1840010" y="218363"/>
                  <a:pt x="1872343" y="283029"/>
                </a:cubicBezTo>
                <a:cubicBezTo>
                  <a:pt x="1881082" y="300506"/>
                  <a:pt x="1887254" y="319161"/>
                  <a:pt x="1894115" y="337457"/>
                </a:cubicBezTo>
                <a:cubicBezTo>
                  <a:pt x="1898144" y="348201"/>
                  <a:pt x="1899868" y="359852"/>
                  <a:pt x="1905000" y="370115"/>
                </a:cubicBezTo>
                <a:cubicBezTo>
                  <a:pt x="1910851" y="381817"/>
                  <a:pt x="1919515" y="391886"/>
                  <a:pt x="1926772" y="402772"/>
                </a:cubicBezTo>
                <a:cubicBezTo>
                  <a:pt x="1945419" y="496012"/>
                  <a:pt x="1947542" y="482015"/>
                  <a:pt x="1926772" y="620486"/>
                </a:cubicBezTo>
                <a:cubicBezTo>
                  <a:pt x="1922877" y="646453"/>
                  <a:pt x="1893889" y="693585"/>
                  <a:pt x="1883229" y="718457"/>
                </a:cubicBezTo>
                <a:cubicBezTo>
                  <a:pt x="1878709" y="729004"/>
                  <a:pt x="1878708" y="741567"/>
                  <a:pt x="1872343" y="751115"/>
                </a:cubicBezTo>
                <a:cubicBezTo>
                  <a:pt x="1863804" y="763924"/>
                  <a:pt x="1849541" y="771945"/>
                  <a:pt x="1839686" y="783772"/>
                </a:cubicBezTo>
                <a:cubicBezTo>
                  <a:pt x="1831311" y="793823"/>
                  <a:pt x="1825172" y="805543"/>
                  <a:pt x="1817915" y="816429"/>
                </a:cubicBezTo>
                <a:cubicBezTo>
                  <a:pt x="1821543" y="827315"/>
                  <a:pt x="1820686" y="840972"/>
                  <a:pt x="1828800" y="849086"/>
                </a:cubicBezTo>
                <a:cubicBezTo>
                  <a:pt x="1854458" y="874744"/>
                  <a:pt x="1884771" y="895731"/>
                  <a:pt x="1915886" y="914400"/>
                </a:cubicBezTo>
                <a:cubicBezTo>
                  <a:pt x="1942840" y="930572"/>
                  <a:pt x="1976637" y="949676"/>
                  <a:pt x="2002972" y="968829"/>
                </a:cubicBezTo>
                <a:cubicBezTo>
                  <a:pt x="2032317" y="990171"/>
                  <a:pt x="2064399" y="1008485"/>
                  <a:pt x="2090057" y="1034143"/>
                </a:cubicBezTo>
                <a:lnTo>
                  <a:pt x="2144486" y="1088572"/>
                </a:lnTo>
                <a:cubicBezTo>
                  <a:pt x="2174611" y="1178944"/>
                  <a:pt x="2150382" y="1096953"/>
                  <a:pt x="2166257" y="1295400"/>
                </a:cubicBezTo>
                <a:cubicBezTo>
                  <a:pt x="2168877" y="1328154"/>
                  <a:pt x="2171433" y="1361014"/>
                  <a:pt x="2177143" y="1393372"/>
                </a:cubicBezTo>
                <a:cubicBezTo>
                  <a:pt x="2182343" y="1422838"/>
                  <a:pt x="2198915" y="1480457"/>
                  <a:pt x="2198915" y="1480457"/>
                </a:cubicBezTo>
                <a:cubicBezTo>
                  <a:pt x="2195286" y="1534886"/>
                  <a:pt x="2198727" y="1590253"/>
                  <a:pt x="2188029" y="1643743"/>
                </a:cubicBezTo>
                <a:cubicBezTo>
                  <a:pt x="2183880" y="1664490"/>
                  <a:pt x="2164834" y="1679248"/>
                  <a:pt x="2155372" y="1698172"/>
                </a:cubicBezTo>
                <a:cubicBezTo>
                  <a:pt x="2146633" y="1715649"/>
                  <a:pt x="2140278" y="1734236"/>
                  <a:pt x="2133600" y="1752600"/>
                </a:cubicBezTo>
                <a:cubicBezTo>
                  <a:pt x="2125757" y="1774168"/>
                  <a:pt x="2124559" y="1798820"/>
                  <a:pt x="2111829" y="1817915"/>
                </a:cubicBezTo>
                <a:lnTo>
                  <a:pt x="2090057" y="1850572"/>
                </a:lnTo>
                <a:cubicBezTo>
                  <a:pt x="2086429" y="1868715"/>
                  <a:pt x="2083186" y="1886939"/>
                  <a:pt x="2079172" y="1905000"/>
                </a:cubicBezTo>
                <a:cubicBezTo>
                  <a:pt x="2075927" y="1919605"/>
                  <a:pt x="2067456" y="1933605"/>
                  <a:pt x="2068286" y="1948543"/>
                </a:cubicBezTo>
                <a:cubicBezTo>
                  <a:pt x="2071132" y="1999780"/>
                  <a:pt x="2078925" y="2050849"/>
                  <a:pt x="2090057" y="2100943"/>
                </a:cubicBezTo>
                <a:cubicBezTo>
                  <a:pt x="2093577" y="2116784"/>
                  <a:pt x="2105238" y="2129657"/>
                  <a:pt x="2111829" y="2144486"/>
                </a:cubicBezTo>
                <a:cubicBezTo>
                  <a:pt x="2119765" y="2162342"/>
                  <a:pt x="2127985" y="2180199"/>
                  <a:pt x="2133600" y="2198915"/>
                </a:cubicBezTo>
                <a:cubicBezTo>
                  <a:pt x="2159279" y="2284514"/>
                  <a:pt x="2125577" y="2224979"/>
                  <a:pt x="2166257" y="2286000"/>
                </a:cubicBezTo>
                <a:cubicBezTo>
                  <a:pt x="2169886" y="2311400"/>
                  <a:pt x="2173089" y="2336864"/>
                  <a:pt x="2177143" y="2362200"/>
                </a:cubicBezTo>
                <a:cubicBezTo>
                  <a:pt x="2187604" y="2427584"/>
                  <a:pt x="2209800" y="2558143"/>
                  <a:pt x="2209800" y="2558143"/>
                </a:cubicBezTo>
                <a:cubicBezTo>
                  <a:pt x="2206172" y="2677886"/>
                  <a:pt x="2208597" y="2797966"/>
                  <a:pt x="2198915" y="2917372"/>
                </a:cubicBezTo>
                <a:cubicBezTo>
                  <a:pt x="2197604" y="2933547"/>
                  <a:pt x="2185194" y="2946826"/>
                  <a:pt x="2177143" y="2960915"/>
                </a:cubicBezTo>
                <a:cubicBezTo>
                  <a:pt x="2170652" y="2972274"/>
                  <a:pt x="2163747" y="2983521"/>
                  <a:pt x="2155372" y="2993572"/>
                </a:cubicBezTo>
                <a:cubicBezTo>
                  <a:pt x="2122797" y="3032662"/>
                  <a:pt x="2081763" y="3057589"/>
                  <a:pt x="2035629" y="3080657"/>
                </a:cubicBezTo>
                <a:cubicBezTo>
                  <a:pt x="1961135" y="3117905"/>
                  <a:pt x="1987527" y="3096104"/>
                  <a:pt x="1948543" y="3135086"/>
                </a:cubicBezTo>
                <a:cubicBezTo>
                  <a:pt x="1918050" y="3226563"/>
                  <a:pt x="1944515" y="3137864"/>
                  <a:pt x="1926772" y="3341915"/>
                </a:cubicBezTo>
                <a:cubicBezTo>
                  <a:pt x="1924549" y="3367476"/>
                  <a:pt x="1918884" y="3392633"/>
                  <a:pt x="1915886" y="3418115"/>
                </a:cubicBezTo>
                <a:cubicBezTo>
                  <a:pt x="1900578" y="3548231"/>
                  <a:pt x="1917563" y="3489280"/>
                  <a:pt x="1894115" y="3559629"/>
                </a:cubicBezTo>
                <a:cubicBezTo>
                  <a:pt x="1872343" y="3556000"/>
                  <a:pt x="1849739" y="3555723"/>
                  <a:pt x="1828800" y="3548743"/>
                </a:cubicBezTo>
                <a:cubicBezTo>
                  <a:pt x="1793173" y="3536868"/>
                  <a:pt x="1795484" y="3520705"/>
                  <a:pt x="1774372" y="3494315"/>
                </a:cubicBezTo>
                <a:cubicBezTo>
                  <a:pt x="1767961" y="3486301"/>
                  <a:pt x="1759857" y="3479800"/>
                  <a:pt x="1752600" y="3472543"/>
                </a:cubicBezTo>
                <a:cubicBezTo>
                  <a:pt x="1745343" y="3454400"/>
                  <a:pt x="1737008" y="3436652"/>
                  <a:pt x="1730829" y="3418115"/>
                </a:cubicBezTo>
                <a:cubicBezTo>
                  <a:pt x="1726098" y="3403922"/>
                  <a:pt x="1726634" y="3387954"/>
                  <a:pt x="1719943" y="3374572"/>
                </a:cubicBezTo>
                <a:cubicBezTo>
                  <a:pt x="1715353" y="3365392"/>
                  <a:pt x="1705429" y="3360057"/>
                  <a:pt x="1698172" y="3352800"/>
                </a:cubicBezTo>
                <a:cubicBezTo>
                  <a:pt x="1670678" y="3270321"/>
                  <a:pt x="1677507" y="3304406"/>
                  <a:pt x="1698172" y="3145972"/>
                </a:cubicBezTo>
                <a:cubicBezTo>
                  <a:pt x="1706399" y="3082899"/>
                  <a:pt x="1713777" y="3079020"/>
                  <a:pt x="1741715" y="3037115"/>
                </a:cubicBezTo>
                <a:cubicBezTo>
                  <a:pt x="1745343" y="3022601"/>
                  <a:pt x="1748490" y="3007957"/>
                  <a:pt x="1752600" y="2993572"/>
                </a:cubicBezTo>
                <a:cubicBezTo>
                  <a:pt x="1755752" y="2982539"/>
                  <a:pt x="1763486" y="2972390"/>
                  <a:pt x="1763486" y="2960915"/>
                </a:cubicBezTo>
                <a:cubicBezTo>
                  <a:pt x="1763486" y="2913749"/>
                  <a:pt x="1751241" y="2884041"/>
                  <a:pt x="1741715" y="2841172"/>
                </a:cubicBezTo>
                <a:cubicBezTo>
                  <a:pt x="1737701" y="2823110"/>
                  <a:pt x="1734843" y="2804805"/>
                  <a:pt x="1730829" y="2786743"/>
                </a:cubicBezTo>
                <a:cubicBezTo>
                  <a:pt x="1721716" y="2745737"/>
                  <a:pt x="1721180" y="2746910"/>
                  <a:pt x="1709057" y="2710543"/>
                </a:cubicBezTo>
                <a:cubicBezTo>
                  <a:pt x="1712686" y="2598057"/>
                  <a:pt x="1713334" y="2485436"/>
                  <a:pt x="1719943" y="2373086"/>
                </a:cubicBezTo>
                <a:cubicBezTo>
                  <a:pt x="1720617" y="2361631"/>
                  <a:pt x="1727677" y="2351462"/>
                  <a:pt x="1730829" y="2340429"/>
                </a:cubicBezTo>
                <a:cubicBezTo>
                  <a:pt x="1734939" y="2326044"/>
                  <a:pt x="1738086" y="2311400"/>
                  <a:pt x="1741715" y="2296886"/>
                </a:cubicBezTo>
                <a:cubicBezTo>
                  <a:pt x="1738086" y="2224315"/>
                  <a:pt x="1737124" y="2151561"/>
                  <a:pt x="1730829" y="2079172"/>
                </a:cubicBezTo>
                <a:cubicBezTo>
                  <a:pt x="1729835" y="2067741"/>
                  <a:pt x="1725075" y="2056778"/>
                  <a:pt x="1719943" y="2046515"/>
                </a:cubicBezTo>
                <a:cubicBezTo>
                  <a:pt x="1714092" y="2034813"/>
                  <a:pt x="1705429" y="2024743"/>
                  <a:pt x="1698172" y="2013857"/>
                </a:cubicBezTo>
                <a:cubicBezTo>
                  <a:pt x="1633503" y="2021941"/>
                  <a:pt x="1619596" y="2010494"/>
                  <a:pt x="1578429" y="2046515"/>
                </a:cubicBezTo>
                <a:cubicBezTo>
                  <a:pt x="1559119" y="2063411"/>
                  <a:pt x="1524000" y="2100943"/>
                  <a:pt x="1524000" y="2100943"/>
                </a:cubicBezTo>
                <a:cubicBezTo>
                  <a:pt x="1499118" y="2175592"/>
                  <a:pt x="1524000" y="2082940"/>
                  <a:pt x="1524000" y="2188029"/>
                </a:cubicBezTo>
                <a:cubicBezTo>
                  <a:pt x="1524000" y="2231723"/>
                  <a:pt x="1521684" y="2275812"/>
                  <a:pt x="1513115" y="2318657"/>
                </a:cubicBezTo>
                <a:cubicBezTo>
                  <a:pt x="1510549" y="2331486"/>
                  <a:pt x="1499719" y="2341264"/>
                  <a:pt x="1491343" y="2351315"/>
                </a:cubicBezTo>
                <a:cubicBezTo>
                  <a:pt x="1481488" y="2363142"/>
                  <a:pt x="1509486" y="2393043"/>
                  <a:pt x="1491343" y="2394857"/>
                </a:cubicBezTo>
                <a:close/>
              </a:path>
            </a:pathLst>
          </a:custGeom>
          <a:solidFill>
            <a:srgbClr val="215968"/>
          </a:solidFill>
          <a:ln w="25560">
            <a:solidFill>
              <a:srgbClr val="2159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олилиния 30"/>
          <p:cNvSpPr/>
          <p:nvPr/>
        </p:nvSpPr>
        <p:spPr>
          <a:xfrm>
            <a:off x="2050920" y="2349360"/>
            <a:ext cx="885960" cy="3135600"/>
          </a:xfrm>
          <a:custGeom>
            <a:avLst/>
            <a:gdLst/>
            <a:ahLst/>
            <a:rect l="l" t="t" r="r" b="b"/>
            <a:pathLst>
              <a:path w="1389088" h="3135161">
                <a:moveTo>
                  <a:pt x="953145" y="3045228"/>
                </a:moveTo>
                <a:cubicBezTo>
                  <a:pt x="1100886" y="2946739"/>
                  <a:pt x="909301" y="3066101"/>
                  <a:pt x="1377688" y="3012571"/>
                </a:cubicBezTo>
                <a:cubicBezTo>
                  <a:pt x="1389088" y="3011268"/>
                  <a:pt x="1372707" y="2989753"/>
                  <a:pt x="1366803" y="2979914"/>
                </a:cubicBezTo>
                <a:cubicBezTo>
                  <a:pt x="1361523" y="2971113"/>
                  <a:pt x="1352288" y="2965400"/>
                  <a:pt x="1345031" y="2958143"/>
                </a:cubicBezTo>
                <a:cubicBezTo>
                  <a:pt x="1341402" y="2947257"/>
                  <a:pt x="1339277" y="2935748"/>
                  <a:pt x="1334145" y="2925485"/>
                </a:cubicBezTo>
                <a:cubicBezTo>
                  <a:pt x="1304421" y="2866036"/>
                  <a:pt x="1317904" y="2920364"/>
                  <a:pt x="1301488" y="2860171"/>
                </a:cubicBezTo>
                <a:cubicBezTo>
                  <a:pt x="1297321" y="2844893"/>
                  <a:pt x="1281361" y="2769666"/>
                  <a:pt x="1268831" y="2740428"/>
                </a:cubicBezTo>
                <a:cubicBezTo>
                  <a:pt x="1252256" y="2701753"/>
                  <a:pt x="1247155" y="2697028"/>
                  <a:pt x="1225288" y="2664228"/>
                </a:cubicBezTo>
                <a:cubicBezTo>
                  <a:pt x="1202637" y="2573617"/>
                  <a:pt x="1213477" y="2627639"/>
                  <a:pt x="1203517" y="2468285"/>
                </a:cubicBezTo>
                <a:cubicBezTo>
                  <a:pt x="1190222" y="2255568"/>
                  <a:pt x="1213628" y="2335334"/>
                  <a:pt x="1181745" y="2239685"/>
                </a:cubicBezTo>
                <a:cubicBezTo>
                  <a:pt x="1178117" y="2217914"/>
                  <a:pt x="1175648" y="2195917"/>
                  <a:pt x="1170860" y="2174371"/>
                </a:cubicBezTo>
                <a:cubicBezTo>
                  <a:pt x="1168371" y="2163170"/>
                  <a:pt x="1163126" y="2152747"/>
                  <a:pt x="1159974" y="2141714"/>
                </a:cubicBezTo>
                <a:cubicBezTo>
                  <a:pt x="1155864" y="2127329"/>
                  <a:pt x="1152717" y="2112685"/>
                  <a:pt x="1149088" y="2098171"/>
                </a:cubicBezTo>
                <a:cubicBezTo>
                  <a:pt x="1145460" y="1956657"/>
                  <a:pt x="1144352" y="1815055"/>
                  <a:pt x="1138203" y="1673628"/>
                </a:cubicBezTo>
                <a:cubicBezTo>
                  <a:pt x="1135444" y="1610165"/>
                  <a:pt x="1124602" y="1600195"/>
                  <a:pt x="1116431" y="1543000"/>
                </a:cubicBezTo>
                <a:cubicBezTo>
                  <a:pt x="1090570" y="1361975"/>
                  <a:pt x="1119271" y="1513660"/>
                  <a:pt x="1094660" y="1390600"/>
                </a:cubicBezTo>
                <a:cubicBezTo>
                  <a:pt x="1098288" y="1245457"/>
                  <a:pt x="1098952" y="1100210"/>
                  <a:pt x="1105545" y="955171"/>
                </a:cubicBezTo>
                <a:cubicBezTo>
                  <a:pt x="1106411" y="936121"/>
                  <a:pt x="1135608" y="854100"/>
                  <a:pt x="1138203" y="846314"/>
                </a:cubicBezTo>
                <a:lnTo>
                  <a:pt x="1149088" y="813657"/>
                </a:lnTo>
                <a:cubicBezTo>
                  <a:pt x="1152717" y="802771"/>
                  <a:pt x="1157191" y="792132"/>
                  <a:pt x="1159974" y="781000"/>
                </a:cubicBezTo>
                <a:cubicBezTo>
                  <a:pt x="1173643" y="726325"/>
                  <a:pt x="1166129" y="751650"/>
                  <a:pt x="1181745" y="704800"/>
                </a:cubicBezTo>
                <a:cubicBezTo>
                  <a:pt x="1185374" y="675771"/>
                  <a:pt x="1188183" y="646628"/>
                  <a:pt x="1192631" y="617714"/>
                </a:cubicBezTo>
                <a:cubicBezTo>
                  <a:pt x="1195444" y="599427"/>
                  <a:pt x="1200704" y="581572"/>
                  <a:pt x="1203517" y="563285"/>
                </a:cubicBezTo>
                <a:cubicBezTo>
                  <a:pt x="1219778" y="457589"/>
                  <a:pt x="1196498" y="503058"/>
                  <a:pt x="1236174" y="443543"/>
                </a:cubicBezTo>
                <a:cubicBezTo>
                  <a:pt x="1243654" y="406144"/>
                  <a:pt x="1247700" y="381431"/>
                  <a:pt x="1257945" y="345571"/>
                </a:cubicBezTo>
                <a:cubicBezTo>
                  <a:pt x="1261097" y="334538"/>
                  <a:pt x="1265679" y="323947"/>
                  <a:pt x="1268831" y="312914"/>
                </a:cubicBezTo>
                <a:cubicBezTo>
                  <a:pt x="1272941" y="298529"/>
                  <a:pt x="1275418" y="283701"/>
                  <a:pt x="1279717" y="269371"/>
                </a:cubicBezTo>
                <a:cubicBezTo>
                  <a:pt x="1286311" y="247390"/>
                  <a:pt x="1294231" y="225828"/>
                  <a:pt x="1301488" y="204057"/>
                </a:cubicBezTo>
                <a:cubicBezTo>
                  <a:pt x="1305117" y="193171"/>
                  <a:pt x="1309591" y="182532"/>
                  <a:pt x="1312374" y="171400"/>
                </a:cubicBezTo>
                <a:lnTo>
                  <a:pt x="1334145" y="84314"/>
                </a:lnTo>
                <a:cubicBezTo>
                  <a:pt x="1337774" y="69800"/>
                  <a:pt x="1340300" y="54964"/>
                  <a:pt x="1345031" y="40771"/>
                </a:cubicBezTo>
                <a:cubicBezTo>
                  <a:pt x="1348660" y="29885"/>
                  <a:pt x="1364031" y="16228"/>
                  <a:pt x="1355917" y="8114"/>
                </a:cubicBezTo>
                <a:cubicBezTo>
                  <a:pt x="1347803" y="0"/>
                  <a:pt x="1334146" y="15371"/>
                  <a:pt x="1323260" y="19000"/>
                </a:cubicBezTo>
                <a:cubicBezTo>
                  <a:pt x="1316003" y="26257"/>
                  <a:pt x="1310289" y="35491"/>
                  <a:pt x="1301488" y="40771"/>
                </a:cubicBezTo>
                <a:cubicBezTo>
                  <a:pt x="1291649" y="46675"/>
                  <a:pt x="1277791" y="44489"/>
                  <a:pt x="1268831" y="51657"/>
                </a:cubicBezTo>
                <a:cubicBezTo>
                  <a:pt x="1258615" y="59830"/>
                  <a:pt x="1254317" y="73428"/>
                  <a:pt x="1247060" y="84314"/>
                </a:cubicBezTo>
                <a:cubicBezTo>
                  <a:pt x="1243431" y="98828"/>
                  <a:pt x="1238850" y="113137"/>
                  <a:pt x="1236174" y="127857"/>
                </a:cubicBezTo>
                <a:cubicBezTo>
                  <a:pt x="1216159" y="237935"/>
                  <a:pt x="1236758" y="169645"/>
                  <a:pt x="1214403" y="236714"/>
                </a:cubicBezTo>
                <a:cubicBezTo>
                  <a:pt x="1212101" y="252830"/>
                  <a:pt x="1197666" y="358087"/>
                  <a:pt x="1192631" y="378228"/>
                </a:cubicBezTo>
                <a:cubicBezTo>
                  <a:pt x="1187065" y="400492"/>
                  <a:pt x="1183590" y="424448"/>
                  <a:pt x="1170860" y="443543"/>
                </a:cubicBezTo>
                <a:cubicBezTo>
                  <a:pt x="1156346" y="465314"/>
                  <a:pt x="1135592" y="484034"/>
                  <a:pt x="1127317" y="508857"/>
                </a:cubicBezTo>
                <a:cubicBezTo>
                  <a:pt x="1123688" y="519743"/>
                  <a:pt x="1121563" y="531251"/>
                  <a:pt x="1116431" y="541514"/>
                </a:cubicBezTo>
                <a:cubicBezTo>
                  <a:pt x="1110580" y="553216"/>
                  <a:pt x="1100511" y="562469"/>
                  <a:pt x="1094660" y="574171"/>
                </a:cubicBezTo>
                <a:cubicBezTo>
                  <a:pt x="1089528" y="584434"/>
                  <a:pt x="1088294" y="596281"/>
                  <a:pt x="1083774" y="606828"/>
                </a:cubicBezTo>
                <a:cubicBezTo>
                  <a:pt x="1035722" y="718949"/>
                  <a:pt x="1089787" y="567021"/>
                  <a:pt x="1040231" y="715685"/>
                </a:cubicBezTo>
                <a:cubicBezTo>
                  <a:pt x="1034873" y="747832"/>
                  <a:pt x="1029284" y="792072"/>
                  <a:pt x="1018460" y="824543"/>
                </a:cubicBezTo>
                <a:cubicBezTo>
                  <a:pt x="1012281" y="843081"/>
                  <a:pt x="1006178" y="861890"/>
                  <a:pt x="996688" y="878971"/>
                </a:cubicBezTo>
                <a:cubicBezTo>
                  <a:pt x="987877" y="894831"/>
                  <a:pt x="973647" y="907129"/>
                  <a:pt x="964031" y="922514"/>
                </a:cubicBezTo>
                <a:cubicBezTo>
                  <a:pt x="955431" y="936275"/>
                  <a:pt x="951996" y="953075"/>
                  <a:pt x="942260" y="966057"/>
                </a:cubicBezTo>
                <a:cubicBezTo>
                  <a:pt x="929944" y="982478"/>
                  <a:pt x="918190" y="1003109"/>
                  <a:pt x="898717" y="1009600"/>
                </a:cubicBezTo>
                <a:lnTo>
                  <a:pt x="833403" y="1031371"/>
                </a:lnTo>
                <a:cubicBezTo>
                  <a:pt x="757203" y="1027742"/>
                  <a:pt x="680449" y="1030352"/>
                  <a:pt x="604803" y="1020485"/>
                </a:cubicBezTo>
                <a:cubicBezTo>
                  <a:pt x="594626" y="1019158"/>
                  <a:pt x="591571" y="1004407"/>
                  <a:pt x="583031" y="998714"/>
                </a:cubicBezTo>
                <a:cubicBezTo>
                  <a:pt x="569529" y="989713"/>
                  <a:pt x="553577" y="984994"/>
                  <a:pt x="539488" y="976943"/>
                </a:cubicBezTo>
                <a:cubicBezTo>
                  <a:pt x="528129" y="970452"/>
                  <a:pt x="517717" y="962428"/>
                  <a:pt x="506831" y="955171"/>
                </a:cubicBezTo>
                <a:cubicBezTo>
                  <a:pt x="492317" y="933400"/>
                  <a:pt x="471562" y="914680"/>
                  <a:pt x="463288" y="889857"/>
                </a:cubicBezTo>
                <a:cubicBezTo>
                  <a:pt x="459660" y="878971"/>
                  <a:pt x="458306" y="867039"/>
                  <a:pt x="452403" y="857200"/>
                </a:cubicBezTo>
                <a:cubicBezTo>
                  <a:pt x="447123" y="848399"/>
                  <a:pt x="437201" y="843313"/>
                  <a:pt x="430631" y="835428"/>
                </a:cubicBezTo>
                <a:cubicBezTo>
                  <a:pt x="419016" y="821490"/>
                  <a:pt x="408860" y="806399"/>
                  <a:pt x="397974" y="791885"/>
                </a:cubicBezTo>
                <a:cubicBezTo>
                  <a:pt x="387438" y="760278"/>
                  <a:pt x="388337" y="753427"/>
                  <a:pt x="365317" y="726571"/>
                </a:cubicBezTo>
                <a:cubicBezTo>
                  <a:pt x="351959" y="710986"/>
                  <a:pt x="336288" y="697542"/>
                  <a:pt x="321774" y="683028"/>
                </a:cubicBezTo>
                <a:cubicBezTo>
                  <a:pt x="310888" y="672142"/>
                  <a:pt x="296002" y="664140"/>
                  <a:pt x="289117" y="650371"/>
                </a:cubicBezTo>
                <a:cubicBezTo>
                  <a:pt x="271938" y="616014"/>
                  <a:pt x="250072" y="567783"/>
                  <a:pt x="223803" y="541514"/>
                </a:cubicBezTo>
                <a:cubicBezTo>
                  <a:pt x="209289" y="527000"/>
                  <a:pt x="197339" y="509357"/>
                  <a:pt x="180260" y="497971"/>
                </a:cubicBezTo>
                <a:cubicBezTo>
                  <a:pt x="86672" y="435580"/>
                  <a:pt x="205083" y="510382"/>
                  <a:pt x="114945" y="465314"/>
                </a:cubicBezTo>
                <a:cubicBezTo>
                  <a:pt x="87479" y="451581"/>
                  <a:pt x="80768" y="442022"/>
                  <a:pt x="60517" y="421771"/>
                </a:cubicBezTo>
                <a:cubicBezTo>
                  <a:pt x="56888" y="410885"/>
                  <a:pt x="54763" y="399377"/>
                  <a:pt x="49631" y="389114"/>
                </a:cubicBezTo>
                <a:cubicBezTo>
                  <a:pt x="0" y="289853"/>
                  <a:pt x="25408" y="437724"/>
                  <a:pt x="38745" y="508857"/>
                </a:cubicBezTo>
                <a:cubicBezTo>
                  <a:pt x="40636" y="518944"/>
                  <a:pt x="53260" y="523371"/>
                  <a:pt x="60517" y="530628"/>
                </a:cubicBezTo>
                <a:cubicBezTo>
                  <a:pt x="84268" y="601880"/>
                  <a:pt x="51281" y="531947"/>
                  <a:pt x="104060" y="574171"/>
                </a:cubicBezTo>
                <a:cubicBezTo>
                  <a:pt x="174400" y="630444"/>
                  <a:pt x="76404" y="590352"/>
                  <a:pt x="158488" y="617714"/>
                </a:cubicBezTo>
                <a:cubicBezTo>
                  <a:pt x="165745" y="624971"/>
                  <a:pt x="172246" y="633074"/>
                  <a:pt x="180260" y="639485"/>
                </a:cubicBezTo>
                <a:cubicBezTo>
                  <a:pt x="190476" y="647658"/>
                  <a:pt x="204302" y="651411"/>
                  <a:pt x="212917" y="661257"/>
                </a:cubicBezTo>
                <a:cubicBezTo>
                  <a:pt x="230147" y="680949"/>
                  <a:pt x="241946" y="704800"/>
                  <a:pt x="256460" y="726571"/>
                </a:cubicBezTo>
                <a:cubicBezTo>
                  <a:pt x="262153" y="735110"/>
                  <a:pt x="270974" y="741086"/>
                  <a:pt x="278231" y="748343"/>
                </a:cubicBezTo>
                <a:cubicBezTo>
                  <a:pt x="298189" y="808217"/>
                  <a:pt x="277125" y="754572"/>
                  <a:pt x="310888" y="813657"/>
                </a:cubicBezTo>
                <a:cubicBezTo>
                  <a:pt x="318939" y="827746"/>
                  <a:pt x="324609" y="843111"/>
                  <a:pt x="332660" y="857200"/>
                </a:cubicBezTo>
                <a:cubicBezTo>
                  <a:pt x="350971" y="889244"/>
                  <a:pt x="352360" y="887786"/>
                  <a:pt x="376203" y="911628"/>
                </a:cubicBezTo>
                <a:cubicBezTo>
                  <a:pt x="379831" y="922514"/>
                  <a:pt x="380203" y="935105"/>
                  <a:pt x="387088" y="944285"/>
                </a:cubicBezTo>
                <a:cubicBezTo>
                  <a:pt x="418928" y="986739"/>
                  <a:pt x="436403" y="995305"/>
                  <a:pt x="474174" y="1020485"/>
                </a:cubicBezTo>
                <a:cubicBezTo>
                  <a:pt x="477803" y="1031371"/>
                  <a:pt x="478015" y="1044085"/>
                  <a:pt x="485060" y="1053143"/>
                </a:cubicBezTo>
                <a:cubicBezTo>
                  <a:pt x="503963" y="1077447"/>
                  <a:pt x="550374" y="1118457"/>
                  <a:pt x="550374" y="1118457"/>
                </a:cubicBezTo>
                <a:cubicBezTo>
                  <a:pt x="571567" y="1182036"/>
                  <a:pt x="544678" y="1123645"/>
                  <a:pt x="593917" y="1172885"/>
                </a:cubicBezTo>
                <a:cubicBezTo>
                  <a:pt x="603168" y="1182136"/>
                  <a:pt x="607515" y="1195327"/>
                  <a:pt x="615688" y="1205543"/>
                </a:cubicBezTo>
                <a:cubicBezTo>
                  <a:pt x="622099" y="1213557"/>
                  <a:pt x="631302" y="1219104"/>
                  <a:pt x="637460" y="1227314"/>
                </a:cubicBezTo>
                <a:cubicBezTo>
                  <a:pt x="653160" y="1248247"/>
                  <a:pt x="666489" y="1270857"/>
                  <a:pt x="681003" y="1292628"/>
                </a:cubicBezTo>
                <a:cubicBezTo>
                  <a:pt x="715504" y="1344379"/>
                  <a:pt x="698637" y="1312875"/>
                  <a:pt x="724545" y="1390600"/>
                </a:cubicBezTo>
                <a:cubicBezTo>
                  <a:pt x="728174" y="1401486"/>
                  <a:pt x="729066" y="1413710"/>
                  <a:pt x="735431" y="1423257"/>
                </a:cubicBezTo>
                <a:lnTo>
                  <a:pt x="757203" y="1455914"/>
                </a:lnTo>
                <a:cubicBezTo>
                  <a:pt x="783962" y="1670000"/>
                  <a:pt x="750472" y="1383464"/>
                  <a:pt x="778974" y="1782485"/>
                </a:cubicBezTo>
                <a:cubicBezTo>
                  <a:pt x="780521" y="1804143"/>
                  <a:pt x="795910" y="1878050"/>
                  <a:pt x="800745" y="1902228"/>
                </a:cubicBezTo>
                <a:cubicBezTo>
                  <a:pt x="797117" y="1963914"/>
                  <a:pt x="796008" y="2025799"/>
                  <a:pt x="789860" y="2087285"/>
                </a:cubicBezTo>
                <a:cubicBezTo>
                  <a:pt x="788718" y="2098703"/>
                  <a:pt x="784547" y="2109912"/>
                  <a:pt x="778974" y="2119943"/>
                </a:cubicBezTo>
                <a:cubicBezTo>
                  <a:pt x="766267" y="2142816"/>
                  <a:pt x="735431" y="2185257"/>
                  <a:pt x="735431" y="2185257"/>
                </a:cubicBezTo>
                <a:cubicBezTo>
                  <a:pt x="731802" y="2199771"/>
                  <a:pt x="728655" y="2214415"/>
                  <a:pt x="724545" y="2228800"/>
                </a:cubicBezTo>
                <a:cubicBezTo>
                  <a:pt x="721393" y="2239833"/>
                  <a:pt x="714423" y="2250008"/>
                  <a:pt x="713660" y="2261457"/>
                </a:cubicBezTo>
                <a:cubicBezTo>
                  <a:pt x="706647" y="2366648"/>
                  <a:pt x="745877" y="2501604"/>
                  <a:pt x="681003" y="2598914"/>
                </a:cubicBezTo>
                <a:cubicBezTo>
                  <a:pt x="675310" y="2607453"/>
                  <a:pt x="666488" y="2613428"/>
                  <a:pt x="659231" y="2620685"/>
                </a:cubicBezTo>
                <a:cubicBezTo>
                  <a:pt x="651974" y="2642457"/>
                  <a:pt x="653688" y="2669772"/>
                  <a:pt x="637460" y="2686000"/>
                </a:cubicBezTo>
                <a:lnTo>
                  <a:pt x="593917" y="2729543"/>
                </a:lnTo>
                <a:cubicBezTo>
                  <a:pt x="586660" y="2736800"/>
                  <a:pt x="577838" y="2742774"/>
                  <a:pt x="572145" y="2751314"/>
                </a:cubicBezTo>
                <a:cubicBezTo>
                  <a:pt x="544681" y="2792511"/>
                  <a:pt x="559625" y="2774720"/>
                  <a:pt x="528603" y="2805743"/>
                </a:cubicBezTo>
                <a:lnTo>
                  <a:pt x="506831" y="2871057"/>
                </a:lnTo>
                <a:cubicBezTo>
                  <a:pt x="503202" y="2881943"/>
                  <a:pt x="498195" y="2892462"/>
                  <a:pt x="495945" y="2903714"/>
                </a:cubicBezTo>
                <a:cubicBezTo>
                  <a:pt x="492317" y="2921857"/>
                  <a:pt x="489928" y="2940293"/>
                  <a:pt x="485060" y="2958143"/>
                </a:cubicBezTo>
                <a:cubicBezTo>
                  <a:pt x="479022" y="2980283"/>
                  <a:pt x="463288" y="3023457"/>
                  <a:pt x="463288" y="3023457"/>
                </a:cubicBezTo>
                <a:cubicBezTo>
                  <a:pt x="459660" y="3048857"/>
                  <a:pt x="449850" y="3074127"/>
                  <a:pt x="452403" y="3099657"/>
                </a:cubicBezTo>
                <a:cubicBezTo>
                  <a:pt x="453705" y="3112675"/>
                  <a:pt x="461192" y="3130691"/>
                  <a:pt x="474174" y="3132314"/>
                </a:cubicBezTo>
                <a:cubicBezTo>
                  <a:pt x="496946" y="3135161"/>
                  <a:pt x="516568" y="3111689"/>
                  <a:pt x="539488" y="3110543"/>
                </a:cubicBezTo>
                <a:cubicBezTo>
                  <a:pt x="808069" y="3097114"/>
                  <a:pt x="684725" y="3104834"/>
                  <a:pt x="909603" y="3088771"/>
                </a:cubicBezTo>
                <a:cubicBezTo>
                  <a:pt x="927746" y="3085142"/>
                  <a:pt x="949817" y="3089730"/>
                  <a:pt x="964031" y="3077885"/>
                </a:cubicBezTo>
                <a:cubicBezTo>
                  <a:pt x="975524" y="3068307"/>
                  <a:pt x="963424" y="3043921"/>
                  <a:pt x="974917" y="3034343"/>
                </a:cubicBezTo>
                <a:cubicBezTo>
                  <a:pt x="989131" y="3022498"/>
                  <a:pt x="1029345" y="3023457"/>
                  <a:pt x="1029345" y="3023457"/>
                </a:cubicBezTo>
              </a:path>
            </a:pathLst>
          </a:custGeom>
          <a:solidFill>
            <a:srgbClr val="4a452a"/>
          </a:solidFill>
          <a:ln w="93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олилиния 31"/>
          <p:cNvSpPr/>
          <p:nvPr/>
        </p:nvSpPr>
        <p:spPr>
          <a:xfrm>
            <a:off x="1619280" y="981000"/>
            <a:ext cx="1657440" cy="3311640"/>
          </a:xfrm>
          <a:custGeom>
            <a:avLst/>
            <a:gdLst/>
            <a:ahLst/>
            <a:rect l="l" t="t" r="r" b="b"/>
            <a:pathLst>
              <a:path w="2209800" h="3559629">
                <a:moveTo>
                  <a:pt x="1491343" y="2394857"/>
                </a:moveTo>
                <a:cubicBezTo>
                  <a:pt x="1473200" y="2396671"/>
                  <a:pt x="1448293" y="2378652"/>
                  <a:pt x="1382486" y="2362200"/>
                </a:cubicBezTo>
                <a:cubicBezTo>
                  <a:pt x="1298509" y="2306216"/>
                  <a:pt x="1410493" y="2390524"/>
                  <a:pt x="1328057" y="2275115"/>
                </a:cubicBezTo>
                <a:cubicBezTo>
                  <a:pt x="1321388" y="2265778"/>
                  <a:pt x="1306601" y="2266718"/>
                  <a:pt x="1295400" y="2264229"/>
                </a:cubicBezTo>
                <a:cubicBezTo>
                  <a:pt x="1273854" y="2259441"/>
                  <a:pt x="1251857" y="2256972"/>
                  <a:pt x="1230086" y="2253343"/>
                </a:cubicBezTo>
                <a:cubicBezTo>
                  <a:pt x="1186543" y="2256972"/>
                  <a:pt x="1142302" y="2255660"/>
                  <a:pt x="1099457" y="2264229"/>
                </a:cubicBezTo>
                <a:cubicBezTo>
                  <a:pt x="1086628" y="2266795"/>
                  <a:pt x="1078502" y="2280149"/>
                  <a:pt x="1066800" y="2286000"/>
                </a:cubicBezTo>
                <a:cubicBezTo>
                  <a:pt x="1056537" y="2291132"/>
                  <a:pt x="1045029" y="2293257"/>
                  <a:pt x="1034143" y="2296886"/>
                </a:cubicBezTo>
                <a:lnTo>
                  <a:pt x="979715" y="2351315"/>
                </a:lnTo>
                <a:cubicBezTo>
                  <a:pt x="968829" y="2362201"/>
                  <a:pt x="955596" y="2371163"/>
                  <a:pt x="947057" y="2383972"/>
                </a:cubicBezTo>
                <a:cubicBezTo>
                  <a:pt x="939800" y="2394858"/>
                  <a:pt x="936380" y="2409695"/>
                  <a:pt x="925286" y="2416629"/>
                </a:cubicBezTo>
                <a:cubicBezTo>
                  <a:pt x="905825" y="2428792"/>
                  <a:pt x="859972" y="2438400"/>
                  <a:pt x="859972" y="2438400"/>
                </a:cubicBezTo>
                <a:cubicBezTo>
                  <a:pt x="852715" y="2445657"/>
                  <a:pt x="847001" y="2454892"/>
                  <a:pt x="838200" y="2460172"/>
                </a:cubicBezTo>
                <a:cubicBezTo>
                  <a:pt x="828361" y="2466075"/>
                  <a:pt x="815806" y="2465925"/>
                  <a:pt x="805543" y="2471057"/>
                </a:cubicBezTo>
                <a:cubicBezTo>
                  <a:pt x="793841" y="2476908"/>
                  <a:pt x="783772" y="2485572"/>
                  <a:pt x="772886" y="2492829"/>
                </a:cubicBezTo>
                <a:cubicBezTo>
                  <a:pt x="769378" y="2492328"/>
                  <a:pt x="640667" y="2474543"/>
                  <a:pt x="631372" y="2471057"/>
                </a:cubicBezTo>
                <a:cubicBezTo>
                  <a:pt x="621762" y="2467453"/>
                  <a:pt x="617614" y="2455697"/>
                  <a:pt x="609600" y="2449286"/>
                </a:cubicBezTo>
                <a:cubicBezTo>
                  <a:pt x="599384" y="2441113"/>
                  <a:pt x="587829" y="2434772"/>
                  <a:pt x="576943" y="2427515"/>
                </a:cubicBezTo>
                <a:cubicBezTo>
                  <a:pt x="557752" y="2429434"/>
                  <a:pt x="460570" y="2451533"/>
                  <a:pt x="424543" y="2427515"/>
                </a:cubicBezTo>
                <a:cubicBezTo>
                  <a:pt x="363976" y="2387137"/>
                  <a:pt x="435353" y="2405666"/>
                  <a:pt x="391886" y="2362200"/>
                </a:cubicBezTo>
                <a:cubicBezTo>
                  <a:pt x="383772" y="2354086"/>
                  <a:pt x="370115" y="2354943"/>
                  <a:pt x="359229" y="2351315"/>
                </a:cubicBezTo>
                <a:cubicBezTo>
                  <a:pt x="337458" y="2358572"/>
                  <a:pt x="292960" y="2350157"/>
                  <a:pt x="293915" y="2373086"/>
                </a:cubicBezTo>
                <a:cubicBezTo>
                  <a:pt x="300212" y="2524234"/>
                  <a:pt x="257221" y="2580311"/>
                  <a:pt x="326572" y="2667000"/>
                </a:cubicBezTo>
                <a:cubicBezTo>
                  <a:pt x="332983" y="2675014"/>
                  <a:pt x="341086" y="2681515"/>
                  <a:pt x="348343" y="2688772"/>
                </a:cubicBezTo>
                <a:cubicBezTo>
                  <a:pt x="351972" y="2699658"/>
                  <a:pt x="354097" y="2711166"/>
                  <a:pt x="359229" y="2721429"/>
                </a:cubicBezTo>
                <a:cubicBezTo>
                  <a:pt x="365080" y="2733131"/>
                  <a:pt x="375687" y="2742131"/>
                  <a:pt x="381000" y="2754086"/>
                </a:cubicBezTo>
                <a:cubicBezTo>
                  <a:pt x="390321" y="2775057"/>
                  <a:pt x="402772" y="2819400"/>
                  <a:pt x="402772" y="2819400"/>
                </a:cubicBezTo>
                <a:cubicBezTo>
                  <a:pt x="399143" y="2859314"/>
                  <a:pt x="398851" y="2899674"/>
                  <a:pt x="391886" y="2939143"/>
                </a:cubicBezTo>
                <a:cubicBezTo>
                  <a:pt x="376568" y="3025946"/>
                  <a:pt x="376807" y="2980187"/>
                  <a:pt x="348343" y="3037115"/>
                </a:cubicBezTo>
                <a:cubicBezTo>
                  <a:pt x="343211" y="3047378"/>
                  <a:pt x="341086" y="3058886"/>
                  <a:pt x="337457" y="3069772"/>
                </a:cubicBezTo>
                <a:cubicBezTo>
                  <a:pt x="341086" y="3131458"/>
                  <a:pt x="342194" y="3193343"/>
                  <a:pt x="348343" y="3254829"/>
                </a:cubicBezTo>
                <a:cubicBezTo>
                  <a:pt x="349485" y="3266247"/>
                  <a:pt x="356446" y="3276354"/>
                  <a:pt x="359229" y="3287486"/>
                </a:cubicBezTo>
                <a:lnTo>
                  <a:pt x="381000" y="3374572"/>
                </a:lnTo>
                <a:cubicBezTo>
                  <a:pt x="377372" y="3407229"/>
                  <a:pt x="378760" y="3440843"/>
                  <a:pt x="370115" y="3472543"/>
                </a:cubicBezTo>
                <a:cubicBezTo>
                  <a:pt x="367415" y="3482445"/>
                  <a:pt x="358584" y="3493632"/>
                  <a:pt x="348343" y="3494315"/>
                </a:cubicBezTo>
                <a:cubicBezTo>
                  <a:pt x="301137" y="3497462"/>
                  <a:pt x="254000" y="3487058"/>
                  <a:pt x="206829" y="3483429"/>
                </a:cubicBezTo>
                <a:cubicBezTo>
                  <a:pt x="203200" y="3472543"/>
                  <a:pt x="198058" y="3462050"/>
                  <a:pt x="195943" y="3450772"/>
                </a:cubicBezTo>
                <a:cubicBezTo>
                  <a:pt x="187148" y="3403863"/>
                  <a:pt x="188544" y="3354768"/>
                  <a:pt x="174172" y="3309257"/>
                </a:cubicBezTo>
                <a:cubicBezTo>
                  <a:pt x="166293" y="3284306"/>
                  <a:pt x="138904" y="3268766"/>
                  <a:pt x="130629" y="3243943"/>
                </a:cubicBezTo>
                <a:cubicBezTo>
                  <a:pt x="115606" y="3198875"/>
                  <a:pt x="126108" y="3220833"/>
                  <a:pt x="97972" y="3178629"/>
                </a:cubicBezTo>
                <a:cubicBezTo>
                  <a:pt x="94343" y="3145972"/>
                  <a:pt x="92488" y="3113068"/>
                  <a:pt x="87086" y="3080657"/>
                </a:cubicBezTo>
                <a:cubicBezTo>
                  <a:pt x="85200" y="3069339"/>
                  <a:pt x="77541" y="3059396"/>
                  <a:pt x="76200" y="3048000"/>
                </a:cubicBezTo>
                <a:cubicBezTo>
                  <a:pt x="70249" y="2997419"/>
                  <a:pt x="71266" y="2946181"/>
                  <a:pt x="65315" y="2895600"/>
                </a:cubicBezTo>
                <a:cubicBezTo>
                  <a:pt x="63974" y="2884204"/>
                  <a:pt x="60333" y="2872782"/>
                  <a:pt x="54429" y="2862943"/>
                </a:cubicBezTo>
                <a:cubicBezTo>
                  <a:pt x="49148" y="2854142"/>
                  <a:pt x="39914" y="2848429"/>
                  <a:pt x="32657" y="2841172"/>
                </a:cubicBezTo>
                <a:lnTo>
                  <a:pt x="10886" y="2775857"/>
                </a:lnTo>
                <a:lnTo>
                  <a:pt x="0" y="2743200"/>
                </a:lnTo>
                <a:cubicBezTo>
                  <a:pt x="3629" y="2637972"/>
                  <a:pt x="6503" y="2532715"/>
                  <a:pt x="10886" y="2427515"/>
                </a:cubicBezTo>
                <a:cubicBezTo>
                  <a:pt x="13760" y="2358536"/>
                  <a:pt x="13546" y="2289233"/>
                  <a:pt x="21772" y="2220686"/>
                </a:cubicBezTo>
                <a:cubicBezTo>
                  <a:pt x="28120" y="2167788"/>
                  <a:pt x="53631" y="2130503"/>
                  <a:pt x="97972" y="2100943"/>
                </a:cubicBezTo>
                <a:cubicBezTo>
                  <a:pt x="108858" y="2093686"/>
                  <a:pt x="118674" y="2084485"/>
                  <a:pt x="130629" y="2079172"/>
                </a:cubicBezTo>
                <a:cubicBezTo>
                  <a:pt x="372788" y="1971545"/>
                  <a:pt x="61254" y="2124743"/>
                  <a:pt x="239486" y="2035629"/>
                </a:cubicBezTo>
                <a:cubicBezTo>
                  <a:pt x="246743" y="2028372"/>
                  <a:pt x="255977" y="2022658"/>
                  <a:pt x="261257" y="2013857"/>
                </a:cubicBezTo>
                <a:cubicBezTo>
                  <a:pt x="267161" y="2004018"/>
                  <a:pt x="272143" y="1992675"/>
                  <a:pt x="272143" y="1981200"/>
                </a:cubicBezTo>
                <a:cubicBezTo>
                  <a:pt x="272143" y="1956253"/>
                  <a:pt x="250493" y="1935148"/>
                  <a:pt x="239486" y="1915886"/>
                </a:cubicBezTo>
                <a:cubicBezTo>
                  <a:pt x="231435" y="1901797"/>
                  <a:pt x="223742" y="1887410"/>
                  <a:pt x="217715" y="1872343"/>
                </a:cubicBezTo>
                <a:cubicBezTo>
                  <a:pt x="184359" y="1788954"/>
                  <a:pt x="215899" y="1826986"/>
                  <a:pt x="174172" y="1785257"/>
                </a:cubicBezTo>
                <a:cubicBezTo>
                  <a:pt x="144286" y="1695602"/>
                  <a:pt x="155645" y="1742661"/>
                  <a:pt x="141515" y="1643743"/>
                </a:cubicBezTo>
                <a:cubicBezTo>
                  <a:pt x="145143" y="1592943"/>
                  <a:pt x="143014" y="1541400"/>
                  <a:pt x="152400" y="1491343"/>
                </a:cubicBezTo>
                <a:cubicBezTo>
                  <a:pt x="154291" y="1481256"/>
                  <a:pt x="164992" y="1474162"/>
                  <a:pt x="174172" y="1469572"/>
                </a:cubicBezTo>
                <a:cubicBezTo>
                  <a:pt x="194698" y="1459309"/>
                  <a:pt x="239486" y="1447800"/>
                  <a:pt x="239486" y="1447800"/>
                </a:cubicBezTo>
                <a:cubicBezTo>
                  <a:pt x="250372" y="1451429"/>
                  <a:pt x="261880" y="1453554"/>
                  <a:pt x="272143" y="1458686"/>
                </a:cubicBezTo>
                <a:cubicBezTo>
                  <a:pt x="283845" y="1464537"/>
                  <a:pt x="292845" y="1475144"/>
                  <a:pt x="304800" y="1480457"/>
                </a:cubicBezTo>
                <a:cubicBezTo>
                  <a:pt x="325771" y="1489778"/>
                  <a:pt x="370115" y="1502229"/>
                  <a:pt x="370115" y="1502229"/>
                </a:cubicBezTo>
                <a:cubicBezTo>
                  <a:pt x="406401" y="1494972"/>
                  <a:pt x="445874" y="1497006"/>
                  <a:pt x="478972" y="1480457"/>
                </a:cubicBezTo>
                <a:cubicBezTo>
                  <a:pt x="506511" y="1466688"/>
                  <a:pt x="544286" y="1415143"/>
                  <a:pt x="544286" y="1415143"/>
                </a:cubicBezTo>
                <a:cubicBezTo>
                  <a:pt x="539497" y="1348099"/>
                  <a:pt x="540694" y="1274971"/>
                  <a:pt x="522515" y="1208315"/>
                </a:cubicBezTo>
                <a:cubicBezTo>
                  <a:pt x="516477" y="1186174"/>
                  <a:pt x="508000" y="1164772"/>
                  <a:pt x="500743" y="1143000"/>
                </a:cubicBezTo>
                <a:lnTo>
                  <a:pt x="478972" y="1077686"/>
                </a:lnTo>
                <a:cubicBezTo>
                  <a:pt x="471715" y="1052286"/>
                  <a:pt x="464151" y="1026972"/>
                  <a:pt x="457200" y="1001486"/>
                </a:cubicBezTo>
                <a:cubicBezTo>
                  <a:pt x="423683" y="878590"/>
                  <a:pt x="471689" y="1048550"/>
                  <a:pt x="435429" y="903515"/>
                </a:cubicBezTo>
                <a:cubicBezTo>
                  <a:pt x="432646" y="892383"/>
                  <a:pt x="428172" y="881743"/>
                  <a:pt x="424543" y="870857"/>
                </a:cubicBezTo>
                <a:cubicBezTo>
                  <a:pt x="428172" y="776514"/>
                  <a:pt x="429149" y="682032"/>
                  <a:pt x="435429" y="587829"/>
                </a:cubicBezTo>
                <a:cubicBezTo>
                  <a:pt x="436424" y="572901"/>
                  <a:pt x="441062" y="558294"/>
                  <a:pt x="446315" y="544286"/>
                </a:cubicBezTo>
                <a:cubicBezTo>
                  <a:pt x="452013" y="529092"/>
                  <a:pt x="460829" y="515257"/>
                  <a:pt x="468086" y="500743"/>
                </a:cubicBezTo>
                <a:cubicBezTo>
                  <a:pt x="477398" y="454183"/>
                  <a:pt x="480656" y="426196"/>
                  <a:pt x="500743" y="381000"/>
                </a:cubicBezTo>
                <a:cubicBezTo>
                  <a:pt x="506057" y="369045"/>
                  <a:pt x="515258" y="359229"/>
                  <a:pt x="522515" y="348343"/>
                </a:cubicBezTo>
                <a:cubicBezTo>
                  <a:pt x="526143" y="337457"/>
                  <a:pt x="527828" y="325716"/>
                  <a:pt x="533400" y="315686"/>
                </a:cubicBezTo>
                <a:cubicBezTo>
                  <a:pt x="547329" y="290614"/>
                  <a:pt x="572290" y="249740"/>
                  <a:pt x="598715" y="228600"/>
                </a:cubicBezTo>
                <a:cubicBezTo>
                  <a:pt x="608931" y="220427"/>
                  <a:pt x="620486" y="214086"/>
                  <a:pt x="631372" y="206829"/>
                </a:cubicBezTo>
                <a:cubicBezTo>
                  <a:pt x="653531" y="339791"/>
                  <a:pt x="626058" y="214434"/>
                  <a:pt x="664029" y="315686"/>
                </a:cubicBezTo>
                <a:cubicBezTo>
                  <a:pt x="708499" y="434269"/>
                  <a:pt x="636067" y="281531"/>
                  <a:pt x="696686" y="402772"/>
                </a:cubicBezTo>
                <a:cubicBezTo>
                  <a:pt x="712072" y="479700"/>
                  <a:pt x="701722" y="439652"/>
                  <a:pt x="729343" y="522515"/>
                </a:cubicBezTo>
                <a:cubicBezTo>
                  <a:pt x="735848" y="542030"/>
                  <a:pt x="748551" y="585266"/>
                  <a:pt x="762000" y="598715"/>
                </a:cubicBezTo>
                <a:cubicBezTo>
                  <a:pt x="770114" y="606829"/>
                  <a:pt x="783771" y="605972"/>
                  <a:pt x="794657" y="609600"/>
                </a:cubicBezTo>
                <a:cubicBezTo>
                  <a:pt x="907203" y="595533"/>
                  <a:pt x="861057" y="619401"/>
                  <a:pt x="936172" y="544286"/>
                </a:cubicBezTo>
                <a:lnTo>
                  <a:pt x="968829" y="511629"/>
                </a:lnTo>
                <a:lnTo>
                  <a:pt x="990600" y="489857"/>
                </a:lnTo>
                <a:cubicBezTo>
                  <a:pt x="997857" y="468086"/>
                  <a:pt x="1007872" y="447046"/>
                  <a:pt x="1012372" y="424543"/>
                </a:cubicBezTo>
                <a:cubicBezTo>
                  <a:pt x="1016513" y="403839"/>
                  <a:pt x="1022985" y="359773"/>
                  <a:pt x="1034143" y="337457"/>
                </a:cubicBezTo>
                <a:cubicBezTo>
                  <a:pt x="1039994" y="325755"/>
                  <a:pt x="1049424" y="316159"/>
                  <a:pt x="1055915" y="304800"/>
                </a:cubicBezTo>
                <a:cubicBezTo>
                  <a:pt x="1063966" y="290711"/>
                  <a:pt x="1067410" y="273816"/>
                  <a:pt x="1077686" y="261257"/>
                </a:cubicBezTo>
                <a:cubicBezTo>
                  <a:pt x="1108828" y="223194"/>
                  <a:pt x="1143778" y="187723"/>
                  <a:pt x="1186543" y="163286"/>
                </a:cubicBezTo>
                <a:cubicBezTo>
                  <a:pt x="1200632" y="155235"/>
                  <a:pt x="1215572" y="148772"/>
                  <a:pt x="1230086" y="141515"/>
                </a:cubicBezTo>
                <a:cubicBezTo>
                  <a:pt x="1237343" y="134258"/>
                  <a:pt x="1243056" y="125023"/>
                  <a:pt x="1251857" y="119743"/>
                </a:cubicBezTo>
                <a:cubicBezTo>
                  <a:pt x="1261697" y="113839"/>
                  <a:pt x="1273968" y="113377"/>
                  <a:pt x="1284515" y="108857"/>
                </a:cubicBezTo>
                <a:cubicBezTo>
                  <a:pt x="1299430" y="102465"/>
                  <a:pt x="1313142" y="93478"/>
                  <a:pt x="1328057" y="87086"/>
                </a:cubicBezTo>
                <a:cubicBezTo>
                  <a:pt x="1338604" y="82566"/>
                  <a:pt x="1350452" y="81332"/>
                  <a:pt x="1360715" y="76200"/>
                </a:cubicBezTo>
                <a:cubicBezTo>
                  <a:pt x="1372417" y="70349"/>
                  <a:pt x="1381347" y="59583"/>
                  <a:pt x="1393372" y="54429"/>
                </a:cubicBezTo>
                <a:cubicBezTo>
                  <a:pt x="1407123" y="48536"/>
                  <a:pt x="1422907" y="48796"/>
                  <a:pt x="1436915" y="43543"/>
                </a:cubicBezTo>
                <a:cubicBezTo>
                  <a:pt x="1452109" y="37845"/>
                  <a:pt x="1465263" y="27470"/>
                  <a:pt x="1480457" y="21772"/>
                </a:cubicBezTo>
                <a:cubicBezTo>
                  <a:pt x="1512043" y="9927"/>
                  <a:pt x="1572384" y="3974"/>
                  <a:pt x="1600200" y="0"/>
                </a:cubicBezTo>
                <a:cubicBezTo>
                  <a:pt x="1621972" y="7257"/>
                  <a:pt x="1645454" y="10627"/>
                  <a:pt x="1665515" y="21772"/>
                </a:cubicBezTo>
                <a:cubicBezTo>
                  <a:pt x="1678972" y="29248"/>
                  <a:pt x="1688786" y="42227"/>
                  <a:pt x="1698172" y="54429"/>
                </a:cubicBezTo>
                <a:cubicBezTo>
                  <a:pt x="1725178" y="89536"/>
                  <a:pt x="1743053" y="131967"/>
                  <a:pt x="1774372" y="163286"/>
                </a:cubicBezTo>
                <a:cubicBezTo>
                  <a:pt x="1831125" y="220039"/>
                  <a:pt x="1840010" y="218363"/>
                  <a:pt x="1872343" y="283029"/>
                </a:cubicBezTo>
                <a:cubicBezTo>
                  <a:pt x="1881082" y="300506"/>
                  <a:pt x="1887254" y="319161"/>
                  <a:pt x="1894115" y="337457"/>
                </a:cubicBezTo>
                <a:cubicBezTo>
                  <a:pt x="1898144" y="348201"/>
                  <a:pt x="1899868" y="359852"/>
                  <a:pt x="1905000" y="370115"/>
                </a:cubicBezTo>
                <a:cubicBezTo>
                  <a:pt x="1910851" y="381817"/>
                  <a:pt x="1919515" y="391886"/>
                  <a:pt x="1926772" y="402772"/>
                </a:cubicBezTo>
                <a:cubicBezTo>
                  <a:pt x="1945419" y="496012"/>
                  <a:pt x="1947542" y="482015"/>
                  <a:pt x="1926772" y="620486"/>
                </a:cubicBezTo>
                <a:cubicBezTo>
                  <a:pt x="1922877" y="646453"/>
                  <a:pt x="1893889" y="693585"/>
                  <a:pt x="1883229" y="718457"/>
                </a:cubicBezTo>
                <a:cubicBezTo>
                  <a:pt x="1878709" y="729004"/>
                  <a:pt x="1878708" y="741567"/>
                  <a:pt x="1872343" y="751115"/>
                </a:cubicBezTo>
                <a:cubicBezTo>
                  <a:pt x="1863804" y="763924"/>
                  <a:pt x="1849541" y="771945"/>
                  <a:pt x="1839686" y="783772"/>
                </a:cubicBezTo>
                <a:cubicBezTo>
                  <a:pt x="1831311" y="793823"/>
                  <a:pt x="1825172" y="805543"/>
                  <a:pt x="1817915" y="816429"/>
                </a:cubicBezTo>
                <a:cubicBezTo>
                  <a:pt x="1821543" y="827315"/>
                  <a:pt x="1820686" y="840972"/>
                  <a:pt x="1828800" y="849086"/>
                </a:cubicBezTo>
                <a:cubicBezTo>
                  <a:pt x="1854458" y="874744"/>
                  <a:pt x="1884771" y="895731"/>
                  <a:pt x="1915886" y="914400"/>
                </a:cubicBezTo>
                <a:cubicBezTo>
                  <a:pt x="1942840" y="930572"/>
                  <a:pt x="1976637" y="949676"/>
                  <a:pt x="2002972" y="968829"/>
                </a:cubicBezTo>
                <a:cubicBezTo>
                  <a:pt x="2032317" y="990171"/>
                  <a:pt x="2064399" y="1008485"/>
                  <a:pt x="2090057" y="1034143"/>
                </a:cubicBezTo>
                <a:lnTo>
                  <a:pt x="2144486" y="1088572"/>
                </a:lnTo>
                <a:cubicBezTo>
                  <a:pt x="2174611" y="1178944"/>
                  <a:pt x="2150382" y="1096953"/>
                  <a:pt x="2166257" y="1295400"/>
                </a:cubicBezTo>
                <a:cubicBezTo>
                  <a:pt x="2168877" y="1328154"/>
                  <a:pt x="2171433" y="1361014"/>
                  <a:pt x="2177143" y="1393372"/>
                </a:cubicBezTo>
                <a:cubicBezTo>
                  <a:pt x="2182343" y="1422838"/>
                  <a:pt x="2198915" y="1480457"/>
                  <a:pt x="2198915" y="1480457"/>
                </a:cubicBezTo>
                <a:cubicBezTo>
                  <a:pt x="2195286" y="1534886"/>
                  <a:pt x="2198727" y="1590253"/>
                  <a:pt x="2188029" y="1643743"/>
                </a:cubicBezTo>
                <a:cubicBezTo>
                  <a:pt x="2183880" y="1664490"/>
                  <a:pt x="2164834" y="1679248"/>
                  <a:pt x="2155372" y="1698172"/>
                </a:cubicBezTo>
                <a:cubicBezTo>
                  <a:pt x="2146633" y="1715649"/>
                  <a:pt x="2140278" y="1734236"/>
                  <a:pt x="2133600" y="1752600"/>
                </a:cubicBezTo>
                <a:cubicBezTo>
                  <a:pt x="2125757" y="1774168"/>
                  <a:pt x="2124559" y="1798820"/>
                  <a:pt x="2111829" y="1817915"/>
                </a:cubicBezTo>
                <a:lnTo>
                  <a:pt x="2090057" y="1850572"/>
                </a:lnTo>
                <a:cubicBezTo>
                  <a:pt x="2086429" y="1868715"/>
                  <a:pt x="2083186" y="1886939"/>
                  <a:pt x="2079172" y="1905000"/>
                </a:cubicBezTo>
                <a:cubicBezTo>
                  <a:pt x="2075927" y="1919605"/>
                  <a:pt x="2067456" y="1933605"/>
                  <a:pt x="2068286" y="1948543"/>
                </a:cubicBezTo>
                <a:cubicBezTo>
                  <a:pt x="2071132" y="1999780"/>
                  <a:pt x="2078925" y="2050849"/>
                  <a:pt x="2090057" y="2100943"/>
                </a:cubicBezTo>
                <a:cubicBezTo>
                  <a:pt x="2093577" y="2116784"/>
                  <a:pt x="2105238" y="2129657"/>
                  <a:pt x="2111829" y="2144486"/>
                </a:cubicBezTo>
                <a:cubicBezTo>
                  <a:pt x="2119765" y="2162342"/>
                  <a:pt x="2127985" y="2180199"/>
                  <a:pt x="2133600" y="2198915"/>
                </a:cubicBezTo>
                <a:cubicBezTo>
                  <a:pt x="2159279" y="2284514"/>
                  <a:pt x="2125577" y="2224979"/>
                  <a:pt x="2166257" y="2286000"/>
                </a:cubicBezTo>
                <a:cubicBezTo>
                  <a:pt x="2169886" y="2311400"/>
                  <a:pt x="2173089" y="2336864"/>
                  <a:pt x="2177143" y="2362200"/>
                </a:cubicBezTo>
                <a:cubicBezTo>
                  <a:pt x="2187604" y="2427584"/>
                  <a:pt x="2209800" y="2558143"/>
                  <a:pt x="2209800" y="2558143"/>
                </a:cubicBezTo>
                <a:cubicBezTo>
                  <a:pt x="2206172" y="2677886"/>
                  <a:pt x="2208597" y="2797966"/>
                  <a:pt x="2198915" y="2917372"/>
                </a:cubicBezTo>
                <a:cubicBezTo>
                  <a:pt x="2197604" y="2933547"/>
                  <a:pt x="2185194" y="2946826"/>
                  <a:pt x="2177143" y="2960915"/>
                </a:cubicBezTo>
                <a:cubicBezTo>
                  <a:pt x="2170652" y="2972274"/>
                  <a:pt x="2163747" y="2983521"/>
                  <a:pt x="2155372" y="2993572"/>
                </a:cubicBezTo>
                <a:cubicBezTo>
                  <a:pt x="2122797" y="3032662"/>
                  <a:pt x="2081763" y="3057589"/>
                  <a:pt x="2035629" y="3080657"/>
                </a:cubicBezTo>
                <a:cubicBezTo>
                  <a:pt x="1961135" y="3117905"/>
                  <a:pt x="1987527" y="3096104"/>
                  <a:pt x="1948543" y="3135086"/>
                </a:cubicBezTo>
                <a:cubicBezTo>
                  <a:pt x="1918050" y="3226563"/>
                  <a:pt x="1944515" y="3137864"/>
                  <a:pt x="1926772" y="3341915"/>
                </a:cubicBezTo>
                <a:cubicBezTo>
                  <a:pt x="1924549" y="3367476"/>
                  <a:pt x="1918884" y="3392633"/>
                  <a:pt x="1915886" y="3418115"/>
                </a:cubicBezTo>
                <a:cubicBezTo>
                  <a:pt x="1900578" y="3548231"/>
                  <a:pt x="1917563" y="3489280"/>
                  <a:pt x="1894115" y="3559629"/>
                </a:cubicBezTo>
                <a:cubicBezTo>
                  <a:pt x="1872343" y="3556000"/>
                  <a:pt x="1849739" y="3555723"/>
                  <a:pt x="1828800" y="3548743"/>
                </a:cubicBezTo>
                <a:cubicBezTo>
                  <a:pt x="1793173" y="3536868"/>
                  <a:pt x="1795484" y="3520705"/>
                  <a:pt x="1774372" y="3494315"/>
                </a:cubicBezTo>
                <a:cubicBezTo>
                  <a:pt x="1767961" y="3486301"/>
                  <a:pt x="1759857" y="3479800"/>
                  <a:pt x="1752600" y="3472543"/>
                </a:cubicBezTo>
                <a:cubicBezTo>
                  <a:pt x="1745343" y="3454400"/>
                  <a:pt x="1737008" y="3436652"/>
                  <a:pt x="1730829" y="3418115"/>
                </a:cubicBezTo>
                <a:cubicBezTo>
                  <a:pt x="1726098" y="3403922"/>
                  <a:pt x="1726634" y="3387954"/>
                  <a:pt x="1719943" y="3374572"/>
                </a:cubicBezTo>
                <a:cubicBezTo>
                  <a:pt x="1715353" y="3365392"/>
                  <a:pt x="1705429" y="3360057"/>
                  <a:pt x="1698172" y="3352800"/>
                </a:cubicBezTo>
                <a:cubicBezTo>
                  <a:pt x="1670678" y="3270321"/>
                  <a:pt x="1677507" y="3304406"/>
                  <a:pt x="1698172" y="3145972"/>
                </a:cubicBezTo>
                <a:cubicBezTo>
                  <a:pt x="1706399" y="3082899"/>
                  <a:pt x="1713777" y="3079020"/>
                  <a:pt x="1741715" y="3037115"/>
                </a:cubicBezTo>
                <a:cubicBezTo>
                  <a:pt x="1745343" y="3022601"/>
                  <a:pt x="1748490" y="3007957"/>
                  <a:pt x="1752600" y="2993572"/>
                </a:cubicBezTo>
                <a:cubicBezTo>
                  <a:pt x="1755752" y="2982539"/>
                  <a:pt x="1763486" y="2972390"/>
                  <a:pt x="1763486" y="2960915"/>
                </a:cubicBezTo>
                <a:cubicBezTo>
                  <a:pt x="1763486" y="2913749"/>
                  <a:pt x="1751241" y="2884041"/>
                  <a:pt x="1741715" y="2841172"/>
                </a:cubicBezTo>
                <a:cubicBezTo>
                  <a:pt x="1737701" y="2823110"/>
                  <a:pt x="1734843" y="2804805"/>
                  <a:pt x="1730829" y="2786743"/>
                </a:cubicBezTo>
                <a:cubicBezTo>
                  <a:pt x="1721716" y="2745737"/>
                  <a:pt x="1721180" y="2746910"/>
                  <a:pt x="1709057" y="2710543"/>
                </a:cubicBezTo>
                <a:cubicBezTo>
                  <a:pt x="1712686" y="2598057"/>
                  <a:pt x="1713334" y="2485436"/>
                  <a:pt x="1719943" y="2373086"/>
                </a:cubicBezTo>
                <a:cubicBezTo>
                  <a:pt x="1720617" y="2361631"/>
                  <a:pt x="1727677" y="2351462"/>
                  <a:pt x="1730829" y="2340429"/>
                </a:cubicBezTo>
                <a:cubicBezTo>
                  <a:pt x="1734939" y="2326044"/>
                  <a:pt x="1738086" y="2311400"/>
                  <a:pt x="1741715" y="2296886"/>
                </a:cubicBezTo>
                <a:cubicBezTo>
                  <a:pt x="1738086" y="2224315"/>
                  <a:pt x="1737124" y="2151561"/>
                  <a:pt x="1730829" y="2079172"/>
                </a:cubicBezTo>
                <a:cubicBezTo>
                  <a:pt x="1729835" y="2067741"/>
                  <a:pt x="1725075" y="2056778"/>
                  <a:pt x="1719943" y="2046515"/>
                </a:cubicBezTo>
                <a:cubicBezTo>
                  <a:pt x="1714092" y="2034813"/>
                  <a:pt x="1705429" y="2024743"/>
                  <a:pt x="1698172" y="2013857"/>
                </a:cubicBezTo>
                <a:cubicBezTo>
                  <a:pt x="1633503" y="2021941"/>
                  <a:pt x="1619596" y="2010494"/>
                  <a:pt x="1578429" y="2046515"/>
                </a:cubicBezTo>
                <a:cubicBezTo>
                  <a:pt x="1559119" y="2063411"/>
                  <a:pt x="1524000" y="2100943"/>
                  <a:pt x="1524000" y="2100943"/>
                </a:cubicBezTo>
                <a:cubicBezTo>
                  <a:pt x="1499118" y="2175592"/>
                  <a:pt x="1524000" y="2082940"/>
                  <a:pt x="1524000" y="2188029"/>
                </a:cubicBezTo>
                <a:cubicBezTo>
                  <a:pt x="1524000" y="2231723"/>
                  <a:pt x="1521684" y="2275812"/>
                  <a:pt x="1513115" y="2318657"/>
                </a:cubicBezTo>
                <a:cubicBezTo>
                  <a:pt x="1510549" y="2331486"/>
                  <a:pt x="1499719" y="2341264"/>
                  <a:pt x="1491343" y="2351315"/>
                </a:cubicBezTo>
                <a:cubicBezTo>
                  <a:pt x="1481488" y="2363142"/>
                  <a:pt x="1509486" y="2393043"/>
                  <a:pt x="1491343" y="2394857"/>
                </a:cubicBezTo>
                <a:close/>
              </a:path>
            </a:pathLst>
          </a:custGeom>
          <a:solidFill>
            <a:srgbClr val="006600"/>
          </a:solidFill>
          <a:ln w="25560">
            <a:solidFill>
              <a:srgbClr val="2159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олилиния 32"/>
          <p:cNvSpPr/>
          <p:nvPr/>
        </p:nvSpPr>
        <p:spPr>
          <a:xfrm flipH="1">
            <a:off x="-720" y="4653000"/>
            <a:ext cx="1584360" cy="1224000"/>
          </a:xfrm>
          <a:custGeom>
            <a:avLst/>
            <a:gdLst/>
            <a:ahLst/>
            <a:rect l="l" t="t" r="r" b="b"/>
            <a:pathLst>
              <a:path w="4208428" h="1483704">
                <a:moveTo>
                  <a:pt x="426689" y="1178904"/>
                </a:moveTo>
                <a:cubicBezTo>
                  <a:pt x="531918" y="1175275"/>
                  <a:pt x="637265" y="1174201"/>
                  <a:pt x="742375" y="1168018"/>
                </a:cubicBezTo>
                <a:cubicBezTo>
                  <a:pt x="862237" y="1160967"/>
                  <a:pt x="736821" y="1159251"/>
                  <a:pt x="840346" y="1135361"/>
                </a:cubicBezTo>
                <a:cubicBezTo>
                  <a:pt x="872363" y="1127973"/>
                  <a:pt x="905748" y="1128818"/>
                  <a:pt x="938318" y="1124475"/>
                </a:cubicBezTo>
                <a:cubicBezTo>
                  <a:pt x="960196" y="1121558"/>
                  <a:pt x="981861" y="1117218"/>
                  <a:pt x="1003632" y="1113589"/>
                </a:cubicBezTo>
                <a:lnTo>
                  <a:pt x="1166918" y="1124475"/>
                </a:lnTo>
                <a:cubicBezTo>
                  <a:pt x="1287041" y="1131149"/>
                  <a:pt x="1351504" y="1121636"/>
                  <a:pt x="1449946" y="1146246"/>
                </a:cubicBezTo>
                <a:cubicBezTo>
                  <a:pt x="1461078" y="1149029"/>
                  <a:pt x="1471717" y="1153503"/>
                  <a:pt x="1482603" y="1157132"/>
                </a:cubicBezTo>
                <a:cubicBezTo>
                  <a:pt x="1602884" y="1152506"/>
                  <a:pt x="1796955" y="1135138"/>
                  <a:pt x="1928918" y="1157132"/>
                </a:cubicBezTo>
                <a:cubicBezTo>
                  <a:pt x="1941823" y="1159283"/>
                  <a:pt x="1948652" y="1176864"/>
                  <a:pt x="1961575" y="1178904"/>
                </a:cubicBezTo>
                <a:cubicBezTo>
                  <a:pt x="2019033" y="1187976"/>
                  <a:pt x="2077689" y="1186161"/>
                  <a:pt x="2135746" y="1189789"/>
                </a:cubicBezTo>
                <a:cubicBezTo>
                  <a:pt x="2146632" y="1197046"/>
                  <a:pt x="2156378" y="1206407"/>
                  <a:pt x="2168403" y="1211561"/>
                </a:cubicBezTo>
                <a:cubicBezTo>
                  <a:pt x="2182154" y="1217454"/>
                  <a:pt x="2197561" y="1218336"/>
                  <a:pt x="2211946" y="1222446"/>
                </a:cubicBezTo>
                <a:cubicBezTo>
                  <a:pt x="2222979" y="1225598"/>
                  <a:pt x="2233717" y="1229703"/>
                  <a:pt x="2244603" y="1233332"/>
                </a:cubicBezTo>
                <a:cubicBezTo>
                  <a:pt x="2338946" y="1229703"/>
                  <a:pt x="2433219" y="1222446"/>
                  <a:pt x="2527632" y="1222446"/>
                </a:cubicBezTo>
                <a:cubicBezTo>
                  <a:pt x="2643803" y="1222446"/>
                  <a:pt x="2759942" y="1227672"/>
                  <a:pt x="2875975" y="1233332"/>
                </a:cubicBezTo>
                <a:cubicBezTo>
                  <a:pt x="2908794" y="1234933"/>
                  <a:pt x="2941129" y="1242577"/>
                  <a:pt x="2973946" y="1244218"/>
                </a:cubicBezTo>
                <a:cubicBezTo>
                  <a:pt x="3086350" y="1249838"/>
                  <a:pt x="3198917" y="1251475"/>
                  <a:pt x="3311403" y="1255104"/>
                </a:cubicBezTo>
                <a:cubicBezTo>
                  <a:pt x="3350209" y="1293908"/>
                  <a:pt x="3315206" y="1263496"/>
                  <a:pt x="3376718" y="1298646"/>
                </a:cubicBezTo>
                <a:cubicBezTo>
                  <a:pt x="3452813" y="1342129"/>
                  <a:pt x="3356634" y="1299322"/>
                  <a:pt x="3463803" y="1342189"/>
                </a:cubicBezTo>
                <a:cubicBezTo>
                  <a:pt x="3558146" y="1338561"/>
                  <a:pt x="3652419" y="1331304"/>
                  <a:pt x="3746832" y="1331304"/>
                </a:cubicBezTo>
                <a:cubicBezTo>
                  <a:pt x="3803808" y="1331304"/>
                  <a:pt x="3823414" y="1350450"/>
                  <a:pt x="3877461" y="1363961"/>
                </a:cubicBezTo>
                <a:cubicBezTo>
                  <a:pt x="3959885" y="1384566"/>
                  <a:pt x="3906104" y="1373491"/>
                  <a:pt x="4040746" y="1385732"/>
                </a:cubicBezTo>
                <a:cubicBezTo>
                  <a:pt x="4044375" y="1396618"/>
                  <a:pt x="4045728" y="1408550"/>
                  <a:pt x="4051632" y="1418389"/>
                </a:cubicBezTo>
                <a:cubicBezTo>
                  <a:pt x="4056912" y="1427190"/>
                  <a:pt x="4068813" y="1430981"/>
                  <a:pt x="4073403" y="1440161"/>
                </a:cubicBezTo>
                <a:cubicBezTo>
                  <a:pt x="4080094" y="1453543"/>
                  <a:pt x="4080660" y="1469190"/>
                  <a:pt x="4084289" y="1483704"/>
                </a:cubicBezTo>
                <a:cubicBezTo>
                  <a:pt x="4095175" y="1480075"/>
                  <a:pt x="4105694" y="1475068"/>
                  <a:pt x="4116946" y="1472818"/>
                </a:cubicBezTo>
                <a:cubicBezTo>
                  <a:pt x="4142106" y="1467786"/>
                  <a:pt x="4171388" y="1475531"/>
                  <a:pt x="4193146" y="1461932"/>
                </a:cubicBezTo>
                <a:cubicBezTo>
                  <a:pt x="4205833" y="1454003"/>
                  <a:pt x="4200403" y="1432903"/>
                  <a:pt x="4204032" y="1418389"/>
                </a:cubicBezTo>
                <a:cubicBezTo>
                  <a:pt x="4200403" y="1382103"/>
                  <a:pt x="4208428" y="1342642"/>
                  <a:pt x="4193146" y="1309532"/>
                </a:cubicBezTo>
                <a:cubicBezTo>
                  <a:pt x="4184280" y="1290322"/>
                  <a:pt x="4157213" y="1287150"/>
                  <a:pt x="4138718" y="1276875"/>
                </a:cubicBezTo>
                <a:cubicBezTo>
                  <a:pt x="4124533" y="1268994"/>
                  <a:pt x="4109264" y="1263155"/>
                  <a:pt x="4095175" y="1255104"/>
                </a:cubicBezTo>
                <a:cubicBezTo>
                  <a:pt x="4036085" y="1221338"/>
                  <a:pt x="4089739" y="1242406"/>
                  <a:pt x="4029861" y="1222446"/>
                </a:cubicBezTo>
                <a:cubicBezTo>
                  <a:pt x="4019844" y="1212429"/>
                  <a:pt x="3987005" y="1182439"/>
                  <a:pt x="3986318" y="1168018"/>
                </a:cubicBezTo>
                <a:cubicBezTo>
                  <a:pt x="3975825" y="947671"/>
                  <a:pt x="3980378" y="1036404"/>
                  <a:pt x="4008089" y="939418"/>
                </a:cubicBezTo>
                <a:cubicBezTo>
                  <a:pt x="4010677" y="930359"/>
                  <a:pt x="4022742" y="875083"/>
                  <a:pt x="4029861" y="863218"/>
                </a:cubicBezTo>
                <a:cubicBezTo>
                  <a:pt x="4035141" y="854417"/>
                  <a:pt x="4044375" y="848703"/>
                  <a:pt x="4051632" y="841446"/>
                </a:cubicBezTo>
                <a:cubicBezTo>
                  <a:pt x="4019763" y="793641"/>
                  <a:pt x="4044611" y="815049"/>
                  <a:pt x="3986318" y="797904"/>
                </a:cubicBezTo>
                <a:cubicBezTo>
                  <a:pt x="3938969" y="783978"/>
                  <a:pt x="3892418" y="767347"/>
                  <a:pt x="3844803" y="754361"/>
                </a:cubicBezTo>
                <a:cubicBezTo>
                  <a:pt x="3782187" y="737284"/>
                  <a:pt x="3742289" y="731832"/>
                  <a:pt x="3681518" y="721704"/>
                </a:cubicBezTo>
                <a:cubicBezTo>
                  <a:pt x="3670632" y="718075"/>
                  <a:pt x="3652235" y="721785"/>
                  <a:pt x="3648861" y="710818"/>
                </a:cubicBezTo>
                <a:cubicBezTo>
                  <a:pt x="3601507" y="556916"/>
                  <a:pt x="3688754" y="597114"/>
                  <a:pt x="3605318" y="569304"/>
                </a:cubicBezTo>
                <a:cubicBezTo>
                  <a:pt x="3587175" y="572932"/>
                  <a:pt x="3568839" y="584677"/>
                  <a:pt x="3550889" y="580189"/>
                </a:cubicBezTo>
                <a:cubicBezTo>
                  <a:pt x="3535954" y="576455"/>
                  <a:pt x="3528251" y="559221"/>
                  <a:pt x="3518232" y="547532"/>
                </a:cubicBezTo>
                <a:cubicBezTo>
                  <a:pt x="3506425" y="533757"/>
                  <a:pt x="3496120" y="518752"/>
                  <a:pt x="3485575" y="503989"/>
                </a:cubicBezTo>
                <a:cubicBezTo>
                  <a:pt x="3477971" y="493343"/>
                  <a:pt x="3473054" y="480583"/>
                  <a:pt x="3463803" y="471332"/>
                </a:cubicBezTo>
                <a:cubicBezTo>
                  <a:pt x="3426795" y="434324"/>
                  <a:pt x="3422604" y="439261"/>
                  <a:pt x="3376718" y="427789"/>
                </a:cubicBezTo>
                <a:cubicBezTo>
                  <a:pt x="3362204" y="416903"/>
                  <a:pt x="3347113" y="406747"/>
                  <a:pt x="3333175" y="395132"/>
                </a:cubicBezTo>
                <a:cubicBezTo>
                  <a:pt x="3325291" y="388562"/>
                  <a:pt x="3320583" y="377951"/>
                  <a:pt x="3311403" y="373361"/>
                </a:cubicBezTo>
                <a:cubicBezTo>
                  <a:pt x="3298022" y="366670"/>
                  <a:pt x="3282246" y="366585"/>
                  <a:pt x="3267861" y="362475"/>
                </a:cubicBezTo>
                <a:cubicBezTo>
                  <a:pt x="3256828" y="359323"/>
                  <a:pt x="3245466" y="356721"/>
                  <a:pt x="3235203" y="351589"/>
                </a:cubicBezTo>
                <a:cubicBezTo>
                  <a:pt x="3216279" y="342127"/>
                  <a:pt x="3198918" y="329818"/>
                  <a:pt x="3180775" y="318932"/>
                </a:cubicBezTo>
                <a:cubicBezTo>
                  <a:pt x="3173518" y="304418"/>
                  <a:pt x="3165395" y="290305"/>
                  <a:pt x="3159003" y="275389"/>
                </a:cubicBezTo>
                <a:cubicBezTo>
                  <a:pt x="3154483" y="264842"/>
                  <a:pt x="3153249" y="252995"/>
                  <a:pt x="3148118" y="242732"/>
                </a:cubicBezTo>
                <a:cubicBezTo>
                  <a:pt x="3138656" y="223808"/>
                  <a:pt x="3126347" y="206447"/>
                  <a:pt x="3115461" y="188304"/>
                </a:cubicBezTo>
                <a:cubicBezTo>
                  <a:pt x="3092817" y="97731"/>
                  <a:pt x="3125466" y="189425"/>
                  <a:pt x="3061032" y="112104"/>
                </a:cubicBezTo>
                <a:cubicBezTo>
                  <a:pt x="3053686" y="103289"/>
                  <a:pt x="3057492" y="88261"/>
                  <a:pt x="3050146" y="79446"/>
                </a:cubicBezTo>
                <a:cubicBezTo>
                  <a:pt x="3041707" y="69319"/>
                  <a:pt x="2988838" y="34946"/>
                  <a:pt x="2973946" y="25018"/>
                </a:cubicBezTo>
                <a:cubicBezTo>
                  <a:pt x="2948546" y="28647"/>
                  <a:pt x="2921859" y="27136"/>
                  <a:pt x="2897746" y="35904"/>
                </a:cubicBezTo>
                <a:cubicBezTo>
                  <a:pt x="2880695" y="42104"/>
                  <a:pt x="2868967" y="58016"/>
                  <a:pt x="2854203" y="68561"/>
                </a:cubicBezTo>
                <a:cubicBezTo>
                  <a:pt x="2843557" y="76165"/>
                  <a:pt x="2833571" y="85178"/>
                  <a:pt x="2821546" y="90332"/>
                </a:cubicBezTo>
                <a:cubicBezTo>
                  <a:pt x="2807795" y="96225"/>
                  <a:pt x="2792517" y="97589"/>
                  <a:pt x="2778003" y="101218"/>
                </a:cubicBezTo>
                <a:cubicBezTo>
                  <a:pt x="2767117" y="112104"/>
                  <a:pt x="2750214" y="119270"/>
                  <a:pt x="2745346" y="133875"/>
                </a:cubicBezTo>
                <a:cubicBezTo>
                  <a:pt x="2734956" y="165047"/>
                  <a:pt x="2759019" y="210016"/>
                  <a:pt x="2734461" y="231846"/>
                </a:cubicBezTo>
                <a:cubicBezTo>
                  <a:pt x="2712596" y="251282"/>
                  <a:pt x="2676404" y="224589"/>
                  <a:pt x="2647375" y="220961"/>
                </a:cubicBezTo>
                <a:cubicBezTo>
                  <a:pt x="2632861" y="213704"/>
                  <a:pt x="2619026" y="204887"/>
                  <a:pt x="2603832" y="199189"/>
                </a:cubicBezTo>
                <a:cubicBezTo>
                  <a:pt x="2589824" y="193936"/>
                  <a:pt x="2574040" y="194197"/>
                  <a:pt x="2560289" y="188304"/>
                </a:cubicBezTo>
                <a:cubicBezTo>
                  <a:pt x="2548264" y="183150"/>
                  <a:pt x="2540570" y="168473"/>
                  <a:pt x="2527632" y="166532"/>
                </a:cubicBezTo>
                <a:cubicBezTo>
                  <a:pt x="2466523" y="157365"/>
                  <a:pt x="2404261" y="159275"/>
                  <a:pt x="2342575" y="155646"/>
                </a:cubicBezTo>
                <a:cubicBezTo>
                  <a:pt x="2331689" y="141132"/>
                  <a:pt x="2322747" y="124933"/>
                  <a:pt x="2309918" y="112104"/>
                </a:cubicBezTo>
                <a:cubicBezTo>
                  <a:pt x="2256261" y="58447"/>
                  <a:pt x="2188633" y="96241"/>
                  <a:pt x="2113975" y="101218"/>
                </a:cubicBezTo>
                <a:cubicBezTo>
                  <a:pt x="2106718" y="108475"/>
                  <a:pt x="2102327" y="121302"/>
                  <a:pt x="2092203" y="122989"/>
                </a:cubicBezTo>
                <a:cubicBezTo>
                  <a:pt x="2036773" y="132228"/>
                  <a:pt x="2060564" y="107170"/>
                  <a:pt x="2026889" y="90332"/>
                </a:cubicBezTo>
                <a:cubicBezTo>
                  <a:pt x="2002913" y="78344"/>
                  <a:pt x="1904437" y="69583"/>
                  <a:pt x="1896261" y="68561"/>
                </a:cubicBezTo>
                <a:cubicBezTo>
                  <a:pt x="1889004" y="57675"/>
                  <a:pt x="1880340" y="47606"/>
                  <a:pt x="1874489" y="35904"/>
                </a:cubicBezTo>
                <a:cubicBezTo>
                  <a:pt x="1869357" y="25641"/>
                  <a:pt x="1874963" y="4869"/>
                  <a:pt x="1863603" y="3246"/>
                </a:cubicBezTo>
                <a:cubicBezTo>
                  <a:pt x="1840885" y="0"/>
                  <a:pt x="1798289" y="25018"/>
                  <a:pt x="1798289" y="25018"/>
                </a:cubicBezTo>
                <a:cubicBezTo>
                  <a:pt x="1772889" y="21389"/>
                  <a:pt x="1747249" y="19164"/>
                  <a:pt x="1722089" y="14132"/>
                </a:cubicBezTo>
                <a:cubicBezTo>
                  <a:pt x="1710837" y="11882"/>
                  <a:pt x="1700907" y="3246"/>
                  <a:pt x="1689432" y="3246"/>
                </a:cubicBezTo>
                <a:cubicBezTo>
                  <a:pt x="1573261" y="3246"/>
                  <a:pt x="1457203" y="10503"/>
                  <a:pt x="1341089" y="14132"/>
                </a:cubicBezTo>
                <a:lnTo>
                  <a:pt x="1254003" y="101218"/>
                </a:lnTo>
                <a:cubicBezTo>
                  <a:pt x="1229927" y="125294"/>
                  <a:pt x="1214731" y="136220"/>
                  <a:pt x="1199575" y="166532"/>
                </a:cubicBezTo>
                <a:cubicBezTo>
                  <a:pt x="1153338" y="259007"/>
                  <a:pt x="1264781" y="106820"/>
                  <a:pt x="1145146" y="286275"/>
                </a:cubicBezTo>
                <a:cubicBezTo>
                  <a:pt x="1137889" y="297161"/>
                  <a:pt x="1129226" y="307230"/>
                  <a:pt x="1123375" y="318932"/>
                </a:cubicBezTo>
                <a:cubicBezTo>
                  <a:pt x="1108698" y="348287"/>
                  <a:pt x="1121091" y="355137"/>
                  <a:pt x="1090718" y="373361"/>
                </a:cubicBezTo>
                <a:cubicBezTo>
                  <a:pt x="1066972" y="387609"/>
                  <a:pt x="995065" y="393246"/>
                  <a:pt x="981861" y="395132"/>
                </a:cubicBezTo>
                <a:cubicBezTo>
                  <a:pt x="960089" y="402389"/>
                  <a:pt x="937073" y="406641"/>
                  <a:pt x="916546" y="416904"/>
                </a:cubicBezTo>
                <a:cubicBezTo>
                  <a:pt x="887518" y="431418"/>
                  <a:pt x="860947" y="452574"/>
                  <a:pt x="829461" y="460446"/>
                </a:cubicBezTo>
                <a:lnTo>
                  <a:pt x="742375" y="482218"/>
                </a:lnTo>
                <a:cubicBezTo>
                  <a:pt x="724232" y="511247"/>
                  <a:pt x="718564" y="553995"/>
                  <a:pt x="687946" y="569304"/>
                </a:cubicBezTo>
                <a:cubicBezTo>
                  <a:pt x="673432" y="576561"/>
                  <a:pt x="658492" y="583024"/>
                  <a:pt x="644403" y="591075"/>
                </a:cubicBezTo>
                <a:cubicBezTo>
                  <a:pt x="633044" y="597566"/>
                  <a:pt x="623448" y="606995"/>
                  <a:pt x="611746" y="612846"/>
                </a:cubicBezTo>
                <a:cubicBezTo>
                  <a:pt x="601483" y="617978"/>
                  <a:pt x="589975" y="620103"/>
                  <a:pt x="579089" y="623732"/>
                </a:cubicBezTo>
                <a:cubicBezTo>
                  <a:pt x="568203" y="634618"/>
                  <a:pt x="559487" y="648230"/>
                  <a:pt x="546432" y="656389"/>
                </a:cubicBezTo>
                <a:cubicBezTo>
                  <a:pt x="539767" y="660554"/>
                  <a:pt x="476237" y="684823"/>
                  <a:pt x="459346" y="689046"/>
                </a:cubicBezTo>
                <a:cubicBezTo>
                  <a:pt x="441396" y="693533"/>
                  <a:pt x="422768" y="695064"/>
                  <a:pt x="404918" y="699932"/>
                </a:cubicBezTo>
                <a:cubicBezTo>
                  <a:pt x="382777" y="705971"/>
                  <a:pt x="361375" y="714447"/>
                  <a:pt x="339603" y="721704"/>
                </a:cubicBezTo>
                <a:lnTo>
                  <a:pt x="306946" y="732589"/>
                </a:lnTo>
                <a:cubicBezTo>
                  <a:pt x="299689" y="743475"/>
                  <a:pt x="293348" y="755030"/>
                  <a:pt x="285175" y="765246"/>
                </a:cubicBezTo>
                <a:cubicBezTo>
                  <a:pt x="278764" y="773260"/>
                  <a:pt x="267993" y="777838"/>
                  <a:pt x="263403" y="787018"/>
                </a:cubicBezTo>
                <a:cubicBezTo>
                  <a:pt x="253140" y="807544"/>
                  <a:pt x="247198" y="830068"/>
                  <a:pt x="241632" y="852332"/>
                </a:cubicBezTo>
                <a:cubicBezTo>
                  <a:pt x="238003" y="866846"/>
                  <a:pt x="238284" y="882952"/>
                  <a:pt x="230746" y="895875"/>
                </a:cubicBezTo>
                <a:cubicBezTo>
                  <a:pt x="179192" y="984253"/>
                  <a:pt x="174380" y="976996"/>
                  <a:pt x="100118" y="1026504"/>
                </a:cubicBezTo>
                <a:cubicBezTo>
                  <a:pt x="57915" y="1054640"/>
                  <a:pt x="79871" y="1044138"/>
                  <a:pt x="34803" y="1059161"/>
                </a:cubicBezTo>
                <a:cubicBezTo>
                  <a:pt x="26243" y="1072001"/>
                  <a:pt x="0" y="1105161"/>
                  <a:pt x="2146" y="1124475"/>
                </a:cubicBezTo>
                <a:cubicBezTo>
                  <a:pt x="7986" y="1177035"/>
                  <a:pt x="16265" y="1191406"/>
                  <a:pt x="56575" y="1211561"/>
                </a:cubicBezTo>
                <a:cubicBezTo>
                  <a:pt x="66838" y="1216693"/>
                  <a:pt x="78346" y="1218818"/>
                  <a:pt x="89232" y="1222446"/>
                </a:cubicBezTo>
                <a:cubicBezTo>
                  <a:pt x="183575" y="1218818"/>
                  <a:pt x="278797" y="1224913"/>
                  <a:pt x="372261" y="1211561"/>
                </a:cubicBezTo>
                <a:cubicBezTo>
                  <a:pt x="506215" y="1192425"/>
                  <a:pt x="262542" y="1146034"/>
                  <a:pt x="437575" y="1189789"/>
                </a:cubicBezTo>
                <a:cubicBezTo>
                  <a:pt x="447599" y="1199813"/>
                  <a:pt x="471814" y="1230522"/>
                  <a:pt x="492003" y="1222446"/>
                </a:cubicBezTo>
                <a:cubicBezTo>
                  <a:pt x="504150" y="1217587"/>
                  <a:pt x="513775" y="1189789"/>
                  <a:pt x="513775" y="1189789"/>
                </a:cubicBezTo>
              </a:path>
            </a:pathLst>
          </a:custGeom>
          <a:solidFill>
            <a:srgbClr val="00990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олилиния 33"/>
          <p:cNvSpPr/>
          <p:nvPr/>
        </p:nvSpPr>
        <p:spPr>
          <a:xfrm>
            <a:off x="7596360" y="2637000"/>
            <a:ext cx="452160" cy="2952720"/>
          </a:xfrm>
          <a:custGeom>
            <a:avLst/>
            <a:gdLst/>
            <a:ahLst/>
            <a:rect l="l" t="t" r="r" b="b"/>
            <a:pathLst>
              <a:path w="1389088" h="3135161">
                <a:moveTo>
                  <a:pt x="953145" y="3045228"/>
                </a:moveTo>
                <a:cubicBezTo>
                  <a:pt x="1100886" y="2946739"/>
                  <a:pt x="909301" y="3066101"/>
                  <a:pt x="1377688" y="3012571"/>
                </a:cubicBezTo>
                <a:cubicBezTo>
                  <a:pt x="1389088" y="3011268"/>
                  <a:pt x="1372707" y="2989753"/>
                  <a:pt x="1366803" y="2979914"/>
                </a:cubicBezTo>
                <a:cubicBezTo>
                  <a:pt x="1361523" y="2971113"/>
                  <a:pt x="1352288" y="2965400"/>
                  <a:pt x="1345031" y="2958143"/>
                </a:cubicBezTo>
                <a:cubicBezTo>
                  <a:pt x="1341402" y="2947257"/>
                  <a:pt x="1339277" y="2935748"/>
                  <a:pt x="1334145" y="2925485"/>
                </a:cubicBezTo>
                <a:cubicBezTo>
                  <a:pt x="1304421" y="2866036"/>
                  <a:pt x="1317904" y="2920364"/>
                  <a:pt x="1301488" y="2860171"/>
                </a:cubicBezTo>
                <a:cubicBezTo>
                  <a:pt x="1297321" y="2844893"/>
                  <a:pt x="1281361" y="2769666"/>
                  <a:pt x="1268831" y="2740428"/>
                </a:cubicBezTo>
                <a:cubicBezTo>
                  <a:pt x="1252256" y="2701753"/>
                  <a:pt x="1247155" y="2697028"/>
                  <a:pt x="1225288" y="2664228"/>
                </a:cubicBezTo>
                <a:cubicBezTo>
                  <a:pt x="1202637" y="2573617"/>
                  <a:pt x="1213477" y="2627639"/>
                  <a:pt x="1203517" y="2468285"/>
                </a:cubicBezTo>
                <a:cubicBezTo>
                  <a:pt x="1190222" y="2255568"/>
                  <a:pt x="1213628" y="2335334"/>
                  <a:pt x="1181745" y="2239685"/>
                </a:cubicBezTo>
                <a:cubicBezTo>
                  <a:pt x="1178117" y="2217914"/>
                  <a:pt x="1175648" y="2195917"/>
                  <a:pt x="1170860" y="2174371"/>
                </a:cubicBezTo>
                <a:cubicBezTo>
                  <a:pt x="1168371" y="2163170"/>
                  <a:pt x="1163126" y="2152747"/>
                  <a:pt x="1159974" y="2141714"/>
                </a:cubicBezTo>
                <a:cubicBezTo>
                  <a:pt x="1155864" y="2127329"/>
                  <a:pt x="1152717" y="2112685"/>
                  <a:pt x="1149088" y="2098171"/>
                </a:cubicBezTo>
                <a:cubicBezTo>
                  <a:pt x="1145460" y="1956657"/>
                  <a:pt x="1144352" y="1815055"/>
                  <a:pt x="1138203" y="1673628"/>
                </a:cubicBezTo>
                <a:cubicBezTo>
                  <a:pt x="1135444" y="1610165"/>
                  <a:pt x="1124602" y="1600195"/>
                  <a:pt x="1116431" y="1543000"/>
                </a:cubicBezTo>
                <a:cubicBezTo>
                  <a:pt x="1090570" y="1361975"/>
                  <a:pt x="1119271" y="1513660"/>
                  <a:pt x="1094660" y="1390600"/>
                </a:cubicBezTo>
                <a:cubicBezTo>
                  <a:pt x="1098288" y="1245457"/>
                  <a:pt x="1098952" y="1100210"/>
                  <a:pt x="1105545" y="955171"/>
                </a:cubicBezTo>
                <a:cubicBezTo>
                  <a:pt x="1106411" y="936121"/>
                  <a:pt x="1135608" y="854100"/>
                  <a:pt x="1138203" y="846314"/>
                </a:cubicBezTo>
                <a:lnTo>
                  <a:pt x="1149088" y="813657"/>
                </a:lnTo>
                <a:cubicBezTo>
                  <a:pt x="1152717" y="802771"/>
                  <a:pt x="1157191" y="792132"/>
                  <a:pt x="1159974" y="781000"/>
                </a:cubicBezTo>
                <a:cubicBezTo>
                  <a:pt x="1173643" y="726325"/>
                  <a:pt x="1166129" y="751650"/>
                  <a:pt x="1181745" y="704800"/>
                </a:cubicBezTo>
                <a:cubicBezTo>
                  <a:pt x="1185374" y="675771"/>
                  <a:pt x="1188183" y="646628"/>
                  <a:pt x="1192631" y="617714"/>
                </a:cubicBezTo>
                <a:cubicBezTo>
                  <a:pt x="1195444" y="599427"/>
                  <a:pt x="1200704" y="581572"/>
                  <a:pt x="1203517" y="563285"/>
                </a:cubicBezTo>
                <a:cubicBezTo>
                  <a:pt x="1219778" y="457589"/>
                  <a:pt x="1196498" y="503058"/>
                  <a:pt x="1236174" y="443543"/>
                </a:cubicBezTo>
                <a:cubicBezTo>
                  <a:pt x="1243654" y="406144"/>
                  <a:pt x="1247700" y="381431"/>
                  <a:pt x="1257945" y="345571"/>
                </a:cubicBezTo>
                <a:cubicBezTo>
                  <a:pt x="1261097" y="334538"/>
                  <a:pt x="1265679" y="323947"/>
                  <a:pt x="1268831" y="312914"/>
                </a:cubicBezTo>
                <a:cubicBezTo>
                  <a:pt x="1272941" y="298529"/>
                  <a:pt x="1275418" y="283701"/>
                  <a:pt x="1279717" y="269371"/>
                </a:cubicBezTo>
                <a:cubicBezTo>
                  <a:pt x="1286311" y="247390"/>
                  <a:pt x="1294231" y="225828"/>
                  <a:pt x="1301488" y="204057"/>
                </a:cubicBezTo>
                <a:cubicBezTo>
                  <a:pt x="1305117" y="193171"/>
                  <a:pt x="1309591" y="182532"/>
                  <a:pt x="1312374" y="171400"/>
                </a:cubicBezTo>
                <a:lnTo>
                  <a:pt x="1334145" y="84314"/>
                </a:lnTo>
                <a:cubicBezTo>
                  <a:pt x="1337774" y="69800"/>
                  <a:pt x="1340300" y="54964"/>
                  <a:pt x="1345031" y="40771"/>
                </a:cubicBezTo>
                <a:cubicBezTo>
                  <a:pt x="1348660" y="29885"/>
                  <a:pt x="1364031" y="16228"/>
                  <a:pt x="1355917" y="8114"/>
                </a:cubicBezTo>
                <a:cubicBezTo>
                  <a:pt x="1347803" y="0"/>
                  <a:pt x="1334146" y="15371"/>
                  <a:pt x="1323260" y="19000"/>
                </a:cubicBezTo>
                <a:cubicBezTo>
                  <a:pt x="1316003" y="26257"/>
                  <a:pt x="1310289" y="35491"/>
                  <a:pt x="1301488" y="40771"/>
                </a:cubicBezTo>
                <a:cubicBezTo>
                  <a:pt x="1291649" y="46675"/>
                  <a:pt x="1277791" y="44489"/>
                  <a:pt x="1268831" y="51657"/>
                </a:cubicBezTo>
                <a:cubicBezTo>
                  <a:pt x="1258615" y="59830"/>
                  <a:pt x="1254317" y="73428"/>
                  <a:pt x="1247060" y="84314"/>
                </a:cubicBezTo>
                <a:cubicBezTo>
                  <a:pt x="1243431" y="98828"/>
                  <a:pt x="1238850" y="113137"/>
                  <a:pt x="1236174" y="127857"/>
                </a:cubicBezTo>
                <a:cubicBezTo>
                  <a:pt x="1216159" y="237935"/>
                  <a:pt x="1236758" y="169645"/>
                  <a:pt x="1214403" y="236714"/>
                </a:cubicBezTo>
                <a:cubicBezTo>
                  <a:pt x="1212101" y="252830"/>
                  <a:pt x="1197666" y="358087"/>
                  <a:pt x="1192631" y="378228"/>
                </a:cubicBezTo>
                <a:cubicBezTo>
                  <a:pt x="1187065" y="400492"/>
                  <a:pt x="1183590" y="424448"/>
                  <a:pt x="1170860" y="443543"/>
                </a:cubicBezTo>
                <a:cubicBezTo>
                  <a:pt x="1156346" y="465314"/>
                  <a:pt x="1135592" y="484034"/>
                  <a:pt x="1127317" y="508857"/>
                </a:cubicBezTo>
                <a:cubicBezTo>
                  <a:pt x="1123688" y="519743"/>
                  <a:pt x="1121563" y="531251"/>
                  <a:pt x="1116431" y="541514"/>
                </a:cubicBezTo>
                <a:cubicBezTo>
                  <a:pt x="1110580" y="553216"/>
                  <a:pt x="1100511" y="562469"/>
                  <a:pt x="1094660" y="574171"/>
                </a:cubicBezTo>
                <a:cubicBezTo>
                  <a:pt x="1089528" y="584434"/>
                  <a:pt x="1088294" y="596281"/>
                  <a:pt x="1083774" y="606828"/>
                </a:cubicBezTo>
                <a:cubicBezTo>
                  <a:pt x="1035722" y="718949"/>
                  <a:pt x="1089787" y="567021"/>
                  <a:pt x="1040231" y="715685"/>
                </a:cubicBezTo>
                <a:cubicBezTo>
                  <a:pt x="1034873" y="747832"/>
                  <a:pt x="1029284" y="792072"/>
                  <a:pt x="1018460" y="824543"/>
                </a:cubicBezTo>
                <a:cubicBezTo>
                  <a:pt x="1012281" y="843081"/>
                  <a:pt x="1006178" y="861890"/>
                  <a:pt x="996688" y="878971"/>
                </a:cubicBezTo>
                <a:cubicBezTo>
                  <a:pt x="987877" y="894831"/>
                  <a:pt x="973647" y="907129"/>
                  <a:pt x="964031" y="922514"/>
                </a:cubicBezTo>
                <a:cubicBezTo>
                  <a:pt x="955431" y="936275"/>
                  <a:pt x="951996" y="953075"/>
                  <a:pt x="942260" y="966057"/>
                </a:cubicBezTo>
                <a:cubicBezTo>
                  <a:pt x="929944" y="982478"/>
                  <a:pt x="918190" y="1003109"/>
                  <a:pt x="898717" y="1009600"/>
                </a:cubicBezTo>
                <a:lnTo>
                  <a:pt x="833403" y="1031371"/>
                </a:lnTo>
                <a:cubicBezTo>
                  <a:pt x="757203" y="1027742"/>
                  <a:pt x="680449" y="1030352"/>
                  <a:pt x="604803" y="1020485"/>
                </a:cubicBezTo>
                <a:cubicBezTo>
                  <a:pt x="594626" y="1019158"/>
                  <a:pt x="591571" y="1004407"/>
                  <a:pt x="583031" y="998714"/>
                </a:cubicBezTo>
                <a:cubicBezTo>
                  <a:pt x="569529" y="989713"/>
                  <a:pt x="553577" y="984994"/>
                  <a:pt x="539488" y="976943"/>
                </a:cubicBezTo>
                <a:cubicBezTo>
                  <a:pt x="528129" y="970452"/>
                  <a:pt x="517717" y="962428"/>
                  <a:pt x="506831" y="955171"/>
                </a:cubicBezTo>
                <a:cubicBezTo>
                  <a:pt x="492317" y="933400"/>
                  <a:pt x="471562" y="914680"/>
                  <a:pt x="463288" y="889857"/>
                </a:cubicBezTo>
                <a:cubicBezTo>
                  <a:pt x="459660" y="878971"/>
                  <a:pt x="458306" y="867039"/>
                  <a:pt x="452403" y="857200"/>
                </a:cubicBezTo>
                <a:cubicBezTo>
                  <a:pt x="447123" y="848399"/>
                  <a:pt x="437201" y="843313"/>
                  <a:pt x="430631" y="835428"/>
                </a:cubicBezTo>
                <a:cubicBezTo>
                  <a:pt x="419016" y="821490"/>
                  <a:pt x="408860" y="806399"/>
                  <a:pt x="397974" y="791885"/>
                </a:cubicBezTo>
                <a:cubicBezTo>
                  <a:pt x="387438" y="760278"/>
                  <a:pt x="388337" y="753427"/>
                  <a:pt x="365317" y="726571"/>
                </a:cubicBezTo>
                <a:cubicBezTo>
                  <a:pt x="351959" y="710986"/>
                  <a:pt x="336288" y="697542"/>
                  <a:pt x="321774" y="683028"/>
                </a:cubicBezTo>
                <a:cubicBezTo>
                  <a:pt x="310888" y="672142"/>
                  <a:pt x="296002" y="664140"/>
                  <a:pt x="289117" y="650371"/>
                </a:cubicBezTo>
                <a:cubicBezTo>
                  <a:pt x="271938" y="616014"/>
                  <a:pt x="250072" y="567783"/>
                  <a:pt x="223803" y="541514"/>
                </a:cubicBezTo>
                <a:cubicBezTo>
                  <a:pt x="209289" y="527000"/>
                  <a:pt x="197339" y="509357"/>
                  <a:pt x="180260" y="497971"/>
                </a:cubicBezTo>
                <a:cubicBezTo>
                  <a:pt x="86672" y="435580"/>
                  <a:pt x="205083" y="510382"/>
                  <a:pt x="114945" y="465314"/>
                </a:cubicBezTo>
                <a:cubicBezTo>
                  <a:pt x="87479" y="451581"/>
                  <a:pt x="80768" y="442022"/>
                  <a:pt x="60517" y="421771"/>
                </a:cubicBezTo>
                <a:cubicBezTo>
                  <a:pt x="56888" y="410885"/>
                  <a:pt x="54763" y="399377"/>
                  <a:pt x="49631" y="389114"/>
                </a:cubicBezTo>
                <a:cubicBezTo>
                  <a:pt x="0" y="289853"/>
                  <a:pt x="25408" y="437724"/>
                  <a:pt x="38745" y="508857"/>
                </a:cubicBezTo>
                <a:cubicBezTo>
                  <a:pt x="40636" y="518944"/>
                  <a:pt x="53260" y="523371"/>
                  <a:pt x="60517" y="530628"/>
                </a:cubicBezTo>
                <a:cubicBezTo>
                  <a:pt x="84268" y="601880"/>
                  <a:pt x="51281" y="531947"/>
                  <a:pt x="104060" y="574171"/>
                </a:cubicBezTo>
                <a:cubicBezTo>
                  <a:pt x="174400" y="630444"/>
                  <a:pt x="76404" y="590352"/>
                  <a:pt x="158488" y="617714"/>
                </a:cubicBezTo>
                <a:cubicBezTo>
                  <a:pt x="165745" y="624971"/>
                  <a:pt x="172246" y="633074"/>
                  <a:pt x="180260" y="639485"/>
                </a:cubicBezTo>
                <a:cubicBezTo>
                  <a:pt x="190476" y="647658"/>
                  <a:pt x="204302" y="651411"/>
                  <a:pt x="212917" y="661257"/>
                </a:cubicBezTo>
                <a:cubicBezTo>
                  <a:pt x="230147" y="680949"/>
                  <a:pt x="241946" y="704800"/>
                  <a:pt x="256460" y="726571"/>
                </a:cubicBezTo>
                <a:cubicBezTo>
                  <a:pt x="262153" y="735110"/>
                  <a:pt x="270974" y="741086"/>
                  <a:pt x="278231" y="748343"/>
                </a:cubicBezTo>
                <a:cubicBezTo>
                  <a:pt x="298189" y="808217"/>
                  <a:pt x="277125" y="754572"/>
                  <a:pt x="310888" y="813657"/>
                </a:cubicBezTo>
                <a:cubicBezTo>
                  <a:pt x="318939" y="827746"/>
                  <a:pt x="324609" y="843111"/>
                  <a:pt x="332660" y="857200"/>
                </a:cubicBezTo>
                <a:cubicBezTo>
                  <a:pt x="350971" y="889244"/>
                  <a:pt x="352360" y="887786"/>
                  <a:pt x="376203" y="911628"/>
                </a:cubicBezTo>
                <a:cubicBezTo>
                  <a:pt x="379831" y="922514"/>
                  <a:pt x="380203" y="935105"/>
                  <a:pt x="387088" y="944285"/>
                </a:cubicBezTo>
                <a:cubicBezTo>
                  <a:pt x="418928" y="986739"/>
                  <a:pt x="436403" y="995305"/>
                  <a:pt x="474174" y="1020485"/>
                </a:cubicBezTo>
                <a:cubicBezTo>
                  <a:pt x="477803" y="1031371"/>
                  <a:pt x="478015" y="1044085"/>
                  <a:pt x="485060" y="1053143"/>
                </a:cubicBezTo>
                <a:cubicBezTo>
                  <a:pt x="503963" y="1077447"/>
                  <a:pt x="550374" y="1118457"/>
                  <a:pt x="550374" y="1118457"/>
                </a:cubicBezTo>
                <a:cubicBezTo>
                  <a:pt x="571567" y="1182036"/>
                  <a:pt x="544678" y="1123645"/>
                  <a:pt x="593917" y="1172885"/>
                </a:cubicBezTo>
                <a:cubicBezTo>
                  <a:pt x="603168" y="1182136"/>
                  <a:pt x="607515" y="1195327"/>
                  <a:pt x="615688" y="1205543"/>
                </a:cubicBezTo>
                <a:cubicBezTo>
                  <a:pt x="622099" y="1213557"/>
                  <a:pt x="631302" y="1219104"/>
                  <a:pt x="637460" y="1227314"/>
                </a:cubicBezTo>
                <a:cubicBezTo>
                  <a:pt x="653160" y="1248247"/>
                  <a:pt x="666489" y="1270857"/>
                  <a:pt x="681003" y="1292628"/>
                </a:cubicBezTo>
                <a:cubicBezTo>
                  <a:pt x="715504" y="1344379"/>
                  <a:pt x="698637" y="1312875"/>
                  <a:pt x="724545" y="1390600"/>
                </a:cubicBezTo>
                <a:cubicBezTo>
                  <a:pt x="728174" y="1401486"/>
                  <a:pt x="729066" y="1413710"/>
                  <a:pt x="735431" y="1423257"/>
                </a:cubicBezTo>
                <a:lnTo>
                  <a:pt x="757203" y="1455914"/>
                </a:lnTo>
                <a:cubicBezTo>
                  <a:pt x="783962" y="1670000"/>
                  <a:pt x="750472" y="1383464"/>
                  <a:pt x="778974" y="1782485"/>
                </a:cubicBezTo>
                <a:cubicBezTo>
                  <a:pt x="780521" y="1804143"/>
                  <a:pt x="795910" y="1878050"/>
                  <a:pt x="800745" y="1902228"/>
                </a:cubicBezTo>
                <a:cubicBezTo>
                  <a:pt x="797117" y="1963914"/>
                  <a:pt x="796008" y="2025799"/>
                  <a:pt x="789860" y="2087285"/>
                </a:cubicBezTo>
                <a:cubicBezTo>
                  <a:pt x="788718" y="2098703"/>
                  <a:pt x="784547" y="2109912"/>
                  <a:pt x="778974" y="2119943"/>
                </a:cubicBezTo>
                <a:cubicBezTo>
                  <a:pt x="766267" y="2142816"/>
                  <a:pt x="735431" y="2185257"/>
                  <a:pt x="735431" y="2185257"/>
                </a:cubicBezTo>
                <a:cubicBezTo>
                  <a:pt x="731802" y="2199771"/>
                  <a:pt x="728655" y="2214415"/>
                  <a:pt x="724545" y="2228800"/>
                </a:cubicBezTo>
                <a:cubicBezTo>
                  <a:pt x="721393" y="2239833"/>
                  <a:pt x="714423" y="2250008"/>
                  <a:pt x="713660" y="2261457"/>
                </a:cubicBezTo>
                <a:cubicBezTo>
                  <a:pt x="706647" y="2366648"/>
                  <a:pt x="745877" y="2501604"/>
                  <a:pt x="681003" y="2598914"/>
                </a:cubicBezTo>
                <a:cubicBezTo>
                  <a:pt x="675310" y="2607453"/>
                  <a:pt x="666488" y="2613428"/>
                  <a:pt x="659231" y="2620685"/>
                </a:cubicBezTo>
                <a:cubicBezTo>
                  <a:pt x="651974" y="2642457"/>
                  <a:pt x="653688" y="2669772"/>
                  <a:pt x="637460" y="2686000"/>
                </a:cubicBezTo>
                <a:lnTo>
                  <a:pt x="593917" y="2729543"/>
                </a:lnTo>
                <a:cubicBezTo>
                  <a:pt x="586660" y="2736800"/>
                  <a:pt x="577838" y="2742774"/>
                  <a:pt x="572145" y="2751314"/>
                </a:cubicBezTo>
                <a:cubicBezTo>
                  <a:pt x="544681" y="2792511"/>
                  <a:pt x="559625" y="2774720"/>
                  <a:pt x="528603" y="2805743"/>
                </a:cubicBezTo>
                <a:lnTo>
                  <a:pt x="506831" y="2871057"/>
                </a:lnTo>
                <a:cubicBezTo>
                  <a:pt x="503202" y="2881943"/>
                  <a:pt x="498195" y="2892462"/>
                  <a:pt x="495945" y="2903714"/>
                </a:cubicBezTo>
                <a:cubicBezTo>
                  <a:pt x="492317" y="2921857"/>
                  <a:pt x="489928" y="2940293"/>
                  <a:pt x="485060" y="2958143"/>
                </a:cubicBezTo>
                <a:cubicBezTo>
                  <a:pt x="479022" y="2980283"/>
                  <a:pt x="463288" y="3023457"/>
                  <a:pt x="463288" y="3023457"/>
                </a:cubicBezTo>
                <a:cubicBezTo>
                  <a:pt x="459660" y="3048857"/>
                  <a:pt x="449850" y="3074127"/>
                  <a:pt x="452403" y="3099657"/>
                </a:cubicBezTo>
                <a:cubicBezTo>
                  <a:pt x="453705" y="3112675"/>
                  <a:pt x="461192" y="3130691"/>
                  <a:pt x="474174" y="3132314"/>
                </a:cubicBezTo>
                <a:cubicBezTo>
                  <a:pt x="496946" y="3135161"/>
                  <a:pt x="516568" y="3111689"/>
                  <a:pt x="539488" y="3110543"/>
                </a:cubicBezTo>
                <a:cubicBezTo>
                  <a:pt x="808069" y="3097114"/>
                  <a:pt x="684725" y="3104834"/>
                  <a:pt x="909603" y="3088771"/>
                </a:cubicBezTo>
                <a:cubicBezTo>
                  <a:pt x="927746" y="3085142"/>
                  <a:pt x="949817" y="3089730"/>
                  <a:pt x="964031" y="3077885"/>
                </a:cubicBezTo>
                <a:cubicBezTo>
                  <a:pt x="975524" y="3068307"/>
                  <a:pt x="963424" y="3043921"/>
                  <a:pt x="974917" y="3034343"/>
                </a:cubicBezTo>
                <a:cubicBezTo>
                  <a:pt x="989131" y="3022498"/>
                  <a:pt x="1029345" y="3023457"/>
                  <a:pt x="1029345" y="3023457"/>
                </a:cubicBezTo>
              </a:path>
            </a:pathLst>
          </a:custGeom>
          <a:solidFill>
            <a:srgbClr val="4a452a"/>
          </a:solidFill>
          <a:ln w="93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Месяц 34"/>
          <p:cNvGrpSpPr/>
          <p:nvPr/>
        </p:nvGrpSpPr>
        <p:grpSpPr>
          <a:xfrm>
            <a:off x="7321680" y="401760"/>
            <a:ext cx="542880" cy="873000"/>
            <a:chOff x="7321680" y="401760"/>
            <a:chExt cx="542880" cy="873000"/>
          </a:xfrm>
        </p:grpSpPr>
        <p:pic>
          <p:nvPicPr>
            <p:cNvPr id="388" name="Месяц 34" descr=""/>
            <p:cNvPicPr/>
            <p:nvPr/>
          </p:nvPicPr>
          <p:blipFill>
            <a:blip r:embed="rId25"/>
            <a:stretch/>
          </p:blipFill>
          <p:spPr>
            <a:xfrm>
              <a:off x="7321680" y="401760"/>
              <a:ext cx="54288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 rot="10517400">
              <a:off x="7705440" y="643680"/>
              <a:ext cx="73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Полилиния 35"/>
          <p:cNvSpPr/>
          <p:nvPr/>
        </p:nvSpPr>
        <p:spPr>
          <a:xfrm>
            <a:off x="7380360" y="765000"/>
            <a:ext cx="936720" cy="3311640"/>
          </a:xfrm>
          <a:custGeom>
            <a:avLst/>
            <a:gdLst/>
            <a:ahLst/>
            <a:rect l="l" t="t" r="r" b="b"/>
            <a:pathLst>
              <a:path w="2209800" h="3559629">
                <a:moveTo>
                  <a:pt x="1491343" y="2394857"/>
                </a:moveTo>
                <a:cubicBezTo>
                  <a:pt x="1473200" y="2396671"/>
                  <a:pt x="1448293" y="2378652"/>
                  <a:pt x="1382486" y="2362200"/>
                </a:cubicBezTo>
                <a:cubicBezTo>
                  <a:pt x="1298509" y="2306216"/>
                  <a:pt x="1410493" y="2390524"/>
                  <a:pt x="1328057" y="2275115"/>
                </a:cubicBezTo>
                <a:cubicBezTo>
                  <a:pt x="1321388" y="2265778"/>
                  <a:pt x="1306601" y="2266718"/>
                  <a:pt x="1295400" y="2264229"/>
                </a:cubicBezTo>
                <a:cubicBezTo>
                  <a:pt x="1273854" y="2259441"/>
                  <a:pt x="1251857" y="2256972"/>
                  <a:pt x="1230086" y="2253343"/>
                </a:cubicBezTo>
                <a:cubicBezTo>
                  <a:pt x="1186543" y="2256972"/>
                  <a:pt x="1142302" y="2255660"/>
                  <a:pt x="1099457" y="2264229"/>
                </a:cubicBezTo>
                <a:cubicBezTo>
                  <a:pt x="1086628" y="2266795"/>
                  <a:pt x="1078502" y="2280149"/>
                  <a:pt x="1066800" y="2286000"/>
                </a:cubicBezTo>
                <a:cubicBezTo>
                  <a:pt x="1056537" y="2291132"/>
                  <a:pt x="1045029" y="2293257"/>
                  <a:pt x="1034143" y="2296886"/>
                </a:cubicBezTo>
                <a:lnTo>
                  <a:pt x="979715" y="2351315"/>
                </a:lnTo>
                <a:cubicBezTo>
                  <a:pt x="968829" y="2362201"/>
                  <a:pt x="955596" y="2371163"/>
                  <a:pt x="947057" y="2383972"/>
                </a:cubicBezTo>
                <a:cubicBezTo>
                  <a:pt x="939800" y="2394858"/>
                  <a:pt x="936380" y="2409695"/>
                  <a:pt x="925286" y="2416629"/>
                </a:cubicBezTo>
                <a:cubicBezTo>
                  <a:pt x="905825" y="2428792"/>
                  <a:pt x="859972" y="2438400"/>
                  <a:pt x="859972" y="2438400"/>
                </a:cubicBezTo>
                <a:cubicBezTo>
                  <a:pt x="852715" y="2445657"/>
                  <a:pt x="847001" y="2454892"/>
                  <a:pt x="838200" y="2460172"/>
                </a:cubicBezTo>
                <a:cubicBezTo>
                  <a:pt x="828361" y="2466075"/>
                  <a:pt x="815806" y="2465925"/>
                  <a:pt x="805543" y="2471057"/>
                </a:cubicBezTo>
                <a:cubicBezTo>
                  <a:pt x="793841" y="2476908"/>
                  <a:pt x="783772" y="2485572"/>
                  <a:pt x="772886" y="2492829"/>
                </a:cubicBezTo>
                <a:cubicBezTo>
                  <a:pt x="769378" y="2492328"/>
                  <a:pt x="640667" y="2474543"/>
                  <a:pt x="631372" y="2471057"/>
                </a:cubicBezTo>
                <a:cubicBezTo>
                  <a:pt x="621762" y="2467453"/>
                  <a:pt x="617614" y="2455697"/>
                  <a:pt x="609600" y="2449286"/>
                </a:cubicBezTo>
                <a:cubicBezTo>
                  <a:pt x="599384" y="2441113"/>
                  <a:pt x="587829" y="2434772"/>
                  <a:pt x="576943" y="2427515"/>
                </a:cubicBezTo>
                <a:cubicBezTo>
                  <a:pt x="557752" y="2429434"/>
                  <a:pt x="460570" y="2451533"/>
                  <a:pt x="424543" y="2427515"/>
                </a:cubicBezTo>
                <a:cubicBezTo>
                  <a:pt x="363976" y="2387137"/>
                  <a:pt x="435353" y="2405666"/>
                  <a:pt x="391886" y="2362200"/>
                </a:cubicBezTo>
                <a:cubicBezTo>
                  <a:pt x="383772" y="2354086"/>
                  <a:pt x="370115" y="2354943"/>
                  <a:pt x="359229" y="2351315"/>
                </a:cubicBezTo>
                <a:cubicBezTo>
                  <a:pt x="337458" y="2358572"/>
                  <a:pt x="292960" y="2350157"/>
                  <a:pt x="293915" y="2373086"/>
                </a:cubicBezTo>
                <a:cubicBezTo>
                  <a:pt x="300212" y="2524234"/>
                  <a:pt x="257221" y="2580311"/>
                  <a:pt x="326572" y="2667000"/>
                </a:cubicBezTo>
                <a:cubicBezTo>
                  <a:pt x="332983" y="2675014"/>
                  <a:pt x="341086" y="2681515"/>
                  <a:pt x="348343" y="2688772"/>
                </a:cubicBezTo>
                <a:cubicBezTo>
                  <a:pt x="351972" y="2699658"/>
                  <a:pt x="354097" y="2711166"/>
                  <a:pt x="359229" y="2721429"/>
                </a:cubicBezTo>
                <a:cubicBezTo>
                  <a:pt x="365080" y="2733131"/>
                  <a:pt x="375687" y="2742131"/>
                  <a:pt x="381000" y="2754086"/>
                </a:cubicBezTo>
                <a:cubicBezTo>
                  <a:pt x="390321" y="2775057"/>
                  <a:pt x="402772" y="2819400"/>
                  <a:pt x="402772" y="2819400"/>
                </a:cubicBezTo>
                <a:cubicBezTo>
                  <a:pt x="399143" y="2859314"/>
                  <a:pt x="398851" y="2899674"/>
                  <a:pt x="391886" y="2939143"/>
                </a:cubicBezTo>
                <a:cubicBezTo>
                  <a:pt x="376568" y="3025946"/>
                  <a:pt x="376807" y="2980187"/>
                  <a:pt x="348343" y="3037115"/>
                </a:cubicBezTo>
                <a:cubicBezTo>
                  <a:pt x="343211" y="3047378"/>
                  <a:pt x="341086" y="3058886"/>
                  <a:pt x="337457" y="3069772"/>
                </a:cubicBezTo>
                <a:cubicBezTo>
                  <a:pt x="341086" y="3131458"/>
                  <a:pt x="342194" y="3193343"/>
                  <a:pt x="348343" y="3254829"/>
                </a:cubicBezTo>
                <a:cubicBezTo>
                  <a:pt x="349485" y="3266247"/>
                  <a:pt x="356446" y="3276354"/>
                  <a:pt x="359229" y="3287486"/>
                </a:cubicBezTo>
                <a:lnTo>
                  <a:pt x="381000" y="3374572"/>
                </a:lnTo>
                <a:cubicBezTo>
                  <a:pt x="377372" y="3407229"/>
                  <a:pt x="378760" y="3440843"/>
                  <a:pt x="370115" y="3472543"/>
                </a:cubicBezTo>
                <a:cubicBezTo>
                  <a:pt x="367415" y="3482445"/>
                  <a:pt x="358584" y="3493632"/>
                  <a:pt x="348343" y="3494315"/>
                </a:cubicBezTo>
                <a:cubicBezTo>
                  <a:pt x="301137" y="3497462"/>
                  <a:pt x="254000" y="3487058"/>
                  <a:pt x="206829" y="3483429"/>
                </a:cubicBezTo>
                <a:cubicBezTo>
                  <a:pt x="203200" y="3472543"/>
                  <a:pt x="198058" y="3462050"/>
                  <a:pt x="195943" y="3450772"/>
                </a:cubicBezTo>
                <a:cubicBezTo>
                  <a:pt x="187148" y="3403863"/>
                  <a:pt x="188544" y="3354768"/>
                  <a:pt x="174172" y="3309257"/>
                </a:cubicBezTo>
                <a:cubicBezTo>
                  <a:pt x="166293" y="3284306"/>
                  <a:pt x="138904" y="3268766"/>
                  <a:pt x="130629" y="3243943"/>
                </a:cubicBezTo>
                <a:cubicBezTo>
                  <a:pt x="115606" y="3198875"/>
                  <a:pt x="126108" y="3220833"/>
                  <a:pt x="97972" y="3178629"/>
                </a:cubicBezTo>
                <a:cubicBezTo>
                  <a:pt x="94343" y="3145972"/>
                  <a:pt x="92488" y="3113068"/>
                  <a:pt x="87086" y="3080657"/>
                </a:cubicBezTo>
                <a:cubicBezTo>
                  <a:pt x="85200" y="3069339"/>
                  <a:pt x="77541" y="3059396"/>
                  <a:pt x="76200" y="3048000"/>
                </a:cubicBezTo>
                <a:cubicBezTo>
                  <a:pt x="70249" y="2997419"/>
                  <a:pt x="71266" y="2946181"/>
                  <a:pt x="65315" y="2895600"/>
                </a:cubicBezTo>
                <a:cubicBezTo>
                  <a:pt x="63974" y="2884204"/>
                  <a:pt x="60333" y="2872782"/>
                  <a:pt x="54429" y="2862943"/>
                </a:cubicBezTo>
                <a:cubicBezTo>
                  <a:pt x="49148" y="2854142"/>
                  <a:pt x="39914" y="2848429"/>
                  <a:pt x="32657" y="2841172"/>
                </a:cubicBezTo>
                <a:lnTo>
                  <a:pt x="10886" y="2775857"/>
                </a:lnTo>
                <a:lnTo>
                  <a:pt x="0" y="2743200"/>
                </a:lnTo>
                <a:cubicBezTo>
                  <a:pt x="3629" y="2637972"/>
                  <a:pt x="6503" y="2532715"/>
                  <a:pt x="10886" y="2427515"/>
                </a:cubicBezTo>
                <a:cubicBezTo>
                  <a:pt x="13760" y="2358536"/>
                  <a:pt x="13546" y="2289233"/>
                  <a:pt x="21772" y="2220686"/>
                </a:cubicBezTo>
                <a:cubicBezTo>
                  <a:pt x="28120" y="2167788"/>
                  <a:pt x="53631" y="2130503"/>
                  <a:pt x="97972" y="2100943"/>
                </a:cubicBezTo>
                <a:cubicBezTo>
                  <a:pt x="108858" y="2093686"/>
                  <a:pt x="118674" y="2084485"/>
                  <a:pt x="130629" y="2079172"/>
                </a:cubicBezTo>
                <a:cubicBezTo>
                  <a:pt x="372788" y="1971545"/>
                  <a:pt x="61254" y="2124743"/>
                  <a:pt x="239486" y="2035629"/>
                </a:cubicBezTo>
                <a:cubicBezTo>
                  <a:pt x="246743" y="2028372"/>
                  <a:pt x="255977" y="2022658"/>
                  <a:pt x="261257" y="2013857"/>
                </a:cubicBezTo>
                <a:cubicBezTo>
                  <a:pt x="267161" y="2004018"/>
                  <a:pt x="272143" y="1992675"/>
                  <a:pt x="272143" y="1981200"/>
                </a:cubicBezTo>
                <a:cubicBezTo>
                  <a:pt x="272143" y="1956253"/>
                  <a:pt x="250493" y="1935148"/>
                  <a:pt x="239486" y="1915886"/>
                </a:cubicBezTo>
                <a:cubicBezTo>
                  <a:pt x="231435" y="1901797"/>
                  <a:pt x="223742" y="1887410"/>
                  <a:pt x="217715" y="1872343"/>
                </a:cubicBezTo>
                <a:cubicBezTo>
                  <a:pt x="184359" y="1788954"/>
                  <a:pt x="215899" y="1826986"/>
                  <a:pt x="174172" y="1785257"/>
                </a:cubicBezTo>
                <a:cubicBezTo>
                  <a:pt x="144286" y="1695602"/>
                  <a:pt x="155645" y="1742661"/>
                  <a:pt x="141515" y="1643743"/>
                </a:cubicBezTo>
                <a:cubicBezTo>
                  <a:pt x="145143" y="1592943"/>
                  <a:pt x="143014" y="1541400"/>
                  <a:pt x="152400" y="1491343"/>
                </a:cubicBezTo>
                <a:cubicBezTo>
                  <a:pt x="154291" y="1481256"/>
                  <a:pt x="164992" y="1474162"/>
                  <a:pt x="174172" y="1469572"/>
                </a:cubicBezTo>
                <a:cubicBezTo>
                  <a:pt x="194698" y="1459309"/>
                  <a:pt x="239486" y="1447800"/>
                  <a:pt x="239486" y="1447800"/>
                </a:cubicBezTo>
                <a:cubicBezTo>
                  <a:pt x="250372" y="1451429"/>
                  <a:pt x="261880" y="1453554"/>
                  <a:pt x="272143" y="1458686"/>
                </a:cubicBezTo>
                <a:cubicBezTo>
                  <a:pt x="283845" y="1464537"/>
                  <a:pt x="292845" y="1475144"/>
                  <a:pt x="304800" y="1480457"/>
                </a:cubicBezTo>
                <a:cubicBezTo>
                  <a:pt x="325771" y="1489778"/>
                  <a:pt x="370115" y="1502229"/>
                  <a:pt x="370115" y="1502229"/>
                </a:cubicBezTo>
                <a:cubicBezTo>
                  <a:pt x="406401" y="1494972"/>
                  <a:pt x="445874" y="1497006"/>
                  <a:pt x="478972" y="1480457"/>
                </a:cubicBezTo>
                <a:cubicBezTo>
                  <a:pt x="506511" y="1466688"/>
                  <a:pt x="544286" y="1415143"/>
                  <a:pt x="544286" y="1415143"/>
                </a:cubicBezTo>
                <a:cubicBezTo>
                  <a:pt x="539497" y="1348099"/>
                  <a:pt x="540694" y="1274971"/>
                  <a:pt x="522515" y="1208315"/>
                </a:cubicBezTo>
                <a:cubicBezTo>
                  <a:pt x="516477" y="1186174"/>
                  <a:pt x="508000" y="1164772"/>
                  <a:pt x="500743" y="1143000"/>
                </a:cubicBezTo>
                <a:lnTo>
                  <a:pt x="478972" y="1077686"/>
                </a:lnTo>
                <a:cubicBezTo>
                  <a:pt x="471715" y="1052286"/>
                  <a:pt x="464151" y="1026972"/>
                  <a:pt x="457200" y="1001486"/>
                </a:cubicBezTo>
                <a:cubicBezTo>
                  <a:pt x="423683" y="878590"/>
                  <a:pt x="471689" y="1048550"/>
                  <a:pt x="435429" y="903515"/>
                </a:cubicBezTo>
                <a:cubicBezTo>
                  <a:pt x="432646" y="892383"/>
                  <a:pt x="428172" y="881743"/>
                  <a:pt x="424543" y="870857"/>
                </a:cubicBezTo>
                <a:cubicBezTo>
                  <a:pt x="428172" y="776514"/>
                  <a:pt x="429149" y="682032"/>
                  <a:pt x="435429" y="587829"/>
                </a:cubicBezTo>
                <a:cubicBezTo>
                  <a:pt x="436424" y="572901"/>
                  <a:pt x="441062" y="558294"/>
                  <a:pt x="446315" y="544286"/>
                </a:cubicBezTo>
                <a:cubicBezTo>
                  <a:pt x="452013" y="529092"/>
                  <a:pt x="460829" y="515257"/>
                  <a:pt x="468086" y="500743"/>
                </a:cubicBezTo>
                <a:cubicBezTo>
                  <a:pt x="477398" y="454183"/>
                  <a:pt x="480656" y="426196"/>
                  <a:pt x="500743" y="381000"/>
                </a:cubicBezTo>
                <a:cubicBezTo>
                  <a:pt x="506057" y="369045"/>
                  <a:pt x="515258" y="359229"/>
                  <a:pt x="522515" y="348343"/>
                </a:cubicBezTo>
                <a:cubicBezTo>
                  <a:pt x="526143" y="337457"/>
                  <a:pt x="527828" y="325716"/>
                  <a:pt x="533400" y="315686"/>
                </a:cubicBezTo>
                <a:cubicBezTo>
                  <a:pt x="547329" y="290614"/>
                  <a:pt x="572290" y="249740"/>
                  <a:pt x="598715" y="228600"/>
                </a:cubicBezTo>
                <a:cubicBezTo>
                  <a:pt x="608931" y="220427"/>
                  <a:pt x="620486" y="214086"/>
                  <a:pt x="631372" y="206829"/>
                </a:cubicBezTo>
                <a:cubicBezTo>
                  <a:pt x="653531" y="339791"/>
                  <a:pt x="626058" y="214434"/>
                  <a:pt x="664029" y="315686"/>
                </a:cubicBezTo>
                <a:cubicBezTo>
                  <a:pt x="708499" y="434269"/>
                  <a:pt x="636067" y="281531"/>
                  <a:pt x="696686" y="402772"/>
                </a:cubicBezTo>
                <a:cubicBezTo>
                  <a:pt x="712072" y="479700"/>
                  <a:pt x="701722" y="439652"/>
                  <a:pt x="729343" y="522515"/>
                </a:cubicBezTo>
                <a:cubicBezTo>
                  <a:pt x="735848" y="542030"/>
                  <a:pt x="748551" y="585266"/>
                  <a:pt x="762000" y="598715"/>
                </a:cubicBezTo>
                <a:cubicBezTo>
                  <a:pt x="770114" y="606829"/>
                  <a:pt x="783771" y="605972"/>
                  <a:pt x="794657" y="609600"/>
                </a:cubicBezTo>
                <a:cubicBezTo>
                  <a:pt x="907203" y="595533"/>
                  <a:pt x="861057" y="619401"/>
                  <a:pt x="936172" y="544286"/>
                </a:cubicBezTo>
                <a:lnTo>
                  <a:pt x="968829" y="511629"/>
                </a:lnTo>
                <a:lnTo>
                  <a:pt x="990600" y="489857"/>
                </a:lnTo>
                <a:cubicBezTo>
                  <a:pt x="997857" y="468086"/>
                  <a:pt x="1007872" y="447046"/>
                  <a:pt x="1012372" y="424543"/>
                </a:cubicBezTo>
                <a:cubicBezTo>
                  <a:pt x="1016513" y="403839"/>
                  <a:pt x="1022985" y="359773"/>
                  <a:pt x="1034143" y="337457"/>
                </a:cubicBezTo>
                <a:cubicBezTo>
                  <a:pt x="1039994" y="325755"/>
                  <a:pt x="1049424" y="316159"/>
                  <a:pt x="1055915" y="304800"/>
                </a:cubicBezTo>
                <a:cubicBezTo>
                  <a:pt x="1063966" y="290711"/>
                  <a:pt x="1067410" y="273816"/>
                  <a:pt x="1077686" y="261257"/>
                </a:cubicBezTo>
                <a:cubicBezTo>
                  <a:pt x="1108828" y="223194"/>
                  <a:pt x="1143778" y="187723"/>
                  <a:pt x="1186543" y="163286"/>
                </a:cubicBezTo>
                <a:cubicBezTo>
                  <a:pt x="1200632" y="155235"/>
                  <a:pt x="1215572" y="148772"/>
                  <a:pt x="1230086" y="141515"/>
                </a:cubicBezTo>
                <a:cubicBezTo>
                  <a:pt x="1237343" y="134258"/>
                  <a:pt x="1243056" y="125023"/>
                  <a:pt x="1251857" y="119743"/>
                </a:cubicBezTo>
                <a:cubicBezTo>
                  <a:pt x="1261697" y="113839"/>
                  <a:pt x="1273968" y="113377"/>
                  <a:pt x="1284515" y="108857"/>
                </a:cubicBezTo>
                <a:cubicBezTo>
                  <a:pt x="1299430" y="102465"/>
                  <a:pt x="1313142" y="93478"/>
                  <a:pt x="1328057" y="87086"/>
                </a:cubicBezTo>
                <a:cubicBezTo>
                  <a:pt x="1338604" y="82566"/>
                  <a:pt x="1350452" y="81332"/>
                  <a:pt x="1360715" y="76200"/>
                </a:cubicBezTo>
                <a:cubicBezTo>
                  <a:pt x="1372417" y="70349"/>
                  <a:pt x="1381347" y="59583"/>
                  <a:pt x="1393372" y="54429"/>
                </a:cubicBezTo>
                <a:cubicBezTo>
                  <a:pt x="1407123" y="48536"/>
                  <a:pt x="1422907" y="48796"/>
                  <a:pt x="1436915" y="43543"/>
                </a:cubicBezTo>
                <a:cubicBezTo>
                  <a:pt x="1452109" y="37845"/>
                  <a:pt x="1465263" y="27470"/>
                  <a:pt x="1480457" y="21772"/>
                </a:cubicBezTo>
                <a:cubicBezTo>
                  <a:pt x="1512043" y="9927"/>
                  <a:pt x="1572384" y="3974"/>
                  <a:pt x="1600200" y="0"/>
                </a:cubicBezTo>
                <a:cubicBezTo>
                  <a:pt x="1621972" y="7257"/>
                  <a:pt x="1645454" y="10627"/>
                  <a:pt x="1665515" y="21772"/>
                </a:cubicBezTo>
                <a:cubicBezTo>
                  <a:pt x="1678972" y="29248"/>
                  <a:pt x="1688786" y="42227"/>
                  <a:pt x="1698172" y="54429"/>
                </a:cubicBezTo>
                <a:cubicBezTo>
                  <a:pt x="1725178" y="89536"/>
                  <a:pt x="1743053" y="131967"/>
                  <a:pt x="1774372" y="163286"/>
                </a:cubicBezTo>
                <a:cubicBezTo>
                  <a:pt x="1831125" y="220039"/>
                  <a:pt x="1840010" y="218363"/>
                  <a:pt x="1872343" y="283029"/>
                </a:cubicBezTo>
                <a:cubicBezTo>
                  <a:pt x="1881082" y="300506"/>
                  <a:pt x="1887254" y="319161"/>
                  <a:pt x="1894115" y="337457"/>
                </a:cubicBezTo>
                <a:cubicBezTo>
                  <a:pt x="1898144" y="348201"/>
                  <a:pt x="1899868" y="359852"/>
                  <a:pt x="1905000" y="370115"/>
                </a:cubicBezTo>
                <a:cubicBezTo>
                  <a:pt x="1910851" y="381817"/>
                  <a:pt x="1919515" y="391886"/>
                  <a:pt x="1926772" y="402772"/>
                </a:cubicBezTo>
                <a:cubicBezTo>
                  <a:pt x="1945419" y="496012"/>
                  <a:pt x="1947542" y="482015"/>
                  <a:pt x="1926772" y="620486"/>
                </a:cubicBezTo>
                <a:cubicBezTo>
                  <a:pt x="1922877" y="646453"/>
                  <a:pt x="1893889" y="693585"/>
                  <a:pt x="1883229" y="718457"/>
                </a:cubicBezTo>
                <a:cubicBezTo>
                  <a:pt x="1878709" y="729004"/>
                  <a:pt x="1878708" y="741567"/>
                  <a:pt x="1872343" y="751115"/>
                </a:cubicBezTo>
                <a:cubicBezTo>
                  <a:pt x="1863804" y="763924"/>
                  <a:pt x="1849541" y="771945"/>
                  <a:pt x="1839686" y="783772"/>
                </a:cubicBezTo>
                <a:cubicBezTo>
                  <a:pt x="1831311" y="793823"/>
                  <a:pt x="1825172" y="805543"/>
                  <a:pt x="1817915" y="816429"/>
                </a:cubicBezTo>
                <a:cubicBezTo>
                  <a:pt x="1821543" y="827315"/>
                  <a:pt x="1820686" y="840972"/>
                  <a:pt x="1828800" y="849086"/>
                </a:cubicBezTo>
                <a:cubicBezTo>
                  <a:pt x="1854458" y="874744"/>
                  <a:pt x="1884771" y="895731"/>
                  <a:pt x="1915886" y="914400"/>
                </a:cubicBezTo>
                <a:cubicBezTo>
                  <a:pt x="1942840" y="930572"/>
                  <a:pt x="1976637" y="949676"/>
                  <a:pt x="2002972" y="968829"/>
                </a:cubicBezTo>
                <a:cubicBezTo>
                  <a:pt x="2032317" y="990171"/>
                  <a:pt x="2064399" y="1008485"/>
                  <a:pt x="2090057" y="1034143"/>
                </a:cubicBezTo>
                <a:lnTo>
                  <a:pt x="2144486" y="1088572"/>
                </a:lnTo>
                <a:cubicBezTo>
                  <a:pt x="2174611" y="1178944"/>
                  <a:pt x="2150382" y="1096953"/>
                  <a:pt x="2166257" y="1295400"/>
                </a:cubicBezTo>
                <a:cubicBezTo>
                  <a:pt x="2168877" y="1328154"/>
                  <a:pt x="2171433" y="1361014"/>
                  <a:pt x="2177143" y="1393372"/>
                </a:cubicBezTo>
                <a:cubicBezTo>
                  <a:pt x="2182343" y="1422838"/>
                  <a:pt x="2198915" y="1480457"/>
                  <a:pt x="2198915" y="1480457"/>
                </a:cubicBezTo>
                <a:cubicBezTo>
                  <a:pt x="2195286" y="1534886"/>
                  <a:pt x="2198727" y="1590253"/>
                  <a:pt x="2188029" y="1643743"/>
                </a:cubicBezTo>
                <a:cubicBezTo>
                  <a:pt x="2183880" y="1664490"/>
                  <a:pt x="2164834" y="1679248"/>
                  <a:pt x="2155372" y="1698172"/>
                </a:cubicBezTo>
                <a:cubicBezTo>
                  <a:pt x="2146633" y="1715649"/>
                  <a:pt x="2140278" y="1734236"/>
                  <a:pt x="2133600" y="1752600"/>
                </a:cubicBezTo>
                <a:cubicBezTo>
                  <a:pt x="2125757" y="1774168"/>
                  <a:pt x="2124559" y="1798820"/>
                  <a:pt x="2111829" y="1817915"/>
                </a:cubicBezTo>
                <a:lnTo>
                  <a:pt x="2090057" y="1850572"/>
                </a:lnTo>
                <a:cubicBezTo>
                  <a:pt x="2086429" y="1868715"/>
                  <a:pt x="2083186" y="1886939"/>
                  <a:pt x="2079172" y="1905000"/>
                </a:cubicBezTo>
                <a:cubicBezTo>
                  <a:pt x="2075927" y="1919605"/>
                  <a:pt x="2067456" y="1933605"/>
                  <a:pt x="2068286" y="1948543"/>
                </a:cubicBezTo>
                <a:cubicBezTo>
                  <a:pt x="2071132" y="1999780"/>
                  <a:pt x="2078925" y="2050849"/>
                  <a:pt x="2090057" y="2100943"/>
                </a:cubicBezTo>
                <a:cubicBezTo>
                  <a:pt x="2093577" y="2116784"/>
                  <a:pt x="2105238" y="2129657"/>
                  <a:pt x="2111829" y="2144486"/>
                </a:cubicBezTo>
                <a:cubicBezTo>
                  <a:pt x="2119765" y="2162342"/>
                  <a:pt x="2127985" y="2180199"/>
                  <a:pt x="2133600" y="2198915"/>
                </a:cubicBezTo>
                <a:cubicBezTo>
                  <a:pt x="2159279" y="2284514"/>
                  <a:pt x="2125577" y="2224979"/>
                  <a:pt x="2166257" y="2286000"/>
                </a:cubicBezTo>
                <a:cubicBezTo>
                  <a:pt x="2169886" y="2311400"/>
                  <a:pt x="2173089" y="2336864"/>
                  <a:pt x="2177143" y="2362200"/>
                </a:cubicBezTo>
                <a:cubicBezTo>
                  <a:pt x="2187604" y="2427584"/>
                  <a:pt x="2209800" y="2558143"/>
                  <a:pt x="2209800" y="2558143"/>
                </a:cubicBezTo>
                <a:cubicBezTo>
                  <a:pt x="2206172" y="2677886"/>
                  <a:pt x="2208597" y="2797966"/>
                  <a:pt x="2198915" y="2917372"/>
                </a:cubicBezTo>
                <a:cubicBezTo>
                  <a:pt x="2197604" y="2933547"/>
                  <a:pt x="2185194" y="2946826"/>
                  <a:pt x="2177143" y="2960915"/>
                </a:cubicBezTo>
                <a:cubicBezTo>
                  <a:pt x="2170652" y="2972274"/>
                  <a:pt x="2163747" y="2983521"/>
                  <a:pt x="2155372" y="2993572"/>
                </a:cubicBezTo>
                <a:cubicBezTo>
                  <a:pt x="2122797" y="3032662"/>
                  <a:pt x="2081763" y="3057589"/>
                  <a:pt x="2035629" y="3080657"/>
                </a:cubicBezTo>
                <a:cubicBezTo>
                  <a:pt x="1961135" y="3117905"/>
                  <a:pt x="1987527" y="3096104"/>
                  <a:pt x="1948543" y="3135086"/>
                </a:cubicBezTo>
                <a:cubicBezTo>
                  <a:pt x="1918050" y="3226563"/>
                  <a:pt x="1944515" y="3137864"/>
                  <a:pt x="1926772" y="3341915"/>
                </a:cubicBezTo>
                <a:cubicBezTo>
                  <a:pt x="1924549" y="3367476"/>
                  <a:pt x="1918884" y="3392633"/>
                  <a:pt x="1915886" y="3418115"/>
                </a:cubicBezTo>
                <a:cubicBezTo>
                  <a:pt x="1900578" y="3548231"/>
                  <a:pt x="1917563" y="3489280"/>
                  <a:pt x="1894115" y="3559629"/>
                </a:cubicBezTo>
                <a:cubicBezTo>
                  <a:pt x="1872343" y="3556000"/>
                  <a:pt x="1849739" y="3555723"/>
                  <a:pt x="1828800" y="3548743"/>
                </a:cubicBezTo>
                <a:cubicBezTo>
                  <a:pt x="1793173" y="3536868"/>
                  <a:pt x="1795484" y="3520705"/>
                  <a:pt x="1774372" y="3494315"/>
                </a:cubicBezTo>
                <a:cubicBezTo>
                  <a:pt x="1767961" y="3486301"/>
                  <a:pt x="1759857" y="3479800"/>
                  <a:pt x="1752600" y="3472543"/>
                </a:cubicBezTo>
                <a:cubicBezTo>
                  <a:pt x="1745343" y="3454400"/>
                  <a:pt x="1737008" y="3436652"/>
                  <a:pt x="1730829" y="3418115"/>
                </a:cubicBezTo>
                <a:cubicBezTo>
                  <a:pt x="1726098" y="3403922"/>
                  <a:pt x="1726634" y="3387954"/>
                  <a:pt x="1719943" y="3374572"/>
                </a:cubicBezTo>
                <a:cubicBezTo>
                  <a:pt x="1715353" y="3365392"/>
                  <a:pt x="1705429" y="3360057"/>
                  <a:pt x="1698172" y="3352800"/>
                </a:cubicBezTo>
                <a:cubicBezTo>
                  <a:pt x="1670678" y="3270321"/>
                  <a:pt x="1677507" y="3304406"/>
                  <a:pt x="1698172" y="3145972"/>
                </a:cubicBezTo>
                <a:cubicBezTo>
                  <a:pt x="1706399" y="3082899"/>
                  <a:pt x="1713777" y="3079020"/>
                  <a:pt x="1741715" y="3037115"/>
                </a:cubicBezTo>
                <a:cubicBezTo>
                  <a:pt x="1745343" y="3022601"/>
                  <a:pt x="1748490" y="3007957"/>
                  <a:pt x="1752600" y="2993572"/>
                </a:cubicBezTo>
                <a:cubicBezTo>
                  <a:pt x="1755752" y="2982539"/>
                  <a:pt x="1763486" y="2972390"/>
                  <a:pt x="1763486" y="2960915"/>
                </a:cubicBezTo>
                <a:cubicBezTo>
                  <a:pt x="1763486" y="2913749"/>
                  <a:pt x="1751241" y="2884041"/>
                  <a:pt x="1741715" y="2841172"/>
                </a:cubicBezTo>
                <a:cubicBezTo>
                  <a:pt x="1737701" y="2823110"/>
                  <a:pt x="1734843" y="2804805"/>
                  <a:pt x="1730829" y="2786743"/>
                </a:cubicBezTo>
                <a:cubicBezTo>
                  <a:pt x="1721716" y="2745737"/>
                  <a:pt x="1721180" y="2746910"/>
                  <a:pt x="1709057" y="2710543"/>
                </a:cubicBezTo>
                <a:cubicBezTo>
                  <a:pt x="1712686" y="2598057"/>
                  <a:pt x="1713334" y="2485436"/>
                  <a:pt x="1719943" y="2373086"/>
                </a:cubicBezTo>
                <a:cubicBezTo>
                  <a:pt x="1720617" y="2361631"/>
                  <a:pt x="1727677" y="2351462"/>
                  <a:pt x="1730829" y="2340429"/>
                </a:cubicBezTo>
                <a:cubicBezTo>
                  <a:pt x="1734939" y="2326044"/>
                  <a:pt x="1738086" y="2311400"/>
                  <a:pt x="1741715" y="2296886"/>
                </a:cubicBezTo>
                <a:cubicBezTo>
                  <a:pt x="1738086" y="2224315"/>
                  <a:pt x="1737124" y="2151561"/>
                  <a:pt x="1730829" y="2079172"/>
                </a:cubicBezTo>
                <a:cubicBezTo>
                  <a:pt x="1729835" y="2067741"/>
                  <a:pt x="1725075" y="2056778"/>
                  <a:pt x="1719943" y="2046515"/>
                </a:cubicBezTo>
                <a:cubicBezTo>
                  <a:pt x="1714092" y="2034813"/>
                  <a:pt x="1705429" y="2024743"/>
                  <a:pt x="1698172" y="2013857"/>
                </a:cubicBezTo>
                <a:cubicBezTo>
                  <a:pt x="1633503" y="2021941"/>
                  <a:pt x="1619596" y="2010494"/>
                  <a:pt x="1578429" y="2046515"/>
                </a:cubicBezTo>
                <a:cubicBezTo>
                  <a:pt x="1559119" y="2063411"/>
                  <a:pt x="1524000" y="2100943"/>
                  <a:pt x="1524000" y="2100943"/>
                </a:cubicBezTo>
                <a:cubicBezTo>
                  <a:pt x="1499118" y="2175592"/>
                  <a:pt x="1524000" y="2082940"/>
                  <a:pt x="1524000" y="2188029"/>
                </a:cubicBezTo>
                <a:cubicBezTo>
                  <a:pt x="1524000" y="2231723"/>
                  <a:pt x="1521684" y="2275812"/>
                  <a:pt x="1513115" y="2318657"/>
                </a:cubicBezTo>
                <a:cubicBezTo>
                  <a:pt x="1510549" y="2331486"/>
                  <a:pt x="1499719" y="2341264"/>
                  <a:pt x="1491343" y="2351315"/>
                </a:cubicBezTo>
                <a:cubicBezTo>
                  <a:pt x="1481488" y="2363142"/>
                  <a:pt x="1509486" y="2393043"/>
                  <a:pt x="1491343" y="2394857"/>
                </a:cubicBezTo>
                <a:close/>
              </a:path>
            </a:pathLst>
          </a:custGeom>
          <a:solidFill>
            <a:srgbClr val="006600"/>
          </a:solidFill>
          <a:ln w="25560">
            <a:solidFill>
              <a:srgbClr val="2159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4-конечная звезда 36"/>
          <p:cNvGrpSpPr/>
          <p:nvPr/>
        </p:nvGrpSpPr>
        <p:grpSpPr>
          <a:xfrm>
            <a:off x="3213000" y="438120"/>
            <a:ext cx="335160" cy="330120"/>
            <a:chOff x="3213000" y="438120"/>
            <a:chExt cx="335160" cy="330120"/>
          </a:xfrm>
        </p:grpSpPr>
        <p:pic>
          <p:nvPicPr>
            <p:cNvPr id="392" name="4-конечная звезда 36" descr=""/>
            <p:cNvPicPr/>
            <p:nvPr/>
          </p:nvPicPr>
          <p:blipFill>
            <a:blip r:embed="rId26"/>
            <a:stretch/>
          </p:blipFill>
          <p:spPr>
            <a:xfrm>
              <a:off x="3213000" y="438120"/>
              <a:ext cx="33516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3365640" y="565200"/>
              <a:ext cx="3780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4-конечная звезда 37"/>
          <p:cNvGrpSpPr/>
          <p:nvPr/>
        </p:nvGrpSpPr>
        <p:grpSpPr>
          <a:xfrm>
            <a:off x="189000" y="1231920"/>
            <a:ext cx="261720" cy="255600"/>
            <a:chOff x="189000" y="1231920"/>
            <a:chExt cx="261720" cy="255600"/>
          </a:xfrm>
        </p:grpSpPr>
        <p:pic>
          <p:nvPicPr>
            <p:cNvPr id="395" name="4-конечная звезда 37" descr=""/>
            <p:cNvPicPr/>
            <p:nvPr/>
          </p:nvPicPr>
          <p:blipFill>
            <a:blip r:embed="rId27"/>
            <a:stretch/>
          </p:blipFill>
          <p:spPr>
            <a:xfrm>
              <a:off x="189000" y="1231920"/>
              <a:ext cx="26172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11040" y="1328760"/>
              <a:ext cx="25560" cy="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4-конечная звезда 38"/>
          <p:cNvGrpSpPr/>
          <p:nvPr/>
        </p:nvGrpSpPr>
        <p:grpSpPr>
          <a:xfrm>
            <a:off x="5376960" y="1450800"/>
            <a:ext cx="255600" cy="249480"/>
            <a:chOff x="5376960" y="1450800"/>
            <a:chExt cx="255600" cy="249480"/>
          </a:xfrm>
        </p:grpSpPr>
        <p:pic>
          <p:nvPicPr>
            <p:cNvPr id="398" name="4-конечная звезда 38" descr=""/>
            <p:cNvPicPr/>
            <p:nvPr/>
          </p:nvPicPr>
          <p:blipFill>
            <a:blip r:embed="rId28"/>
            <a:stretch/>
          </p:blipFill>
          <p:spPr>
            <a:xfrm>
              <a:off x="5376960" y="1450800"/>
              <a:ext cx="25560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495760" y="1544760"/>
              <a:ext cx="25560" cy="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4-конечная звезда 39"/>
          <p:cNvGrpSpPr/>
          <p:nvPr/>
        </p:nvGrpSpPr>
        <p:grpSpPr>
          <a:xfrm>
            <a:off x="3071880" y="1590840"/>
            <a:ext cx="257040" cy="257040"/>
            <a:chOff x="3071880" y="1590840"/>
            <a:chExt cx="257040" cy="257040"/>
          </a:xfrm>
        </p:grpSpPr>
        <p:pic>
          <p:nvPicPr>
            <p:cNvPr id="401" name="4-конечная звезда 39" descr=""/>
            <p:cNvPicPr/>
            <p:nvPr/>
          </p:nvPicPr>
          <p:blipFill>
            <a:blip r:embed="rId29"/>
            <a:stretch/>
          </p:blipFill>
          <p:spPr>
            <a:xfrm>
              <a:off x="3071880" y="1590840"/>
              <a:ext cx="25704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3191040" y="1687680"/>
              <a:ext cx="25200" cy="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4-конечная звезда 40"/>
          <p:cNvGrpSpPr/>
          <p:nvPr/>
        </p:nvGrpSpPr>
        <p:grpSpPr>
          <a:xfrm>
            <a:off x="4297320" y="225360"/>
            <a:ext cx="255600" cy="250920"/>
            <a:chOff x="4297320" y="225360"/>
            <a:chExt cx="255600" cy="250920"/>
          </a:xfrm>
        </p:grpSpPr>
        <p:pic>
          <p:nvPicPr>
            <p:cNvPr id="404" name="4-конечная звезда 40" descr=""/>
            <p:cNvPicPr/>
            <p:nvPr/>
          </p:nvPicPr>
          <p:blipFill>
            <a:blip r:embed="rId30"/>
            <a:stretch/>
          </p:blipFill>
          <p:spPr>
            <a:xfrm>
              <a:off x="4297320" y="225360"/>
              <a:ext cx="25560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4414680" y="320760"/>
              <a:ext cx="25560" cy="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Полилиния 1"/>
          <p:cNvGrpSpPr/>
          <p:nvPr/>
        </p:nvGrpSpPr>
        <p:grpSpPr>
          <a:xfrm>
            <a:off x="3359160" y="487440"/>
            <a:ext cx="5760720" cy="304560"/>
            <a:chOff x="3359160" y="487440"/>
            <a:chExt cx="5760720" cy="304560"/>
          </a:xfrm>
        </p:grpSpPr>
        <p:pic>
          <p:nvPicPr>
            <p:cNvPr id="407" name="Полилиния 1" descr=""/>
            <p:cNvPicPr/>
            <p:nvPr/>
          </p:nvPicPr>
          <p:blipFill>
            <a:blip r:embed="rId1"/>
            <a:stretch/>
          </p:blipFill>
          <p:spPr>
            <a:xfrm>
              <a:off x="3359160" y="487440"/>
              <a:ext cx="57247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3377880" y="512640"/>
              <a:ext cx="574200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Полилиния 2"/>
          <p:cNvGrpSpPr/>
          <p:nvPr/>
        </p:nvGrpSpPr>
        <p:grpSpPr>
          <a:xfrm>
            <a:off x="719280" y="304920"/>
            <a:ext cx="5145120" cy="218880"/>
            <a:chOff x="719280" y="304920"/>
            <a:chExt cx="5145120" cy="218880"/>
          </a:xfrm>
        </p:grpSpPr>
        <p:pic>
          <p:nvPicPr>
            <p:cNvPr id="410" name="Полилиния 2" descr=""/>
            <p:cNvPicPr/>
            <p:nvPr/>
          </p:nvPicPr>
          <p:blipFill>
            <a:blip r:embed="rId2"/>
            <a:stretch/>
          </p:blipFill>
          <p:spPr>
            <a:xfrm>
              <a:off x="719280" y="304920"/>
              <a:ext cx="514512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36560" y="322200"/>
              <a:ext cx="51134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Полилиния 3"/>
          <p:cNvGrpSpPr/>
          <p:nvPr/>
        </p:nvGrpSpPr>
        <p:grpSpPr>
          <a:xfrm>
            <a:off x="2846520" y="3024360"/>
            <a:ext cx="3584520" cy="1779480"/>
            <a:chOff x="2846520" y="3024360"/>
            <a:chExt cx="3584520" cy="1779480"/>
          </a:xfrm>
        </p:grpSpPr>
        <p:pic>
          <p:nvPicPr>
            <p:cNvPr id="413" name="Полилиния 3" descr=""/>
            <p:cNvPicPr/>
            <p:nvPr/>
          </p:nvPicPr>
          <p:blipFill>
            <a:blip r:embed="rId3"/>
            <a:stretch/>
          </p:blipFill>
          <p:spPr>
            <a:xfrm>
              <a:off x="2846520" y="3024360"/>
              <a:ext cx="358452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2892600" y="3051000"/>
              <a:ext cx="3524040" cy="17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Полилиния 4"/>
          <p:cNvGrpSpPr/>
          <p:nvPr/>
        </p:nvGrpSpPr>
        <p:grpSpPr>
          <a:xfrm>
            <a:off x="5688000" y="2030400"/>
            <a:ext cx="3486240" cy="2560320"/>
            <a:chOff x="5688000" y="2030400"/>
            <a:chExt cx="3486240" cy="2560320"/>
          </a:xfrm>
        </p:grpSpPr>
        <p:pic>
          <p:nvPicPr>
            <p:cNvPr id="416" name="Полилиния 4" descr=""/>
            <p:cNvPicPr/>
            <p:nvPr/>
          </p:nvPicPr>
          <p:blipFill>
            <a:blip r:embed="rId4"/>
            <a:stretch/>
          </p:blipFill>
          <p:spPr>
            <a:xfrm>
              <a:off x="5688000" y="2057040"/>
              <a:ext cx="3486240" cy="25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5718240" y="2030400"/>
              <a:ext cx="344160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Полилиния 5"/>
          <p:cNvGrpSpPr/>
          <p:nvPr/>
        </p:nvGrpSpPr>
        <p:grpSpPr>
          <a:xfrm>
            <a:off x="-36360" y="3078000"/>
            <a:ext cx="9210600" cy="1683000"/>
            <a:chOff x="-36360" y="3078000"/>
            <a:chExt cx="9210600" cy="1683000"/>
          </a:xfrm>
        </p:grpSpPr>
        <p:pic>
          <p:nvPicPr>
            <p:cNvPr id="419" name="Полилиния 5" descr=""/>
            <p:cNvPicPr/>
            <p:nvPr/>
          </p:nvPicPr>
          <p:blipFill>
            <a:blip r:embed="rId5"/>
            <a:stretch/>
          </p:blipFill>
          <p:spPr>
            <a:xfrm>
              <a:off x="-36360" y="3078000"/>
              <a:ext cx="921060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-1440" y="3132000"/>
              <a:ext cx="9145440" cy="16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" name="Picture 4" descr="C:\Program Files\Microsoft Office\MEDIA\OFFICE12\Lines\BD21332_.gif"/>
          <p:cNvPicPr/>
          <p:nvPr/>
        </p:nvPicPr>
        <p:blipFill>
          <a:blip r:embed="rId6"/>
          <a:stretch/>
        </p:blipFill>
        <p:spPr>
          <a:xfrm>
            <a:off x="4114800" y="6429240"/>
            <a:ext cx="5029200" cy="285840"/>
          </a:xfrm>
          <a:prstGeom prst="rect">
            <a:avLst/>
          </a:prstGeom>
          <a:ln w="0">
            <a:noFill/>
          </a:ln>
        </p:spPr>
      </p:pic>
      <p:sp>
        <p:nvSpPr>
          <p:cNvPr id="422" name="Полилиния 7"/>
          <p:cNvSpPr/>
          <p:nvPr/>
        </p:nvSpPr>
        <p:spPr>
          <a:xfrm>
            <a:off x="482760" y="171360"/>
            <a:ext cx="552240" cy="6819840"/>
          </a:xfrm>
          <a:custGeom>
            <a:avLst/>
            <a:gdLst/>
            <a:ahLst/>
            <a:rect l="l" t="t" r="r" b="b"/>
            <a:pathLst>
              <a:path w="551688" h="6819900">
                <a:moveTo>
                  <a:pt x="156972" y="6676644"/>
                </a:moveTo>
                <a:cubicBezTo>
                  <a:pt x="78486" y="6377940"/>
                  <a:pt x="0" y="6079236"/>
                  <a:pt x="1524" y="5826252"/>
                </a:cubicBezTo>
                <a:cubicBezTo>
                  <a:pt x="3048" y="5573268"/>
                  <a:pt x="163068" y="5404104"/>
                  <a:pt x="166116" y="5158740"/>
                </a:cubicBezTo>
                <a:cubicBezTo>
                  <a:pt x="169164" y="4913376"/>
                  <a:pt x="15240" y="4628388"/>
                  <a:pt x="19812" y="4354068"/>
                </a:cubicBezTo>
                <a:cubicBezTo>
                  <a:pt x="24384" y="4079748"/>
                  <a:pt x="178308" y="3825240"/>
                  <a:pt x="193548" y="3512820"/>
                </a:cubicBezTo>
                <a:cubicBezTo>
                  <a:pt x="208788" y="3200400"/>
                  <a:pt x="70104" y="2891028"/>
                  <a:pt x="111252" y="2479548"/>
                </a:cubicBezTo>
                <a:cubicBezTo>
                  <a:pt x="152400" y="2068068"/>
                  <a:pt x="405384" y="1440180"/>
                  <a:pt x="440436" y="1043940"/>
                </a:cubicBezTo>
                <a:cubicBezTo>
                  <a:pt x="475488" y="647700"/>
                  <a:pt x="318516" y="204216"/>
                  <a:pt x="321564" y="102108"/>
                </a:cubicBezTo>
                <a:cubicBezTo>
                  <a:pt x="324612" y="0"/>
                  <a:pt x="423672" y="286512"/>
                  <a:pt x="458724" y="431292"/>
                </a:cubicBezTo>
                <a:cubicBezTo>
                  <a:pt x="493776" y="576072"/>
                  <a:pt x="551688" y="676656"/>
                  <a:pt x="531876" y="970788"/>
                </a:cubicBezTo>
                <a:cubicBezTo>
                  <a:pt x="512064" y="1264920"/>
                  <a:pt x="353568" y="1810512"/>
                  <a:pt x="339852" y="2196084"/>
                </a:cubicBezTo>
                <a:cubicBezTo>
                  <a:pt x="326136" y="2581656"/>
                  <a:pt x="458724" y="2965704"/>
                  <a:pt x="449580" y="3284220"/>
                </a:cubicBezTo>
                <a:cubicBezTo>
                  <a:pt x="440436" y="3602736"/>
                  <a:pt x="288036" y="3814572"/>
                  <a:pt x="284988" y="4107180"/>
                </a:cubicBezTo>
                <a:cubicBezTo>
                  <a:pt x="281940" y="4399788"/>
                  <a:pt x="422148" y="4754880"/>
                  <a:pt x="431292" y="5039868"/>
                </a:cubicBezTo>
                <a:cubicBezTo>
                  <a:pt x="440436" y="5324856"/>
                  <a:pt x="332232" y="5544312"/>
                  <a:pt x="339852" y="5817108"/>
                </a:cubicBezTo>
                <a:cubicBezTo>
                  <a:pt x="347472" y="6089904"/>
                  <a:pt x="452628" y="6533388"/>
                  <a:pt x="477012" y="6676644"/>
                </a:cubicBezTo>
                <a:cubicBezTo>
                  <a:pt x="501396" y="6819900"/>
                  <a:pt x="493776" y="6748272"/>
                  <a:pt x="486156" y="6676644"/>
                </a:cubicBez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10800000"/>
          </a:gradFill>
          <a:ln w="93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олилиния 8"/>
          <p:cNvSpPr/>
          <p:nvPr/>
        </p:nvSpPr>
        <p:spPr>
          <a:xfrm>
            <a:off x="1865160" y="-73080"/>
            <a:ext cx="925560" cy="7062840"/>
          </a:xfrm>
          <a:custGeom>
            <a:avLst/>
            <a:gdLst/>
            <a:ahLst/>
            <a:rect l="l" t="t" r="r" b="b"/>
            <a:pathLst>
              <a:path w="925068" h="7062216">
                <a:moveTo>
                  <a:pt x="0" y="6894576"/>
                </a:moveTo>
                <a:cubicBezTo>
                  <a:pt x="105156" y="6845046"/>
                  <a:pt x="210312" y="6795516"/>
                  <a:pt x="256032" y="6547104"/>
                </a:cubicBezTo>
                <a:cubicBezTo>
                  <a:pt x="301752" y="6298692"/>
                  <a:pt x="233172" y="5792724"/>
                  <a:pt x="274320" y="5404104"/>
                </a:cubicBezTo>
                <a:cubicBezTo>
                  <a:pt x="315468" y="5015484"/>
                  <a:pt x="513588" y="4666488"/>
                  <a:pt x="502920" y="4215384"/>
                </a:cubicBezTo>
                <a:cubicBezTo>
                  <a:pt x="492252" y="3764280"/>
                  <a:pt x="220980" y="3204972"/>
                  <a:pt x="210312" y="2697480"/>
                </a:cubicBezTo>
                <a:cubicBezTo>
                  <a:pt x="199644" y="2189988"/>
                  <a:pt x="396240" y="1607820"/>
                  <a:pt x="438912" y="1170432"/>
                </a:cubicBezTo>
                <a:cubicBezTo>
                  <a:pt x="481584" y="733044"/>
                  <a:pt x="448056" y="146304"/>
                  <a:pt x="466344" y="73152"/>
                </a:cubicBezTo>
                <a:cubicBezTo>
                  <a:pt x="484632" y="0"/>
                  <a:pt x="530352" y="402336"/>
                  <a:pt x="548640" y="731520"/>
                </a:cubicBezTo>
                <a:cubicBezTo>
                  <a:pt x="566928" y="1060704"/>
                  <a:pt x="527304" y="1615440"/>
                  <a:pt x="576072" y="2048256"/>
                </a:cubicBezTo>
                <a:cubicBezTo>
                  <a:pt x="624840" y="2481072"/>
                  <a:pt x="783336" y="2897124"/>
                  <a:pt x="841248" y="3328416"/>
                </a:cubicBezTo>
                <a:cubicBezTo>
                  <a:pt x="899160" y="3759708"/>
                  <a:pt x="922020" y="4192524"/>
                  <a:pt x="923544" y="4636008"/>
                </a:cubicBezTo>
                <a:cubicBezTo>
                  <a:pt x="925068" y="5079492"/>
                  <a:pt x="899160" y="5609844"/>
                  <a:pt x="850392" y="5989320"/>
                </a:cubicBezTo>
                <a:cubicBezTo>
                  <a:pt x="801624" y="6368796"/>
                  <a:pt x="669036" y="6763512"/>
                  <a:pt x="630936" y="6912864"/>
                </a:cubicBezTo>
                <a:cubicBezTo>
                  <a:pt x="592836" y="7062216"/>
                  <a:pt x="607314" y="6973824"/>
                  <a:pt x="621792" y="6885432"/>
                </a:cubicBez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2700000"/>
          </a:gradFill>
          <a:ln w="93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олилиния 9"/>
          <p:cNvSpPr/>
          <p:nvPr/>
        </p:nvSpPr>
        <p:spPr>
          <a:xfrm>
            <a:off x="1643040" y="1143000"/>
            <a:ext cx="277920" cy="5845320"/>
          </a:xfrm>
          <a:custGeom>
            <a:avLst/>
            <a:gdLst/>
            <a:ahLst/>
            <a:rect l="l" t="t" r="r" b="b"/>
            <a:pathLst>
              <a:path w="277368" h="5844540">
                <a:moveTo>
                  <a:pt x="176784" y="5580888"/>
                </a:moveTo>
                <a:cubicBezTo>
                  <a:pt x="180594" y="5393436"/>
                  <a:pt x="184404" y="5205984"/>
                  <a:pt x="185928" y="5059680"/>
                </a:cubicBezTo>
                <a:cubicBezTo>
                  <a:pt x="187452" y="4913376"/>
                  <a:pt x="216408" y="5007864"/>
                  <a:pt x="185928" y="4703064"/>
                </a:cubicBezTo>
                <a:cubicBezTo>
                  <a:pt x="155448" y="4398264"/>
                  <a:pt x="6096" y="3707892"/>
                  <a:pt x="3048" y="3230880"/>
                </a:cubicBezTo>
                <a:cubicBezTo>
                  <a:pt x="0" y="2753868"/>
                  <a:pt x="152400" y="2328672"/>
                  <a:pt x="167640" y="1840992"/>
                </a:cubicBezTo>
                <a:cubicBezTo>
                  <a:pt x="182880" y="1353312"/>
                  <a:pt x="105156" y="609600"/>
                  <a:pt x="94488" y="304800"/>
                </a:cubicBezTo>
                <a:cubicBezTo>
                  <a:pt x="83820" y="0"/>
                  <a:pt x="96012" y="10668"/>
                  <a:pt x="103632" y="12192"/>
                </a:cubicBezTo>
                <a:cubicBezTo>
                  <a:pt x="111252" y="13716"/>
                  <a:pt x="118872" y="94488"/>
                  <a:pt x="140208" y="313944"/>
                </a:cubicBezTo>
                <a:cubicBezTo>
                  <a:pt x="161544" y="533400"/>
                  <a:pt x="224028" y="973836"/>
                  <a:pt x="231648" y="1328928"/>
                </a:cubicBezTo>
                <a:cubicBezTo>
                  <a:pt x="239268" y="1684020"/>
                  <a:pt x="210312" y="2104644"/>
                  <a:pt x="185928" y="2444496"/>
                </a:cubicBezTo>
                <a:cubicBezTo>
                  <a:pt x="161544" y="2784348"/>
                  <a:pt x="76200" y="3055620"/>
                  <a:pt x="85344" y="3368040"/>
                </a:cubicBezTo>
                <a:cubicBezTo>
                  <a:pt x="94488" y="3680460"/>
                  <a:pt x="210312" y="3942588"/>
                  <a:pt x="240792" y="4319016"/>
                </a:cubicBezTo>
                <a:cubicBezTo>
                  <a:pt x="271272" y="4695444"/>
                  <a:pt x="262128" y="5408676"/>
                  <a:pt x="268224" y="5626608"/>
                </a:cubicBezTo>
                <a:cubicBezTo>
                  <a:pt x="274320" y="5844540"/>
                  <a:pt x="275844" y="5735574"/>
                  <a:pt x="277368" y="5626608"/>
                </a:cubicBez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Полилиния 10"/>
          <p:cNvGrpSpPr/>
          <p:nvPr/>
        </p:nvGrpSpPr>
        <p:grpSpPr>
          <a:xfrm>
            <a:off x="2571840" y="378000"/>
            <a:ext cx="482400" cy="6612840"/>
            <a:chOff x="2571840" y="378000"/>
            <a:chExt cx="482400" cy="6612840"/>
          </a:xfrm>
        </p:grpSpPr>
        <p:pic>
          <p:nvPicPr>
            <p:cNvPr id="426" name="Полилиния 10" descr=""/>
            <p:cNvPicPr/>
            <p:nvPr/>
          </p:nvPicPr>
          <p:blipFill>
            <a:blip r:embed="rId7"/>
            <a:stretch/>
          </p:blipFill>
          <p:spPr>
            <a:xfrm>
              <a:off x="2571840" y="378000"/>
              <a:ext cx="482400" cy="65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2584440" y="401400"/>
              <a:ext cx="452520" cy="65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Полилиния 11"/>
          <p:cNvGrpSpPr/>
          <p:nvPr/>
        </p:nvGrpSpPr>
        <p:grpSpPr>
          <a:xfrm>
            <a:off x="2724120" y="1103400"/>
            <a:ext cx="152280" cy="261720"/>
            <a:chOff x="2724120" y="1103400"/>
            <a:chExt cx="152280" cy="261720"/>
          </a:xfrm>
        </p:grpSpPr>
        <p:pic>
          <p:nvPicPr>
            <p:cNvPr id="429" name="Полилиния 11" descr=""/>
            <p:cNvPicPr/>
            <p:nvPr/>
          </p:nvPicPr>
          <p:blipFill>
            <a:blip r:embed="rId8"/>
            <a:stretch/>
          </p:blipFill>
          <p:spPr>
            <a:xfrm>
              <a:off x="2724120" y="1103400"/>
              <a:ext cx="15228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746440" y="1123920"/>
              <a:ext cx="889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Полилиния 12"/>
          <p:cNvSpPr/>
          <p:nvPr/>
        </p:nvSpPr>
        <p:spPr>
          <a:xfrm>
            <a:off x="2835360" y="1133640"/>
            <a:ext cx="166680" cy="174600"/>
          </a:xfrm>
          <a:custGeom>
            <a:avLst/>
            <a:gdLst/>
            <a:ahLst/>
            <a:rect l="l" t="t" r="r" b="b"/>
            <a:pathLst>
              <a:path w="166612" h="173736">
                <a:moveTo>
                  <a:pt x="0" y="173736"/>
                </a:moveTo>
                <a:cubicBezTo>
                  <a:pt x="21072" y="170224"/>
                  <a:pt x="59786" y="166703"/>
                  <a:pt x="82296" y="155448"/>
                </a:cubicBezTo>
                <a:cubicBezTo>
                  <a:pt x="102847" y="145173"/>
                  <a:pt x="122715" y="127062"/>
                  <a:pt x="137160" y="109728"/>
                </a:cubicBezTo>
                <a:cubicBezTo>
                  <a:pt x="144195" y="101285"/>
                  <a:pt x="150533" y="92126"/>
                  <a:pt x="155448" y="82296"/>
                </a:cubicBezTo>
                <a:cubicBezTo>
                  <a:pt x="159759" y="73675"/>
                  <a:pt x="163528" y="64444"/>
                  <a:pt x="164592" y="54864"/>
                </a:cubicBezTo>
                <a:cubicBezTo>
                  <a:pt x="166612" y="36688"/>
                  <a:pt x="164592" y="18288"/>
                  <a:pt x="164592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олилиния 13"/>
          <p:cNvSpPr/>
          <p:nvPr/>
        </p:nvSpPr>
        <p:spPr>
          <a:xfrm>
            <a:off x="2798640" y="1033560"/>
            <a:ext cx="50760" cy="274680"/>
          </a:xfrm>
          <a:custGeom>
            <a:avLst/>
            <a:gdLst/>
            <a:ahLst/>
            <a:rect l="l" t="t" r="r" b="b"/>
            <a:pathLst>
              <a:path w="50792" h="274320">
                <a:moveTo>
                  <a:pt x="27432" y="274320"/>
                </a:moveTo>
                <a:cubicBezTo>
                  <a:pt x="30480" y="265176"/>
                  <a:pt x="36576" y="256527"/>
                  <a:pt x="36576" y="246888"/>
                </a:cubicBezTo>
                <a:cubicBezTo>
                  <a:pt x="36576" y="234321"/>
                  <a:pt x="30884" y="222396"/>
                  <a:pt x="27432" y="210312"/>
                </a:cubicBezTo>
                <a:cubicBezTo>
                  <a:pt x="17968" y="177186"/>
                  <a:pt x="20038" y="185504"/>
                  <a:pt x="0" y="155448"/>
                </a:cubicBezTo>
                <a:cubicBezTo>
                  <a:pt x="6096" y="131064"/>
                  <a:pt x="10340" y="106141"/>
                  <a:pt x="18288" y="82296"/>
                </a:cubicBezTo>
                <a:cubicBezTo>
                  <a:pt x="21336" y="73152"/>
                  <a:pt x="23121" y="63485"/>
                  <a:pt x="27432" y="54864"/>
                </a:cubicBezTo>
                <a:cubicBezTo>
                  <a:pt x="50792" y="8144"/>
                  <a:pt x="45720" y="48140"/>
                  <a:pt x="45720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Полилиния 14"/>
          <p:cNvGrpSpPr/>
          <p:nvPr/>
        </p:nvGrpSpPr>
        <p:grpSpPr>
          <a:xfrm>
            <a:off x="2840040" y="1023840"/>
            <a:ext cx="164880" cy="287280"/>
            <a:chOff x="2840040" y="1023840"/>
            <a:chExt cx="164880" cy="287280"/>
          </a:xfrm>
        </p:grpSpPr>
        <p:pic>
          <p:nvPicPr>
            <p:cNvPr id="434" name="Полилиния 14" descr=""/>
            <p:cNvPicPr/>
            <p:nvPr/>
          </p:nvPicPr>
          <p:blipFill>
            <a:blip r:embed="rId9"/>
            <a:stretch/>
          </p:blipFill>
          <p:spPr>
            <a:xfrm>
              <a:off x="2840040" y="1023840"/>
              <a:ext cx="1533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2857680" y="1042920"/>
              <a:ext cx="1472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Полилиния 15"/>
          <p:cNvSpPr/>
          <p:nvPr/>
        </p:nvSpPr>
        <p:spPr>
          <a:xfrm>
            <a:off x="2820960" y="1298520"/>
            <a:ext cx="196920" cy="54000"/>
          </a:xfrm>
          <a:custGeom>
            <a:avLst/>
            <a:gdLst/>
            <a:ahLst/>
            <a:rect l="l" t="t" r="r" b="b"/>
            <a:pathLst>
              <a:path w="196511" h="54807">
                <a:moveTo>
                  <a:pt x="13631" y="9087"/>
                </a:moveTo>
                <a:cubicBezTo>
                  <a:pt x="78858" y="30829"/>
                  <a:pt x="0" y="0"/>
                  <a:pt x="68495" y="45663"/>
                </a:cubicBezTo>
                <a:cubicBezTo>
                  <a:pt x="76515" y="51010"/>
                  <a:pt x="86783" y="51759"/>
                  <a:pt x="95927" y="54807"/>
                </a:cubicBezTo>
                <a:cubicBezTo>
                  <a:pt x="105071" y="51759"/>
                  <a:pt x="115339" y="51010"/>
                  <a:pt x="123359" y="45663"/>
                </a:cubicBezTo>
                <a:cubicBezTo>
                  <a:pt x="134119" y="38490"/>
                  <a:pt x="138683" y="22772"/>
                  <a:pt x="150791" y="18231"/>
                </a:cubicBezTo>
                <a:cubicBezTo>
                  <a:pt x="165061" y="12880"/>
                  <a:pt x="181271" y="18231"/>
                  <a:pt x="196511" y="18231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олилиния 16"/>
          <p:cNvSpPr/>
          <p:nvPr/>
        </p:nvSpPr>
        <p:spPr>
          <a:xfrm>
            <a:off x="2637000" y="1935000"/>
            <a:ext cx="215640" cy="250920"/>
          </a:xfrm>
          <a:custGeom>
            <a:avLst/>
            <a:gdLst/>
            <a:ahLst/>
            <a:rect l="l" t="t" r="r" b="b"/>
            <a:pathLst>
              <a:path w="215514" h="250119">
                <a:moveTo>
                  <a:pt x="215514" y="250119"/>
                </a:moveTo>
                <a:cubicBezTo>
                  <a:pt x="194178" y="247071"/>
                  <a:pt x="172150" y="247168"/>
                  <a:pt x="151506" y="240975"/>
                </a:cubicBezTo>
                <a:cubicBezTo>
                  <a:pt x="140980" y="237817"/>
                  <a:pt x="130170" y="231831"/>
                  <a:pt x="124074" y="222687"/>
                </a:cubicBezTo>
                <a:cubicBezTo>
                  <a:pt x="117103" y="212230"/>
                  <a:pt x="118382" y="198195"/>
                  <a:pt x="114930" y="186111"/>
                </a:cubicBezTo>
                <a:cubicBezTo>
                  <a:pt x="112282" y="176843"/>
                  <a:pt x="110097" y="167300"/>
                  <a:pt x="105786" y="158679"/>
                </a:cubicBezTo>
                <a:cubicBezTo>
                  <a:pt x="100871" y="148849"/>
                  <a:pt x="91961" y="141290"/>
                  <a:pt x="87498" y="131247"/>
                </a:cubicBezTo>
                <a:cubicBezTo>
                  <a:pt x="79669" y="113631"/>
                  <a:pt x="82841" y="90014"/>
                  <a:pt x="69210" y="76383"/>
                </a:cubicBezTo>
                <a:cubicBezTo>
                  <a:pt x="50922" y="58095"/>
                  <a:pt x="0" y="0"/>
                  <a:pt x="14346" y="21519"/>
                </a:cubicBezTo>
                <a:cubicBezTo>
                  <a:pt x="20442" y="30663"/>
                  <a:pt x="27719" y="39121"/>
                  <a:pt x="32634" y="48951"/>
                </a:cubicBezTo>
                <a:cubicBezTo>
                  <a:pt x="36945" y="57572"/>
                  <a:pt x="41778" y="76383"/>
                  <a:pt x="41778" y="76383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Полилиния 17"/>
          <p:cNvGrpSpPr/>
          <p:nvPr/>
        </p:nvGrpSpPr>
        <p:grpSpPr>
          <a:xfrm>
            <a:off x="2840040" y="1865160"/>
            <a:ext cx="177480" cy="341640"/>
            <a:chOff x="2840040" y="1865160"/>
            <a:chExt cx="177480" cy="341640"/>
          </a:xfrm>
        </p:grpSpPr>
        <p:pic>
          <p:nvPicPr>
            <p:cNvPr id="439" name="Полилиния 17" descr=""/>
            <p:cNvPicPr/>
            <p:nvPr/>
          </p:nvPicPr>
          <p:blipFill>
            <a:blip r:embed="rId10"/>
            <a:stretch/>
          </p:blipFill>
          <p:spPr>
            <a:xfrm>
              <a:off x="2840040" y="1865160"/>
              <a:ext cx="17316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2861640" y="1881360"/>
              <a:ext cx="155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Полилиния 18"/>
          <p:cNvSpPr/>
          <p:nvPr/>
        </p:nvSpPr>
        <p:spPr>
          <a:xfrm>
            <a:off x="2862360" y="2176560"/>
            <a:ext cx="169920" cy="135000"/>
          </a:xfrm>
          <a:custGeom>
            <a:avLst/>
            <a:gdLst/>
            <a:ahLst/>
            <a:rect l="l" t="t" r="r" b="b"/>
            <a:pathLst>
              <a:path w="170570" h="135189">
                <a:moveTo>
                  <a:pt x="0" y="0"/>
                </a:moveTo>
                <a:cubicBezTo>
                  <a:pt x="9144" y="3048"/>
                  <a:pt x="18081" y="6806"/>
                  <a:pt x="27432" y="9144"/>
                </a:cubicBezTo>
                <a:cubicBezTo>
                  <a:pt x="42510" y="12913"/>
                  <a:pt x="59658" y="10577"/>
                  <a:pt x="73152" y="18288"/>
                </a:cubicBezTo>
                <a:cubicBezTo>
                  <a:pt x="82694" y="23740"/>
                  <a:pt x="84405" y="37277"/>
                  <a:pt x="91440" y="45720"/>
                </a:cubicBezTo>
                <a:cubicBezTo>
                  <a:pt x="99719" y="55654"/>
                  <a:pt x="110593" y="63218"/>
                  <a:pt x="118872" y="73152"/>
                </a:cubicBezTo>
                <a:cubicBezTo>
                  <a:pt x="170570" y="135189"/>
                  <a:pt x="117223" y="80647"/>
                  <a:pt x="146304" y="109728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олилиния 19"/>
          <p:cNvSpPr/>
          <p:nvPr/>
        </p:nvSpPr>
        <p:spPr>
          <a:xfrm>
            <a:off x="2768760" y="1928880"/>
            <a:ext cx="93600" cy="247680"/>
          </a:xfrm>
          <a:custGeom>
            <a:avLst/>
            <a:gdLst/>
            <a:ahLst/>
            <a:rect l="l" t="t" r="r" b="b"/>
            <a:pathLst>
              <a:path w="93330" h="246888">
                <a:moveTo>
                  <a:pt x="93330" y="246888"/>
                </a:moveTo>
                <a:cubicBezTo>
                  <a:pt x="84186" y="240792"/>
                  <a:pt x="72763" y="237182"/>
                  <a:pt x="65898" y="228600"/>
                </a:cubicBezTo>
                <a:cubicBezTo>
                  <a:pt x="59877" y="221074"/>
                  <a:pt x="58478" y="210651"/>
                  <a:pt x="56754" y="201168"/>
                </a:cubicBezTo>
                <a:cubicBezTo>
                  <a:pt x="52358" y="176991"/>
                  <a:pt x="55875" y="151158"/>
                  <a:pt x="47610" y="128016"/>
                </a:cubicBezTo>
                <a:cubicBezTo>
                  <a:pt x="30496" y="80098"/>
                  <a:pt x="7105" y="87441"/>
                  <a:pt x="1890" y="45720"/>
                </a:cubicBezTo>
                <a:cubicBezTo>
                  <a:pt x="0" y="30598"/>
                  <a:pt x="1890" y="15240"/>
                  <a:pt x="1890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Полилиния 20"/>
          <p:cNvGrpSpPr/>
          <p:nvPr/>
        </p:nvGrpSpPr>
        <p:grpSpPr>
          <a:xfrm>
            <a:off x="2664000" y="2036880"/>
            <a:ext cx="231480" cy="249120"/>
            <a:chOff x="2664000" y="2036880"/>
            <a:chExt cx="231480" cy="249120"/>
          </a:xfrm>
        </p:grpSpPr>
        <p:pic>
          <p:nvPicPr>
            <p:cNvPr id="444" name="Полилиния 20" descr=""/>
            <p:cNvPicPr/>
            <p:nvPr/>
          </p:nvPicPr>
          <p:blipFill>
            <a:blip r:embed="rId11"/>
            <a:stretch/>
          </p:blipFill>
          <p:spPr>
            <a:xfrm>
              <a:off x="2664000" y="2036880"/>
              <a:ext cx="231480" cy="2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2716200" y="2057400"/>
              <a:ext cx="1364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Полилиния 21"/>
          <p:cNvSpPr/>
          <p:nvPr/>
        </p:nvSpPr>
        <p:spPr>
          <a:xfrm>
            <a:off x="2614680" y="3173400"/>
            <a:ext cx="257040" cy="119160"/>
          </a:xfrm>
          <a:custGeom>
            <a:avLst/>
            <a:gdLst/>
            <a:ahLst/>
            <a:rect l="l" t="t" r="r" b="b"/>
            <a:pathLst>
              <a:path w="256032" h="118872">
                <a:moveTo>
                  <a:pt x="0" y="118872"/>
                </a:moveTo>
                <a:cubicBezTo>
                  <a:pt x="15240" y="115824"/>
                  <a:pt x="31168" y="115185"/>
                  <a:pt x="45720" y="109728"/>
                </a:cubicBezTo>
                <a:cubicBezTo>
                  <a:pt x="56010" y="105869"/>
                  <a:pt x="62490" y="94105"/>
                  <a:pt x="73152" y="91440"/>
                </a:cubicBezTo>
                <a:cubicBezTo>
                  <a:pt x="99929" y="84746"/>
                  <a:pt x="128016" y="85344"/>
                  <a:pt x="155448" y="82296"/>
                </a:cubicBezTo>
                <a:cubicBezTo>
                  <a:pt x="173736" y="70104"/>
                  <a:pt x="198120" y="64008"/>
                  <a:pt x="210312" y="45720"/>
                </a:cubicBezTo>
                <a:cubicBezTo>
                  <a:pt x="216408" y="36576"/>
                  <a:pt x="220829" y="26059"/>
                  <a:pt x="228600" y="18288"/>
                </a:cubicBezTo>
                <a:cubicBezTo>
                  <a:pt x="236371" y="10517"/>
                  <a:pt x="256032" y="0"/>
                  <a:pt x="256032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олилиния 22"/>
          <p:cNvSpPr/>
          <p:nvPr/>
        </p:nvSpPr>
        <p:spPr>
          <a:xfrm>
            <a:off x="2514600" y="2990880"/>
            <a:ext cx="109440" cy="345960"/>
          </a:xfrm>
          <a:custGeom>
            <a:avLst/>
            <a:gdLst/>
            <a:ahLst/>
            <a:rect l="l" t="t" r="r" b="b"/>
            <a:pathLst>
              <a:path w="109728" h="347472">
                <a:moveTo>
                  <a:pt x="109728" y="347472"/>
                </a:moveTo>
                <a:cubicBezTo>
                  <a:pt x="100584" y="338328"/>
                  <a:pt x="92230" y="328319"/>
                  <a:pt x="82296" y="320040"/>
                </a:cubicBezTo>
                <a:cubicBezTo>
                  <a:pt x="73853" y="313005"/>
                  <a:pt x="62635" y="309523"/>
                  <a:pt x="54864" y="301752"/>
                </a:cubicBezTo>
                <a:cubicBezTo>
                  <a:pt x="27966" y="274854"/>
                  <a:pt x="36396" y="255673"/>
                  <a:pt x="18288" y="219456"/>
                </a:cubicBezTo>
                <a:lnTo>
                  <a:pt x="0" y="182880"/>
                </a:lnTo>
                <a:cubicBezTo>
                  <a:pt x="3048" y="146304"/>
                  <a:pt x="4293" y="109533"/>
                  <a:pt x="9144" y="73152"/>
                </a:cubicBezTo>
                <a:cubicBezTo>
                  <a:pt x="10418" y="63598"/>
                  <a:pt x="15640" y="54988"/>
                  <a:pt x="18288" y="45720"/>
                </a:cubicBezTo>
                <a:cubicBezTo>
                  <a:pt x="28171" y="11129"/>
                  <a:pt x="27432" y="20513"/>
                  <a:pt x="27432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Полилиния 23"/>
          <p:cNvGrpSpPr/>
          <p:nvPr/>
        </p:nvGrpSpPr>
        <p:grpSpPr>
          <a:xfrm>
            <a:off x="2523960" y="3067200"/>
            <a:ext cx="268560" cy="291960"/>
            <a:chOff x="2523960" y="3067200"/>
            <a:chExt cx="268560" cy="291960"/>
          </a:xfrm>
        </p:grpSpPr>
        <p:pic>
          <p:nvPicPr>
            <p:cNvPr id="449" name="Полилиния 23" descr=""/>
            <p:cNvPicPr/>
            <p:nvPr/>
          </p:nvPicPr>
          <p:blipFill>
            <a:blip r:embed="rId12"/>
            <a:stretch/>
          </p:blipFill>
          <p:spPr>
            <a:xfrm>
              <a:off x="2523960" y="3067200"/>
              <a:ext cx="26856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2570040" y="3090960"/>
              <a:ext cx="2016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Полилиния 24"/>
          <p:cNvSpPr/>
          <p:nvPr/>
        </p:nvSpPr>
        <p:spPr>
          <a:xfrm>
            <a:off x="2614680" y="3100320"/>
            <a:ext cx="237960" cy="236520"/>
          </a:xfrm>
          <a:custGeom>
            <a:avLst/>
            <a:gdLst/>
            <a:ahLst/>
            <a:rect l="l" t="t" r="r" b="b"/>
            <a:pathLst>
              <a:path w="237744" h="235944">
                <a:moveTo>
                  <a:pt x="0" y="200637"/>
                </a:moveTo>
                <a:cubicBezTo>
                  <a:pt x="44349" y="230203"/>
                  <a:pt x="40384" y="235944"/>
                  <a:pt x="118872" y="209781"/>
                </a:cubicBezTo>
                <a:cubicBezTo>
                  <a:pt x="129298" y="206306"/>
                  <a:pt x="131064" y="191493"/>
                  <a:pt x="137160" y="182349"/>
                </a:cubicBezTo>
                <a:cubicBezTo>
                  <a:pt x="140208" y="130533"/>
                  <a:pt x="120297" y="71821"/>
                  <a:pt x="146304" y="26901"/>
                </a:cubicBezTo>
                <a:cubicBezTo>
                  <a:pt x="161878" y="0"/>
                  <a:pt x="237744" y="8613"/>
                  <a:pt x="237744" y="8613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олилиния 25"/>
          <p:cNvSpPr/>
          <p:nvPr/>
        </p:nvSpPr>
        <p:spPr>
          <a:xfrm>
            <a:off x="2603520" y="3008160"/>
            <a:ext cx="11160" cy="311400"/>
          </a:xfrm>
          <a:custGeom>
            <a:avLst/>
            <a:gdLst/>
            <a:ahLst/>
            <a:rect l="l" t="t" r="r" b="b"/>
            <a:pathLst>
              <a:path w="12187" h="310896">
                <a:moveTo>
                  <a:pt x="12187" y="310896"/>
                </a:moveTo>
                <a:cubicBezTo>
                  <a:pt x="0" y="103721"/>
                  <a:pt x="3043" y="207354"/>
                  <a:pt x="3043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олилиния 26"/>
          <p:cNvSpPr/>
          <p:nvPr/>
        </p:nvSpPr>
        <p:spPr>
          <a:xfrm>
            <a:off x="2962440" y="209520"/>
            <a:ext cx="45720" cy="201600"/>
          </a:xfrm>
          <a:custGeom>
            <a:avLst/>
            <a:gdLst/>
            <a:ahLst/>
            <a:rect l="l" t="t" r="r" b="b"/>
            <a:pathLst>
              <a:path w="45720" h="201168">
                <a:moveTo>
                  <a:pt x="45720" y="201168"/>
                </a:moveTo>
                <a:cubicBezTo>
                  <a:pt x="42672" y="179832"/>
                  <a:pt x="44313" y="157276"/>
                  <a:pt x="36576" y="137160"/>
                </a:cubicBezTo>
                <a:cubicBezTo>
                  <a:pt x="28686" y="116646"/>
                  <a:pt x="0" y="82296"/>
                  <a:pt x="0" y="82296"/>
                </a:cubicBezTo>
                <a:cubicBezTo>
                  <a:pt x="9522" y="6120"/>
                  <a:pt x="9144" y="33718"/>
                  <a:pt x="9144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олилиния 27"/>
          <p:cNvSpPr/>
          <p:nvPr/>
        </p:nvSpPr>
        <p:spPr>
          <a:xfrm>
            <a:off x="3008160" y="219240"/>
            <a:ext cx="39960" cy="201600"/>
          </a:xfrm>
          <a:custGeom>
            <a:avLst/>
            <a:gdLst/>
            <a:ahLst/>
            <a:rect l="l" t="t" r="r" b="b"/>
            <a:pathLst>
              <a:path w="39809" h="201168">
                <a:moveTo>
                  <a:pt x="0" y="201168"/>
                </a:moveTo>
                <a:cubicBezTo>
                  <a:pt x="6096" y="188976"/>
                  <a:pt x="11525" y="176427"/>
                  <a:pt x="18288" y="164592"/>
                </a:cubicBezTo>
                <a:cubicBezTo>
                  <a:pt x="23740" y="155050"/>
                  <a:pt x="35482" y="148095"/>
                  <a:pt x="36576" y="137160"/>
                </a:cubicBezTo>
                <a:cubicBezTo>
                  <a:pt x="39809" y="104830"/>
                  <a:pt x="28103" y="75164"/>
                  <a:pt x="18288" y="45720"/>
                </a:cubicBezTo>
                <a:cubicBezTo>
                  <a:pt x="28171" y="6187"/>
                  <a:pt x="27432" y="21711"/>
                  <a:pt x="27432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Полилиния 28"/>
          <p:cNvGrpSpPr/>
          <p:nvPr/>
        </p:nvGrpSpPr>
        <p:grpSpPr>
          <a:xfrm>
            <a:off x="2852640" y="268200"/>
            <a:ext cx="231840" cy="165240"/>
            <a:chOff x="2852640" y="268200"/>
            <a:chExt cx="231840" cy="165240"/>
          </a:xfrm>
        </p:grpSpPr>
        <p:pic>
          <p:nvPicPr>
            <p:cNvPr id="456" name="Полилиния 28" descr=""/>
            <p:cNvPicPr/>
            <p:nvPr/>
          </p:nvPicPr>
          <p:blipFill>
            <a:blip r:embed="rId13"/>
            <a:stretch/>
          </p:blipFill>
          <p:spPr>
            <a:xfrm>
              <a:off x="2852640" y="268200"/>
              <a:ext cx="231840" cy="1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2924280" y="311040"/>
              <a:ext cx="10296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Полилиния 29"/>
          <p:cNvSpPr/>
          <p:nvPr/>
        </p:nvSpPr>
        <p:spPr>
          <a:xfrm>
            <a:off x="2687760" y="4435560"/>
            <a:ext cx="210960" cy="172800"/>
          </a:xfrm>
          <a:custGeom>
            <a:avLst/>
            <a:gdLst/>
            <a:ahLst/>
            <a:rect l="l" t="t" r="r" b="b"/>
            <a:pathLst>
              <a:path w="210312" h="173736">
                <a:moveTo>
                  <a:pt x="0" y="173736"/>
                </a:moveTo>
                <a:cubicBezTo>
                  <a:pt x="9101" y="137330"/>
                  <a:pt x="1055" y="134659"/>
                  <a:pt x="36576" y="118872"/>
                </a:cubicBezTo>
                <a:cubicBezTo>
                  <a:pt x="54192" y="111043"/>
                  <a:pt x="91440" y="100584"/>
                  <a:pt x="91440" y="100584"/>
                </a:cubicBezTo>
                <a:cubicBezTo>
                  <a:pt x="100584" y="91440"/>
                  <a:pt x="108664" y="81091"/>
                  <a:pt x="118872" y="73152"/>
                </a:cubicBezTo>
                <a:cubicBezTo>
                  <a:pt x="136222" y="59658"/>
                  <a:pt x="155448" y="48768"/>
                  <a:pt x="173736" y="36576"/>
                </a:cubicBezTo>
                <a:cubicBezTo>
                  <a:pt x="182880" y="30480"/>
                  <a:pt x="196253" y="28118"/>
                  <a:pt x="201168" y="18288"/>
                </a:cubicBezTo>
                <a:lnTo>
                  <a:pt x="210312" y="0"/>
                </a:ln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Полилиния 30"/>
          <p:cNvGrpSpPr/>
          <p:nvPr/>
        </p:nvGrpSpPr>
        <p:grpSpPr>
          <a:xfrm>
            <a:off x="2523960" y="4316400"/>
            <a:ext cx="182880" cy="311040"/>
            <a:chOff x="2523960" y="4316400"/>
            <a:chExt cx="182880" cy="311040"/>
          </a:xfrm>
        </p:grpSpPr>
        <p:pic>
          <p:nvPicPr>
            <p:cNvPr id="460" name="Полилиния 30" descr=""/>
            <p:cNvPicPr/>
            <p:nvPr/>
          </p:nvPicPr>
          <p:blipFill>
            <a:blip r:embed="rId14"/>
            <a:stretch/>
          </p:blipFill>
          <p:spPr>
            <a:xfrm>
              <a:off x="2523960" y="4316400"/>
              <a:ext cx="18288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2550960" y="4334040"/>
              <a:ext cx="1288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Полилиния 31"/>
          <p:cNvGrpSpPr/>
          <p:nvPr/>
        </p:nvGrpSpPr>
        <p:grpSpPr>
          <a:xfrm>
            <a:off x="2646360" y="4280040"/>
            <a:ext cx="212760" cy="352440"/>
            <a:chOff x="2646360" y="4280040"/>
            <a:chExt cx="212760" cy="352440"/>
          </a:xfrm>
        </p:grpSpPr>
        <p:pic>
          <p:nvPicPr>
            <p:cNvPr id="463" name="Полилиния 31" descr=""/>
            <p:cNvPicPr/>
            <p:nvPr/>
          </p:nvPicPr>
          <p:blipFill>
            <a:blip r:embed="rId15"/>
            <a:stretch/>
          </p:blipFill>
          <p:spPr>
            <a:xfrm>
              <a:off x="2646360" y="4280040"/>
              <a:ext cx="21276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2687760" y="4324320"/>
              <a:ext cx="1015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Полилиния 32"/>
          <p:cNvSpPr/>
          <p:nvPr/>
        </p:nvSpPr>
        <p:spPr>
          <a:xfrm>
            <a:off x="2612880" y="4343400"/>
            <a:ext cx="57240" cy="219240"/>
          </a:xfrm>
          <a:custGeom>
            <a:avLst/>
            <a:gdLst/>
            <a:ahLst/>
            <a:rect l="l" t="t" r="r" b="b"/>
            <a:pathLst>
              <a:path w="57400" h="219456">
                <a:moveTo>
                  <a:pt x="57400" y="219456"/>
                </a:moveTo>
                <a:cubicBezTo>
                  <a:pt x="51304" y="210312"/>
                  <a:pt x="46147" y="200467"/>
                  <a:pt x="39112" y="192024"/>
                </a:cubicBezTo>
                <a:cubicBezTo>
                  <a:pt x="30833" y="182090"/>
                  <a:pt x="18853" y="175352"/>
                  <a:pt x="11680" y="164592"/>
                </a:cubicBezTo>
                <a:cubicBezTo>
                  <a:pt x="6333" y="156572"/>
                  <a:pt x="3071" y="146784"/>
                  <a:pt x="2536" y="137160"/>
                </a:cubicBezTo>
                <a:cubicBezTo>
                  <a:pt x="0" y="91510"/>
                  <a:pt x="2536" y="45720"/>
                  <a:pt x="2536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Полилиния 33"/>
          <p:cNvGrpSpPr/>
          <p:nvPr/>
        </p:nvGrpSpPr>
        <p:grpSpPr>
          <a:xfrm>
            <a:off x="4913280" y="907920"/>
            <a:ext cx="1103400" cy="738360"/>
            <a:chOff x="4913280" y="907920"/>
            <a:chExt cx="1103400" cy="738360"/>
          </a:xfrm>
        </p:grpSpPr>
        <p:pic>
          <p:nvPicPr>
            <p:cNvPr id="467" name="Полилиния 33" descr=""/>
            <p:cNvPicPr/>
            <p:nvPr/>
          </p:nvPicPr>
          <p:blipFill>
            <a:blip r:embed="rId16"/>
            <a:stretch/>
          </p:blipFill>
          <p:spPr>
            <a:xfrm>
              <a:off x="4913280" y="936360"/>
              <a:ext cx="1103400" cy="67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4929120" y="907920"/>
              <a:ext cx="10717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Полилиния 34"/>
          <p:cNvSpPr/>
          <p:nvPr/>
        </p:nvSpPr>
        <p:spPr>
          <a:xfrm>
            <a:off x="5111640" y="1308240"/>
            <a:ext cx="88920" cy="366480"/>
          </a:xfrm>
          <a:custGeom>
            <a:avLst/>
            <a:gdLst/>
            <a:ahLst/>
            <a:rect l="l" t="t" r="r" b="b"/>
            <a:pathLst>
              <a:path w="89916" h="367284">
                <a:moveTo>
                  <a:pt x="0" y="0"/>
                </a:moveTo>
                <a:cubicBezTo>
                  <a:pt x="37338" y="18288"/>
                  <a:pt x="74676" y="36576"/>
                  <a:pt x="82296" y="91440"/>
                </a:cubicBezTo>
                <a:cubicBezTo>
                  <a:pt x="89916" y="146304"/>
                  <a:pt x="51816" y="291084"/>
                  <a:pt x="45720" y="329184"/>
                </a:cubicBezTo>
                <a:cubicBezTo>
                  <a:pt x="39624" y="367284"/>
                  <a:pt x="42672" y="343662"/>
                  <a:pt x="45720" y="320040"/>
                </a:cubicBezTo>
              </a:path>
            </a:pathLst>
          </a:custGeom>
          <a:noFill/>
          <a:ln w="12600">
            <a:solidFill>
              <a:srgbClr val="9537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Овал 35"/>
          <p:cNvGrpSpPr/>
          <p:nvPr/>
        </p:nvGrpSpPr>
        <p:grpSpPr>
          <a:xfrm>
            <a:off x="5010120" y="1390680"/>
            <a:ext cx="165240" cy="182520"/>
            <a:chOff x="5010120" y="1390680"/>
            <a:chExt cx="165240" cy="182520"/>
          </a:xfrm>
        </p:grpSpPr>
        <p:pic>
          <p:nvPicPr>
            <p:cNvPr id="471" name="Овал 35" descr=""/>
            <p:cNvPicPr/>
            <p:nvPr/>
          </p:nvPicPr>
          <p:blipFill>
            <a:blip r:embed="rId17"/>
            <a:stretch/>
          </p:blipFill>
          <p:spPr>
            <a:xfrm>
              <a:off x="5010120" y="1390680"/>
              <a:ext cx="16524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5078520" y="1440000"/>
              <a:ext cx="33120" cy="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Полилиния 36"/>
          <p:cNvGrpSpPr/>
          <p:nvPr/>
        </p:nvGrpSpPr>
        <p:grpSpPr>
          <a:xfrm>
            <a:off x="4602240" y="3108240"/>
            <a:ext cx="1347480" cy="452520"/>
            <a:chOff x="4602240" y="3108240"/>
            <a:chExt cx="1347480" cy="452520"/>
          </a:xfrm>
        </p:grpSpPr>
        <p:pic>
          <p:nvPicPr>
            <p:cNvPr id="474" name="Полилиния 36" descr=""/>
            <p:cNvPicPr/>
            <p:nvPr/>
          </p:nvPicPr>
          <p:blipFill>
            <a:blip r:embed="rId18"/>
            <a:stretch/>
          </p:blipFill>
          <p:spPr>
            <a:xfrm>
              <a:off x="4613040" y="3108240"/>
              <a:ext cx="1336680" cy="4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4602240" y="3166920"/>
              <a:ext cx="131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Полилиния 37"/>
          <p:cNvGrpSpPr/>
          <p:nvPr/>
        </p:nvGrpSpPr>
        <p:grpSpPr>
          <a:xfrm>
            <a:off x="5851440" y="2614680"/>
            <a:ext cx="1645920" cy="664920"/>
            <a:chOff x="5851440" y="2614680"/>
            <a:chExt cx="1645920" cy="664920"/>
          </a:xfrm>
        </p:grpSpPr>
        <p:pic>
          <p:nvPicPr>
            <p:cNvPr id="477" name="Полилиния 37" descr=""/>
            <p:cNvPicPr/>
            <p:nvPr/>
          </p:nvPicPr>
          <p:blipFill>
            <a:blip r:embed="rId19"/>
            <a:stretch/>
          </p:blipFill>
          <p:spPr>
            <a:xfrm>
              <a:off x="5851440" y="2614680"/>
              <a:ext cx="161820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5857560" y="2643120"/>
              <a:ext cx="163980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Полилиния 38"/>
          <p:cNvGrpSpPr/>
          <p:nvPr/>
        </p:nvGrpSpPr>
        <p:grpSpPr>
          <a:xfrm>
            <a:off x="6022800" y="2305080"/>
            <a:ext cx="878040" cy="487440"/>
            <a:chOff x="6022800" y="2305080"/>
            <a:chExt cx="878040" cy="487440"/>
          </a:xfrm>
        </p:grpSpPr>
        <p:pic>
          <p:nvPicPr>
            <p:cNvPr id="480" name="Полилиния 38" descr=""/>
            <p:cNvPicPr/>
            <p:nvPr/>
          </p:nvPicPr>
          <p:blipFill>
            <a:blip r:embed="rId20"/>
            <a:stretch/>
          </p:blipFill>
          <p:spPr>
            <a:xfrm>
              <a:off x="6022800" y="2305080"/>
              <a:ext cx="8780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6072120" y="2332080"/>
              <a:ext cx="8114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Полилиния 39"/>
          <p:cNvGrpSpPr/>
          <p:nvPr/>
        </p:nvGrpSpPr>
        <p:grpSpPr>
          <a:xfrm>
            <a:off x="6504120" y="3127320"/>
            <a:ext cx="555480" cy="390600"/>
            <a:chOff x="6504120" y="3127320"/>
            <a:chExt cx="555480" cy="390600"/>
          </a:xfrm>
        </p:grpSpPr>
        <p:pic>
          <p:nvPicPr>
            <p:cNvPr id="483" name="Полилиния 39" descr=""/>
            <p:cNvPicPr/>
            <p:nvPr/>
          </p:nvPicPr>
          <p:blipFill>
            <a:blip r:embed="rId21"/>
            <a:stretch/>
          </p:blipFill>
          <p:spPr>
            <a:xfrm>
              <a:off x="6504120" y="3127320"/>
              <a:ext cx="5554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6572160" y="3143160"/>
              <a:ext cx="4762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Полилиния 40"/>
          <p:cNvGrpSpPr/>
          <p:nvPr/>
        </p:nvGrpSpPr>
        <p:grpSpPr>
          <a:xfrm>
            <a:off x="7111080" y="2670120"/>
            <a:ext cx="430200" cy="435240"/>
            <a:chOff x="7111080" y="2670120"/>
            <a:chExt cx="430200" cy="435240"/>
          </a:xfrm>
        </p:grpSpPr>
        <p:pic>
          <p:nvPicPr>
            <p:cNvPr id="486" name="Полилиния 40" descr=""/>
            <p:cNvPicPr/>
            <p:nvPr/>
          </p:nvPicPr>
          <p:blipFill>
            <a:blip r:embed="rId22"/>
            <a:stretch/>
          </p:blipFill>
          <p:spPr>
            <a:xfrm>
              <a:off x="7155720" y="2670120"/>
              <a:ext cx="378360" cy="3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 rot="876000">
              <a:off x="7149600" y="2714040"/>
              <a:ext cx="3528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Овал 41"/>
          <p:cNvGrpSpPr/>
          <p:nvPr/>
        </p:nvGrpSpPr>
        <p:grpSpPr>
          <a:xfrm>
            <a:off x="7156440" y="2749680"/>
            <a:ext cx="255600" cy="249120"/>
            <a:chOff x="7156440" y="2749680"/>
            <a:chExt cx="255600" cy="249120"/>
          </a:xfrm>
        </p:grpSpPr>
        <p:pic>
          <p:nvPicPr>
            <p:cNvPr id="489" name="Овал 41" descr=""/>
            <p:cNvPicPr/>
            <p:nvPr/>
          </p:nvPicPr>
          <p:blipFill>
            <a:blip r:embed="rId23"/>
            <a:stretch/>
          </p:blipFill>
          <p:spPr>
            <a:xfrm>
              <a:off x="7156440" y="2749680"/>
              <a:ext cx="255600" cy="2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7236000" y="2806560"/>
              <a:ext cx="101520" cy="1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Полилиния 42"/>
          <p:cNvSpPr/>
          <p:nvPr/>
        </p:nvSpPr>
        <p:spPr>
          <a:xfrm>
            <a:off x="7451640" y="2824200"/>
            <a:ext cx="55800" cy="19080"/>
          </a:xfrm>
          <a:custGeom>
            <a:avLst/>
            <a:gdLst/>
            <a:ahLst/>
            <a:rect l="l" t="t" r="r" b="b"/>
            <a:pathLst>
              <a:path w="54864" h="19873">
                <a:moveTo>
                  <a:pt x="-10672" y="10729"/>
                </a:moveTo>
                <a:cubicBezTo>
                  <a:pt x="-19816" y="7681"/>
                  <a:pt x="-28597" y="0"/>
                  <a:pt x="27432" y="1585"/>
                </a:cubicBezTo>
                <a:cubicBezTo>
                  <a:pt x="16592" y="3392"/>
                  <a:pt x="0" y="19873"/>
                  <a:pt x="0" y="19873"/>
                </a:cubicBezTo>
              </a:path>
            </a:pathLst>
          </a:custGeom>
          <a:noFill/>
          <a:ln w="19080">
            <a:solidFill>
              <a:srgbClr val="558e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олилиния 43"/>
          <p:cNvSpPr/>
          <p:nvPr/>
        </p:nvSpPr>
        <p:spPr>
          <a:xfrm>
            <a:off x="4965840" y="1471680"/>
            <a:ext cx="72720" cy="28440"/>
          </a:xfrm>
          <a:custGeom>
            <a:avLst/>
            <a:gdLst/>
            <a:ahLst/>
            <a:rect l="l" t="t" r="r" b="b"/>
            <a:pathLst>
              <a:path w="73152" h="28628">
                <a:moveTo>
                  <a:pt x="0" y="0"/>
                </a:moveTo>
                <a:cubicBezTo>
                  <a:pt x="23119" y="15413"/>
                  <a:pt x="27823" y="22024"/>
                  <a:pt x="54864" y="27432"/>
                </a:cubicBezTo>
                <a:cubicBezTo>
                  <a:pt x="60842" y="28628"/>
                  <a:pt x="67056" y="27432"/>
                  <a:pt x="73152" y="27432"/>
                </a:cubicBezTo>
              </a:path>
            </a:pathLst>
          </a:custGeom>
          <a:noFill/>
          <a:ln w="28440">
            <a:solidFill>
              <a:srgbClr val="9537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олилиния 44"/>
          <p:cNvSpPr/>
          <p:nvPr/>
        </p:nvSpPr>
        <p:spPr>
          <a:xfrm>
            <a:off x="7245360" y="120600"/>
            <a:ext cx="1670040" cy="6864480"/>
          </a:xfrm>
          <a:custGeom>
            <a:avLst/>
            <a:gdLst/>
            <a:ahLst/>
            <a:rect l="l" t="t" r="r" b="b"/>
            <a:pathLst>
              <a:path w="1670304" h="6864096">
                <a:moveTo>
                  <a:pt x="627888" y="6719316"/>
                </a:moveTo>
                <a:cubicBezTo>
                  <a:pt x="703326" y="6584442"/>
                  <a:pt x="778764" y="6449568"/>
                  <a:pt x="783336" y="6134100"/>
                </a:cubicBezTo>
                <a:cubicBezTo>
                  <a:pt x="787908" y="5818632"/>
                  <a:pt x="603504" y="5231892"/>
                  <a:pt x="655320" y="4826508"/>
                </a:cubicBezTo>
                <a:cubicBezTo>
                  <a:pt x="707136" y="4421124"/>
                  <a:pt x="929640" y="4283964"/>
                  <a:pt x="1094232" y="3701796"/>
                </a:cubicBezTo>
                <a:cubicBezTo>
                  <a:pt x="1258824" y="3119628"/>
                  <a:pt x="1615440" y="1923288"/>
                  <a:pt x="1642872" y="1333500"/>
                </a:cubicBezTo>
                <a:cubicBezTo>
                  <a:pt x="1670304" y="743712"/>
                  <a:pt x="1325880" y="326136"/>
                  <a:pt x="1258824" y="163068"/>
                </a:cubicBezTo>
                <a:cubicBezTo>
                  <a:pt x="1191768" y="0"/>
                  <a:pt x="1205484" y="220980"/>
                  <a:pt x="1240536" y="355092"/>
                </a:cubicBezTo>
                <a:cubicBezTo>
                  <a:pt x="1275588" y="489204"/>
                  <a:pt x="1446276" y="714756"/>
                  <a:pt x="1469136" y="967740"/>
                </a:cubicBezTo>
                <a:cubicBezTo>
                  <a:pt x="1491996" y="1220724"/>
                  <a:pt x="1481328" y="1455420"/>
                  <a:pt x="1377696" y="1872996"/>
                </a:cubicBezTo>
                <a:cubicBezTo>
                  <a:pt x="1274064" y="2290572"/>
                  <a:pt x="1019556" y="3075432"/>
                  <a:pt x="847344" y="3473196"/>
                </a:cubicBezTo>
                <a:cubicBezTo>
                  <a:pt x="675132" y="3870960"/>
                  <a:pt x="454152" y="3982212"/>
                  <a:pt x="344424" y="4259580"/>
                </a:cubicBezTo>
                <a:cubicBezTo>
                  <a:pt x="234696" y="4536948"/>
                  <a:pt x="175260" y="4834128"/>
                  <a:pt x="188976" y="5137404"/>
                </a:cubicBezTo>
                <a:cubicBezTo>
                  <a:pt x="202692" y="5440680"/>
                  <a:pt x="448056" y="5809488"/>
                  <a:pt x="426720" y="6079236"/>
                </a:cubicBezTo>
                <a:cubicBezTo>
                  <a:pt x="405384" y="6348984"/>
                  <a:pt x="121920" y="6647688"/>
                  <a:pt x="60960" y="6755892"/>
                </a:cubicBezTo>
                <a:cubicBezTo>
                  <a:pt x="0" y="6864096"/>
                  <a:pt x="30480" y="6796278"/>
                  <a:pt x="60960" y="6728460"/>
                </a:cubicBez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10800000"/>
          </a:gradFill>
          <a:ln w="93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олилиния 45"/>
          <p:cNvSpPr/>
          <p:nvPr/>
        </p:nvSpPr>
        <p:spPr>
          <a:xfrm>
            <a:off x="7970760" y="239760"/>
            <a:ext cx="716040" cy="6637320"/>
          </a:xfrm>
          <a:custGeom>
            <a:avLst/>
            <a:gdLst/>
            <a:ahLst/>
            <a:rect l="l" t="t" r="r" b="b"/>
            <a:pathLst>
              <a:path w="716280" h="6637020">
                <a:moveTo>
                  <a:pt x="432816" y="6609588"/>
                </a:moveTo>
                <a:cubicBezTo>
                  <a:pt x="489204" y="6460998"/>
                  <a:pt x="545592" y="6312408"/>
                  <a:pt x="533400" y="5969508"/>
                </a:cubicBezTo>
                <a:cubicBezTo>
                  <a:pt x="521208" y="5626608"/>
                  <a:pt x="441960" y="5085588"/>
                  <a:pt x="359664" y="4552188"/>
                </a:cubicBezTo>
                <a:cubicBezTo>
                  <a:pt x="277368" y="4018788"/>
                  <a:pt x="79248" y="3473196"/>
                  <a:pt x="39624" y="2769108"/>
                </a:cubicBezTo>
                <a:cubicBezTo>
                  <a:pt x="0" y="2065020"/>
                  <a:pt x="106680" y="655320"/>
                  <a:pt x="121920" y="327660"/>
                </a:cubicBezTo>
                <a:cubicBezTo>
                  <a:pt x="137160" y="0"/>
                  <a:pt x="134112" y="573024"/>
                  <a:pt x="131064" y="803148"/>
                </a:cubicBezTo>
                <a:cubicBezTo>
                  <a:pt x="128016" y="1033272"/>
                  <a:pt x="103632" y="1408176"/>
                  <a:pt x="103632" y="1708404"/>
                </a:cubicBezTo>
                <a:cubicBezTo>
                  <a:pt x="103632" y="2008632"/>
                  <a:pt x="109728" y="2328672"/>
                  <a:pt x="131064" y="2604516"/>
                </a:cubicBezTo>
                <a:cubicBezTo>
                  <a:pt x="152400" y="2880360"/>
                  <a:pt x="158496" y="3022092"/>
                  <a:pt x="231648" y="3363468"/>
                </a:cubicBezTo>
                <a:cubicBezTo>
                  <a:pt x="304800" y="3704844"/>
                  <a:pt x="493776" y="4308348"/>
                  <a:pt x="569976" y="4652772"/>
                </a:cubicBezTo>
                <a:cubicBezTo>
                  <a:pt x="646176" y="4997196"/>
                  <a:pt x="664464" y="5131308"/>
                  <a:pt x="688848" y="5430012"/>
                </a:cubicBezTo>
                <a:cubicBezTo>
                  <a:pt x="713232" y="5728716"/>
                  <a:pt x="716280" y="6252972"/>
                  <a:pt x="716280" y="6444996"/>
                </a:cubicBezTo>
                <a:cubicBezTo>
                  <a:pt x="716280" y="6637020"/>
                  <a:pt x="688848" y="6582156"/>
                  <a:pt x="688848" y="6582156"/>
                </a:cubicBezTo>
                <a:lnTo>
                  <a:pt x="688848" y="6582156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олилиния 46"/>
          <p:cNvSpPr/>
          <p:nvPr/>
        </p:nvSpPr>
        <p:spPr>
          <a:xfrm>
            <a:off x="5905440" y="3878280"/>
            <a:ext cx="1055880" cy="2970360"/>
          </a:xfrm>
          <a:custGeom>
            <a:avLst/>
            <a:gdLst/>
            <a:ahLst/>
            <a:rect l="l" t="t" r="r" b="b"/>
            <a:pathLst>
              <a:path w="1056132" h="2970276">
                <a:moveTo>
                  <a:pt x="138684" y="2970276"/>
                </a:moveTo>
                <a:cubicBezTo>
                  <a:pt x="69342" y="2670810"/>
                  <a:pt x="0" y="2371344"/>
                  <a:pt x="28956" y="2138172"/>
                </a:cubicBezTo>
                <a:cubicBezTo>
                  <a:pt x="57912" y="1905000"/>
                  <a:pt x="172212" y="1824228"/>
                  <a:pt x="312420" y="1571244"/>
                </a:cubicBezTo>
                <a:cubicBezTo>
                  <a:pt x="452628" y="1318260"/>
                  <a:pt x="783336" y="873252"/>
                  <a:pt x="870204" y="620268"/>
                </a:cubicBezTo>
                <a:cubicBezTo>
                  <a:pt x="957072" y="367284"/>
                  <a:pt x="815340" y="106680"/>
                  <a:pt x="833628" y="53340"/>
                </a:cubicBezTo>
                <a:cubicBezTo>
                  <a:pt x="851916" y="0"/>
                  <a:pt x="955548" y="175260"/>
                  <a:pt x="979932" y="300228"/>
                </a:cubicBezTo>
                <a:cubicBezTo>
                  <a:pt x="1004316" y="425196"/>
                  <a:pt x="1056132" y="603504"/>
                  <a:pt x="979932" y="803148"/>
                </a:cubicBezTo>
                <a:cubicBezTo>
                  <a:pt x="903732" y="1002792"/>
                  <a:pt x="658368" y="1275588"/>
                  <a:pt x="522732" y="1498092"/>
                </a:cubicBezTo>
                <a:cubicBezTo>
                  <a:pt x="387096" y="1720596"/>
                  <a:pt x="216408" y="1892808"/>
                  <a:pt x="166116" y="2138172"/>
                </a:cubicBezTo>
                <a:cubicBezTo>
                  <a:pt x="115824" y="2383536"/>
                  <a:pt x="220980" y="2970276"/>
                  <a:pt x="220980" y="2970276"/>
                </a:cubicBezTo>
                <a:lnTo>
                  <a:pt x="220980" y="2970276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plant"/>
          <p:cNvGrpSpPr/>
          <p:nvPr/>
        </p:nvGrpSpPr>
        <p:grpSpPr>
          <a:xfrm>
            <a:off x="3462480" y="5614920"/>
            <a:ext cx="933480" cy="627120"/>
            <a:chOff x="3462480" y="5614920"/>
            <a:chExt cx="933480" cy="627120"/>
          </a:xfrm>
        </p:grpSpPr>
        <p:pic>
          <p:nvPicPr>
            <p:cNvPr id="497" name="plant" descr=""/>
            <p:cNvPicPr/>
            <p:nvPr/>
          </p:nvPicPr>
          <p:blipFill>
            <a:blip r:embed="rId24"/>
            <a:stretch/>
          </p:blipFill>
          <p:spPr>
            <a:xfrm>
              <a:off x="3462480" y="5614920"/>
              <a:ext cx="93348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3759120" y="5877000"/>
              <a:ext cx="2700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plant"/>
          <p:cNvGrpSpPr/>
          <p:nvPr/>
        </p:nvGrpSpPr>
        <p:grpSpPr>
          <a:xfrm>
            <a:off x="5241960" y="5041800"/>
            <a:ext cx="652320" cy="414360"/>
            <a:chOff x="5241960" y="5041800"/>
            <a:chExt cx="652320" cy="414360"/>
          </a:xfrm>
        </p:grpSpPr>
        <p:pic>
          <p:nvPicPr>
            <p:cNvPr id="500" name="plant" descr=""/>
            <p:cNvPicPr/>
            <p:nvPr/>
          </p:nvPicPr>
          <p:blipFill>
            <a:blip r:embed="rId25"/>
            <a:stretch/>
          </p:blipFill>
          <p:spPr>
            <a:xfrm>
              <a:off x="5241960" y="5041800"/>
              <a:ext cx="6523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5451480" y="5205240"/>
              <a:ext cx="171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plant"/>
          <p:cNvGrpSpPr/>
          <p:nvPr/>
        </p:nvGrpSpPr>
        <p:grpSpPr>
          <a:xfrm>
            <a:off x="6461280" y="5827680"/>
            <a:ext cx="1073160" cy="768240"/>
            <a:chOff x="6461280" y="5827680"/>
            <a:chExt cx="1073160" cy="768240"/>
          </a:xfrm>
        </p:grpSpPr>
        <p:pic>
          <p:nvPicPr>
            <p:cNvPr id="503" name="plant" descr=""/>
            <p:cNvPicPr/>
            <p:nvPr/>
          </p:nvPicPr>
          <p:blipFill>
            <a:blip r:embed="rId26"/>
            <a:stretch/>
          </p:blipFill>
          <p:spPr>
            <a:xfrm>
              <a:off x="6461280" y="5827680"/>
              <a:ext cx="10731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6805440" y="6157800"/>
              <a:ext cx="320760" cy="1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5" name="Picture 3" descr="C:\Program Files\Microsoft Office\MEDIA\OFFICE12\Bullets\BD14793_.gif"/>
          <p:cNvPicPr/>
          <p:nvPr/>
        </p:nvPicPr>
        <p:blipFill>
          <a:blip r:embed="rId27"/>
          <a:stretch/>
        </p:blipFill>
        <p:spPr>
          <a:xfrm>
            <a:off x="4127400" y="5194440"/>
            <a:ext cx="457200" cy="3045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C:\Program Files\Microsoft Office\MEDIA\OFFICE12\Bullets\BD14793_.gif"/>
          <p:cNvPicPr/>
          <p:nvPr/>
        </p:nvPicPr>
        <p:blipFill>
          <a:blip r:embed="rId28"/>
          <a:stretch/>
        </p:blipFill>
        <p:spPr>
          <a:xfrm>
            <a:off x="5194440" y="6126120"/>
            <a:ext cx="529920" cy="3841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C:\Program Files\Microsoft Office\MEDIA\OFFICE12\Lines\BD21332_.gif"/>
          <p:cNvPicPr/>
          <p:nvPr/>
        </p:nvPicPr>
        <p:blipFill>
          <a:blip r:embed="rId29"/>
          <a:stretch/>
        </p:blipFill>
        <p:spPr>
          <a:xfrm>
            <a:off x="3143160" y="657216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C:\Program Files\Microsoft Office\MEDIA\OFFICE12\Lines\BD21332_.gif"/>
          <p:cNvPicPr/>
          <p:nvPr/>
        </p:nvPicPr>
        <p:blipFill>
          <a:blip r:embed="rId30"/>
          <a:stretch/>
        </p:blipFill>
        <p:spPr>
          <a:xfrm>
            <a:off x="1407960" y="6340320"/>
            <a:ext cx="5059440" cy="3160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C:\Program Files\Microsoft Office\MEDIA\OFFICE12\Lines\BD21332_.gif"/>
          <p:cNvPicPr/>
          <p:nvPr/>
        </p:nvPicPr>
        <p:blipFill>
          <a:blip r:embed="rId31"/>
          <a:stretch/>
        </p:blipFill>
        <p:spPr>
          <a:xfrm>
            <a:off x="0" y="621504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" descr="C:\Program Files\Microsoft Office\MEDIA\OFFICE12\Lines\BD21332_.gif"/>
          <p:cNvPicPr/>
          <p:nvPr/>
        </p:nvPicPr>
        <p:blipFill>
          <a:blip r:embed="rId32"/>
          <a:stretch/>
        </p:blipFill>
        <p:spPr>
          <a:xfrm>
            <a:off x="0" y="6572160"/>
            <a:ext cx="5029200" cy="285840"/>
          </a:xfrm>
          <a:prstGeom prst="rect">
            <a:avLst/>
          </a:prstGeom>
          <a:ln w="0">
            <a:noFill/>
          </a:ln>
        </p:spPr>
      </p:pic>
      <p:sp>
        <p:nvSpPr>
          <p:cNvPr id="511" name="Полилиния 56"/>
          <p:cNvSpPr/>
          <p:nvPr/>
        </p:nvSpPr>
        <p:spPr>
          <a:xfrm>
            <a:off x="2786040" y="657360"/>
            <a:ext cx="806400" cy="6200640"/>
          </a:xfrm>
          <a:custGeom>
            <a:avLst/>
            <a:gdLst/>
            <a:ahLst/>
            <a:rect l="l" t="t" r="r" b="b"/>
            <a:pathLst>
              <a:path w="806196" h="6201156">
                <a:moveTo>
                  <a:pt x="141732" y="6111240"/>
                </a:moveTo>
                <a:cubicBezTo>
                  <a:pt x="216408" y="5948172"/>
                  <a:pt x="291084" y="5785104"/>
                  <a:pt x="269748" y="5407152"/>
                </a:cubicBezTo>
                <a:cubicBezTo>
                  <a:pt x="248412" y="5029200"/>
                  <a:pt x="27432" y="4366260"/>
                  <a:pt x="13716" y="3843528"/>
                </a:cubicBezTo>
                <a:cubicBezTo>
                  <a:pt x="0" y="3320796"/>
                  <a:pt x="77724" y="2779776"/>
                  <a:pt x="187452" y="2270760"/>
                </a:cubicBezTo>
                <a:cubicBezTo>
                  <a:pt x="297180" y="1761744"/>
                  <a:pt x="615696" y="1158240"/>
                  <a:pt x="672084" y="789432"/>
                </a:cubicBezTo>
                <a:cubicBezTo>
                  <a:pt x="728472" y="420624"/>
                  <a:pt x="512064" y="115824"/>
                  <a:pt x="525780" y="57912"/>
                </a:cubicBezTo>
                <a:cubicBezTo>
                  <a:pt x="539496" y="0"/>
                  <a:pt x="716280" y="239268"/>
                  <a:pt x="754380" y="441960"/>
                </a:cubicBezTo>
                <a:cubicBezTo>
                  <a:pt x="792480" y="644652"/>
                  <a:pt x="806196" y="964692"/>
                  <a:pt x="754380" y="1274064"/>
                </a:cubicBezTo>
                <a:cubicBezTo>
                  <a:pt x="702564" y="1583436"/>
                  <a:pt x="530352" y="1999488"/>
                  <a:pt x="443484" y="2298192"/>
                </a:cubicBezTo>
                <a:cubicBezTo>
                  <a:pt x="356616" y="2596896"/>
                  <a:pt x="260604" y="2778252"/>
                  <a:pt x="233172" y="3066288"/>
                </a:cubicBezTo>
                <a:cubicBezTo>
                  <a:pt x="205740" y="3354324"/>
                  <a:pt x="233172" y="3709416"/>
                  <a:pt x="278892" y="4026408"/>
                </a:cubicBezTo>
                <a:cubicBezTo>
                  <a:pt x="324612" y="4343400"/>
                  <a:pt x="473964" y="4660392"/>
                  <a:pt x="507492" y="4968240"/>
                </a:cubicBezTo>
                <a:cubicBezTo>
                  <a:pt x="541020" y="5276088"/>
                  <a:pt x="490728" y="5675376"/>
                  <a:pt x="480060" y="5873496"/>
                </a:cubicBezTo>
                <a:cubicBezTo>
                  <a:pt x="469392" y="6071616"/>
                  <a:pt x="449580" y="6112764"/>
                  <a:pt x="443484" y="6156960"/>
                </a:cubicBezTo>
                <a:cubicBezTo>
                  <a:pt x="437388" y="6201156"/>
                  <a:pt x="443484" y="6138672"/>
                  <a:pt x="443484" y="6138672"/>
                </a:cubicBez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10800000"/>
          </a:gradFill>
          <a:ln w="93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олилиния 57"/>
          <p:cNvSpPr/>
          <p:nvPr/>
        </p:nvSpPr>
        <p:spPr>
          <a:xfrm>
            <a:off x="4865760" y="3306600"/>
            <a:ext cx="446040" cy="3679920"/>
          </a:xfrm>
          <a:custGeom>
            <a:avLst/>
            <a:gdLst/>
            <a:ahLst/>
            <a:rect l="l" t="t" r="r" b="b"/>
            <a:pathLst>
              <a:path w="445008" h="3678936">
                <a:moveTo>
                  <a:pt x="80772" y="3560064"/>
                </a:moveTo>
                <a:cubicBezTo>
                  <a:pt x="93726" y="3268980"/>
                  <a:pt x="106680" y="2977896"/>
                  <a:pt x="99060" y="2746248"/>
                </a:cubicBezTo>
                <a:cubicBezTo>
                  <a:pt x="91440" y="2514600"/>
                  <a:pt x="0" y="2549652"/>
                  <a:pt x="35052" y="2170176"/>
                </a:cubicBezTo>
                <a:cubicBezTo>
                  <a:pt x="70104" y="1790700"/>
                  <a:pt x="260604" y="830580"/>
                  <a:pt x="309372" y="469392"/>
                </a:cubicBezTo>
                <a:cubicBezTo>
                  <a:pt x="358140" y="108204"/>
                  <a:pt x="306324" y="0"/>
                  <a:pt x="327660" y="3048"/>
                </a:cubicBezTo>
                <a:cubicBezTo>
                  <a:pt x="348996" y="6096"/>
                  <a:pt x="445008" y="265176"/>
                  <a:pt x="437388" y="487680"/>
                </a:cubicBezTo>
                <a:cubicBezTo>
                  <a:pt x="429768" y="710184"/>
                  <a:pt x="326136" y="1077468"/>
                  <a:pt x="281940" y="1338072"/>
                </a:cubicBezTo>
                <a:cubicBezTo>
                  <a:pt x="237744" y="1598676"/>
                  <a:pt x="181356" y="1844040"/>
                  <a:pt x="172212" y="2051304"/>
                </a:cubicBezTo>
                <a:cubicBezTo>
                  <a:pt x="163068" y="2258568"/>
                  <a:pt x="211836" y="2336292"/>
                  <a:pt x="227076" y="2581656"/>
                </a:cubicBezTo>
                <a:cubicBezTo>
                  <a:pt x="242316" y="2827020"/>
                  <a:pt x="257556" y="3368040"/>
                  <a:pt x="263652" y="3523488"/>
                </a:cubicBezTo>
                <a:cubicBezTo>
                  <a:pt x="269748" y="3678936"/>
                  <a:pt x="266700" y="3596640"/>
                  <a:pt x="263652" y="3514344"/>
                </a:cubicBez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Полилиния 58"/>
          <p:cNvGrpSpPr/>
          <p:nvPr/>
        </p:nvGrpSpPr>
        <p:grpSpPr>
          <a:xfrm>
            <a:off x="30240" y="6632640"/>
            <a:ext cx="9137160" cy="231840"/>
            <a:chOff x="30240" y="6632640"/>
            <a:chExt cx="9137160" cy="231840"/>
          </a:xfrm>
        </p:grpSpPr>
        <p:pic>
          <p:nvPicPr>
            <p:cNvPr id="514" name="Полилиния 58" descr=""/>
            <p:cNvPicPr/>
            <p:nvPr/>
          </p:nvPicPr>
          <p:blipFill>
            <a:blip r:embed="rId33"/>
            <a:stretch/>
          </p:blipFill>
          <p:spPr>
            <a:xfrm>
              <a:off x="30240" y="6632640"/>
              <a:ext cx="9127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37800" y="6640560"/>
              <a:ext cx="91296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Полилиния 59"/>
          <p:cNvSpPr/>
          <p:nvPr/>
        </p:nvSpPr>
        <p:spPr>
          <a:xfrm>
            <a:off x="93600" y="6773760"/>
            <a:ext cx="8966160" cy="84240"/>
          </a:xfrm>
          <a:custGeom>
            <a:avLst/>
            <a:gdLst/>
            <a:ahLst/>
            <a:rect l="l" t="t" r="r" b="b"/>
            <a:pathLst>
              <a:path w="8966718" h="83976">
                <a:moveTo>
                  <a:pt x="0" y="0"/>
                </a:moveTo>
                <a:cubicBezTo>
                  <a:pt x="4665" y="27214"/>
                  <a:pt x="9331" y="54429"/>
                  <a:pt x="9331" y="65315"/>
                </a:cubicBezTo>
                <a:cubicBezTo>
                  <a:pt x="9331" y="76201"/>
                  <a:pt x="0" y="65315"/>
                  <a:pt x="0" y="65315"/>
                </a:cubicBezTo>
                <a:lnTo>
                  <a:pt x="74645" y="65315"/>
                </a:lnTo>
                <a:lnTo>
                  <a:pt x="195943" y="65315"/>
                </a:lnTo>
                <a:lnTo>
                  <a:pt x="8966718" y="83976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олилиния 60"/>
          <p:cNvSpPr/>
          <p:nvPr/>
        </p:nvSpPr>
        <p:spPr>
          <a:xfrm>
            <a:off x="8943840" y="6802560"/>
            <a:ext cx="190800" cy="37800"/>
          </a:xfrm>
          <a:custGeom>
            <a:avLst/>
            <a:gdLst/>
            <a:ahLst/>
            <a:rect l="l" t="t" r="r" b="b"/>
            <a:pathLst>
              <a:path w="191277" h="38878">
                <a:moveTo>
                  <a:pt x="191277" y="9331"/>
                </a:moveTo>
                <a:cubicBezTo>
                  <a:pt x="118965" y="24104"/>
                  <a:pt x="46653" y="38878"/>
                  <a:pt x="23326" y="37323"/>
                </a:cubicBezTo>
                <a:cubicBezTo>
                  <a:pt x="0" y="35768"/>
                  <a:pt x="25659" y="17884"/>
                  <a:pt x="51318" y="0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Полилиния 61"/>
          <p:cNvGrpSpPr/>
          <p:nvPr/>
        </p:nvGrpSpPr>
        <p:grpSpPr>
          <a:xfrm>
            <a:off x="1298520" y="2762280"/>
            <a:ext cx="792000" cy="493560"/>
            <a:chOff x="1298520" y="2762280"/>
            <a:chExt cx="792000" cy="493560"/>
          </a:xfrm>
        </p:grpSpPr>
        <p:pic>
          <p:nvPicPr>
            <p:cNvPr id="519" name="Полилиния 61" descr=""/>
            <p:cNvPicPr/>
            <p:nvPr/>
          </p:nvPicPr>
          <p:blipFill>
            <a:blip r:embed="rId34"/>
            <a:stretch/>
          </p:blipFill>
          <p:spPr>
            <a:xfrm>
              <a:off x="1310760" y="2762280"/>
              <a:ext cx="7797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298520" y="2786040"/>
              <a:ext cx="779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Полилиния 62"/>
          <p:cNvGrpSpPr/>
          <p:nvPr/>
        </p:nvGrpSpPr>
        <p:grpSpPr>
          <a:xfrm>
            <a:off x="835200" y="2487600"/>
            <a:ext cx="493560" cy="1170000"/>
            <a:chOff x="835200" y="2487600"/>
            <a:chExt cx="493560" cy="1170000"/>
          </a:xfrm>
        </p:grpSpPr>
        <p:pic>
          <p:nvPicPr>
            <p:cNvPr id="522" name="Полилиния 62" descr=""/>
            <p:cNvPicPr/>
            <p:nvPr/>
          </p:nvPicPr>
          <p:blipFill>
            <a:blip r:embed="rId35"/>
            <a:stretch/>
          </p:blipFill>
          <p:spPr>
            <a:xfrm>
              <a:off x="835200" y="2487600"/>
              <a:ext cx="49356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851040" y="2489040"/>
              <a:ext cx="46800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Полилиния 63"/>
          <p:cNvGrpSpPr/>
          <p:nvPr/>
        </p:nvGrpSpPr>
        <p:grpSpPr>
          <a:xfrm>
            <a:off x="792000" y="2895480"/>
            <a:ext cx="396720" cy="993600"/>
            <a:chOff x="792000" y="2895480"/>
            <a:chExt cx="396720" cy="993600"/>
          </a:xfrm>
        </p:grpSpPr>
        <p:pic>
          <p:nvPicPr>
            <p:cNvPr id="525" name="Полилиния 63" descr=""/>
            <p:cNvPicPr/>
            <p:nvPr/>
          </p:nvPicPr>
          <p:blipFill>
            <a:blip r:embed="rId36"/>
            <a:stretch/>
          </p:blipFill>
          <p:spPr>
            <a:xfrm>
              <a:off x="792000" y="2896560"/>
              <a:ext cx="395640" cy="9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801360" y="2895480"/>
              <a:ext cx="38736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Полилиния 64"/>
          <p:cNvGrpSpPr/>
          <p:nvPr/>
        </p:nvGrpSpPr>
        <p:grpSpPr>
          <a:xfrm>
            <a:off x="1542960" y="2511360"/>
            <a:ext cx="341280" cy="390600"/>
            <a:chOff x="1542960" y="2511360"/>
            <a:chExt cx="341280" cy="390600"/>
          </a:xfrm>
        </p:grpSpPr>
        <p:pic>
          <p:nvPicPr>
            <p:cNvPr id="528" name="Полилиния 64" descr=""/>
            <p:cNvPicPr/>
            <p:nvPr/>
          </p:nvPicPr>
          <p:blipFill>
            <a:blip r:embed="rId37"/>
            <a:stretch/>
          </p:blipFill>
          <p:spPr>
            <a:xfrm>
              <a:off x="1542960" y="2511360"/>
              <a:ext cx="3412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1563840" y="2554200"/>
              <a:ext cx="307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Полилиния 65"/>
          <p:cNvGrpSpPr/>
          <p:nvPr/>
        </p:nvGrpSpPr>
        <p:grpSpPr>
          <a:xfrm>
            <a:off x="1706400" y="3187800"/>
            <a:ext cx="177840" cy="403200"/>
            <a:chOff x="1706400" y="3187800"/>
            <a:chExt cx="177840" cy="403200"/>
          </a:xfrm>
        </p:grpSpPr>
        <p:pic>
          <p:nvPicPr>
            <p:cNvPr id="531" name="Полилиния 65" descr=""/>
            <p:cNvPicPr/>
            <p:nvPr/>
          </p:nvPicPr>
          <p:blipFill>
            <a:blip r:embed="rId38"/>
            <a:stretch/>
          </p:blipFill>
          <p:spPr>
            <a:xfrm>
              <a:off x="1706400" y="3187800"/>
              <a:ext cx="17784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1738440" y="3187800"/>
              <a:ext cx="12852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Полилиния 66"/>
          <p:cNvGrpSpPr/>
          <p:nvPr/>
        </p:nvGrpSpPr>
        <p:grpSpPr>
          <a:xfrm>
            <a:off x="1468440" y="3193920"/>
            <a:ext cx="360360" cy="298440"/>
            <a:chOff x="1468440" y="3193920"/>
            <a:chExt cx="360360" cy="298440"/>
          </a:xfrm>
        </p:grpSpPr>
        <p:pic>
          <p:nvPicPr>
            <p:cNvPr id="534" name="Полилиния 66" descr=""/>
            <p:cNvPicPr/>
            <p:nvPr/>
          </p:nvPicPr>
          <p:blipFill>
            <a:blip r:embed="rId39"/>
            <a:stretch/>
          </p:blipFill>
          <p:spPr>
            <a:xfrm>
              <a:off x="1468440" y="3193920"/>
              <a:ext cx="36036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1504800" y="3197160"/>
              <a:ext cx="3160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Полилиния 67"/>
          <p:cNvSpPr/>
          <p:nvPr/>
        </p:nvSpPr>
        <p:spPr>
          <a:xfrm>
            <a:off x="1084320" y="2685960"/>
            <a:ext cx="820800" cy="4253040"/>
          </a:xfrm>
          <a:custGeom>
            <a:avLst/>
            <a:gdLst/>
            <a:ahLst/>
            <a:rect l="l" t="t" r="r" b="b"/>
            <a:pathLst>
              <a:path w="821436" h="4253484">
                <a:moveTo>
                  <a:pt x="324612" y="4172712"/>
                </a:moveTo>
                <a:cubicBezTo>
                  <a:pt x="197358" y="3982212"/>
                  <a:pt x="70104" y="3791712"/>
                  <a:pt x="59436" y="3514344"/>
                </a:cubicBezTo>
                <a:cubicBezTo>
                  <a:pt x="48768" y="3236976"/>
                  <a:pt x="236220" y="2830068"/>
                  <a:pt x="260604" y="2508504"/>
                </a:cubicBezTo>
                <a:cubicBezTo>
                  <a:pt x="284988" y="2186940"/>
                  <a:pt x="246888" y="1972056"/>
                  <a:pt x="205740" y="1584960"/>
                </a:cubicBezTo>
                <a:cubicBezTo>
                  <a:pt x="164592" y="1197864"/>
                  <a:pt x="27432" y="371856"/>
                  <a:pt x="13716" y="185928"/>
                </a:cubicBezTo>
                <a:cubicBezTo>
                  <a:pt x="0" y="0"/>
                  <a:pt x="99060" y="356616"/>
                  <a:pt x="123444" y="469392"/>
                </a:cubicBezTo>
                <a:cubicBezTo>
                  <a:pt x="147828" y="582168"/>
                  <a:pt x="124968" y="679704"/>
                  <a:pt x="160020" y="862584"/>
                </a:cubicBezTo>
                <a:cubicBezTo>
                  <a:pt x="195072" y="1045464"/>
                  <a:pt x="286512" y="1251204"/>
                  <a:pt x="333756" y="1566672"/>
                </a:cubicBezTo>
                <a:cubicBezTo>
                  <a:pt x="381000" y="1882140"/>
                  <a:pt x="431292" y="2406396"/>
                  <a:pt x="443484" y="2755392"/>
                </a:cubicBezTo>
                <a:cubicBezTo>
                  <a:pt x="455676" y="3104388"/>
                  <a:pt x="353568" y="3424428"/>
                  <a:pt x="406908" y="3660648"/>
                </a:cubicBezTo>
                <a:cubicBezTo>
                  <a:pt x="460248" y="3896868"/>
                  <a:pt x="705612" y="4091940"/>
                  <a:pt x="763524" y="4172712"/>
                </a:cubicBezTo>
                <a:cubicBezTo>
                  <a:pt x="821436" y="4253484"/>
                  <a:pt x="758952" y="4151376"/>
                  <a:pt x="754380" y="4145280"/>
                </a:cubicBezTo>
                <a:cubicBezTo>
                  <a:pt x="749808" y="4139184"/>
                  <a:pt x="742950" y="4137660"/>
                  <a:pt x="736092" y="4136136"/>
                </a:cubicBezTo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156b13"/>
              </a:gs>
            </a:gsLst>
            <a:lin ang="2700000"/>
          </a:gradFill>
          <a:ln w="93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Овал 68"/>
          <p:cNvGrpSpPr/>
          <p:nvPr/>
        </p:nvGrpSpPr>
        <p:grpSpPr>
          <a:xfrm>
            <a:off x="1901880" y="3048120"/>
            <a:ext cx="92160" cy="85680"/>
            <a:chOff x="1901880" y="3048120"/>
            <a:chExt cx="92160" cy="85680"/>
          </a:xfrm>
        </p:grpSpPr>
        <p:pic>
          <p:nvPicPr>
            <p:cNvPr id="538" name="Овал 68" descr=""/>
            <p:cNvPicPr/>
            <p:nvPr/>
          </p:nvPicPr>
          <p:blipFill>
            <a:blip r:embed="rId40"/>
            <a:stretch/>
          </p:blipFill>
          <p:spPr>
            <a:xfrm>
              <a:off x="1901880" y="3048120"/>
              <a:ext cx="921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1935000" y="3078000"/>
              <a:ext cx="33480" cy="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Полилиния 69"/>
          <p:cNvSpPr/>
          <p:nvPr/>
        </p:nvSpPr>
        <p:spPr>
          <a:xfrm>
            <a:off x="3571920" y="142920"/>
            <a:ext cx="677880" cy="5416560"/>
          </a:xfrm>
          <a:custGeom>
            <a:avLst/>
            <a:gdLst/>
            <a:ahLst/>
            <a:rect l="l" t="t" r="r" b="b"/>
            <a:pathLst>
              <a:path w="678025" h="5416420">
                <a:moveTo>
                  <a:pt x="172617" y="5379098"/>
                </a:moveTo>
                <a:cubicBezTo>
                  <a:pt x="158621" y="5211924"/>
                  <a:pt x="144625" y="5044750"/>
                  <a:pt x="163286" y="4763277"/>
                </a:cubicBezTo>
                <a:cubicBezTo>
                  <a:pt x="181947" y="4481804"/>
                  <a:pt x="309466" y="3963955"/>
                  <a:pt x="284584" y="3690257"/>
                </a:cubicBezTo>
                <a:cubicBezTo>
                  <a:pt x="259702" y="3416559"/>
                  <a:pt x="27992" y="3407229"/>
                  <a:pt x="13996" y="3121090"/>
                </a:cubicBezTo>
                <a:cubicBezTo>
                  <a:pt x="0" y="2834951"/>
                  <a:pt x="127519" y="2281334"/>
                  <a:pt x="200609" y="1973424"/>
                </a:cubicBezTo>
                <a:cubicBezTo>
                  <a:pt x="273699" y="1665514"/>
                  <a:pt x="468086" y="1483567"/>
                  <a:pt x="452535" y="1273628"/>
                </a:cubicBezTo>
                <a:cubicBezTo>
                  <a:pt x="436984" y="1063689"/>
                  <a:pt x="139959" y="919065"/>
                  <a:pt x="107302" y="713792"/>
                </a:cubicBezTo>
                <a:cubicBezTo>
                  <a:pt x="74645" y="508519"/>
                  <a:pt x="237931" y="83976"/>
                  <a:pt x="256592" y="41988"/>
                </a:cubicBezTo>
                <a:cubicBezTo>
                  <a:pt x="275253" y="0"/>
                  <a:pt x="220825" y="351453"/>
                  <a:pt x="219270" y="461865"/>
                </a:cubicBezTo>
                <a:cubicBezTo>
                  <a:pt x="217715" y="572277"/>
                  <a:pt x="205274" y="612710"/>
                  <a:pt x="247262" y="704461"/>
                </a:cubicBezTo>
                <a:cubicBezTo>
                  <a:pt x="289250" y="796212"/>
                  <a:pt x="401217" y="894183"/>
                  <a:pt x="471196" y="1012371"/>
                </a:cubicBezTo>
                <a:cubicBezTo>
                  <a:pt x="541175" y="1130559"/>
                  <a:pt x="678025" y="1231641"/>
                  <a:pt x="667139" y="1413588"/>
                </a:cubicBezTo>
                <a:cubicBezTo>
                  <a:pt x="656253" y="1595535"/>
                  <a:pt x="472751" y="1873898"/>
                  <a:pt x="405882" y="2104053"/>
                </a:cubicBezTo>
                <a:cubicBezTo>
                  <a:pt x="339013" y="2334208"/>
                  <a:pt x="231711" y="2537926"/>
                  <a:pt x="265923" y="2794518"/>
                </a:cubicBezTo>
                <a:cubicBezTo>
                  <a:pt x="300135" y="3051110"/>
                  <a:pt x="584719" y="3206620"/>
                  <a:pt x="611156" y="3643604"/>
                </a:cubicBezTo>
                <a:cubicBezTo>
                  <a:pt x="637593" y="4080588"/>
                  <a:pt x="424543" y="5416420"/>
                  <a:pt x="424543" y="5416420"/>
                </a:cubicBezTo>
                <a:lnTo>
                  <a:pt x="424543" y="541642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10800000"/>
          </a:gradFill>
          <a:ln w="93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Полилиния 70"/>
          <p:cNvGrpSpPr/>
          <p:nvPr/>
        </p:nvGrpSpPr>
        <p:grpSpPr>
          <a:xfrm>
            <a:off x="3548160" y="1352520"/>
            <a:ext cx="523440" cy="5041440"/>
            <a:chOff x="3548160" y="1352520"/>
            <a:chExt cx="523440" cy="5041440"/>
          </a:xfrm>
        </p:grpSpPr>
        <p:pic>
          <p:nvPicPr>
            <p:cNvPr id="542" name="Полилиния 70" descr=""/>
            <p:cNvPicPr/>
            <p:nvPr/>
          </p:nvPicPr>
          <p:blipFill>
            <a:blip r:embed="rId41"/>
            <a:stretch/>
          </p:blipFill>
          <p:spPr>
            <a:xfrm>
              <a:off x="3548160" y="1396080"/>
              <a:ext cx="520560" cy="49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3557160" y="1352520"/>
              <a:ext cx="514440" cy="50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Полилиния 71"/>
          <p:cNvSpPr/>
          <p:nvPr/>
        </p:nvSpPr>
        <p:spPr>
          <a:xfrm>
            <a:off x="3835440" y="1241280"/>
            <a:ext cx="74520" cy="233640"/>
          </a:xfrm>
          <a:custGeom>
            <a:avLst/>
            <a:gdLst/>
            <a:ahLst/>
            <a:rect l="l" t="t" r="r" b="b"/>
            <a:pathLst>
              <a:path w="74645" h="233266">
                <a:moveTo>
                  <a:pt x="74645" y="233266"/>
                </a:moveTo>
                <a:cubicBezTo>
                  <a:pt x="50390" y="223564"/>
                  <a:pt x="23780" y="220027"/>
                  <a:pt x="9330" y="195943"/>
                </a:cubicBezTo>
                <a:cubicBezTo>
                  <a:pt x="4270" y="187509"/>
                  <a:pt x="3110" y="177282"/>
                  <a:pt x="0" y="167951"/>
                </a:cubicBezTo>
                <a:cubicBezTo>
                  <a:pt x="13188" y="62445"/>
                  <a:pt x="9330" y="118382"/>
                  <a:pt x="9330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Полилиния 72"/>
          <p:cNvGrpSpPr/>
          <p:nvPr/>
        </p:nvGrpSpPr>
        <p:grpSpPr>
          <a:xfrm>
            <a:off x="3865680" y="1195560"/>
            <a:ext cx="188640" cy="315720"/>
            <a:chOff x="3865680" y="1195560"/>
            <a:chExt cx="188640" cy="315720"/>
          </a:xfrm>
        </p:grpSpPr>
        <p:pic>
          <p:nvPicPr>
            <p:cNvPr id="546" name="Полилиния 72" descr=""/>
            <p:cNvPicPr/>
            <p:nvPr/>
          </p:nvPicPr>
          <p:blipFill>
            <a:blip r:embed="rId42"/>
            <a:stretch/>
          </p:blipFill>
          <p:spPr>
            <a:xfrm>
              <a:off x="3865680" y="1195560"/>
              <a:ext cx="1886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3927600" y="1220760"/>
              <a:ext cx="93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Полилиния 73"/>
          <p:cNvSpPr/>
          <p:nvPr/>
        </p:nvSpPr>
        <p:spPr>
          <a:xfrm>
            <a:off x="3927600" y="1203480"/>
            <a:ext cx="9360" cy="233280"/>
          </a:xfrm>
          <a:custGeom>
            <a:avLst/>
            <a:gdLst/>
            <a:ahLst/>
            <a:rect l="l" t="t" r="r" b="b"/>
            <a:pathLst>
              <a:path w="9330" h="233265">
                <a:moveTo>
                  <a:pt x="0" y="233265"/>
                </a:moveTo>
                <a:cubicBezTo>
                  <a:pt x="3110" y="223934"/>
                  <a:pt x="9330" y="215108"/>
                  <a:pt x="9330" y="205273"/>
                </a:cubicBezTo>
                <a:cubicBezTo>
                  <a:pt x="9330" y="136778"/>
                  <a:pt x="0" y="68495"/>
                  <a:pt x="0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олилиния 74"/>
          <p:cNvSpPr/>
          <p:nvPr/>
        </p:nvSpPr>
        <p:spPr>
          <a:xfrm>
            <a:off x="4049640" y="2239920"/>
            <a:ext cx="214560" cy="176400"/>
          </a:xfrm>
          <a:custGeom>
            <a:avLst/>
            <a:gdLst/>
            <a:ahLst/>
            <a:rect l="l" t="t" r="r" b="b"/>
            <a:pathLst>
              <a:path w="214604" h="177282">
                <a:moveTo>
                  <a:pt x="0" y="177282"/>
                </a:moveTo>
                <a:cubicBezTo>
                  <a:pt x="1264" y="170963"/>
                  <a:pt x="3548" y="114683"/>
                  <a:pt x="27992" y="111967"/>
                </a:cubicBezTo>
                <a:cubicBezTo>
                  <a:pt x="49850" y="109538"/>
                  <a:pt x="71535" y="118188"/>
                  <a:pt x="93306" y="121298"/>
                </a:cubicBezTo>
                <a:lnTo>
                  <a:pt x="214604" y="0"/>
                </a:ln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олилиния 75"/>
          <p:cNvSpPr/>
          <p:nvPr/>
        </p:nvSpPr>
        <p:spPr>
          <a:xfrm>
            <a:off x="3900600" y="2165400"/>
            <a:ext cx="149040" cy="214200"/>
          </a:xfrm>
          <a:custGeom>
            <a:avLst/>
            <a:gdLst/>
            <a:ahLst/>
            <a:rect l="l" t="t" r="r" b="b"/>
            <a:pathLst>
              <a:path w="149290" h="214604">
                <a:moveTo>
                  <a:pt x="149290" y="214604"/>
                </a:moveTo>
                <a:cubicBezTo>
                  <a:pt x="133739" y="211494"/>
                  <a:pt x="118337" y="207517"/>
                  <a:pt x="102637" y="205274"/>
                </a:cubicBezTo>
                <a:cubicBezTo>
                  <a:pt x="74756" y="201291"/>
                  <a:pt x="45130" y="205568"/>
                  <a:pt x="18661" y="195943"/>
                </a:cubicBezTo>
                <a:cubicBezTo>
                  <a:pt x="8122" y="192111"/>
                  <a:pt x="6220" y="177282"/>
                  <a:pt x="0" y="167951"/>
                </a:cubicBezTo>
                <a:cubicBezTo>
                  <a:pt x="3110" y="143069"/>
                  <a:pt x="5209" y="118040"/>
                  <a:pt x="9331" y="93306"/>
                </a:cubicBezTo>
                <a:cubicBezTo>
                  <a:pt x="11439" y="80657"/>
                  <a:pt x="11865" y="66858"/>
                  <a:pt x="18661" y="55984"/>
                </a:cubicBezTo>
                <a:lnTo>
                  <a:pt x="74645" y="0"/>
                </a:ln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Полилиния 76"/>
          <p:cNvGrpSpPr/>
          <p:nvPr/>
        </p:nvGrpSpPr>
        <p:grpSpPr>
          <a:xfrm>
            <a:off x="4011480" y="2139840"/>
            <a:ext cx="146160" cy="243000"/>
            <a:chOff x="4011480" y="2139840"/>
            <a:chExt cx="146160" cy="243000"/>
          </a:xfrm>
        </p:grpSpPr>
        <p:pic>
          <p:nvPicPr>
            <p:cNvPr id="552" name="Полилиния 76" descr=""/>
            <p:cNvPicPr/>
            <p:nvPr/>
          </p:nvPicPr>
          <p:blipFill>
            <a:blip r:embed="rId43"/>
            <a:stretch/>
          </p:blipFill>
          <p:spPr>
            <a:xfrm>
              <a:off x="4011480" y="2139840"/>
              <a:ext cx="14616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4024440" y="2155680"/>
              <a:ext cx="1159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Полилиния 77"/>
          <p:cNvSpPr/>
          <p:nvPr/>
        </p:nvSpPr>
        <p:spPr>
          <a:xfrm>
            <a:off x="3703680" y="3387600"/>
            <a:ext cx="233280" cy="82800"/>
          </a:xfrm>
          <a:custGeom>
            <a:avLst/>
            <a:gdLst/>
            <a:ahLst/>
            <a:rect l="l" t="t" r="r" b="b"/>
            <a:pathLst>
              <a:path w="233265" h="83976">
                <a:moveTo>
                  <a:pt x="0" y="83976"/>
                </a:moveTo>
                <a:cubicBezTo>
                  <a:pt x="94888" y="20717"/>
                  <a:pt x="33605" y="48145"/>
                  <a:pt x="195943" y="37323"/>
                </a:cubicBezTo>
                <a:lnTo>
                  <a:pt x="233265" y="0"/>
                </a:ln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Полилиния 78"/>
          <p:cNvGrpSpPr/>
          <p:nvPr/>
        </p:nvGrpSpPr>
        <p:grpSpPr>
          <a:xfrm>
            <a:off x="3498840" y="3255840"/>
            <a:ext cx="219240" cy="243000"/>
            <a:chOff x="3498840" y="3255840"/>
            <a:chExt cx="219240" cy="243000"/>
          </a:xfrm>
        </p:grpSpPr>
        <p:pic>
          <p:nvPicPr>
            <p:cNvPr id="556" name="Полилиния 78" descr=""/>
            <p:cNvPicPr/>
            <p:nvPr/>
          </p:nvPicPr>
          <p:blipFill>
            <a:blip r:embed="rId44"/>
            <a:stretch/>
          </p:blipFill>
          <p:spPr>
            <a:xfrm>
              <a:off x="3498840" y="3255840"/>
              <a:ext cx="2192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3529080" y="3274920"/>
              <a:ext cx="17460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Полилиния 79"/>
          <p:cNvGrpSpPr/>
          <p:nvPr/>
        </p:nvGrpSpPr>
        <p:grpSpPr>
          <a:xfrm>
            <a:off x="3687840" y="3230640"/>
            <a:ext cx="158760" cy="231840"/>
            <a:chOff x="3687840" y="3230640"/>
            <a:chExt cx="158760" cy="231840"/>
          </a:xfrm>
        </p:grpSpPr>
        <p:pic>
          <p:nvPicPr>
            <p:cNvPr id="559" name="Полилиния 79" descr=""/>
            <p:cNvPicPr/>
            <p:nvPr/>
          </p:nvPicPr>
          <p:blipFill>
            <a:blip r:embed="rId45"/>
            <a:stretch/>
          </p:blipFill>
          <p:spPr>
            <a:xfrm>
              <a:off x="3687840" y="3230640"/>
              <a:ext cx="1587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3713040" y="3246480"/>
              <a:ext cx="1080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Полилиния 80"/>
          <p:cNvSpPr/>
          <p:nvPr/>
        </p:nvSpPr>
        <p:spPr>
          <a:xfrm>
            <a:off x="3611520" y="3174840"/>
            <a:ext cx="74520" cy="277920"/>
          </a:xfrm>
          <a:custGeom>
            <a:avLst/>
            <a:gdLst/>
            <a:ahLst/>
            <a:rect l="l" t="t" r="r" b="b"/>
            <a:pathLst>
              <a:path w="74645" h="277983">
                <a:moveTo>
                  <a:pt x="74645" y="277983"/>
                </a:moveTo>
                <a:cubicBezTo>
                  <a:pt x="58359" y="229127"/>
                  <a:pt x="72269" y="256947"/>
                  <a:pt x="18661" y="203338"/>
                </a:cubicBezTo>
                <a:lnTo>
                  <a:pt x="0" y="184676"/>
                </a:lnTo>
                <a:cubicBezTo>
                  <a:pt x="3110" y="159795"/>
                  <a:pt x="4077" y="134550"/>
                  <a:pt x="9331" y="110032"/>
                </a:cubicBezTo>
                <a:cubicBezTo>
                  <a:pt x="32910" y="0"/>
                  <a:pt x="27992" y="104784"/>
                  <a:pt x="27992" y="7395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олилиния 81"/>
          <p:cNvSpPr/>
          <p:nvPr/>
        </p:nvSpPr>
        <p:spPr>
          <a:xfrm>
            <a:off x="3844800" y="4497480"/>
            <a:ext cx="168480" cy="261720"/>
          </a:xfrm>
          <a:custGeom>
            <a:avLst/>
            <a:gdLst/>
            <a:ahLst/>
            <a:rect l="l" t="t" r="r" b="b"/>
            <a:pathLst>
              <a:path w="169779" h="261257">
                <a:moveTo>
                  <a:pt x="0" y="261257"/>
                </a:moveTo>
                <a:cubicBezTo>
                  <a:pt x="12441" y="255037"/>
                  <a:pt x="24538" y="248075"/>
                  <a:pt x="37323" y="242596"/>
                </a:cubicBezTo>
                <a:cubicBezTo>
                  <a:pt x="46363" y="238722"/>
                  <a:pt x="56275" y="237139"/>
                  <a:pt x="65315" y="233265"/>
                </a:cubicBezTo>
                <a:cubicBezTo>
                  <a:pt x="146011" y="198681"/>
                  <a:pt x="64992" y="227152"/>
                  <a:pt x="130629" y="205274"/>
                </a:cubicBezTo>
                <a:cubicBezTo>
                  <a:pt x="136849" y="199053"/>
                  <a:pt x="144764" y="194155"/>
                  <a:pt x="149290" y="186612"/>
                </a:cubicBezTo>
                <a:cubicBezTo>
                  <a:pt x="169779" y="152464"/>
                  <a:pt x="151611" y="123428"/>
                  <a:pt x="149290" y="83976"/>
                </a:cubicBezTo>
                <a:cubicBezTo>
                  <a:pt x="147646" y="56032"/>
                  <a:pt x="149290" y="27992"/>
                  <a:pt x="149290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олилиния 82"/>
          <p:cNvSpPr/>
          <p:nvPr/>
        </p:nvSpPr>
        <p:spPr>
          <a:xfrm>
            <a:off x="3602160" y="4656240"/>
            <a:ext cx="233280" cy="110880"/>
          </a:xfrm>
          <a:custGeom>
            <a:avLst/>
            <a:gdLst/>
            <a:ahLst/>
            <a:rect l="l" t="t" r="r" b="b"/>
            <a:pathLst>
              <a:path w="233266" h="112407">
                <a:moveTo>
                  <a:pt x="233266" y="112407"/>
                </a:moveTo>
                <a:cubicBezTo>
                  <a:pt x="230156" y="96856"/>
                  <a:pt x="231803" y="79523"/>
                  <a:pt x="223935" y="65754"/>
                </a:cubicBezTo>
                <a:cubicBezTo>
                  <a:pt x="218371" y="56018"/>
                  <a:pt x="206190" y="51648"/>
                  <a:pt x="195943" y="47093"/>
                </a:cubicBezTo>
                <a:cubicBezTo>
                  <a:pt x="156017" y="29348"/>
                  <a:pt x="140644" y="29960"/>
                  <a:pt x="102637" y="19101"/>
                </a:cubicBezTo>
                <a:cubicBezTo>
                  <a:pt x="93180" y="16399"/>
                  <a:pt x="84289" y="11699"/>
                  <a:pt x="74645" y="9770"/>
                </a:cubicBezTo>
                <a:cubicBezTo>
                  <a:pt x="25795" y="0"/>
                  <a:pt x="28559" y="440"/>
                  <a:pt x="0" y="44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олилиния 83"/>
          <p:cNvSpPr/>
          <p:nvPr/>
        </p:nvSpPr>
        <p:spPr>
          <a:xfrm>
            <a:off x="3749760" y="4516560"/>
            <a:ext cx="102960" cy="233280"/>
          </a:xfrm>
          <a:custGeom>
            <a:avLst/>
            <a:gdLst/>
            <a:ahLst/>
            <a:rect l="l" t="t" r="r" b="b"/>
            <a:pathLst>
              <a:path w="104604" h="233266">
                <a:moveTo>
                  <a:pt x="104604" y="233266"/>
                </a:moveTo>
                <a:cubicBezTo>
                  <a:pt x="40691" y="169353"/>
                  <a:pt x="70579" y="191921"/>
                  <a:pt x="20628" y="158621"/>
                </a:cubicBezTo>
                <a:cubicBezTo>
                  <a:pt x="14408" y="149290"/>
                  <a:pt x="3358" y="141756"/>
                  <a:pt x="1967" y="130629"/>
                </a:cubicBezTo>
                <a:cubicBezTo>
                  <a:pt x="0" y="114892"/>
                  <a:pt x="7125" y="99276"/>
                  <a:pt x="11298" y="83976"/>
                </a:cubicBezTo>
                <a:cubicBezTo>
                  <a:pt x="32910" y="4734"/>
                  <a:pt x="29959" y="54496"/>
                  <a:pt x="29959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Полилиния 84"/>
          <p:cNvGrpSpPr/>
          <p:nvPr/>
        </p:nvGrpSpPr>
        <p:grpSpPr>
          <a:xfrm>
            <a:off x="3822840" y="4363920"/>
            <a:ext cx="158760" cy="379440"/>
            <a:chOff x="3822840" y="4363920"/>
            <a:chExt cx="158760" cy="379440"/>
          </a:xfrm>
        </p:grpSpPr>
        <p:pic>
          <p:nvPicPr>
            <p:cNvPr id="566" name="Полилиния 84" descr=""/>
            <p:cNvPicPr/>
            <p:nvPr/>
          </p:nvPicPr>
          <p:blipFill>
            <a:blip r:embed="rId46"/>
            <a:stretch/>
          </p:blipFill>
          <p:spPr>
            <a:xfrm>
              <a:off x="3822840" y="4363920"/>
              <a:ext cx="1587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3844800" y="4441680"/>
              <a:ext cx="939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Полилиния 85"/>
          <p:cNvSpPr/>
          <p:nvPr/>
        </p:nvSpPr>
        <p:spPr>
          <a:xfrm>
            <a:off x="3581280" y="5681520"/>
            <a:ext cx="171720" cy="177840"/>
          </a:xfrm>
          <a:custGeom>
            <a:avLst/>
            <a:gdLst/>
            <a:ahLst/>
            <a:rect l="l" t="t" r="r" b="b"/>
            <a:pathLst>
              <a:path w="170958" h="177281">
                <a:moveTo>
                  <a:pt x="1282" y="177281"/>
                </a:moveTo>
                <a:cubicBezTo>
                  <a:pt x="17486" y="128672"/>
                  <a:pt x="0" y="167222"/>
                  <a:pt x="29274" y="130628"/>
                </a:cubicBezTo>
                <a:cubicBezTo>
                  <a:pt x="36279" y="121872"/>
                  <a:pt x="39179" y="109642"/>
                  <a:pt x="47935" y="102637"/>
                </a:cubicBezTo>
                <a:cubicBezTo>
                  <a:pt x="55615" y="96493"/>
                  <a:pt x="67329" y="98082"/>
                  <a:pt x="75927" y="93306"/>
                </a:cubicBezTo>
                <a:cubicBezTo>
                  <a:pt x="97425" y="81363"/>
                  <a:pt x="132450" y="59975"/>
                  <a:pt x="150572" y="37322"/>
                </a:cubicBezTo>
                <a:cubicBezTo>
                  <a:pt x="170958" y="11839"/>
                  <a:pt x="169233" y="19131"/>
                  <a:pt x="169233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олилиния 86"/>
          <p:cNvSpPr/>
          <p:nvPr/>
        </p:nvSpPr>
        <p:spPr>
          <a:xfrm>
            <a:off x="3313080" y="5664240"/>
            <a:ext cx="260280" cy="223920"/>
          </a:xfrm>
          <a:custGeom>
            <a:avLst/>
            <a:gdLst/>
            <a:ahLst/>
            <a:rect l="l" t="t" r="r" b="b"/>
            <a:pathLst>
              <a:path w="261257" h="223934">
                <a:moveTo>
                  <a:pt x="261257" y="223934"/>
                </a:moveTo>
                <a:cubicBezTo>
                  <a:pt x="227045" y="217714"/>
                  <a:pt x="192356" y="213707"/>
                  <a:pt x="158621" y="205273"/>
                </a:cubicBezTo>
                <a:cubicBezTo>
                  <a:pt x="142372" y="201211"/>
                  <a:pt x="128011" y="191425"/>
                  <a:pt x="111968" y="186612"/>
                </a:cubicBezTo>
                <a:cubicBezTo>
                  <a:pt x="96778" y="182055"/>
                  <a:pt x="80866" y="180391"/>
                  <a:pt x="65315" y="177281"/>
                </a:cubicBezTo>
                <a:cubicBezTo>
                  <a:pt x="55984" y="167950"/>
                  <a:pt x="47460" y="157737"/>
                  <a:pt x="37323" y="149289"/>
                </a:cubicBezTo>
                <a:cubicBezTo>
                  <a:pt x="28708" y="142110"/>
                  <a:pt x="16336" y="139385"/>
                  <a:pt x="9331" y="130628"/>
                </a:cubicBezTo>
                <a:cubicBezTo>
                  <a:pt x="3187" y="122948"/>
                  <a:pt x="3110" y="111967"/>
                  <a:pt x="0" y="102636"/>
                </a:cubicBezTo>
                <a:cubicBezTo>
                  <a:pt x="10468" y="71234"/>
                  <a:pt x="9546" y="69604"/>
                  <a:pt x="27992" y="37322"/>
                </a:cubicBezTo>
                <a:cubicBezTo>
                  <a:pt x="33556" y="27585"/>
                  <a:pt x="38723" y="17259"/>
                  <a:pt x="46653" y="9330"/>
                </a:cubicBezTo>
                <a:cubicBezTo>
                  <a:pt x="51571" y="4412"/>
                  <a:pt x="59094" y="3110"/>
                  <a:pt x="65315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Полилиния 87"/>
          <p:cNvGrpSpPr/>
          <p:nvPr/>
        </p:nvGrpSpPr>
        <p:grpSpPr>
          <a:xfrm>
            <a:off x="3402000" y="5572080"/>
            <a:ext cx="225360" cy="328680"/>
            <a:chOff x="3402000" y="5572080"/>
            <a:chExt cx="225360" cy="328680"/>
          </a:xfrm>
        </p:grpSpPr>
        <p:pic>
          <p:nvPicPr>
            <p:cNvPr id="571" name="Полилиния 87" descr=""/>
            <p:cNvPicPr/>
            <p:nvPr/>
          </p:nvPicPr>
          <p:blipFill>
            <a:blip r:embed="rId47"/>
            <a:stretch/>
          </p:blipFill>
          <p:spPr>
            <a:xfrm>
              <a:off x="3402000" y="5572080"/>
              <a:ext cx="22536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3446640" y="5589720"/>
              <a:ext cx="1267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Полилиния 88"/>
          <p:cNvSpPr/>
          <p:nvPr/>
        </p:nvSpPr>
        <p:spPr>
          <a:xfrm>
            <a:off x="3564000" y="5857920"/>
            <a:ext cx="280800" cy="57240"/>
          </a:xfrm>
          <a:custGeom>
            <a:avLst/>
            <a:gdLst/>
            <a:ahLst/>
            <a:rect l="l" t="t" r="r" b="b"/>
            <a:pathLst>
              <a:path w="279918" h="57850">
                <a:moveTo>
                  <a:pt x="0" y="1866"/>
                </a:moveTo>
                <a:cubicBezTo>
                  <a:pt x="15551" y="11197"/>
                  <a:pt x="31896" y="19317"/>
                  <a:pt x="46653" y="29858"/>
                </a:cubicBezTo>
                <a:cubicBezTo>
                  <a:pt x="53811" y="34971"/>
                  <a:pt x="57446" y="44586"/>
                  <a:pt x="65314" y="48520"/>
                </a:cubicBezTo>
                <a:cubicBezTo>
                  <a:pt x="76784" y="54255"/>
                  <a:pt x="90196" y="54740"/>
                  <a:pt x="102637" y="57850"/>
                </a:cubicBezTo>
                <a:cubicBezTo>
                  <a:pt x="139959" y="54740"/>
                  <a:pt x="177880" y="55865"/>
                  <a:pt x="214604" y="48520"/>
                </a:cubicBezTo>
                <a:cubicBezTo>
                  <a:pt x="234383" y="44564"/>
                  <a:pt x="257249" y="11870"/>
                  <a:pt x="270588" y="1866"/>
                </a:cubicBezTo>
                <a:cubicBezTo>
                  <a:pt x="273076" y="0"/>
                  <a:pt x="276808" y="1866"/>
                  <a:pt x="279918" y="1866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олилиния 89"/>
          <p:cNvSpPr/>
          <p:nvPr/>
        </p:nvSpPr>
        <p:spPr>
          <a:xfrm>
            <a:off x="2827440" y="5253120"/>
            <a:ext cx="166680" cy="242640"/>
          </a:xfrm>
          <a:custGeom>
            <a:avLst/>
            <a:gdLst/>
            <a:ahLst/>
            <a:rect l="l" t="t" r="r" b="b"/>
            <a:pathLst>
              <a:path w="166381" h="242596">
                <a:moveTo>
                  <a:pt x="0" y="242596"/>
                </a:moveTo>
                <a:cubicBezTo>
                  <a:pt x="12441" y="239486"/>
                  <a:pt x="25315" y="237768"/>
                  <a:pt x="37322" y="233265"/>
                </a:cubicBezTo>
                <a:cubicBezTo>
                  <a:pt x="60884" y="224429"/>
                  <a:pt x="117606" y="190303"/>
                  <a:pt x="130628" y="177281"/>
                </a:cubicBezTo>
                <a:cubicBezTo>
                  <a:pt x="139959" y="167950"/>
                  <a:pt x="156562" y="162323"/>
                  <a:pt x="158620" y="149289"/>
                </a:cubicBezTo>
                <a:cubicBezTo>
                  <a:pt x="166381" y="100135"/>
                  <a:pt x="158620" y="49763"/>
                  <a:pt x="158620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Полилиния 90"/>
          <p:cNvGrpSpPr/>
          <p:nvPr/>
        </p:nvGrpSpPr>
        <p:grpSpPr>
          <a:xfrm>
            <a:off x="2590920" y="5450040"/>
            <a:ext cx="249120" cy="133200"/>
            <a:chOff x="2590920" y="5450040"/>
            <a:chExt cx="249120" cy="133200"/>
          </a:xfrm>
        </p:grpSpPr>
        <p:pic>
          <p:nvPicPr>
            <p:cNvPr id="576" name="Полилиния 90" descr=""/>
            <p:cNvPicPr/>
            <p:nvPr/>
          </p:nvPicPr>
          <p:blipFill>
            <a:blip r:embed="rId48"/>
            <a:stretch/>
          </p:blipFill>
          <p:spPr>
            <a:xfrm>
              <a:off x="2590920" y="5450040"/>
              <a:ext cx="249120" cy="1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2595600" y="5477040"/>
              <a:ext cx="231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Полилиния 91"/>
          <p:cNvSpPr/>
          <p:nvPr/>
        </p:nvSpPr>
        <p:spPr>
          <a:xfrm>
            <a:off x="2627280" y="5327640"/>
            <a:ext cx="219240" cy="177840"/>
          </a:xfrm>
          <a:custGeom>
            <a:avLst/>
            <a:gdLst/>
            <a:ahLst/>
            <a:rect l="l" t="t" r="r" b="b"/>
            <a:pathLst>
              <a:path w="219130" h="177281">
                <a:moveTo>
                  <a:pt x="219130" y="177281"/>
                </a:moveTo>
                <a:cubicBezTo>
                  <a:pt x="214537" y="168095"/>
                  <a:pt x="192799" y="120760"/>
                  <a:pt x="181807" y="111967"/>
                </a:cubicBezTo>
                <a:cubicBezTo>
                  <a:pt x="174127" y="105823"/>
                  <a:pt x="163590" y="103722"/>
                  <a:pt x="153815" y="102636"/>
                </a:cubicBezTo>
                <a:cubicBezTo>
                  <a:pt x="107344" y="97473"/>
                  <a:pt x="60509" y="96416"/>
                  <a:pt x="13856" y="93306"/>
                </a:cubicBezTo>
                <a:cubicBezTo>
                  <a:pt x="0" y="37879"/>
                  <a:pt x="4526" y="68807"/>
                  <a:pt x="4526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олилиния 92"/>
          <p:cNvSpPr/>
          <p:nvPr/>
        </p:nvSpPr>
        <p:spPr>
          <a:xfrm>
            <a:off x="2827440" y="5224320"/>
            <a:ext cx="112680" cy="271440"/>
          </a:xfrm>
          <a:custGeom>
            <a:avLst/>
            <a:gdLst/>
            <a:ahLst/>
            <a:rect l="l" t="t" r="r" b="b"/>
            <a:pathLst>
              <a:path w="112161" h="270588">
                <a:moveTo>
                  <a:pt x="0" y="270588"/>
                </a:moveTo>
                <a:cubicBezTo>
                  <a:pt x="46291" y="239725"/>
                  <a:pt x="20059" y="259857"/>
                  <a:pt x="74644" y="205273"/>
                </a:cubicBezTo>
                <a:lnTo>
                  <a:pt x="93306" y="186612"/>
                </a:lnTo>
                <a:cubicBezTo>
                  <a:pt x="96416" y="177281"/>
                  <a:pt x="101606" y="168401"/>
                  <a:pt x="102636" y="158620"/>
                </a:cubicBezTo>
                <a:cubicBezTo>
                  <a:pt x="112161" y="68131"/>
                  <a:pt x="111967" y="55329"/>
                  <a:pt x="111967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Полилиния 93"/>
          <p:cNvGrpSpPr/>
          <p:nvPr/>
        </p:nvGrpSpPr>
        <p:grpSpPr>
          <a:xfrm>
            <a:off x="2809800" y="5473800"/>
            <a:ext cx="141480" cy="250560"/>
            <a:chOff x="2809800" y="5473800"/>
            <a:chExt cx="141480" cy="250560"/>
          </a:xfrm>
        </p:grpSpPr>
        <p:pic>
          <p:nvPicPr>
            <p:cNvPr id="581" name="Полилиния 93" descr=""/>
            <p:cNvPicPr/>
            <p:nvPr/>
          </p:nvPicPr>
          <p:blipFill>
            <a:blip r:embed="rId49"/>
            <a:stretch/>
          </p:blipFill>
          <p:spPr>
            <a:xfrm>
              <a:off x="2809800" y="5473800"/>
              <a:ext cx="14148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2836800" y="5504040"/>
              <a:ext cx="8568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3" name="Picture 3" descr="C:\Program Files\Microsoft Office\MEDIA\OFFICE12\Bullets\BD14793_.gif"/>
          <p:cNvPicPr/>
          <p:nvPr/>
        </p:nvPicPr>
        <p:blipFill>
          <a:blip r:embed="rId50"/>
          <a:stretch/>
        </p:blipFill>
        <p:spPr>
          <a:xfrm>
            <a:off x="6126120" y="6480000"/>
            <a:ext cx="530280" cy="390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" descr="C:\Program Files\Microsoft Office\MEDIA\OFFICE12\Bullets\BD14793_.gif"/>
          <p:cNvPicPr/>
          <p:nvPr/>
        </p:nvPicPr>
        <p:blipFill>
          <a:blip r:embed="rId51"/>
          <a:stretch/>
        </p:blipFill>
        <p:spPr>
          <a:xfrm>
            <a:off x="3554280" y="4694400"/>
            <a:ext cx="530280" cy="1760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C:\Program Files\Microsoft Office\MEDIA\OFFICE12\Bullets\BD14793_.gif"/>
          <p:cNvPicPr/>
          <p:nvPr/>
        </p:nvPicPr>
        <p:blipFill>
          <a:blip r:embed="rId52"/>
          <a:stretch/>
        </p:blipFill>
        <p:spPr>
          <a:xfrm>
            <a:off x="3267000" y="5840280"/>
            <a:ext cx="530280" cy="1699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" descr="C:\Program Files\Microsoft Office\MEDIA\OFFICE12\Bullets\BD14793_.gif"/>
          <p:cNvPicPr/>
          <p:nvPr/>
        </p:nvPicPr>
        <p:blipFill>
          <a:blip r:embed="rId53"/>
          <a:stretch/>
        </p:blipFill>
        <p:spPr>
          <a:xfrm>
            <a:off x="3475080" y="3389400"/>
            <a:ext cx="542880" cy="2188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" descr="C:\Program Files\Microsoft Office\MEDIA\OFFICE12\Bullets\BD14793_.gif"/>
          <p:cNvPicPr/>
          <p:nvPr/>
        </p:nvPicPr>
        <p:blipFill>
          <a:blip r:embed="rId54"/>
          <a:stretch/>
        </p:blipFill>
        <p:spPr>
          <a:xfrm>
            <a:off x="3754440" y="2273400"/>
            <a:ext cx="482760" cy="3045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C:\Program Files\Microsoft Office\MEDIA\OFFICE12\Bullets\BD14793_.gif"/>
          <p:cNvPicPr/>
          <p:nvPr/>
        </p:nvPicPr>
        <p:blipFill>
          <a:blip r:embed="rId55"/>
          <a:stretch/>
        </p:blipFill>
        <p:spPr>
          <a:xfrm>
            <a:off x="3687840" y="1365120"/>
            <a:ext cx="476280" cy="262080"/>
          </a:xfrm>
          <a:prstGeom prst="rect">
            <a:avLst/>
          </a:prstGeom>
          <a:ln w="0">
            <a:noFill/>
          </a:ln>
        </p:spPr>
      </p:pic>
      <p:sp>
        <p:nvSpPr>
          <p:cNvPr id="589" name="Полилиния 100"/>
          <p:cNvSpPr/>
          <p:nvPr/>
        </p:nvSpPr>
        <p:spPr>
          <a:xfrm>
            <a:off x="1400040" y="6804000"/>
            <a:ext cx="473040" cy="54000"/>
          </a:xfrm>
          <a:custGeom>
            <a:avLst/>
            <a:gdLst/>
            <a:ahLst/>
            <a:rect l="l" t="t" r="r" b="b"/>
            <a:pathLst>
              <a:path w="474306" h="54428">
                <a:moveTo>
                  <a:pt x="0" y="54428"/>
                </a:moveTo>
                <a:lnTo>
                  <a:pt x="410547" y="7775"/>
                </a:lnTo>
                <a:cubicBezTo>
                  <a:pt x="474306" y="0"/>
                  <a:pt x="428430" y="3887"/>
                  <a:pt x="382555" y="7775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Полилиния 101"/>
          <p:cNvGrpSpPr/>
          <p:nvPr/>
        </p:nvGrpSpPr>
        <p:grpSpPr>
          <a:xfrm>
            <a:off x="281160" y="871560"/>
            <a:ext cx="4625280" cy="426960"/>
            <a:chOff x="281160" y="871560"/>
            <a:chExt cx="4625280" cy="426960"/>
          </a:xfrm>
        </p:grpSpPr>
        <p:pic>
          <p:nvPicPr>
            <p:cNvPr id="591" name="Полилиния 101" descr=""/>
            <p:cNvPicPr/>
            <p:nvPr/>
          </p:nvPicPr>
          <p:blipFill>
            <a:blip r:embed="rId56"/>
            <a:stretch/>
          </p:blipFill>
          <p:spPr>
            <a:xfrm>
              <a:off x="281160" y="871560"/>
              <a:ext cx="46000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98080" y="876240"/>
              <a:ext cx="4608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Полилиния 102"/>
          <p:cNvGrpSpPr/>
          <p:nvPr/>
        </p:nvGrpSpPr>
        <p:grpSpPr>
          <a:xfrm>
            <a:off x="4456080" y="36360"/>
            <a:ext cx="3376800" cy="244800"/>
            <a:chOff x="4456080" y="36360"/>
            <a:chExt cx="3376800" cy="244800"/>
          </a:xfrm>
        </p:grpSpPr>
        <p:pic>
          <p:nvPicPr>
            <p:cNvPr id="594" name="Полилиния 102" descr=""/>
            <p:cNvPicPr/>
            <p:nvPr/>
          </p:nvPicPr>
          <p:blipFill>
            <a:blip r:embed="rId57"/>
            <a:stretch/>
          </p:blipFill>
          <p:spPr>
            <a:xfrm>
              <a:off x="4456080" y="36360"/>
              <a:ext cx="3376800" cy="2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4478400" y="49320"/>
              <a:ext cx="33400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Полилиния 103"/>
          <p:cNvGrpSpPr/>
          <p:nvPr/>
        </p:nvGrpSpPr>
        <p:grpSpPr>
          <a:xfrm>
            <a:off x="6718320" y="938160"/>
            <a:ext cx="500040" cy="677880"/>
            <a:chOff x="6718320" y="938160"/>
            <a:chExt cx="500040" cy="677880"/>
          </a:xfrm>
        </p:grpSpPr>
        <p:pic>
          <p:nvPicPr>
            <p:cNvPr id="597" name="Полилиния 103" descr=""/>
            <p:cNvPicPr/>
            <p:nvPr/>
          </p:nvPicPr>
          <p:blipFill>
            <a:blip r:embed="rId58"/>
            <a:stretch/>
          </p:blipFill>
          <p:spPr>
            <a:xfrm>
              <a:off x="6718320" y="938160"/>
              <a:ext cx="50004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6757920" y="952560"/>
              <a:ext cx="4302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Полилиния 104"/>
          <p:cNvGrpSpPr/>
          <p:nvPr/>
        </p:nvGrpSpPr>
        <p:grpSpPr>
          <a:xfrm>
            <a:off x="6991200" y="506520"/>
            <a:ext cx="573120" cy="559800"/>
            <a:chOff x="6991200" y="506520"/>
            <a:chExt cx="573120" cy="559800"/>
          </a:xfrm>
        </p:grpSpPr>
        <p:pic>
          <p:nvPicPr>
            <p:cNvPr id="600" name="Полилиния 104" descr=""/>
            <p:cNvPicPr/>
            <p:nvPr/>
          </p:nvPicPr>
          <p:blipFill>
            <a:blip r:embed="rId59"/>
            <a:stretch/>
          </p:blipFill>
          <p:spPr>
            <a:xfrm>
              <a:off x="6991200" y="507960"/>
              <a:ext cx="573120" cy="55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7016760" y="506520"/>
              <a:ext cx="531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Овал 105"/>
          <p:cNvGrpSpPr/>
          <p:nvPr/>
        </p:nvGrpSpPr>
        <p:grpSpPr>
          <a:xfrm>
            <a:off x="6797520" y="1322280"/>
            <a:ext cx="189000" cy="177840"/>
            <a:chOff x="6797520" y="1322280"/>
            <a:chExt cx="189000" cy="177840"/>
          </a:xfrm>
        </p:grpSpPr>
        <p:pic>
          <p:nvPicPr>
            <p:cNvPr id="603" name="Овал 105" descr=""/>
            <p:cNvPicPr/>
            <p:nvPr/>
          </p:nvPicPr>
          <p:blipFill>
            <a:blip r:embed="rId60"/>
            <a:stretch/>
          </p:blipFill>
          <p:spPr>
            <a:xfrm>
              <a:off x="6797520" y="1322280"/>
              <a:ext cx="18900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 rot="10800000">
              <a:off x="6868800" y="136800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Полилиния 106"/>
          <p:cNvGrpSpPr/>
          <p:nvPr/>
        </p:nvGrpSpPr>
        <p:grpSpPr>
          <a:xfrm>
            <a:off x="3882960" y="4857840"/>
            <a:ext cx="476280" cy="793800"/>
            <a:chOff x="3882960" y="4857840"/>
            <a:chExt cx="476280" cy="793800"/>
          </a:xfrm>
        </p:grpSpPr>
        <p:pic>
          <p:nvPicPr>
            <p:cNvPr id="606" name="Полилиния 106" descr=""/>
            <p:cNvPicPr/>
            <p:nvPr/>
          </p:nvPicPr>
          <p:blipFill>
            <a:blip r:embed="rId61"/>
            <a:stretch/>
          </p:blipFill>
          <p:spPr>
            <a:xfrm>
              <a:off x="3882960" y="4857840"/>
              <a:ext cx="47628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3929040" y="4857840"/>
              <a:ext cx="38736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Полилиния 107"/>
          <p:cNvGrpSpPr/>
          <p:nvPr/>
        </p:nvGrpSpPr>
        <p:grpSpPr>
          <a:xfrm>
            <a:off x="4175280" y="4541760"/>
            <a:ext cx="2158560" cy="963720"/>
            <a:chOff x="4175280" y="4541760"/>
            <a:chExt cx="2158560" cy="963720"/>
          </a:xfrm>
        </p:grpSpPr>
        <p:pic>
          <p:nvPicPr>
            <p:cNvPr id="609" name="Полилиния 107" descr=""/>
            <p:cNvPicPr/>
            <p:nvPr/>
          </p:nvPicPr>
          <p:blipFill>
            <a:blip r:embed="rId62"/>
            <a:stretch/>
          </p:blipFill>
          <p:spPr>
            <a:xfrm>
              <a:off x="4206600" y="4541760"/>
              <a:ext cx="21272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4175280" y="4572000"/>
              <a:ext cx="210384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Полилиния 108"/>
          <p:cNvGrpSpPr/>
          <p:nvPr/>
        </p:nvGrpSpPr>
        <p:grpSpPr>
          <a:xfrm>
            <a:off x="5821200" y="5048280"/>
            <a:ext cx="366840" cy="230040"/>
            <a:chOff x="5821200" y="5048280"/>
            <a:chExt cx="366840" cy="230040"/>
          </a:xfrm>
        </p:grpSpPr>
        <p:pic>
          <p:nvPicPr>
            <p:cNvPr id="612" name="Полилиния 108" descr=""/>
            <p:cNvPicPr/>
            <p:nvPr/>
          </p:nvPicPr>
          <p:blipFill>
            <a:blip r:embed="rId63"/>
            <a:stretch/>
          </p:blipFill>
          <p:spPr>
            <a:xfrm>
              <a:off x="5821200" y="5048280"/>
              <a:ext cx="36684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857920" y="5072040"/>
              <a:ext cx="2937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Полилиния 109"/>
          <p:cNvGrpSpPr/>
          <p:nvPr/>
        </p:nvGrpSpPr>
        <p:grpSpPr>
          <a:xfrm>
            <a:off x="4962600" y="4334040"/>
            <a:ext cx="560160" cy="493560"/>
            <a:chOff x="4962600" y="4334040"/>
            <a:chExt cx="560160" cy="493560"/>
          </a:xfrm>
        </p:grpSpPr>
        <p:pic>
          <p:nvPicPr>
            <p:cNvPr id="615" name="Полилиния 109" descr=""/>
            <p:cNvPicPr/>
            <p:nvPr/>
          </p:nvPicPr>
          <p:blipFill>
            <a:blip r:embed="rId64"/>
            <a:stretch/>
          </p:blipFill>
          <p:spPr>
            <a:xfrm>
              <a:off x="4962600" y="4334040"/>
              <a:ext cx="5601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000760" y="4357800"/>
              <a:ext cx="4809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Овал 110"/>
          <p:cNvGrpSpPr/>
          <p:nvPr/>
        </p:nvGrpSpPr>
        <p:grpSpPr>
          <a:xfrm>
            <a:off x="5791320" y="4816440"/>
            <a:ext cx="268200" cy="193680"/>
            <a:chOff x="5791320" y="4816440"/>
            <a:chExt cx="268200" cy="193680"/>
          </a:xfrm>
        </p:grpSpPr>
        <p:pic>
          <p:nvPicPr>
            <p:cNvPr id="618" name="Овал 110" descr=""/>
            <p:cNvPicPr/>
            <p:nvPr/>
          </p:nvPicPr>
          <p:blipFill>
            <a:blip r:embed="rId65"/>
            <a:stretch/>
          </p:blipFill>
          <p:spPr>
            <a:xfrm>
              <a:off x="5791320" y="4816440"/>
              <a:ext cx="26820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 rot="10800000">
              <a:off x="5878440" y="4869000"/>
              <a:ext cx="101520" cy="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TextBox 111"/>
          <p:cNvSpPr/>
          <p:nvPr/>
        </p:nvSpPr>
        <p:spPr>
          <a:xfrm>
            <a:off x="3551760" y="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ДВОДНЫ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2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4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6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 0.08933 C 0.049 0.108 0.054 0.136 0.054 0.16533 C 0.054 0.19867 0.049 0.22533 0.04 0.244 L 0 0.33333 E">
                                      <p:cBhvr>
                                        <p:cTn id="178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 0.08933 C 0.049 0.108 0.054 0.136 0.054 0.16533 C 0.054 0.19867 0.049 0.22533 0.04 0.244 L 0 0.33333 E">
                                      <p:cBhvr>
                                        <p:cTn id="180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 0.08933 C 0.049 0.108 0.054 0.136 0.054 0.16533 C 0.054 0.19867 0.049 0.22533 0.04 0.244 L 0 0.33333 E">
                                      <p:cBhvr>
                                        <p:cTn id="182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 0.08933 C 0.049 0.108 0.054 0.136 0.054 0.16533 C 0.054 0.19867 0.049 0.22533 0.04 0.244 L 0 0.33333 E">
                                      <p:cBhvr>
                                        <p:cTn id="184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 0.08933 C 0.049 0.108 0.054 0.136 0.054 0.16533 C 0.054 0.19867 0.049 0.22533 0.04 0.244 L 0 0.33333 E">
                                      <p:cBhvr>
                                        <p:cTn id="186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 0.08933 C 0.049 0.108 0.054 0.136 0.054 0.16533 C 0.054 0.19867 0.049 0.22533 0.04 0.244 L 0 0.33333 E">
                                      <p:cBhvr>
                                        <p:cTn id="188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 0.08933 C 0.049 0.108 0.054 0.136 0.054 0.16533 C 0.054 0.19867 0.049 0.22533 0.04 0.244 L 0 0.33333 E">
                                      <p:cBhvr>
                                        <p:cTn id="190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4:37:59Z</dcterms:created>
  <dc:creator>Admin</dc:creator>
  <dc:description/>
  <dc:language>en-US</dc:language>
  <cp:lastModifiedBy>Admin</cp:lastModifiedBy>
  <dcterms:modified xsi:type="dcterms:W3CDTF">2015-02-08T14:06:50Z</dcterms:modified>
  <cp:revision>16</cp:revision>
  <dc:subject/>
  <dc:title>Слайд 1</dc:title>
</cp:coreProperties>
</file>