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A6A-3A54-410E-AB5B-8052B5B2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998-5629-43DE-8360-F941DAA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48D-6442-45C2-A376-6EE3076A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EA5-440A-445F-9A26-88FC84E0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363-EE00-428B-AD86-9B49938E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06D-0A34-41E2-894B-DC22716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DCD-1929-4ADD-90AD-45AC733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956-FBB7-49B5-98DB-E897CAE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3E7-8ABA-40B9-A10E-E9E27681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EE6-ED2D-4DEA-942C-50D37BBA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485-717D-48C0-949C-A7AA4B0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031-FE4E-4155-9DD0-B4FCE09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FB9-EEDB-40CD-A3A9-5E61D75C7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ехтер Л.Т. гимназия № 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. Белгород</a:t>
            </a:r>
            <a:r>
              <a:rPr b="0" lang="en-US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2013 </a:t>
            </a: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«Развивающее естественнонаучное образование: опыт, проблемы, решен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262080"/>
            <a:ext cx="94424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84120" y="1413000"/>
            <a:ext cx="406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Цыганы шумною тол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 Бессарабии коч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ни сегодня над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В шатрах изодранных ноч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ак вольность, весел их ноч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мирный сон под небес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ежду колесами теле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лузавешанных ков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рит огонь; семья к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товит ужин; в чист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асутся кони; за ша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Ручной медведь лежит на в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Всё живо посреди степ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боты мирные сем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товых с утром в путь недаль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песни жен, и крик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звон походной наковаль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.     «ЦЫГА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230440" y="47973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А.С.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441680" y="1628640"/>
            <a:ext cx="3409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4076640"/>
            <a:ext cx="4284720" cy="14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го оптимиз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, верь: взойдет о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 пленительного счаст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спрянет ото сна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20760" y="804960"/>
            <a:ext cx="39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сколько нам открытий чу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вещенья дух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21920" y="566100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. К Чаадае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Любви, надежды, тихой славы...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621240" y="692280"/>
            <a:ext cx="570384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баниз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… как много в этом зв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рдца русского сл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ного в нём отозва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Гл.7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будет город залож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й здесь нам сужд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Европу прорубить ок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ный вса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28520" y="1844640"/>
            <a:ext cx="466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ические пробл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л о временах грядущ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роды распри позабы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ликую семью соединя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 « Он между нами жил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8" descr=""/>
          <p:cNvPicPr/>
          <p:nvPr/>
        </p:nvPicPr>
        <p:blipFill>
          <a:blip r:embed="rId1"/>
          <a:stretch/>
        </p:blipFill>
        <p:spPr>
          <a:xfrm>
            <a:off x="585720" y="-128520"/>
            <a:ext cx="7839000" cy="1311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4653000" y="4140360"/>
            <a:ext cx="492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циальные лиф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был Проласов,  заслуж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сть низостью души…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ушой посредственной и низко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е упасть дорогой склиз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ком прополз в известный чи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Гл.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95280" y="1484280"/>
            <a:ext cx="439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иногда иронизир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грамматической 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усской речи не люблю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   «диагноз» ставит вполне серьё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сть русская боль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Diagram group" descr=""/>
          <p:cNvPicPr/>
          <p:nvPr/>
        </p:nvPicPr>
        <p:blipFill>
          <a:blip r:embed="rId1"/>
          <a:stretch/>
        </p:blipFill>
        <p:spPr>
          <a:xfrm>
            <a:off x="5578560" y="2571840"/>
            <a:ext cx="3138480" cy="3152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61920" y="1739880"/>
            <a:ext cx="5103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– умение в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лушать и сл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          – умение читать, восприним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ние и 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ление, 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и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 обобщения, делать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овать, предполагать, предвиде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 - умение общаться, спор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ть свою, принимать другую то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речи. Культура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 здоровья. 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культура. Общ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2" descr=""/>
          <p:cNvPicPr/>
          <p:nvPr/>
        </p:nvPicPr>
        <p:blipFill>
          <a:blip r:embed="rId2"/>
          <a:stretch/>
        </p:blipFill>
        <p:spPr>
          <a:xfrm>
            <a:off x="19080" y="-19080"/>
            <a:ext cx="9088560" cy="1085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692360" y="81612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оды, до которых человек додумывается сам, обычно убеж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больше, нежели те, которые пришли в голову други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аска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Заголовок 1"/>
          <p:cNvGrpSpPr/>
          <p:nvPr/>
        </p:nvGrpSpPr>
        <p:grpSpPr>
          <a:xfrm>
            <a:off x="324000" y="244440"/>
            <a:ext cx="8611920" cy="6156360"/>
            <a:chOff x="324000" y="244440"/>
            <a:chExt cx="8611920" cy="6156360"/>
          </a:xfrm>
        </p:grpSpPr>
        <p:pic>
          <p:nvPicPr>
            <p:cNvPr id="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4000" y="244440"/>
              <a:ext cx="86119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  развивающего образования :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генерация, продуцирование образовательного результата, имеющего ценность не только для ученика, но и для окружающего его социума, мира, человечества. 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 а не только освоение учебной деятельности 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95280" y="112536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процесс  увеличения человеческих возмож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й в том, что человек должен прожить долгую и здоровую жи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разова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 нормальный уровень жизни (качество жизни), достойно оплачивае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, соответствующую способностям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политическими и др. свободами, правами челове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общественным ува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2"/>
          <a:stretch/>
        </p:blipFill>
        <p:spPr>
          <a:xfrm>
            <a:off x="2987640" y="1352520"/>
            <a:ext cx="6095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339040" cy="1809720"/>
          </a:xfrm>
          <a:prstGeom prst="rect">
            <a:avLst/>
          </a:prstGeom>
          <a:ln w="0">
            <a:noFill/>
          </a:ln>
        </p:spPr>
      </p:pic>
      <p:sp>
        <p:nvSpPr>
          <p:cNvPr id="51" name="Овал 2"/>
          <p:cNvSpPr/>
          <p:nvPr/>
        </p:nvSpPr>
        <p:spPr>
          <a:xfrm>
            <a:off x="1319040" y="8229600"/>
            <a:ext cx="1876680" cy="13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4540320" y="8229600"/>
            <a:ext cx="2019240" cy="150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2225520" y="924732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4"/>
          <p:cNvSpPr/>
          <p:nvPr/>
        </p:nvSpPr>
        <p:spPr>
          <a:xfrm>
            <a:off x="1612800" y="8650440"/>
            <a:ext cx="1336680" cy="531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"/>
          <p:cNvSpPr/>
          <p:nvPr/>
        </p:nvSpPr>
        <p:spPr>
          <a:xfrm>
            <a:off x="5191200" y="8713800"/>
            <a:ext cx="7016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е 6"/>
          <p:cNvSpPr/>
          <p:nvPr/>
        </p:nvSpPr>
        <p:spPr>
          <a:xfrm>
            <a:off x="3290760" y="9564840"/>
            <a:ext cx="11052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9"/>
          <p:cNvSpPr/>
          <p:nvPr/>
        </p:nvSpPr>
        <p:spPr>
          <a:xfrm>
            <a:off x="1471680" y="8381880"/>
            <a:ext cx="1876320" cy="13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0"/>
          <p:cNvSpPr/>
          <p:nvPr/>
        </p:nvSpPr>
        <p:spPr>
          <a:xfrm>
            <a:off x="4692600" y="8381880"/>
            <a:ext cx="2019240" cy="150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1"/>
          <p:cNvSpPr/>
          <p:nvPr/>
        </p:nvSpPr>
        <p:spPr>
          <a:xfrm>
            <a:off x="2378160" y="939960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4"/>
          <p:cNvSpPr/>
          <p:nvPr/>
        </p:nvSpPr>
        <p:spPr>
          <a:xfrm>
            <a:off x="1765440" y="8802720"/>
            <a:ext cx="1336680" cy="531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5"/>
          <p:cNvSpPr/>
          <p:nvPr/>
        </p:nvSpPr>
        <p:spPr>
          <a:xfrm>
            <a:off x="5343480" y="8866080"/>
            <a:ext cx="7016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6"/>
          <p:cNvSpPr/>
          <p:nvPr/>
        </p:nvSpPr>
        <p:spPr>
          <a:xfrm>
            <a:off x="3443400" y="9717120"/>
            <a:ext cx="110484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6"/>
          <p:cNvSpPr/>
          <p:nvPr/>
        </p:nvSpPr>
        <p:spPr>
          <a:xfrm>
            <a:off x="1623960" y="8534520"/>
            <a:ext cx="1876320" cy="13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7"/>
          <p:cNvSpPr/>
          <p:nvPr/>
        </p:nvSpPr>
        <p:spPr>
          <a:xfrm>
            <a:off x="4844880" y="8534520"/>
            <a:ext cx="2019600" cy="150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8"/>
          <p:cNvSpPr/>
          <p:nvPr/>
        </p:nvSpPr>
        <p:spPr>
          <a:xfrm>
            <a:off x="2530440" y="955188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ле 4"/>
          <p:cNvSpPr/>
          <p:nvPr/>
        </p:nvSpPr>
        <p:spPr>
          <a:xfrm>
            <a:off x="1917720" y="8955000"/>
            <a:ext cx="1336680" cy="532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е 5"/>
          <p:cNvSpPr/>
          <p:nvPr/>
        </p:nvSpPr>
        <p:spPr>
          <a:xfrm>
            <a:off x="5495760" y="9018720"/>
            <a:ext cx="70200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е 6"/>
          <p:cNvSpPr/>
          <p:nvPr/>
        </p:nvSpPr>
        <p:spPr>
          <a:xfrm>
            <a:off x="3595680" y="9869400"/>
            <a:ext cx="110484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30492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хема 24" descr=""/>
          <p:cNvPicPr/>
          <p:nvPr/>
        </p:nvPicPr>
        <p:blipFill>
          <a:blip r:embed="rId2"/>
          <a:stretch/>
        </p:blipFill>
        <p:spPr>
          <a:xfrm>
            <a:off x="901800" y="1523880"/>
            <a:ext cx="7632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609480" y="158760"/>
            <a:ext cx="8229600" cy="1200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042920" y="1125360"/>
            <a:ext cx="6842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 закономерности и социальную обуслов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одства 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графических процес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2124000" y="3068640"/>
            <a:ext cx="61930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вы! На жизненных  браз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гновенной жатвой </a:t>
            </a: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поколенья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о тайной воле провид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Восходят, зреют и пад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Другие им вослед идут 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«Евгений Онегин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914400" y="-219240"/>
            <a:ext cx="8229600" cy="1810080"/>
          </a:xfrm>
          <a:prstGeom prst="rect">
            <a:avLst/>
          </a:prstGeom>
          <a:ln w="0">
            <a:noFill/>
          </a:ln>
        </p:spPr>
      </p:pic>
      <p:pic>
        <p:nvPicPr>
          <p:cNvPr id="77" name="Таблица 2" descr=""/>
          <p:cNvPicPr/>
          <p:nvPr/>
        </p:nvPicPr>
        <p:blipFill>
          <a:blip r:embed="rId2"/>
          <a:stretch/>
        </p:blipFill>
        <p:spPr>
          <a:xfrm>
            <a:off x="822240" y="1311120"/>
            <a:ext cx="735192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272440" cy="1272960"/>
          </a:xfrm>
          <a:prstGeom prst="rect">
            <a:avLst/>
          </a:prstGeom>
          <a:ln w="0">
            <a:noFill/>
          </a:ln>
        </p:spPr>
      </p:pic>
      <p:pic>
        <p:nvPicPr>
          <p:cNvPr id="79" name="Схема 2" descr=""/>
          <p:cNvPicPr/>
          <p:nvPr/>
        </p:nvPicPr>
        <p:blipFill>
          <a:blip r:embed="rId2"/>
          <a:stretch/>
        </p:blipFill>
        <p:spPr>
          <a:xfrm>
            <a:off x="549360" y="1341360"/>
            <a:ext cx="8034120" cy="5181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987640" y="573264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мографическая полити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 народо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6778800" cy="1309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108000" y="1341360"/>
            <a:ext cx="52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ья нет, сказал мудрец брада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смолчал и стал пред ним хо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ее бы не мог он возраз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или все ответ замыслова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господа, забавный случай 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пример на память мне прив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каждый день пред нами солнце х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ж прав упрямый Гал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97320" y="42926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«Дви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003640" y="3541680"/>
            <a:ext cx="3638880" cy="28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878440" y="1190520"/>
            <a:ext cx="2776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2" descr=""/>
          <p:cNvPicPr/>
          <p:nvPr/>
        </p:nvPicPr>
        <p:blipFill>
          <a:blip r:embed="rId2"/>
          <a:stretch/>
        </p:blipFill>
        <p:spPr>
          <a:xfrm>
            <a:off x="901800" y="901800"/>
            <a:ext cx="70531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07:35Z</dcterms:created>
  <dc:creator>ЛТ</dc:creator>
  <dc:description/>
  <dc:language>en-US</dc:language>
  <cp:lastModifiedBy>ЛТ</cp:lastModifiedBy>
  <dcterms:modified xsi:type="dcterms:W3CDTF">2014-08-23T07:54:49Z</dcterms:modified>
  <cp:revision>41</cp:revision>
  <dc:subject/>
  <dc:title>Презентация PowerPoint</dc:title>
</cp:coreProperties>
</file>