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122A-26BF-406B-82DD-B79FF90C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BCA6-1AD2-4236-8DAE-749895AE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963-151A-43B5-A6AB-C6767CDF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64DF-4182-4D89-B0A2-65AA2386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2375-2F1C-4DAB-BC65-ED8B9A2D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7FA6-C665-4B9D-968C-21AF4EF7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488-D23E-408D-B0A2-C2B52D1D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D99-4B43-4666-BAE8-D4E7D766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6AE2-41F2-42CD-AE5F-A154B3A6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C88-D880-4C88-BB07-E27C2B09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418-8985-4AF6-A573-9B79405A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227-C0B7-4136-98C6-8A9F0B4B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8767-529D-466D-AE6B-BAB54951E0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Бехтер Л.Т. гимназия № 5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г. Белгород</a:t>
            </a:r>
            <a:r>
              <a:rPr b="0" lang="en-US" sz="26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 2013 </a:t>
            </a:r>
            <a:r>
              <a:rPr b="0" lang="ru-RU" sz="26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«Развивающее естественнонаучное образование: опыт, проблемы, решения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1"/>
          <a:stretch/>
        </p:blipFill>
        <p:spPr>
          <a:xfrm>
            <a:off x="-146160" y="262080"/>
            <a:ext cx="9442440" cy="40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604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384120" y="1413000"/>
            <a:ext cx="4068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Цыганы шумною толп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По Бессарабии коч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Они сегодня над ре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В шатрах изодранных ночу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Как вольность, весел их ночл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И мирный сон под небес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ежду колесами теле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Полузавешанных ковр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Горит огонь; семья кру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Готовит ужин; в чистом п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Пасутся кони; за шат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Ручной медведь лежит на в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Всё живо посреди степ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Заботы мирные сем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Готовых с утром в путь недаль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И песни жен, и крик де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И звон походной наковаль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 Пушкин.     «ЦЫГА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5230440" y="479736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нок А.С. Пуш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4441680" y="1628640"/>
            <a:ext cx="3409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0" y="4076640"/>
            <a:ext cx="4284720" cy="14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м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ого оптимизм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, верь: взойдет о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езда пленительного счасть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вспрянет ото сна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320760" y="804960"/>
            <a:ext cx="394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образ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, сколько нам открытий чуд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ит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свещенья дух.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421920" y="5661000"/>
            <a:ext cx="37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С. Пушкин. К Чаадаев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Любви, надежды, тихой славы...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3621240" y="692280"/>
            <a:ext cx="5703840" cy="34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баниза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… как много в этом зву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сердца русского слилос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ного в нём отозвалос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вгений Онегин» Гл.7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будет город заложе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ой здесь нам сужд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Европу прорубить окн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дный всадни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28520" y="1844640"/>
            <a:ext cx="466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нические пробл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ил о временах грядущи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народы распри позабы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еликую семью соединятс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 Пушкин  « Он между нами жил…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TextBox 8" descr=""/>
          <p:cNvPicPr/>
          <p:nvPr/>
        </p:nvPicPr>
        <p:blipFill>
          <a:blip r:embed="rId1"/>
          <a:stretch/>
        </p:blipFill>
        <p:spPr>
          <a:xfrm>
            <a:off x="585720" y="-128520"/>
            <a:ext cx="7839000" cy="1311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9"/>
          <p:cNvSpPr/>
          <p:nvPr/>
        </p:nvSpPr>
        <p:spPr>
          <a:xfrm>
            <a:off x="4653000" y="4140360"/>
            <a:ext cx="492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циальные лиф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т был Проласов,  заслуживш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ость низостью души…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ушой посредственной и низкой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 не упасть дорогой склизк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зком прополз в известный чи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вгений Онегин» Гл.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60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395280" y="1484280"/>
            <a:ext cx="439272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ин иногда иронизиру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грамматической  ошиб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усской речи не люблю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   «диагноз» ставит вполне серьёз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ость русская больн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Diagram group" descr=""/>
          <p:cNvPicPr/>
          <p:nvPr/>
        </p:nvPicPr>
        <p:blipFill>
          <a:blip r:embed="rId1"/>
          <a:stretch/>
        </p:blipFill>
        <p:spPr>
          <a:xfrm>
            <a:off x="5578560" y="2571840"/>
            <a:ext cx="3138480" cy="31525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61920" y="1739880"/>
            <a:ext cx="5103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– умение вид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лушать и слыш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          – умение читать, восприним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инание и по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поставление, с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я и нав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а  обобщения, делать в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ировать, предполагать, предвиде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  - умение общаться, спори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таивать свою, принимать другую точ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речи. Культура об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 здоровья. Физическая куль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ая культура. Общая культ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TextBox 2" descr=""/>
          <p:cNvPicPr/>
          <p:nvPr/>
        </p:nvPicPr>
        <p:blipFill>
          <a:blip r:embed="rId2"/>
          <a:stretch/>
        </p:blipFill>
        <p:spPr>
          <a:xfrm>
            <a:off x="19080" y="-19080"/>
            <a:ext cx="9088560" cy="1085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1692360" y="816120"/>
            <a:ext cx="71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воды, до которых человек додумывается сам, обычно убежд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больше, нежели те, которые пришли в голову другим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Паска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Заголовок 1"/>
          <p:cNvGrpSpPr/>
          <p:nvPr/>
        </p:nvGrpSpPr>
        <p:grpSpPr>
          <a:xfrm>
            <a:off x="324000" y="244440"/>
            <a:ext cx="8611920" cy="6156360"/>
            <a:chOff x="324000" y="244440"/>
            <a:chExt cx="8611920" cy="6156360"/>
          </a:xfrm>
        </p:grpSpPr>
        <p:pic>
          <p:nvPicPr>
            <p:cNvPr id="4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24000" y="244440"/>
              <a:ext cx="8611920" cy="61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600"/>
              </a:br>
              <a:br>
                <a:rPr sz="3600"/>
              </a:br>
              <a:br>
                <a:rPr sz="3600"/>
              </a:br>
              <a:br>
                <a:rPr sz="3600"/>
              </a:br>
              <a:br>
                <a:rPr sz="3600"/>
              </a:br>
              <a:br>
                <a:rPr sz="3600"/>
              </a:br>
              <a:br>
                <a:rPr sz="3600"/>
              </a:br>
              <a:br>
                <a:rPr sz="3600"/>
              </a:br>
              <a:br>
                <a:rPr sz="3600"/>
              </a:br>
              <a:br>
                <a:rPr sz="3600"/>
              </a:br>
              <a:br>
                <a:rPr sz="3600"/>
              </a:b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Цель  развивающего образования :</a:t>
              </a:r>
              <a:br>
                <a:rPr sz="3600"/>
              </a:br>
              <a:br>
                <a:rPr sz="3600"/>
              </a:br>
              <a:r>
                <a:rPr b="0" lang="ru-RU" sz="36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генерация, продуцирование образовательного результата, имеющего ценность не только для ученика, но и для окружающего его социума, мира, человечества. </a:t>
              </a:r>
              <a:br>
                <a:rPr sz="3600"/>
              </a:br>
              <a:br>
                <a:rPr sz="3600"/>
              </a:br>
              <a:r>
                <a:rPr b="0" lang="ru-RU" sz="36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 а не только освоение учебной деятельности </a:t>
              </a: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7296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395280" y="1125360"/>
            <a:ext cx="295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ческое 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ся как процесс  увеличения человеческих возможност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щий в том, что человек должен прожить долгую и здоровую жизн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ь образованны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 нормальный уровень жизни (качество жизни), достойно оплачиваем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у, соответствующую способностям челове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ть политическими и др. свободами, правами челове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общественным уваж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хема 3" descr=""/>
          <p:cNvPicPr/>
          <p:nvPr/>
        </p:nvPicPr>
        <p:blipFill>
          <a:blip r:embed="rId2"/>
          <a:stretch/>
        </p:blipFill>
        <p:spPr>
          <a:xfrm>
            <a:off x="2987640" y="1352520"/>
            <a:ext cx="60958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339040" cy="1809720"/>
          </a:xfrm>
          <a:prstGeom prst="rect">
            <a:avLst/>
          </a:prstGeom>
          <a:ln w="0">
            <a:noFill/>
          </a:ln>
        </p:spPr>
      </p:pic>
      <p:sp>
        <p:nvSpPr>
          <p:cNvPr id="51" name="Овал 2"/>
          <p:cNvSpPr/>
          <p:nvPr/>
        </p:nvSpPr>
        <p:spPr>
          <a:xfrm>
            <a:off x="1319040" y="8229600"/>
            <a:ext cx="1876680" cy="1335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3"/>
          <p:cNvSpPr/>
          <p:nvPr/>
        </p:nvSpPr>
        <p:spPr>
          <a:xfrm>
            <a:off x="4540320" y="8229600"/>
            <a:ext cx="2019240" cy="1501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4"/>
          <p:cNvSpPr/>
          <p:nvPr/>
        </p:nvSpPr>
        <p:spPr>
          <a:xfrm>
            <a:off x="2225520" y="9247320"/>
            <a:ext cx="302904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е 4"/>
          <p:cNvSpPr/>
          <p:nvPr/>
        </p:nvSpPr>
        <p:spPr>
          <a:xfrm>
            <a:off x="1612800" y="8650440"/>
            <a:ext cx="1336680" cy="53172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тран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оле 5"/>
          <p:cNvSpPr/>
          <p:nvPr/>
        </p:nvSpPr>
        <p:spPr>
          <a:xfrm>
            <a:off x="5191200" y="8713800"/>
            <a:ext cx="7016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м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оле 6"/>
          <p:cNvSpPr/>
          <p:nvPr/>
        </p:nvSpPr>
        <p:spPr>
          <a:xfrm>
            <a:off x="3290760" y="9564840"/>
            <a:ext cx="110520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иж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9"/>
          <p:cNvSpPr/>
          <p:nvPr/>
        </p:nvSpPr>
        <p:spPr>
          <a:xfrm>
            <a:off x="1471680" y="8381880"/>
            <a:ext cx="1876320" cy="1335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0"/>
          <p:cNvSpPr/>
          <p:nvPr/>
        </p:nvSpPr>
        <p:spPr>
          <a:xfrm>
            <a:off x="4692600" y="8381880"/>
            <a:ext cx="2019240" cy="1501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1"/>
          <p:cNvSpPr/>
          <p:nvPr/>
        </p:nvSpPr>
        <p:spPr>
          <a:xfrm>
            <a:off x="2378160" y="9399600"/>
            <a:ext cx="302904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е 4"/>
          <p:cNvSpPr/>
          <p:nvPr/>
        </p:nvSpPr>
        <p:spPr>
          <a:xfrm>
            <a:off x="1765440" y="8802720"/>
            <a:ext cx="1336680" cy="53172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тран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е 5"/>
          <p:cNvSpPr/>
          <p:nvPr/>
        </p:nvSpPr>
        <p:spPr>
          <a:xfrm>
            <a:off x="5343480" y="8866080"/>
            <a:ext cx="7016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м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ле 6"/>
          <p:cNvSpPr/>
          <p:nvPr/>
        </p:nvSpPr>
        <p:spPr>
          <a:xfrm>
            <a:off x="3443400" y="9717120"/>
            <a:ext cx="110484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иж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16"/>
          <p:cNvSpPr/>
          <p:nvPr/>
        </p:nvSpPr>
        <p:spPr>
          <a:xfrm>
            <a:off x="1623960" y="8534520"/>
            <a:ext cx="1876320" cy="133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17"/>
          <p:cNvSpPr/>
          <p:nvPr/>
        </p:nvSpPr>
        <p:spPr>
          <a:xfrm>
            <a:off x="4844880" y="8534520"/>
            <a:ext cx="2019600" cy="15015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18"/>
          <p:cNvSpPr/>
          <p:nvPr/>
        </p:nvSpPr>
        <p:spPr>
          <a:xfrm>
            <a:off x="2530440" y="9551880"/>
            <a:ext cx="3029040" cy="914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оле 4"/>
          <p:cNvSpPr/>
          <p:nvPr/>
        </p:nvSpPr>
        <p:spPr>
          <a:xfrm>
            <a:off x="1917720" y="8955000"/>
            <a:ext cx="1336680" cy="5320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транст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оле 5"/>
          <p:cNvSpPr/>
          <p:nvPr/>
        </p:nvSpPr>
        <p:spPr>
          <a:xfrm>
            <a:off x="5495760" y="9018720"/>
            <a:ext cx="70200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рем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оле 6"/>
          <p:cNvSpPr/>
          <p:nvPr/>
        </p:nvSpPr>
        <p:spPr>
          <a:xfrm>
            <a:off x="3595680" y="9869400"/>
            <a:ext cx="110484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виж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30492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Схема 24" descr=""/>
          <p:cNvPicPr/>
          <p:nvPr/>
        </p:nvPicPr>
        <p:blipFill>
          <a:blip r:embed="rId2"/>
          <a:stretch/>
        </p:blipFill>
        <p:spPr>
          <a:xfrm>
            <a:off x="901800" y="1523880"/>
            <a:ext cx="763272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609480" y="158760"/>
            <a:ext cx="8229600" cy="1200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1042920" y="1125360"/>
            <a:ext cx="68421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ет закономерности и социальную обуслов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о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оизводства 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мографических процесс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2124000" y="3068640"/>
            <a:ext cx="619308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Увы! На жизненных  бразд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гновенной жатвой </a:t>
            </a:r>
            <a:r>
              <a:rPr b="1" i="1" lang="ru-RU" sz="2400" spc="-1" strike="noStrike" u="sng">
                <a:solidFill>
                  <a:srgbClr val="e46c0a"/>
                </a:solidFill>
                <a:uFillTx/>
                <a:latin typeface="Times New Roman"/>
                <a:ea typeface="Times New Roman"/>
              </a:rPr>
              <a:t>поколенья</a:t>
            </a:r>
            <a:r>
              <a:rPr b="1" i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По тайной воле провиден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e46c0a"/>
                </a:solidFill>
                <a:uFillTx/>
                <a:latin typeface="Times New Roman"/>
                <a:ea typeface="Times New Roman"/>
              </a:rPr>
              <a:t>Восходят, зреют и паду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e46c0a"/>
                </a:solidFill>
                <a:uFillTx/>
                <a:latin typeface="Times New Roman"/>
                <a:ea typeface="Times New Roman"/>
              </a:rPr>
              <a:t>Другие им вослед идут </a:t>
            </a:r>
            <a:r>
              <a:rPr b="1" i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 Пушкин «Евгений Онегин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914400" y="-219240"/>
            <a:ext cx="8229600" cy="1810080"/>
          </a:xfrm>
          <a:prstGeom prst="rect">
            <a:avLst/>
          </a:prstGeom>
          <a:ln w="0">
            <a:noFill/>
          </a:ln>
        </p:spPr>
      </p:pic>
      <p:pic>
        <p:nvPicPr>
          <p:cNvPr id="77" name="Таблица 2" descr=""/>
          <p:cNvPicPr/>
          <p:nvPr/>
        </p:nvPicPr>
        <p:blipFill>
          <a:blip r:embed="rId2"/>
          <a:stretch/>
        </p:blipFill>
        <p:spPr>
          <a:xfrm>
            <a:off x="822240" y="1311120"/>
            <a:ext cx="7351920" cy="49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438120" y="274680"/>
            <a:ext cx="8272440" cy="1272960"/>
          </a:xfrm>
          <a:prstGeom prst="rect">
            <a:avLst/>
          </a:prstGeom>
          <a:ln w="0">
            <a:noFill/>
          </a:ln>
        </p:spPr>
      </p:pic>
      <p:pic>
        <p:nvPicPr>
          <p:cNvPr id="79" name="Схема 2" descr=""/>
          <p:cNvPicPr/>
          <p:nvPr/>
        </p:nvPicPr>
        <p:blipFill>
          <a:blip r:embed="rId2"/>
          <a:stretch/>
        </p:blipFill>
        <p:spPr>
          <a:xfrm>
            <a:off x="549360" y="1341360"/>
            <a:ext cx="8034120" cy="518184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2987640" y="5732640"/>
            <a:ext cx="551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мографическая политик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итика народо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extBox 1" descr=""/>
          <p:cNvPicPr/>
          <p:nvPr/>
        </p:nvPicPr>
        <p:blipFill>
          <a:blip r:embed="rId1"/>
          <a:stretch/>
        </p:blipFill>
        <p:spPr>
          <a:xfrm>
            <a:off x="12600" y="324000"/>
            <a:ext cx="6778800" cy="13096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2"/>
          <p:cNvSpPr/>
          <p:nvPr/>
        </p:nvSpPr>
        <p:spPr>
          <a:xfrm>
            <a:off x="108000" y="1341360"/>
            <a:ext cx="52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ья нет, сказал мудрец брадат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й смолчал и стал пред ним ход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ее бы не мог он возрази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валили все ответ замысловат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господа, забавный случай с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й пример на память мне привод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ь каждый день пред нами солнце ходи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ж прав упрямый Гал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697320" y="429264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 Пушкин «Движе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5003640" y="3541680"/>
            <a:ext cx="3638880" cy="2828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5878440" y="1190520"/>
            <a:ext cx="27766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72960"/>
          </a:xfrm>
          <a:prstGeom prst="rect">
            <a:avLst/>
          </a:prstGeom>
          <a:ln w="0">
            <a:noFill/>
          </a:ln>
        </p:spPr>
      </p:pic>
      <p:pic>
        <p:nvPicPr>
          <p:cNvPr id="87" name="Схема 2" descr=""/>
          <p:cNvPicPr/>
          <p:nvPr/>
        </p:nvPicPr>
        <p:blipFill>
          <a:blip r:embed="rId2"/>
          <a:stretch/>
        </p:blipFill>
        <p:spPr>
          <a:xfrm>
            <a:off x="901800" y="901800"/>
            <a:ext cx="7053120" cy="60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2T13:07:35Z</dcterms:created>
  <dc:creator>ЛТ</dc:creator>
  <dc:description/>
  <dc:language>en-US</dc:language>
  <cp:lastModifiedBy>ЛТ</cp:lastModifiedBy>
  <dcterms:modified xsi:type="dcterms:W3CDTF">2014-08-23T07:54:49Z</dcterms:modified>
  <cp:revision>41</cp:revision>
  <dc:subject/>
  <dc:title>Презентация PowerPoint</dc:title>
</cp:coreProperties>
</file>