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BCC-28D3-4B31-9DF5-691C53D4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FF6-5F4A-4490-B7FF-FD02CEB4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927-FE7F-447C-9A49-E4BA88C6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817-7B42-4850-884E-9968C96C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721-F485-4A0C-A67A-14004DC8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43D-D0C6-487F-9672-4C522DE7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017-E115-4FFD-B14E-7E0E5541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BF6-F790-4F82-B4DB-8ECC6156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EF1-5CC8-478A-A28C-CB0436AE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152-035C-4C55-AA06-4205B0AE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662-C2A3-400E-A916-4F2093A9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B4F-4D43-4E4E-90CC-D1EB1204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E073-B3DC-433A-A634-BDA73D00F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ОПАСНОЕ ИСПОЛЬЗОВАНИЕ КОМПЬЮТ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3160" y="3885840"/>
            <a:ext cx="54295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Апросинкина Н.В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учитель физики и информатик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классный руководитель 8 класса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МОУ СОШ №3 города Георгиевск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Ставропольского кра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И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монитора должно соответствовать направлению взгля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ередина монитора располагается на уровне глаз или на 10 – 20 градусов ниж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лоскость экрана должна находиться на расстоянии вытянутой руки от гл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 расположенные монито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слишком низко или под неправильным углом)  - причина появления сутулост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9680" y="500040"/>
            <a:ext cx="81867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аняйте блики с экра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ечные с помощью штор, занавесок, жалюз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полагайте плоскость экрана в сторону окна, устанавливайте его перпендикулярно  к окн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полагайте экран монитора напротив блестящей поверхности или сте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полагайте рабочее место непосредственно под источником с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вещенность рабочего м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ботайте в темном или полутемном помеще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ещенность в помещении должна быть немного меньше освещенности экра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аботе с документами для подсветки поверхности стола могут применятся местные светиль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е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ательно, чтобы оно было с подлокотниками, а спинка повторяла форму сп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о быть правильно отрегулирова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ысо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щущаем давление на копчик – слишком низк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щущаем давление на бедра – слишком высо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лжна располагаться так, чтобы вам было удобно, и не было напряжения мышц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БОЧИЙ СТО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 правильно подобрать его высоту особенно если на нем располагается клавиату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необходимости для удобства работы за столом можно отрегулировать высоту крес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ганизация рабочего мес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у компьют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ll Users\Документы\Мои рисунки\Северодвинск 051.jpg"/>
          <p:cNvPicPr/>
          <p:nvPr/>
        </p:nvPicPr>
        <p:blipFill>
          <a:blip r:embed="rId1"/>
          <a:stretch/>
        </p:blipFill>
        <p:spPr>
          <a:xfrm>
            <a:off x="357120" y="1643040"/>
            <a:ext cx="842976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 время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тарайтесь больше двигаться – это стимулирует кровообращ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чаще делайте перерывы с выполнением простейших физических упражнений для глаз, пальцев, спины, ше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Анимашки\вектор изобр\векторное изображение\C36-52.jpg"/>
          <p:cNvPicPr/>
          <p:nvPr/>
        </p:nvPicPr>
        <p:blipFill>
          <a:blip r:embed="rId1"/>
          <a:stretch/>
        </p:blipFill>
        <p:spPr>
          <a:xfrm>
            <a:off x="1071720" y="4214880"/>
            <a:ext cx="2992320" cy="26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Анимашки\спорт\8.gif"/>
          <p:cNvPicPr/>
          <p:nvPr/>
        </p:nvPicPr>
        <p:blipFill>
          <a:blip r:embed="rId2"/>
          <a:stretch/>
        </p:blipFill>
        <p:spPr>
          <a:xfrm>
            <a:off x="5500800" y="4357800"/>
            <a:ext cx="26431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8760" y="11430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моциональная перегрузка в результате продолжительных  компьютерных игр приводит к нервозности, нарушению сна, апат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E:\Анимашки\человек\lud41.gif"/>
          <p:cNvPicPr/>
          <p:nvPr/>
        </p:nvPicPr>
        <p:blipFill>
          <a:blip r:embed="rId1"/>
          <a:stretch/>
        </p:blipFill>
        <p:spPr>
          <a:xfrm>
            <a:off x="2786040" y="3571920"/>
            <a:ext cx="435780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школьников 9 класса работа за компьютером не должна превышать 1 часа в де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71680" y="2214360"/>
            <a:ext cx="81151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работы на компьюте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екомендуется в теч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-3 часов просматривать телепере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E:\Анимашки\АНИМ\наука\comp35.gif"/>
          <p:cNvPicPr/>
          <p:nvPr/>
        </p:nvPicPr>
        <p:blipFill>
          <a:blip r:embed="rId1"/>
          <a:stretch/>
        </p:blipFill>
        <p:spPr>
          <a:xfrm>
            <a:off x="928800" y="4000680"/>
            <a:ext cx="6858000" cy="260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вред здоровью человека может нанести работа на компьюте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. Какие требования предъявляются к организации рабочего мест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кие рекомендации необходимо соблюдать во время работы за компьютер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ительная работа на компьютере вредна для здоровья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714680"/>
            <a:ext cx="5114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зникают костно – мышечные болезн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ыстро утомляются глаз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зникают головные бол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енокард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ессовые состоя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егкая возбудимость и депресс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лабление вним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нижение трудоспособ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рушение с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Анимашки\вектор изобр\векторное изображение\C11-14.jpg"/>
          <p:cNvPicPr/>
          <p:nvPr/>
        </p:nvPicPr>
        <p:blipFill>
          <a:blip r:embed="rId1"/>
          <a:stretch/>
        </p:blipFill>
        <p:spPr>
          <a:xfrm>
            <a:off x="5286240" y="2000160"/>
            <a:ext cx="344808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All Users\Документы\Мои рисунки\Северодвинск 0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д приобретением компьютера и начала работы на не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785960"/>
            <a:ext cx="6543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пройдите обследование у окулис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дефекты зрения должны быть скорректированы при помощи очк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сильных нарушениях зрения вопрос о возможности и длительности работы на компьютере решает врач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же при хорошем зрении проходите проверку у окулиста не реже 1 раза в г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Анимашки\медицина\lud1325.gif"/>
          <p:cNvPicPr/>
          <p:nvPr/>
        </p:nvPicPr>
        <p:blipFill>
          <a:blip r:embed="rId1"/>
          <a:stretch/>
        </p:blipFill>
        <p:spPr>
          <a:xfrm>
            <a:off x="6786720" y="1428840"/>
            <a:ext cx="1985760" cy="47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круг монитора образую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714560" y="1499760"/>
            <a:ext cx="40719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лектрические по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магнитные по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- электромагнитные п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Анимашки\векторное изображение\ноутбук.jpg"/>
          <p:cNvPicPr/>
          <p:nvPr/>
        </p:nvPicPr>
        <p:blipFill>
          <a:blip r:embed="rId1"/>
          <a:stretch/>
        </p:blipFill>
        <p:spPr>
          <a:xfrm>
            <a:off x="158760" y="1643040"/>
            <a:ext cx="479124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ложительно заряженные от экрана частицы пыли оседают на лице и вдыхаются человеком, находящимся перед экран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1320" y="2857320"/>
            <a:ext cx="60721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может вызват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воспаление кож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разование угрей и сып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аллергические и   астматическ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ак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дермати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Анимашки\вектор изобр\векторное изображение\C09-18.jpg"/>
          <p:cNvPicPr/>
          <p:nvPr/>
        </p:nvPicPr>
        <p:blipFill>
          <a:blip r:embed="rId1"/>
          <a:stretch/>
        </p:blipFill>
        <p:spPr>
          <a:xfrm>
            <a:off x="6143760" y="2786040"/>
            <a:ext cx="2535120" cy="32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защиты от электрического пол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ть защитный фильтр – экран (должен быть заземлен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евременно протирать пыль с монитора, увлажнять воздух, ежедневно проводить влажную уборку помещ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ять ионизаторы возду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защиты от электромагнитных полей рекомендуе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рименять защитные экра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спользовать мониторы с низким уровнем излу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находиться ближе 1,2 метра от боков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дних стенок мони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роме того, электронно – лучевая трубка может являться источником рентгеновского излучения небольшой мощ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ганизация рабочего мес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у компьют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Анимашки\вектор изобр\векторное изображение\C11-19.jpg"/>
          <p:cNvPicPr/>
          <p:nvPr/>
        </p:nvPicPr>
        <p:blipFill>
          <a:blip r:embed="rId1"/>
          <a:stretch/>
        </p:blipFill>
        <p:spPr>
          <a:xfrm>
            <a:off x="1201680" y="2000160"/>
            <a:ext cx="644220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8:27:41Z</dcterms:created>
  <dc:creator>Admin</dc:creator>
  <dc:description/>
  <dc:language>en-US</dc:language>
  <cp:lastModifiedBy>User</cp:lastModifiedBy>
  <dcterms:modified xsi:type="dcterms:W3CDTF">2015-02-08T13:15:39Z</dcterms:modified>
  <cp:revision>23</cp:revision>
  <dc:subject/>
  <dc:title>БЕЗОПАСНОЕ ИСПОЛЬЗОВАНИЕ КОМПЬЮТЕРА.</dc:title>
</cp:coreProperties>
</file>