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6.jpeg" ContentType="image/jpeg"/>
  <Override PartName="/ppt/media/image5.jpeg" ContentType="image/jpeg"/>
  <Override PartName="/ppt/media/image11.gif" ContentType="image/gif"/>
  <Override PartName="/ppt/media/image7.jpeg" ContentType="image/jpeg"/>
  <Override PartName="/ppt/media/image8.jpeg" ContentType="image/jpeg"/>
  <Override PartName="/ppt/media/image9.jpeg" ContentType="image/jpeg"/>
  <Override PartName="/ppt/media/image10.gif" ContentType="image/gif"/>
  <Override PartName="/ppt/media/image1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4A42-DB5E-4A91-91F1-E4167BB53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97B2-C8CE-452D-9CD6-03703FBAD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A5CB-270A-4B58-87CC-1FA0D4F2F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908E-0F6B-4A84-AEF0-778C493D5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9021-35CC-4212-A216-724E002CB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0A03-E982-4AD3-84F5-BE5513865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F455-071C-4E8C-B2AD-4258A793A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834F-E296-4408-9954-8E2D97F32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0A97-B6FA-4A30-9637-BBB2AF04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1029-B61D-429F-B979-5A62FFAC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604D-9C83-434A-8EC7-8201BDB6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3FCA-DFBC-42D3-8C51-4E4BC0C3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9A034-9EB5-44AF-933B-3CAC4D3BAB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ЕЗОПАСНОЕ ИСПОЛЬЗОВАНИЕ КОМПЬЮТЕ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43160" y="3885840"/>
            <a:ext cx="542952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898989"/>
                </a:solidFill>
                <a:latin typeface="Calibri"/>
              </a:rPr>
              <a:t>Апросинкина Н.В.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898989"/>
                </a:solidFill>
                <a:latin typeface="Calibri"/>
              </a:rPr>
              <a:t>учитель физики и информатики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898989"/>
                </a:solidFill>
                <a:latin typeface="Calibri"/>
              </a:rPr>
              <a:t>классный руководитель 8 класса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898989"/>
                </a:solidFill>
                <a:latin typeface="Calibri"/>
              </a:rPr>
              <a:t>МОУ СОШ №3 города Георгиевска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898989"/>
                </a:solidFill>
                <a:latin typeface="Calibri"/>
              </a:rPr>
              <a:t>Ставропольского кра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ОНИТ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ложение монитора должно соответствовать направлению взгляд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середина монитора располагается на уровне глаз или на 10 – 20 градусов ниж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плоскость экрана должна находиться на расстоянии вытянутой руки от глаз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правильно расположенные монитор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 слишком низко или под неправильным углом)  - причина появления сутулости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99680" y="500040"/>
            <a:ext cx="818676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страняйте блики с экран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лнечные с помощью штор, занавесок, жалюз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располагайте плоскость экрана в сторону окна, устанавливайте его перпендикулярно  к окну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располагайте экран монитора напротив блестящей поверхности или стен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располагайте рабочее место непосредственно под источником све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вещенность рабочего ме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работайте в темном или полутемном помещени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вещенность в помещении должна быть немного меньше освещенности экран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работе с документами для подсветки поверхности стола могут применятся местные светильни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ресл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Желательно, чтобы оно было с подлокотниками, а спинка повторяла форму спи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лжно быть правильно отрегулирован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высот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ощущаем давление на копчик – слишком низко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ощущаем давление на бедра – слишком высок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лавиату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олжна располагаться так, чтобы вам было удобно, и не было напряжения мышц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АБОЧИЙ СТО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еобходимо правильно подобрать его высоту особенно если на нем располагается клавиатур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и необходимости для удобства работы за столом можно отрегулировать высоту кресл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рганизация рабочего мест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у компьюте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C:\Documents and Settings\All Users\Документы\Мои рисунки\Северодвинск 051.jpg"/>
          <p:cNvPicPr/>
          <p:nvPr/>
        </p:nvPicPr>
        <p:blipFill>
          <a:blip r:embed="rId1"/>
          <a:stretch/>
        </p:blipFill>
        <p:spPr>
          <a:xfrm>
            <a:off x="357120" y="1643040"/>
            <a:ext cx="8429760" cy="5000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 время работ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старайтесь больше двигаться – это стимулирует кровообраще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чаще делайте перерывы с выполнением простейших физических упражнений для глаз, пальцев, спины, ше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E:\Анимашки\вектор изобр\векторное изображение\C36-52.jpg"/>
          <p:cNvPicPr/>
          <p:nvPr/>
        </p:nvPicPr>
        <p:blipFill>
          <a:blip r:embed="rId1"/>
          <a:stretch/>
        </p:blipFill>
        <p:spPr>
          <a:xfrm>
            <a:off x="1071720" y="4214880"/>
            <a:ext cx="2992320" cy="2643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E:\Анимашки\спорт\8.gif"/>
          <p:cNvPicPr/>
          <p:nvPr/>
        </p:nvPicPr>
        <p:blipFill>
          <a:blip r:embed="rId2"/>
          <a:stretch/>
        </p:blipFill>
        <p:spPr>
          <a:xfrm>
            <a:off x="5500800" y="4357800"/>
            <a:ext cx="2643120" cy="2286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МНИТ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28760" y="114300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моциональная перегрузка в результате продолжительных  компьютерных игр приводит к нервозности, нарушению сна, апат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3" descr="E:\Анимашки\человек\lud41.gif"/>
          <p:cNvPicPr/>
          <p:nvPr/>
        </p:nvPicPr>
        <p:blipFill>
          <a:blip r:embed="rId1"/>
          <a:stretch/>
        </p:blipFill>
        <p:spPr>
          <a:xfrm>
            <a:off x="2786040" y="3571920"/>
            <a:ext cx="4357800" cy="2643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ля школьников 9 класса работа за компьютером не должна превышать 1 часа в ден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71680" y="2214360"/>
            <a:ext cx="811512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ле работы на компьютер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рекомендуется в течени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 -3 часов просматривать телепередач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E:\Анимашки\АНИМ\наука\comp35.gif"/>
          <p:cNvPicPr/>
          <p:nvPr/>
        </p:nvPicPr>
        <p:blipFill>
          <a:blip r:embed="rId1"/>
          <a:stretch/>
        </p:blipFill>
        <p:spPr>
          <a:xfrm>
            <a:off x="928800" y="4000680"/>
            <a:ext cx="6858000" cy="2609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ы для закреплен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ой вред здоровью человека может нанести работа на компьютер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 . Какие требования предъявляются к организации рабочего места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Какие рекомендации необходимо соблюдать во время работы за компьютером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лительная работа на компьютере вредна для здоровья челове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714680"/>
            <a:ext cx="5114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озникают костно – мышечные болезн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быстро утомляются глаза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озникают головные бол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тенокардия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трессовые состояния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легкая возбудимость и депрессия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слабление внимания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нижение трудоспособност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арушение сн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E:\Анимашки\вектор изобр\векторное изображение\C11-14.jpg"/>
          <p:cNvPicPr/>
          <p:nvPr/>
        </p:nvPicPr>
        <p:blipFill>
          <a:blip r:embed="rId1"/>
          <a:stretch/>
        </p:blipFill>
        <p:spPr>
          <a:xfrm>
            <a:off x="5286240" y="2000160"/>
            <a:ext cx="3448080" cy="3714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C:\Documents and Settings\All Users\Документы\Мои рисунки\Северодвинск 04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еред приобретением компьютера и начала работы на нем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785960"/>
            <a:ext cx="65437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 пройдите обследование у окулиста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 дефекты зрения должны быть скорректированы при помощи очков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и сильных нарушениях зрения вопрос о возможности и длительности работы на компьютере решает врач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аже при хорошем зрении проходите проверку у окулиста не реже 1 раза в год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E:\Анимашки\медицина\lud1325.gif"/>
          <p:cNvPicPr/>
          <p:nvPr/>
        </p:nvPicPr>
        <p:blipFill>
          <a:blip r:embed="rId1"/>
          <a:stretch/>
        </p:blipFill>
        <p:spPr>
          <a:xfrm>
            <a:off x="6786720" y="1428840"/>
            <a:ext cx="1985760" cy="4786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круг монитора образуютс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714560" y="1499760"/>
            <a:ext cx="407196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электрические пол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 магнитные пол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- электромагнитные пол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E:\Анимашки\векторное изображение\ноутбук.jpg"/>
          <p:cNvPicPr/>
          <p:nvPr/>
        </p:nvPicPr>
        <p:blipFill>
          <a:blip r:embed="rId1"/>
          <a:stretch/>
        </p:blipFill>
        <p:spPr>
          <a:xfrm>
            <a:off x="158760" y="1643040"/>
            <a:ext cx="4791240" cy="4214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ложительно заряженные от экрана частицы пыли оседают на лице и вдыхаются человеком, находящимся перед экрано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71320" y="2857320"/>
            <a:ext cx="6072120" cy="32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Это может вызвать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 воспаление кож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бразование угрей и сып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 аллергические и   астматически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еакци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 дерматит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E:\Анимашки\вектор изобр\векторное изображение\C09-18.jpg"/>
          <p:cNvPicPr/>
          <p:nvPr/>
        </p:nvPicPr>
        <p:blipFill>
          <a:blip r:embed="rId1"/>
          <a:stretch/>
        </p:blipFill>
        <p:spPr>
          <a:xfrm>
            <a:off x="6143760" y="2786040"/>
            <a:ext cx="2535120" cy="3228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ля защиты от электрического поля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пользовать защитный фильтр – экран (должен быть заземлен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воевременно протирать пыль с монитора, увлажнять воздух, ежедневно проводить влажную уборку помещен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менять ионизаторы воздух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ля защиты от электромагнитных полей рекомендуется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применять защитные экран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использовать мониторы с низким уровнем излучен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не находиться ближе 1,2 метра от боковы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задних стенок монито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Кроме того, электронно – лучевая трубка может являться источником рентгеновского излучения небольшой мощ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рганизация рабочего мест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у компьюте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E:\Анимашки\вектор изобр\векторное изображение\C11-19.jpg"/>
          <p:cNvPicPr/>
          <p:nvPr/>
        </p:nvPicPr>
        <p:blipFill>
          <a:blip r:embed="rId1"/>
          <a:stretch/>
        </p:blipFill>
        <p:spPr>
          <a:xfrm>
            <a:off x="1201680" y="2000160"/>
            <a:ext cx="6442200" cy="4214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0T18:27:41Z</dcterms:created>
  <dc:creator>Admin</dc:creator>
  <dc:description/>
  <dc:language>en-US</dc:language>
  <cp:lastModifiedBy>User</cp:lastModifiedBy>
  <dcterms:modified xsi:type="dcterms:W3CDTF">2015-02-08T13:15:39Z</dcterms:modified>
  <cp:revision>23</cp:revision>
  <dc:subject/>
  <dc:title>БЕЗОПАСНОЕ ИСПОЛЬЗОВАНИЕ КОМПЬЮТЕРА.</dc:title>
</cp:coreProperties>
</file>