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9.gif" ContentType="image/gif"/>
  <Override PartName="/ppt/media/image14.gif" ContentType="image/gif"/>
  <Override PartName="/ppt/media/image31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2.jpeg" ContentType="image/jpeg"/>
  <Override PartName="/ppt/media/image7.gif" ContentType="image/gif"/>
  <Override PartName="/ppt/media/image26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0.jpeg" ContentType="image/jpeg"/>
  <Override PartName="/ppt/media/image43.jpeg" ContentType="image/jpeg"/>
  <Override PartName="/ppt/media/image38.jpeg" ContentType="image/jpeg"/>
  <Override PartName="/ppt/media/image5.gif" ContentType="image/gif"/>
  <Override PartName="/ppt/media/image28.gif" ContentType="image/gif"/>
  <Override PartName="/ppt/media/image13.gif" ContentType="image/gif"/>
  <Override PartName="/ppt/media/image16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78F6-90E0-4624-AA42-49CA38C1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27A-757B-4CC6-8D3E-56C8A889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6F1F-A81D-47AA-B2D1-694BC5C5C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D6F1-90EE-4C0D-86CF-214E671C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2689-E7E4-4C2A-A308-61CE2F29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FF9-A066-4530-8954-2E9EB5DA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B5AD-3F3C-4201-B782-BC98AEF3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4ED3-9D2D-4A45-B2A6-B0C420DD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38FA-278C-4317-9F53-4D15FCB3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D17-2797-4832-87E1-295BB25F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50F9-7F9A-40CF-A190-C1D4A875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0AE4-1BB3-460F-80EB-2A784F12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B3DE-D933-4DD3-98DD-F40BA5222C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ЗОПАСНОЕ ПИТ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14480" y="3886200"/>
            <a:ext cx="4057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898989"/>
                </a:solidFill>
                <a:latin typeface="Calibri"/>
              </a:rPr>
              <a:t>Апросинкина Н.В.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898989"/>
                </a:solidFill>
                <a:latin typeface="Calibri"/>
              </a:rPr>
              <a:t>учитель физики и информатики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898989"/>
                </a:solidFill>
                <a:latin typeface="Calibri"/>
              </a:rPr>
              <a:t>классный руководитель 8 класса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898989"/>
                </a:solidFill>
                <a:latin typeface="Calibri"/>
              </a:rPr>
              <a:t>МОУ СОШ№3 города Георгиевск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898989"/>
                </a:solidFill>
                <a:latin typeface="Calibri"/>
              </a:rPr>
              <a:t>Ставропольского кра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дним из основных продуктов питания издавна был хле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E:\Анимашки\вектор изобр\векторное изображение\C32-24.jpg"/>
          <p:cNvPicPr/>
          <p:nvPr/>
        </p:nvPicPr>
        <p:blipFill>
          <a:blip r:embed="rId1"/>
          <a:stretch/>
        </p:blipFill>
        <p:spPr>
          <a:xfrm>
            <a:off x="1285920" y="1886040"/>
            <a:ext cx="7000920" cy="4130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ньше осуществлялся  лишь грубый помо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43080" y="1643040"/>
            <a:ext cx="4286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муке сохранялись волокна, необходимые для нормальной работы кишечник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лодовых оболочках зерна, которые тоже не отделялись содержались витамины 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E:\РОМИНЫ АНИМАШКИ\energi.gif"/>
          <p:cNvPicPr/>
          <p:nvPr/>
        </p:nvPicPr>
        <p:blipFill>
          <a:blip r:embed="rId1"/>
          <a:stretch/>
        </p:blipFill>
        <p:spPr>
          <a:xfrm>
            <a:off x="6572160" y="3691080"/>
            <a:ext cx="2214720" cy="295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E:\РОМИНЫ АНИМАШКИ\42r4.gif"/>
          <p:cNvPicPr/>
          <p:nvPr/>
        </p:nvPicPr>
        <p:blipFill>
          <a:blip r:embed="rId2"/>
          <a:stretch/>
        </p:blipFill>
        <p:spPr>
          <a:xfrm>
            <a:off x="214200" y="928800"/>
            <a:ext cx="1928880" cy="2714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 развитием мукомольного производства хлеб стал и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42680"/>
            <a:ext cx="34718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м отсутствуют пищевые волокна и витамин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годня их добавляют искусствен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E:\Анимашки\вектор изобр\векторное изображение\C13-04.jpg"/>
          <p:cNvPicPr/>
          <p:nvPr/>
        </p:nvPicPr>
        <p:blipFill>
          <a:blip r:embed="rId1"/>
          <a:stretch/>
        </p:blipFill>
        <p:spPr>
          <a:xfrm>
            <a:off x="3571920" y="1928880"/>
            <a:ext cx="1901880" cy="2143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E:\Анимашки\вектор изобр\векторное изображение\C13-09.jpg"/>
          <p:cNvPicPr/>
          <p:nvPr/>
        </p:nvPicPr>
        <p:blipFill>
          <a:blip r:embed="rId2"/>
          <a:stretch/>
        </p:blipFill>
        <p:spPr>
          <a:xfrm>
            <a:off x="6000840" y="1857240"/>
            <a:ext cx="2786040" cy="2198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E:\Анимашки\вектор изобр\векторное изображение\C13-07.jpg"/>
          <p:cNvPicPr/>
          <p:nvPr/>
        </p:nvPicPr>
        <p:blipFill>
          <a:blip r:embed="rId3"/>
          <a:stretch/>
        </p:blipFill>
        <p:spPr>
          <a:xfrm>
            <a:off x="4214880" y="4429080"/>
            <a:ext cx="3929040" cy="203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временный «благополучный» рацион и болезни пит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го входит мног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бас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тчин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ясных консерв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ивочного мас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центрированных со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E:\Анимашки\вектор изобр\векторное изображение\C13-33.jpg"/>
          <p:cNvPicPr/>
          <p:nvPr/>
        </p:nvPicPr>
        <p:blipFill>
          <a:blip r:embed="rId1"/>
          <a:stretch/>
        </p:blipFill>
        <p:spPr>
          <a:xfrm>
            <a:off x="5072040" y="1928880"/>
            <a:ext cx="3875040" cy="317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акое питание несвойственно человеку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428840"/>
            <a:ext cx="497196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ишком высококалорийное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держит вдвое больше животных жиро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держит излишнее количество соли и сахар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держит в три раза меньше пищевых волокон и микроэлемент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E:\Анимашки\вектор изобр\векторное изображение\C13-35.jpg"/>
          <p:cNvPicPr/>
          <p:nvPr/>
        </p:nvPicPr>
        <p:blipFill>
          <a:blip r:embed="rId1"/>
          <a:stretch/>
        </p:blipFill>
        <p:spPr>
          <a:xfrm>
            <a:off x="5715000" y="1643040"/>
            <a:ext cx="3017880" cy="464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61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дствия переед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642680"/>
            <a:ext cx="58294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Admin\Мои документы\Мои рисунки\АРМРЕСТЛИННГ\АРМРЕСТЛИННГ.jpg"/>
          <p:cNvPicPr/>
          <p:nvPr/>
        </p:nvPicPr>
        <p:blipFill>
          <a:blip r:embed="rId1"/>
          <a:stretch/>
        </p:blipFill>
        <p:spPr>
          <a:xfrm>
            <a:off x="3214800" y="285840"/>
            <a:ext cx="5643360" cy="6372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ый толстый человек план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C:\Documents and Settings\Admin\Рабочий стол\ПРЕЗЕНТ\fat3.jpg"/>
          <p:cNvPicPr/>
          <p:nvPr/>
        </p:nvPicPr>
        <p:blipFill>
          <a:blip r:embed="rId1"/>
          <a:stretch/>
        </p:blipFill>
        <p:spPr>
          <a:xfrm>
            <a:off x="1143000" y="1285920"/>
            <a:ext cx="6929280" cy="5000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ый толстый человек план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нуэль Урибе 1965 года рожд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2007 году его вес достигал 560 килограм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этого времени он не вставал с посте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н решил похудеть и сбросил 200 килограмм. После этого он смог самостоятельно передвигатьс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Женился на женщине которая ухаживала за ни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важды занесен в книгу рекордов Гиннес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самый толстый человек планет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человек сбросивший самый большой ве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истрофия – последствие недоед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7" descr="Distrofik_sn"/>
          <p:cNvPicPr/>
          <p:nvPr/>
        </p:nvPicPr>
        <p:blipFill>
          <a:blip r:embed="rId1"/>
          <a:stretch/>
        </p:blipFill>
        <p:spPr>
          <a:xfrm>
            <a:off x="1214280" y="1643040"/>
            <a:ext cx="6858000" cy="478620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ОРЕКС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– психическое  расстройство, выраженное  нежеланием есть,  когда   на   самом   деле  орга-низму    необходимо  питание (отвращение к пище).   Сопровождается  физическим   истощением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дним из важнейших взаимоотношений организмов, является пищевое взаимодейств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28400" y="1928520"/>
            <a:ext cx="825804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ьшая часть людей, в отличии от животных, осуществляет его опосредованно, т.е. через сеть магази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понять, как питаться правильно, и безопасно для здоровья, обратимся к истории пищевого рациона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0" descr="8"/>
          <p:cNvPicPr/>
          <p:nvPr/>
        </p:nvPicPr>
        <p:blipFill>
          <a:blip r:embed="rId1"/>
          <a:stretch/>
        </p:blipFill>
        <p:spPr>
          <a:xfrm>
            <a:off x="785880" y="785880"/>
            <a:ext cx="7643880" cy="5099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теросклероз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зультат избыточного потребления животных жир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99680" y="2214360"/>
            <a:ext cx="818676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жирной пищи факторами атеросклероза явля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-  гиподинам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кур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alibri"/>
              </a:rPr>
              <a:t>стрес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E:\Анимашки\вектор изобр\векторное изображение\C38-11.jpg"/>
          <p:cNvPicPr/>
          <p:nvPr/>
        </p:nvPicPr>
        <p:blipFill>
          <a:blip r:embed="rId1"/>
          <a:stretch/>
        </p:blipFill>
        <p:spPr>
          <a:xfrm>
            <a:off x="6715080" y="2000160"/>
            <a:ext cx="2098800" cy="221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E:\Анимашки\вектор изобр\векторное изображение\C01-34.jpg"/>
          <p:cNvPicPr/>
          <p:nvPr/>
        </p:nvPicPr>
        <p:blipFill>
          <a:blip r:embed="rId2"/>
          <a:stretch/>
        </p:blipFill>
        <p:spPr>
          <a:xfrm>
            <a:off x="3571920" y="3470400"/>
            <a:ext cx="2714760" cy="2958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E:\Анимашки\вектор изобр\векторное изображение\C03-46.jpg"/>
          <p:cNvPicPr/>
          <p:nvPr/>
        </p:nvPicPr>
        <p:blipFill>
          <a:blip r:embed="rId3"/>
          <a:stretch/>
        </p:blipFill>
        <p:spPr>
          <a:xfrm>
            <a:off x="6715080" y="4429080"/>
            <a:ext cx="2131920" cy="2214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настоящее время есть много различных систем пит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Сбалансированное калорийное питание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– самая простая и наглядная  система пита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ё суть: в основе суточного рациона пищи лежит баланс энергозатрат человека и количества калорий поступивших в организм с пищ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Смотрите таблицы 5 – 7 на странице 32 – 3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 тяжелом физическом труде человеку необходимо около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000 кКал. в сут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9680" y="2285640"/>
            <a:ext cx="8186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E:\РОМИНЫ АНИМАШКИ\mw056.gif"/>
          <p:cNvPicPr/>
          <p:nvPr/>
        </p:nvPicPr>
        <p:blipFill>
          <a:blip r:embed="rId1"/>
          <a:stretch/>
        </p:blipFill>
        <p:spPr>
          <a:xfrm>
            <a:off x="1714680" y="2263680"/>
            <a:ext cx="5857560" cy="4165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портсмены при напряженных тренировках тратят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 7000 кКал. в сут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2960" y="2214360"/>
            <a:ext cx="804384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E:\РОМИНЫ АНИМАШКИ\sport088.gif"/>
          <p:cNvPicPr/>
          <p:nvPr/>
        </p:nvPicPr>
        <p:blipFill>
          <a:blip r:embed="rId1"/>
          <a:stretch/>
        </p:blipFill>
        <p:spPr>
          <a:xfrm>
            <a:off x="2143080" y="2286000"/>
            <a:ext cx="4857840" cy="428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юдям умственного труда требуется около 2500 кКал. в сут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9680" y="1928520"/>
            <a:ext cx="818676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E:\РОМИНЫ АНИМАШКИ\doc24.gif"/>
          <p:cNvPicPr/>
          <p:nvPr/>
        </p:nvPicPr>
        <p:blipFill>
          <a:blip r:embed="rId1"/>
          <a:stretch/>
        </p:blipFill>
        <p:spPr>
          <a:xfrm>
            <a:off x="2143080" y="1857240"/>
            <a:ext cx="5143680" cy="487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веты по обеспечению безопасности пит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928520"/>
            <a:ext cx="49006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 мясо и животные жиры не должны     превышать  30 – 50 грамм в ден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стоит заменять мясо колбасой и сосис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(ПОЧЕМУ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E:\Анимашки\вектор изобр\векторное изображение\C13-30.jpg"/>
          <p:cNvPicPr/>
          <p:nvPr/>
        </p:nvPicPr>
        <p:blipFill>
          <a:blip r:embed="rId1"/>
          <a:stretch/>
        </p:blipFill>
        <p:spPr>
          <a:xfrm>
            <a:off x="5572080" y="1906560"/>
            <a:ext cx="3214800" cy="410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3571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вашем столе должны чаще появляться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Почем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E:\Анимашки\вектор изобр\векторное изображение\C13-20.jpg"/>
          <p:cNvPicPr/>
          <p:nvPr/>
        </p:nvPicPr>
        <p:blipFill>
          <a:blip r:embed="rId1"/>
          <a:stretch/>
        </p:blipFill>
        <p:spPr>
          <a:xfrm>
            <a:off x="3929040" y="285840"/>
            <a:ext cx="4929120" cy="6357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E:\Анимашки\вектор изобр\векторное изображение\C13-51.jpg"/>
          <p:cNvPicPr/>
          <p:nvPr/>
        </p:nvPicPr>
        <p:blipFill>
          <a:blip r:embed="rId1"/>
          <a:stretch/>
        </p:blipFill>
        <p:spPr>
          <a:xfrm>
            <a:off x="6000840" y="2857680"/>
            <a:ext cx="2786040" cy="3657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E:\Анимашки\вектор изобр\векторное изображение\C13-42.jpg"/>
          <p:cNvPicPr/>
          <p:nvPr/>
        </p:nvPicPr>
        <p:blipFill>
          <a:blip r:embed="rId2"/>
          <a:stretch/>
        </p:blipFill>
        <p:spPr>
          <a:xfrm>
            <a:off x="285840" y="2857680"/>
            <a:ext cx="2643120" cy="3714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E:\Анимашки\вектор изобр\векторное изображение\C33-12.jpg"/>
          <p:cNvPicPr/>
          <p:nvPr/>
        </p:nvPicPr>
        <p:blipFill>
          <a:blip r:embed="rId3"/>
          <a:stretch/>
        </p:blipFill>
        <p:spPr>
          <a:xfrm>
            <a:off x="3071880" y="500040"/>
            <a:ext cx="2857320" cy="355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дним из главных блюд должна стать каш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Анимашки\вектор изобр\векторное изображение\в столовой.jpg"/>
          <p:cNvPicPr/>
          <p:nvPr/>
        </p:nvPicPr>
        <p:blipFill>
          <a:blip r:embed="rId1"/>
          <a:stretch/>
        </p:blipFill>
        <p:spPr>
          <a:xfrm>
            <a:off x="571680" y="1928880"/>
            <a:ext cx="8001000" cy="464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самом начале своего существования люди питались только растительной пищ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00040" y="2143080"/>
            <a:ext cx="55008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 этом свидетельствую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троение жевательного аппарат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более низкая температура тела, чем у хищников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наличие червеобразного отростка, участвующего в усвоении растительной пи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E:\РОМИНЫ АНИМАШКИ\man115.gif"/>
          <p:cNvPicPr/>
          <p:nvPr/>
        </p:nvPicPr>
        <p:blipFill>
          <a:blip r:embed="rId1"/>
          <a:stretch/>
        </p:blipFill>
        <p:spPr>
          <a:xfrm>
            <a:off x="7358040" y="4572000"/>
            <a:ext cx="1854360" cy="2133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E:\Анимашки\растения\eda710.gif"/>
          <p:cNvPicPr/>
          <p:nvPr/>
        </p:nvPicPr>
        <p:blipFill>
          <a:blip r:embed="rId2"/>
          <a:stretch/>
        </p:blipFill>
        <p:spPr>
          <a:xfrm>
            <a:off x="5786280" y="1928880"/>
            <a:ext cx="2071800" cy="4657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з каких растений появилась каш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22"/>
          <p:cNvGrpSpPr/>
          <p:nvPr/>
        </p:nvGrpSpPr>
        <p:grpSpPr>
          <a:xfrm>
            <a:off x="214200" y="1357200"/>
            <a:ext cx="2362320" cy="2523960"/>
            <a:chOff x="214200" y="1357200"/>
            <a:chExt cx="2362320" cy="2523960"/>
          </a:xfrm>
        </p:grpSpPr>
        <p:pic>
          <p:nvPicPr>
            <p:cNvPr id="134" name="Picture 6" descr="ea185e39786f3ba73c456c3da5102386_index"/>
            <p:cNvPicPr/>
            <p:nvPr/>
          </p:nvPicPr>
          <p:blipFill>
            <a:blip r:embed="rId1"/>
            <a:stretch/>
          </p:blipFill>
          <p:spPr>
            <a:xfrm>
              <a:off x="366480" y="1357200"/>
              <a:ext cx="2210040" cy="195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9"/>
            <p:cNvSpPr/>
            <p:nvPr/>
          </p:nvSpPr>
          <p:spPr>
            <a:xfrm>
              <a:off x="214200" y="3298680"/>
              <a:ext cx="2362320" cy="5824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Манная каш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7"/>
          <p:cNvGrpSpPr/>
          <p:nvPr/>
        </p:nvGrpSpPr>
        <p:grpSpPr>
          <a:xfrm>
            <a:off x="6286680" y="1357200"/>
            <a:ext cx="2666880" cy="2557080"/>
            <a:chOff x="6286680" y="1357200"/>
            <a:chExt cx="2666880" cy="2557080"/>
          </a:xfrm>
        </p:grpSpPr>
        <p:pic>
          <p:nvPicPr>
            <p:cNvPr id="137" name="Picture 10" descr="Картинка 68 из 2715"/>
            <p:cNvPicPr/>
            <p:nvPr/>
          </p:nvPicPr>
          <p:blipFill>
            <a:blip r:embed="rId2"/>
            <a:stretch/>
          </p:blipFill>
          <p:spPr>
            <a:xfrm>
              <a:off x="6362640" y="1357200"/>
              <a:ext cx="2362320" cy="22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Rectangle 9"/>
            <p:cNvSpPr/>
            <p:nvPr/>
          </p:nvSpPr>
          <p:spPr>
            <a:xfrm>
              <a:off x="6286680" y="3346200"/>
              <a:ext cx="2666880" cy="5680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Georgia"/>
                </a:rPr>
                <a:t>Пшенная каш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26"/>
          <p:cNvGrpSpPr/>
          <p:nvPr/>
        </p:nvGrpSpPr>
        <p:grpSpPr>
          <a:xfrm>
            <a:off x="2928960" y="1285920"/>
            <a:ext cx="2980800" cy="2571480"/>
            <a:chOff x="2928960" y="1285920"/>
            <a:chExt cx="2980800" cy="2571480"/>
          </a:xfrm>
        </p:grpSpPr>
        <p:pic>
          <p:nvPicPr>
            <p:cNvPr id="140" name="Picture 4" descr="bowl_682_1127537a"/>
            <p:cNvPicPr/>
            <p:nvPr/>
          </p:nvPicPr>
          <p:blipFill>
            <a:blip r:embed="rId3"/>
            <a:stretch/>
          </p:blipFill>
          <p:spPr>
            <a:xfrm>
              <a:off x="3166920" y="1285920"/>
              <a:ext cx="274284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9"/>
            <p:cNvSpPr/>
            <p:nvPr/>
          </p:nvSpPr>
          <p:spPr>
            <a:xfrm>
              <a:off x="2928960" y="3326760"/>
              <a:ext cx="2971440" cy="5306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Геркулесовая каш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28"/>
          <p:cNvGrpSpPr/>
          <p:nvPr/>
        </p:nvGrpSpPr>
        <p:grpSpPr>
          <a:xfrm>
            <a:off x="3286080" y="4143240"/>
            <a:ext cx="2284920" cy="2500200"/>
            <a:chOff x="3286080" y="4143240"/>
            <a:chExt cx="2284920" cy="2500200"/>
          </a:xfrm>
        </p:grpSpPr>
        <p:pic>
          <p:nvPicPr>
            <p:cNvPr id="143" name="Picture 44" descr="i?id=26255407&amp;tov=5"/>
            <p:cNvPicPr/>
            <p:nvPr/>
          </p:nvPicPr>
          <p:blipFill>
            <a:blip r:embed="rId4"/>
            <a:stretch/>
          </p:blipFill>
          <p:spPr>
            <a:xfrm>
              <a:off x="3286080" y="4143240"/>
              <a:ext cx="2179440" cy="20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9"/>
            <p:cNvSpPr/>
            <p:nvPr/>
          </p:nvSpPr>
          <p:spPr>
            <a:xfrm>
              <a:off x="3286080" y="6062760"/>
              <a:ext cx="2284920" cy="5806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Овё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30"/>
          <p:cNvGrpSpPr/>
          <p:nvPr/>
        </p:nvGrpSpPr>
        <p:grpSpPr>
          <a:xfrm>
            <a:off x="6286680" y="4143240"/>
            <a:ext cx="2285640" cy="2485800"/>
            <a:chOff x="6286680" y="4143240"/>
            <a:chExt cx="2285640" cy="2485800"/>
          </a:xfrm>
        </p:grpSpPr>
        <p:pic>
          <p:nvPicPr>
            <p:cNvPr id="146" name="Picture 27" descr="Картинка 34 из 2485"/>
            <p:cNvPicPr/>
            <p:nvPr/>
          </p:nvPicPr>
          <p:blipFill>
            <a:blip r:embed="rId5"/>
            <a:stretch/>
          </p:blipFill>
          <p:spPr>
            <a:xfrm>
              <a:off x="6762600" y="4143240"/>
              <a:ext cx="1392840" cy="20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Rectangle 9"/>
            <p:cNvSpPr/>
            <p:nvPr/>
          </p:nvSpPr>
          <p:spPr>
            <a:xfrm>
              <a:off x="6286680" y="6076800"/>
              <a:ext cx="2285640" cy="5522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Прос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9"/>
          <p:cNvGrpSpPr/>
          <p:nvPr/>
        </p:nvGrpSpPr>
        <p:grpSpPr>
          <a:xfrm>
            <a:off x="428760" y="4286160"/>
            <a:ext cx="2139840" cy="2333520"/>
            <a:chOff x="428760" y="4286160"/>
            <a:chExt cx="2139840" cy="2333520"/>
          </a:xfrm>
        </p:grpSpPr>
        <p:pic>
          <p:nvPicPr>
            <p:cNvPr id="149" name="Picture 4" descr="Картинка 14 из 10462"/>
            <p:cNvPicPr/>
            <p:nvPr/>
          </p:nvPicPr>
          <p:blipFill>
            <a:blip r:embed="rId6"/>
            <a:stretch/>
          </p:blipFill>
          <p:spPr>
            <a:xfrm>
              <a:off x="504720" y="4286160"/>
              <a:ext cx="2063880" cy="189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Rectangle 9"/>
            <p:cNvSpPr/>
            <p:nvPr/>
          </p:nvSpPr>
          <p:spPr>
            <a:xfrm>
              <a:off x="428760" y="6059520"/>
              <a:ext cx="2133360" cy="5601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Пшениц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олезны различные растительные масла, сливочные употребляйте в минимальных количества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омните об умеренности в е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E:\Анимашки\вектор изобр\векторное изображение\C33-20.jpg"/>
          <p:cNvPicPr/>
          <p:nvPr/>
        </p:nvPicPr>
        <p:blipFill>
          <a:blip r:embed="rId1"/>
          <a:stretch/>
        </p:blipFill>
        <p:spPr>
          <a:xfrm>
            <a:off x="1428840" y="2786040"/>
            <a:ext cx="6429240" cy="363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е забывайте о хорошей физической нагруз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E:\Анимашки\вектор изобр\векторное изображение\каратэ.jpg"/>
          <p:cNvPicPr/>
          <p:nvPr/>
        </p:nvPicPr>
        <p:blipFill>
          <a:blip r:embed="rId1"/>
          <a:stretch/>
        </p:blipFill>
        <p:spPr>
          <a:xfrm>
            <a:off x="1285920" y="1714680"/>
            <a:ext cx="6500880" cy="4728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просы для закрепл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ие продукты (растительного или животного происхождения) наиболее свойственны человеку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чем заключается ценность растительной пищи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 чему может привести неумеренное употребление жиров животного происхождения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акие продукты являются наиболее ценными для человека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чем сущность сбалансированного калорийного питания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колько мяса грамм рекомендуется употреблять з день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 ОБЖ стр. 28 – 3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уя таблицы 5 – 7 на стр. 32-33 учебника проанализируйте свой рацион питания и энергозатраты за ден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делайте выво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и изменении климата в местах обитания человека, перед ним возникла проблема обеспечения питанием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засушливое время года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2428920"/>
            <a:ext cx="528624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6000" indent="-21600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E:\Анимация\302410812.jpg"/>
          <p:cNvPicPr/>
          <p:nvPr/>
        </p:nvPicPr>
        <p:blipFill>
          <a:blip r:embed="rId1"/>
          <a:stretch/>
        </p:blipFill>
        <p:spPr>
          <a:xfrm>
            <a:off x="2357280" y="2500200"/>
            <a:ext cx="4000680" cy="392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E:\Анимация\275027777.jpg"/>
          <p:cNvPicPr/>
          <p:nvPr/>
        </p:nvPicPr>
        <p:blipFill>
          <a:blip r:embed="rId2"/>
          <a:stretch/>
        </p:blipFill>
        <p:spPr>
          <a:xfrm>
            <a:off x="357120" y="3857760"/>
            <a:ext cx="1398600" cy="275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E:\Анимация\275027777.jpg"/>
          <p:cNvPicPr/>
          <p:nvPr/>
        </p:nvPicPr>
        <p:blipFill>
          <a:blip r:embed="rId3"/>
          <a:stretch/>
        </p:blipFill>
        <p:spPr>
          <a:xfrm>
            <a:off x="7143840" y="2500200"/>
            <a:ext cx="1523880" cy="2714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ешить эту проблему помог переход к питанию мясной пищ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E:\Анимашки\копытные\jiv1168.gif"/>
          <p:cNvPicPr/>
          <p:nvPr/>
        </p:nvPicPr>
        <p:blipFill>
          <a:blip r:embed="rId1"/>
          <a:stretch/>
        </p:blipFill>
        <p:spPr>
          <a:xfrm>
            <a:off x="500040" y="1285920"/>
            <a:ext cx="5327640" cy="471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E:\Анимашки\АНИМ\люди\lud185.gif"/>
          <p:cNvPicPr/>
          <p:nvPr/>
        </p:nvPicPr>
        <p:blipFill>
          <a:blip r:embed="rId2"/>
          <a:stretch/>
        </p:blipFill>
        <p:spPr>
          <a:xfrm>
            <a:off x="6286680" y="2714760"/>
            <a:ext cx="2738160" cy="3286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зже развитие скотоводства стало источником стабильным источником животной пищ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400" y="2285640"/>
            <a:ext cx="82580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E:\Анимашки\вектор изобр\векторное изображение\C32-14.jpg"/>
          <p:cNvPicPr/>
          <p:nvPr/>
        </p:nvPicPr>
        <p:blipFill>
          <a:blip r:embed="rId1"/>
          <a:stretch/>
        </p:blipFill>
        <p:spPr>
          <a:xfrm>
            <a:off x="1143000" y="2214720"/>
            <a:ext cx="7072200" cy="428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о питание мясом никогда не было преимущественным т.к.оно более дорогое, а растительная пища более свойственна челове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00040" y="2714760"/>
            <a:ext cx="450072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им образом сложился смешанный рацион питания с преобладанием растительных компонен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E:\Анимашки\вектор изобр\векторное изображение\C38-16.jpg"/>
          <p:cNvPicPr/>
          <p:nvPr/>
        </p:nvPicPr>
        <p:blipFill>
          <a:blip r:embed="rId1"/>
          <a:stretch/>
        </p:blipFill>
        <p:spPr>
          <a:xfrm>
            <a:off x="5214960" y="2571840"/>
            <a:ext cx="3770280" cy="3957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ясо – важный продукт питания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928520"/>
            <a:ext cx="41148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держит незаменимые аминокислоты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меет высокую энергетическую ценност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но особенно необходимо а период активного рост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E:\Анимашки\вектор изобр\векторное изображение\C33-17.jpg"/>
          <p:cNvPicPr/>
          <p:nvPr/>
        </p:nvPicPr>
        <p:blipFill>
          <a:blip r:embed="rId1"/>
          <a:stretch/>
        </p:blipFill>
        <p:spPr>
          <a:xfrm>
            <a:off x="4714920" y="2071800"/>
            <a:ext cx="4124160" cy="4000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стительная пищ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99760"/>
            <a:ext cx="4829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ней большое количество  биологически активных веществ (витаминов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ного заболеваний связано с нехваткой витамина С в организме, особенно зимой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еловеку в сутки необходимо  до  1 грамма витамина С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E:\Анимашки\вектор изобр\векторное изображение\C15-31.jpg"/>
          <p:cNvPicPr/>
          <p:nvPr/>
        </p:nvPicPr>
        <p:blipFill>
          <a:blip r:embed="rId1"/>
          <a:stretch/>
        </p:blipFill>
        <p:spPr>
          <a:xfrm>
            <a:off x="5283360" y="1714680"/>
            <a:ext cx="3487680" cy="4500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05:29:42Z</dcterms:created>
  <dc:creator>Admin</dc:creator>
  <dc:description/>
  <dc:language>en-US</dc:language>
  <cp:lastModifiedBy>User</cp:lastModifiedBy>
  <dcterms:modified xsi:type="dcterms:W3CDTF">2015-02-08T11:09:44Z</dcterms:modified>
  <cp:revision>35</cp:revision>
  <dc:subject/>
  <dc:title>БЕЗОПАСНОЕ ПИТАНИЕ.</dc:title>
</cp:coreProperties>
</file>