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99BC-E870-437C-B748-FD023830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B03D-F432-4EB3-B7A6-18FF706D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E313-F67C-40F8-9837-440D0551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2FD5-005A-4923-9F2A-4ED8DEE8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D42C-74ED-495C-AC47-96B0C8E3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F842-5764-4AA1-9565-03DD7CA1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D7C6-0EEB-416B-B360-1402B4F4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C665-E9C2-48A5-86FD-ADF1A3EC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8950-3F54-4777-87A9-11455512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C911-964E-4593-9E82-5F0E9914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AD41-A79E-4141-8E42-31062A1F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EFDD-CC4D-4192-AB92-56472A0A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B379-F6AB-45AB-B58F-8A98CA106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ooks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ot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ome books are to be tasted; others to b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allowe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and some few to be chewed and digeste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Every burnt book enlightens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The books that help you the most are those which make you think the most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A room without books is like a body without a soul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312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reading play an important part in your life? How much time do you spend on reading? Do you read for pleasure or for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books that stay in our memory forever. Do you have such books? Why does it happ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role do the books play in our life? How do they form our moral valu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sometimes read the same book again and again?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  Do you choose a book because your friend recommend it to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books do you read in you free time? Which books do you take on trips or for stu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think that books help you to learn to express your thoughts and feelings more exact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like Literature lessons? What do you do at these lessons? What kind of books do you read for Literature lesson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like to read classics? Why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like to read or learn poetry?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 f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f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ive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nture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nta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y 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k 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orous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oic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s about tra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gra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biogra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al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ee or disagre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t is very good when a book has colourful, attractive illustrations. A nicely illustrated book helps to understand books characters. A book without illustrations is boring to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t is important to find out something about the author of the book chosen for reading. The author’s life give explanations of his characters’ behaviour and 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t is clear at first sight whether the book is interesting to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ничего выше, чем чтение. Книги - главный источник удовольствия и вдохновения, важнее, чем театр, кино или изобразительное искусство. (Джон Малкович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6477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16:16:51Z</dcterms:created>
  <dc:creator>ольга</dc:creator>
  <dc:description/>
  <dc:language>en-US</dc:language>
  <cp:lastModifiedBy>ольга</cp:lastModifiedBy>
  <dcterms:modified xsi:type="dcterms:W3CDTF">2015-01-25T22:15:2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