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906-208C-4620-9EAE-2E61B2BE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409-4EEE-4296-8852-D2A1152C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8DA-88ED-4DA7-A999-CBCFA14E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DFF4-A9E7-47B3-9330-D6C74252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E2C-598F-472E-A5CE-9684465E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A69-B141-4965-B381-0E4DABEF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B0B2-84B0-40FF-B231-DDD5ECAC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B32-9AEA-4DF3-8DC1-0B418141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E983-1F2A-4F35-B5DD-9159BDEC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653-8E66-439B-BEA1-DF0CF302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20F-A92D-41D8-9679-3605BF45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2C6-2C72-4E52-A144-468D1053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DE3D-C5DC-45A3-961F-2E772B6CE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ook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ot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ome books are to be tasted; others to b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llowe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and some few to be chewed and digeste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Every burnt book enlightens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he books that help you the most are those which make you think the most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A room without books is like a body without a soul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312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reading play an important part in your life? How much time do you spend on reading? Do you read for pleasure or for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books that stay in our memory forever. Do you have such books? Why does it happ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ole do the books play in our life? How do they form our moral valu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ometimes read the same book again and again?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  Do you choose a book because your friend recommend it t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books do you read in you free time? Which books do you take on trips or for stu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think that books help you to learn to express your thoughts and feelings more exac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like Literature lessons? What do you do at these lessons? What kind of books do you read for Literature lesson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like to read classics? Wh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like to read or learn poetry?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f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f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ive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nture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nta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y 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k 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orous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oic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 about tra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gra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biogra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l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 or disagre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t is very good when a book has colourful, attractive illustrations. A nicely illustrated book helps to understand books characters. A book without illustrations is boring to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t is important to find out something about the author of the book chosen for reading. The author’s life give explanations of his characters’ behaviour and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t is clear at first sight whether the book is interesting to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ничего выше, чем чтение. Книги - главный источник удовольствия и вдохновения, важнее, чем театр, кино или изобразительное искусство. (Джон Малкович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6477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16:16:51Z</dcterms:created>
  <dc:creator>ольга</dc:creator>
  <dc:description/>
  <dc:language>en-US</dc:language>
  <cp:lastModifiedBy>ольга</cp:lastModifiedBy>
  <dcterms:modified xsi:type="dcterms:W3CDTF">2015-01-25T22:15:2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