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9DB-4E44-4B72-BA08-0B6D858A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0F6-A88B-4EFF-B839-B4A37EBD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440-96EB-4119-969B-F6A243E3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B39-9FAA-4D14-954A-48308801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979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06E-243B-4AA4-9656-F3714430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6B7-00F7-4742-A1B5-B274780A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143-F9D8-4ABB-8BF9-94EFF452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DE7-7480-4FD1-BFE1-93F4BF5A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979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171-C16A-48A3-953A-34C74395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EEF-DA81-49C1-8013-571FD801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78E-F546-4FAA-925C-39435B7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B41-E3C0-4FCB-BF28-D9B6DD71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59801D-8BF9-4EC0-AD56-A1DD5EC5289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38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Человек рожден для добра»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85520" y="4143240"/>
            <a:ext cx="807228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МБОУ «Нахабинская гимназия№4»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олованова Оксана Борисовна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720720" y="2214720"/>
            <a:ext cx="813600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ман, насилие, взаимовыручка, помощь,  хвастовство,  трудолюбие, мужество, честь,   жестокость, скромность, милосердие, честность,         хитрость,совестливость, лживость,    справедливость, выдержка, эгоиз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071720" y="3474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ределите слова на две группы, в первую запишите слова, относящиеся к понятию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во вторую- к понятию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ло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78073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Добро               Зло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2000160"/>
            <a:ext cx="380988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80000"/>
          </a:bodyPr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заимовыруч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кромн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ыдерж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0400" y="2000160"/>
            <a:ext cx="380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бма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вастов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Жесток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ус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ж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итр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1280" y="936720"/>
            <a:ext cx="8425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аз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днажды Добро пришло в гости к Злу. Зло стало угощать Добро чаем, но в чашку вместо сахара положило соль. Добро попробовало соленый чай, но ни слова худого не сказало. Только поблагодарило за угощение. А когда Добро уходило, оно сказало: «Что-то сахар у вас не очень сладкий. Вот вам деньги, купите себе конфет к чаю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42960" y="0"/>
            <a:ext cx="8280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Lucida Sans Unicode"/>
              </a:rPr>
              <a:t>Отойди от зла и сотвори благо, добр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https://encrypted-tbn1.gstatic.com/images?q=tbn:ANd9GcQ5KGJY1plRQox6og-t0LILGVMVte1-5a9SekC1KXj_1LqEs4ua"/>
          <p:cNvPicPr/>
          <p:nvPr/>
        </p:nvPicPr>
        <p:blipFill>
          <a:blip r:embed="rId1"/>
          <a:stretch/>
        </p:blipFill>
        <p:spPr>
          <a:xfrm>
            <a:off x="928800" y="2214720"/>
            <a:ext cx="671508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079640" y="936720"/>
            <a:ext cx="684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 обижай люд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дёт распл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м счастья не сул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ида чья-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830920" y="3887640"/>
            <a:ext cx="244944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71400" y="360000"/>
            <a:ext cx="7809120" cy="97506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;serif"/>
              </a:rPr>
              <a:t>1.Что считается добрым поступком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Забыть о неприятной просьб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Дать списать домашнее з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Опоздать на неинтересную встре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Помочь соседу по парте разобрать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Укажите поступки , которые одобряет обще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обм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насил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взаимопомощ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уни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71400" y="576360"/>
            <a:ext cx="7809120" cy="56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)Что является последствием злых дел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дружб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рад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враж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мирное сосуществ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4) Знания о добре и зле помогают людя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проявлять заботу о близ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жить в мир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друж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«Какой Я?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8320" indent="-59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качества ты считаешь хорошими, а какие плохими? Напи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черты характера тебе мешают, а какие ты бы хотел приобр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26920" y="3357720"/>
          <a:ext cx="7418520" cy="4630680"/>
        </p:xfrm>
        <a:graphic>
          <a:graphicData uri="http://schemas.openxmlformats.org/drawingml/2006/table">
            <a:tbl>
              <a:tblPr/>
              <a:tblGrid>
                <a:gridCol w="3710160"/>
                <a:gridCol w="3708360"/>
              </a:tblGrid>
              <a:tr h="1001160">
                <a:tc>
                  <a:txBody>
                    <a:bodyPr lIns="90000" rIns="90000" tIns="4186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Lucida Sans Unicode"/>
                        </a:rPr>
                        <a:t>Хочу избави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00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Lucida Sans Unicode"/>
                        </a:rPr>
                        <a:t>Хочу приобре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4"/>
          <p:cNvSpPr/>
          <p:nvPr/>
        </p:nvSpPr>
        <p:spPr>
          <a:xfrm>
            <a:off x="0" y="4616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5" descr=""/>
          <p:cNvPicPr/>
          <p:nvPr/>
        </p:nvPicPr>
        <p:blipFill>
          <a:blip r:embed="rId1"/>
          <a:stretch/>
        </p:blipFill>
        <p:spPr>
          <a:xfrm>
            <a:off x="7451640" y="836640"/>
            <a:ext cx="144612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77004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ЧЕЛОВЕК РОЖДЁН ДЛЯ  ДОБРА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9" name="Picture 2" descr="http://www.stihi.ru/pics/2013/05/12/3032.jpg"/>
          <p:cNvPicPr/>
          <p:nvPr/>
        </p:nvPicPr>
        <p:blipFill>
          <a:blip r:embed="rId1"/>
          <a:srcRect l="0" t="0" r="0" b="10371"/>
          <a:stretch/>
        </p:blipFill>
        <p:spPr>
          <a:xfrm>
            <a:off x="2286000" y="2643120"/>
            <a:ext cx="47624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2071800" cy="255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714760" y="500040"/>
            <a:ext cx="3263760" cy="251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6357960" y="571680"/>
            <a:ext cx="2444760" cy="247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14200" y="3929040"/>
            <a:ext cx="2819520" cy="216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3429000" y="3929040"/>
            <a:ext cx="2808360" cy="224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6"/>
          <a:stretch/>
        </p:blipFill>
        <p:spPr>
          <a:xfrm>
            <a:off x="6348240" y="3284640"/>
            <a:ext cx="2567160" cy="33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Сказки – учебник жизни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Picture 2" descr="https://encrypted-tbn1.gstatic.com/images?q=tbn:ANd9GcQr-IRH5pxBxRZen36QnC6GFWxdq_wPmmmklf0oMJggdtzPd0A5"/>
          <p:cNvPicPr/>
          <p:nvPr/>
        </p:nvPicPr>
        <p:blipFill>
          <a:blip r:embed="rId1"/>
          <a:stretch/>
        </p:blipFill>
        <p:spPr>
          <a:xfrm>
            <a:off x="571680" y="1714680"/>
            <a:ext cx="2562120" cy="178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s://encrypted-tbn1.gstatic.com/images?q=tbn:ANd9GcSJxwwHeaPmTdcMWTjP3dOHAWiQ0D2SONfBvUSnne1RTEjV3QPm"/>
          <p:cNvPicPr/>
          <p:nvPr/>
        </p:nvPicPr>
        <p:blipFill>
          <a:blip r:embed="rId2"/>
          <a:stretch/>
        </p:blipFill>
        <p:spPr>
          <a:xfrm>
            <a:off x="4643280" y="1785960"/>
            <a:ext cx="206712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s://encrypted-tbn1.gstatic.com/images?q=tbn:ANd9GcQkNhDBlVhKwjpwU74N3UHVeO4Mbj1lYSLLyThV_SS42w67Jj2m"/>
          <p:cNvPicPr/>
          <p:nvPr/>
        </p:nvPicPr>
        <p:blipFill>
          <a:blip r:embed="rId3"/>
          <a:stretch/>
        </p:blipFill>
        <p:spPr>
          <a:xfrm>
            <a:off x="1285920" y="371484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s://encrypted-tbn1.gstatic.com/images?q=tbn:ANd9GcTafNYivcq3sb-X-jispLhp-Rb8iQAay8-uhfh0jVDc0CLFaJ5dag"/>
          <p:cNvPicPr/>
          <p:nvPr/>
        </p:nvPicPr>
        <p:blipFill>
          <a:blip r:embed="rId4"/>
          <a:stretch/>
        </p:blipFill>
        <p:spPr>
          <a:xfrm>
            <a:off x="5000760" y="4071960"/>
            <a:ext cx="18097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Напишите черты характера добрых сказочных героев.</a:t>
            </a:r>
            <a:br>
              <a:rPr sz="3400"/>
            </a:b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корыстие, доброта, преданность, человечность , щедрость, трудолюбие, аккуратность, справедливость, смелость, самостоятельность, ответ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Какой сказочный герой объединяет сказки: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онь, скатерть и рожок», «Конёк-Горбунок», «Иван крестьянский сын и Чудо- юд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s://encrypted-tbn2.gstatic.com/images?q=tbn:ANd9GcQosC87BdcbIfTkTGGHW1NNPHSmILwBZhPGwtQP84LiWaJ9lui_EQ"/>
          <p:cNvPicPr/>
          <p:nvPr/>
        </p:nvPicPr>
        <p:blipFill>
          <a:blip r:embed="rId1"/>
          <a:srcRect l="55298" t="0" r="0" b="0"/>
          <a:stretch/>
        </p:blipFill>
        <p:spPr>
          <a:xfrm>
            <a:off x="4429080" y="3714840"/>
            <a:ext cx="40719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31640" y="3168720"/>
            <a:ext cx="8283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Душа человека стремит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 </a:t>
            </a: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к добру,  истине  и красо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1640" y="206028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936720"/>
            <a:ext cx="8918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носись к другим так, как хочешь, чтобы они относились к тебе!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12720" y="2908440"/>
            <a:ext cx="8097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то «золотое правило нравственности», основа всех человеческих отношений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16:08Z</dcterms:created>
  <dc:creator>Мама</dc:creator>
  <dc:description/>
  <dc:language>en-US</dc:language>
  <cp:lastModifiedBy>Александр</cp:lastModifiedBy>
  <dcterms:modified xsi:type="dcterms:W3CDTF">2015-02-08T07:09:55Z</dcterms:modified>
  <cp:revision>15</cp:revision>
  <dc:subject/>
  <dc:title>Модуль «Основы светской этики»  Урок 20.  Тема: «Золотое правило нравственности»</dc:title>
</cp:coreProperties>
</file>