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5.jpeg" ContentType="image/jpeg"/>
  <Override PartName="/ppt/media/image4.jpeg" ContentType="image/jpeg"/>
  <Override PartName="/ppt/media/image16.wmf" ContentType="image/x-wmf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47B0-86ED-4FC2-85A5-AB8B02313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9796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79796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1040" y="4158000"/>
            <a:ext cx="779796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C137-0ED7-4BFD-9754-8A021E91D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9796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5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040" y="1906560"/>
            <a:ext cx="3805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1040" y="4158000"/>
            <a:ext cx="3805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040" y="4158000"/>
            <a:ext cx="3805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2D68-8D8B-46AC-9A4A-3D6AD98A2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9796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25106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7680" y="1906560"/>
            <a:ext cx="25106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4320" y="1906560"/>
            <a:ext cx="25106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1040" y="4158000"/>
            <a:ext cx="25106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7680" y="4158000"/>
            <a:ext cx="25106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4320" y="4158000"/>
            <a:ext cx="25106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E3F6-0834-44BB-9D0A-7E2F817F1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9796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71040" y="1906560"/>
            <a:ext cx="779796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9796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79796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9796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52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7040" y="1906560"/>
            <a:ext cx="38052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9796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71040" y="503280"/>
            <a:ext cx="779796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9796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5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040" y="1906560"/>
            <a:ext cx="38052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71040" y="4158000"/>
            <a:ext cx="3805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9796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1040" y="1906560"/>
            <a:ext cx="779796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0CF2-461F-447A-8CDE-BE45BA78D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9796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52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7040" y="1906560"/>
            <a:ext cx="3805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7040" y="4158000"/>
            <a:ext cx="3805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9796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5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7040" y="1906560"/>
            <a:ext cx="3805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71040" y="4158000"/>
            <a:ext cx="779796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9796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79796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71040" y="4158000"/>
            <a:ext cx="779796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9796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5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7040" y="1906560"/>
            <a:ext cx="3805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71040" y="4158000"/>
            <a:ext cx="3805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7040" y="4158000"/>
            <a:ext cx="3805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9796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25106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7680" y="1906560"/>
            <a:ext cx="25106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4320" y="1906560"/>
            <a:ext cx="25106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71040" y="4158000"/>
            <a:ext cx="25106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7680" y="4158000"/>
            <a:ext cx="25106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4320" y="4158000"/>
            <a:ext cx="25106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9796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79796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EF16-BFC1-4E2B-BD9B-0C7F203CC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9796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52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040" y="1906560"/>
            <a:ext cx="38052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D4C8-39FD-46B6-838A-D33385802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9796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BE41-CAA0-4B2E-8489-351A24C75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71040" y="503280"/>
            <a:ext cx="779796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1C80-6BD7-4D2E-87C4-3927126C7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9796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5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040" y="1906560"/>
            <a:ext cx="38052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1040" y="4158000"/>
            <a:ext cx="3805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EA08-EAC2-4F86-8F72-4B0B07893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9796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52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040" y="1906560"/>
            <a:ext cx="3805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040" y="4158000"/>
            <a:ext cx="3805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9E4E-485E-4410-92D3-87614CFC6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9796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5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040" y="1906560"/>
            <a:ext cx="3805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1040" y="4158000"/>
            <a:ext cx="779796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8010-44E7-4314-B571-075FC7849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225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846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25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F3F40CC-02D6-4952-AB51-D25B1618BADB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"/>
          <p:cNvSpPr/>
          <p:nvPr/>
        </p:nvSpPr>
        <p:spPr>
          <a:xfrm>
            <a:off x="368280" y="1717560"/>
            <a:ext cx="8775720" cy="51404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9796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71040" y="1906560"/>
            <a:ext cx="779796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0" y="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0" y="216072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6"/>
          <p:cNvSpPr/>
          <p:nvPr/>
        </p:nvSpPr>
        <p:spPr>
          <a:xfrm>
            <a:off x="0" y="106056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1700280"/>
            <a:ext cx="777384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br>
              <a:rPr sz="24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«Человек рожден для добра»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785520" y="4143240"/>
            <a:ext cx="807228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МБОУ «Нахабинская гимназия№4»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Учитель начальных классов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Голованова Оксана Борисовна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4 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720720" y="2214720"/>
            <a:ext cx="8136000" cy="41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Обман, насилие, взаимовыручка, помощь,  хвастовство,  трудолюбие, мужество, честь,   жестокость, скромность, милосердие, честность,         хитрость,совестливость, лживость,    справедливость, выдержка, эгоизм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1071720" y="347400"/>
            <a:ext cx="785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пределите слова на две группы, в первую запишите слова, относящиеся к понятию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«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бро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»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во вторую- к понятию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«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ло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999720"/>
            <a:ext cx="78073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400" spc="-1" strike="noStrike">
                <a:solidFill>
                  <a:srgbClr val="333333"/>
                </a:solidFill>
                <a:latin typeface="Arial"/>
              </a:rPr>
              <a:t>Добро               Зло</a:t>
            </a: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71320" y="2000160"/>
            <a:ext cx="3809880" cy="4011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 fontScale="80000"/>
          </a:bodyPr>
          <a:p>
            <a:pPr marL="27432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Взаимовыручка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Помощь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Справедливость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Трудолюбие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Мужество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Честь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Скромность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Милосердие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Выдержка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Совестливость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00400" y="2000160"/>
            <a:ext cx="3809880" cy="45561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Обман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Насилие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Хвастовство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Жестокость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Трусость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Лживость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Эгоизм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Хитрость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1"/>
          <p:cNvSpPr/>
          <p:nvPr/>
        </p:nvSpPr>
        <p:spPr>
          <a:xfrm>
            <a:off x="71280" y="936720"/>
            <a:ext cx="8425080" cy="60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Сказка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Однажды Добро пришло в гости к Злу. Зло стало угощать Добро чаем, но в чашку вместо сахара положило соль. Добро попробовало соленый чай, но ни слова худого не сказало. Только поблагодарило за угощение. А когда Добро уходило, оно сказало: «Что-то сахар у вас не очень сладкий. Вот вам деньги, купите себе конфет к чаю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642960" y="0"/>
            <a:ext cx="828036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Arial"/>
                <a:ea typeface="Lucida Sans Unicode"/>
              </a:rPr>
              <a:t>Отойди от зла и сотвори благо, добро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4" descr="https://encrypted-tbn1.gstatic.com/images?q=tbn:ANd9GcQ5KGJY1plRQox6og-t0LILGVMVte1-5a9SekC1KXj_1LqEs4ua"/>
          <p:cNvPicPr/>
          <p:nvPr/>
        </p:nvPicPr>
        <p:blipFill>
          <a:blip r:embed="rId1"/>
          <a:stretch/>
        </p:blipFill>
        <p:spPr>
          <a:xfrm>
            <a:off x="928800" y="2214720"/>
            <a:ext cx="6715080" cy="45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1079640" y="936720"/>
            <a:ext cx="684036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Не обижай людей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Придёт распла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Нам счастья не сули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Обида чья-т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5830920" y="3887640"/>
            <a:ext cx="2449440" cy="23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71400" y="360000"/>
            <a:ext cx="7809120" cy="97506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;serif"/>
              </a:rPr>
              <a:t>1.Что считается добрым поступком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              </a:t>
            </a:r>
            <a:r>
              <a:rPr b="0" lang="ru-RU" sz="2600" spc="-1" strike="noStrike">
                <a:solidFill>
                  <a:srgbClr val="000000"/>
                </a:solidFill>
                <a:latin typeface="Times New Roman;serif"/>
              </a:rPr>
              <a:t>А. Забыть о неприятной просьб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                 </a:t>
            </a:r>
            <a:r>
              <a:rPr b="0" lang="ru-RU" sz="2600" spc="-1" strike="noStrike">
                <a:solidFill>
                  <a:srgbClr val="000000"/>
                </a:solidFill>
                <a:latin typeface="Times New Roman;serif"/>
              </a:rPr>
              <a:t>Б. Дать списать домашнее задани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                 </a:t>
            </a:r>
            <a:r>
              <a:rPr b="0" lang="ru-RU" sz="2600" spc="-1" strike="noStrike">
                <a:solidFill>
                  <a:srgbClr val="000000"/>
                </a:solidFill>
                <a:latin typeface="Times New Roman;serif"/>
              </a:rPr>
              <a:t>В. Опоздать на неинтересную встреч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                 </a:t>
            </a:r>
            <a:r>
              <a:rPr b="0" lang="ru-RU" sz="2600" spc="-1" strike="noStrike">
                <a:solidFill>
                  <a:srgbClr val="000000"/>
                </a:solidFill>
                <a:latin typeface="Times New Roman;serif"/>
              </a:rPr>
              <a:t>Г. Помочь соседу по парте разобрать задач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2.Укажите поступки , которые одобряет общество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               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;serif"/>
              </a:rPr>
              <a:t>А. обма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                 </a:t>
            </a:r>
            <a:r>
              <a:rPr b="0" lang="ru-RU" sz="2600" spc="-1" strike="noStrike">
                <a:solidFill>
                  <a:srgbClr val="000000"/>
                </a:solidFill>
                <a:latin typeface="Times New Roman;serif"/>
              </a:rPr>
              <a:t>Б. насили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                 </a:t>
            </a:r>
            <a:r>
              <a:rPr b="0" lang="ru-RU" sz="2600" spc="-1" strike="noStrike">
                <a:solidFill>
                  <a:srgbClr val="000000"/>
                </a:solidFill>
                <a:latin typeface="Times New Roman;serif"/>
              </a:rPr>
              <a:t>В. взаимопомощ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                 </a:t>
            </a:r>
            <a:r>
              <a:rPr b="0" lang="ru-RU" sz="2600" spc="-1" strike="noStrike">
                <a:solidFill>
                  <a:srgbClr val="000000"/>
                </a:solidFill>
                <a:latin typeface="Times New Roman;serif"/>
              </a:rPr>
              <a:t>Г. унижени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71400" y="576360"/>
            <a:ext cx="7809120" cy="56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3)Что является последствием злых дел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                 </a:t>
            </a:r>
            <a:r>
              <a:rPr b="0" lang="ru-RU" sz="2600" spc="-1" strike="noStrike">
                <a:solidFill>
                  <a:srgbClr val="000000"/>
                </a:solidFill>
                <a:latin typeface="Times New Roman;serif"/>
              </a:rPr>
              <a:t>А. дружб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                 </a:t>
            </a:r>
            <a:r>
              <a:rPr b="0" lang="ru-RU" sz="2600" spc="-1" strike="noStrike">
                <a:solidFill>
                  <a:srgbClr val="000000"/>
                </a:solidFill>
                <a:latin typeface="Times New Roman;serif"/>
              </a:rPr>
              <a:t>Б. радость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                 </a:t>
            </a:r>
            <a:r>
              <a:rPr b="0" lang="ru-RU" sz="2600" spc="-1" strike="noStrike">
                <a:solidFill>
                  <a:srgbClr val="000000"/>
                </a:solidFill>
                <a:latin typeface="Times New Roman;serif"/>
              </a:rPr>
              <a:t>В. враж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                 </a:t>
            </a:r>
            <a:r>
              <a:rPr b="0" lang="ru-RU" sz="2600" spc="-1" strike="noStrike">
                <a:solidFill>
                  <a:srgbClr val="000000"/>
                </a:solidFill>
                <a:latin typeface="Times New Roman;serif"/>
              </a:rPr>
              <a:t>Г. мирное сосуществовани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4) Знания о добре и зле помогают людям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                 </a:t>
            </a:r>
            <a:r>
              <a:rPr b="0" lang="ru-RU" sz="2600" spc="-1" strike="noStrike">
                <a:solidFill>
                  <a:srgbClr val="000000"/>
                </a:solidFill>
                <a:latin typeface="Times New Roman;serif"/>
              </a:rPr>
              <a:t>А. проявлять заботу о близки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                 </a:t>
            </a:r>
            <a:r>
              <a:rPr b="0" lang="ru-RU" sz="2600" spc="-1" strike="noStrike">
                <a:solidFill>
                  <a:srgbClr val="000000"/>
                </a:solidFill>
                <a:latin typeface="Times New Roman;serif"/>
              </a:rPr>
              <a:t>Б. жить в мир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                 </a:t>
            </a:r>
            <a:r>
              <a:rPr b="0" lang="ru-RU" sz="2600" spc="-1" strike="noStrike">
                <a:solidFill>
                  <a:srgbClr val="000000"/>
                </a:solidFill>
                <a:latin typeface="Times New Roman;serif"/>
              </a:rPr>
              <a:t>В. дружит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333333"/>
                </a:solidFill>
                <a:latin typeface="Times New Roman"/>
              </a:rPr>
              <a:t>«Какой Я?»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8320" indent="-598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598320"/>
                <a:tab algn="l" pos="703440"/>
                <a:tab algn="l" pos="1152360"/>
                <a:tab algn="l" pos="1601640"/>
                <a:tab algn="l" pos="2050920"/>
                <a:tab algn="l" pos="2500200"/>
                <a:tab algn="l" pos="2949480"/>
                <a:tab algn="l" pos="3398760"/>
                <a:tab algn="l" pos="3848040"/>
                <a:tab algn="l" pos="4297320"/>
                <a:tab algn="l" pos="4746600"/>
                <a:tab algn="l" pos="5195880"/>
                <a:tab algn="l" pos="5645160"/>
                <a:tab algn="l" pos="6094440"/>
                <a:tab algn="l" pos="6543720"/>
                <a:tab algn="l" pos="6993000"/>
                <a:tab algn="l" pos="7442280"/>
                <a:tab algn="l" pos="7891560"/>
                <a:tab algn="l" pos="8340840"/>
                <a:tab algn="l" pos="8790120"/>
                <a:tab algn="l" pos="9239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ие качества ты считаешь хорошими, а какие плохими? Напиш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8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98320"/>
                <a:tab algn="l" pos="703440"/>
                <a:tab algn="l" pos="1152360"/>
                <a:tab algn="l" pos="1601640"/>
                <a:tab algn="l" pos="2050920"/>
                <a:tab algn="l" pos="2500200"/>
                <a:tab algn="l" pos="2949480"/>
                <a:tab algn="l" pos="3398760"/>
                <a:tab algn="l" pos="3848040"/>
                <a:tab algn="l" pos="4297320"/>
                <a:tab algn="l" pos="4746600"/>
                <a:tab algn="l" pos="5195880"/>
                <a:tab algn="l" pos="5645160"/>
                <a:tab algn="l" pos="6094440"/>
                <a:tab algn="l" pos="6543720"/>
                <a:tab algn="l" pos="6993000"/>
                <a:tab algn="l" pos="7442280"/>
                <a:tab algn="l" pos="7891560"/>
                <a:tab algn="l" pos="8340840"/>
                <a:tab algn="l" pos="8790120"/>
                <a:tab algn="l" pos="9239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8320" indent="-598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598320"/>
                <a:tab algn="l" pos="703440"/>
                <a:tab algn="l" pos="1152360"/>
                <a:tab algn="l" pos="1601640"/>
                <a:tab algn="l" pos="2050920"/>
                <a:tab algn="l" pos="2500200"/>
                <a:tab algn="l" pos="2949480"/>
                <a:tab algn="l" pos="3398760"/>
                <a:tab algn="l" pos="3848040"/>
                <a:tab algn="l" pos="4297320"/>
                <a:tab algn="l" pos="4746600"/>
                <a:tab algn="l" pos="5195880"/>
                <a:tab algn="l" pos="5645160"/>
                <a:tab algn="l" pos="6094440"/>
                <a:tab algn="l" pos="6543720"/>
                <a:tab algn="l" pos="6993000"/>
                <a:tab algn="l" pos="7442280"/>
                <a:tab algn="l" pos="7891560"/>
                <a:tab algn="l" pos="8340840"/>
                <a:tab algn="l" pos="8790120"/>
                <a:tab algn="l" pos="9239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ие черты характера тебе мешают, а какие ты бы хотел приобрес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8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98320"/>
                <a:tab algn="l" pos="703440"/>
                <a:tab algn="l" pos="1152360"/>
                <a:tab algn="l" pos="1601640"/>
                <a:tab algn="l" pos="2050920"/>
                <a:tab algn="l" pos="2500200"/>
                <a:tab algn="l" pos="2949480"/>
                <a:tab algn="l" pos="3398760"/>
                <a:tab algn="l" pos="3848040"/>
                <a:tab algn="l" pos="4297320"/>
                <a:tab algn="l" pos="4746600"/>
                <a:tab algn="l" pos="5195880"/>
                <a:tab algn="l" pos="5645160"/>
                <a:tab algn="l" pos="6094440"/>
                <a:tab algn="l" pos="6543720"/>
                <a:tab algn="l" pos="6993000"/>
                <a:tab algn="l" pos="7442280"/>
                <a:tab algn="l" pos="7891560"/>
                <a:tab algn="l" pos="8340840"/>
                <a:tab algn="l" pos="8790120"/>
                <a:tab algn="l" pos="9239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826920" y="3357720"/>
          <a:ext cx="7418520" cy="4630680"/>
        </p:xfrm>
        <a:graphic>
          <a:graphicData uri="http://schemas.openxmlformats.org/drawingml/2006/table">
            <a:tbl>
              <a:tblPr/>
              <a:tblGrid>
                <a:gridCol w="3710160"/>
                <a:gridCol w="3708360"/>
              </a:tblGrid>
              <a:tr h="1001160">
                <a:tc>
                  <a:txBody>
                    <a:bodyPr lIns="90000" rIns="90000" tIns="418680" bIns="46800" anchor="t">
                      <a:noAutofit/>
                    </a:bodyPr>
                    <a:p>
                      <a:pPr algn="ctr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Arial"/>
                          <a:ea typeface="Lucida Sans Unicode"/>
                        </a:rPr>
                        <a:t>Хочу избавитьс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0080" bIns="46800" anchor="t">
                      <a:noAutofit/>
                    </a:bodyPr>
                    <a:p>
                      <a:pPr algn="ctr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Arial"/>
                          <a:ea typeface="Lucida Sans Unicode"/>
                        </a:rPr>
                        <a:t>Хочу приобрест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98720">
                <a:tc>
                  <a:txBody>
                    <a:bodyPr lIns="90000" rIns="90000" tIns="62496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2496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98720">
                <a:tc>
                  <a:txBody>
                    <a:bodyPr lIns="90000" rIns="90000" tIns="62496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2496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98720">
                <a:tc>
                  <a:txBody>
                    <a:bodyPr lIns="90000" rIns="90000" tIns="62496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2496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98720">
                <a:tc>
                  <a:txBody>
                    <a:bodyPr lIns="90000" rIns="90000" tIns="62496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2496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Rectangle 14"/>
          <p:cNvSpPr/>
          <p:nvPr/>
        </p:nvSpPr>
        <p:spPr>
          <a:xfrm>
            <a:off x="0" y="461628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15" descr=""/>
          <p:cNvPicPr/>
          <p:nvPr/>
        </p:nvPicPr>
        <p:blipFill>
          <a:blip r:embed="rId1"/>
          <a:stretch/>
        </p:blipFill>
        <p:spPr>
          <a:xfrm>
            <a:off x="7451640" y="836640"/>
            <a:ext cx="1446120" cy="160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1400" y="770040"/>
            <a:ext cx="780912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7809120" cy="4481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5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28800" y="1500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400" spc="-1" strike="noStrike">
                <a:solidFill>
                  <a:srgbClr val="333333"/>
                </a:solidFill>
                <a:latin typeface="Arial"/>
              </a:rPr>
              <a:t>ЧЕЛОВЕК РОЖДЁН ДЛЯ  ДОБРА</a:t>
            </a: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89" name="Picture 2" descr="http://www.stihi.ru/pics/2013/05/12/3032.jpg"/>
          <p:cNvPicPr/>
          <p:nvPr/>
        </p:nvPicPr>
        <p:blipFill>
          <a:blip r:embed="rId1"/>
          <a:srcRect l="0" t="0" r="0" b="10371"/>
          <a:stretch/>
        </p:blipFill>
        <p:spPr>
          <a:xfrm>
            <a:off x="2286000" y="2643120"/>
            <a:ext cx="476244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357120" y="571680"/>
            <a:ext cx="2071800" cy="2555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"/>
          <p:cNvPicPr/>
          <p:nvPr/>
        </p:nvPicPr>
        <p:blipFill>
          <a:blip r:embed="rId2"/>
          <a:stretch/>
        </p:blipFill>
        <p:spPr>
          <a:xfrm>
            <a:off x="2714760" y="500040"/>
            <a:ext cx="3263760" cy="2519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3"/>
          <a:stretch/>
        </p:blipFill>
        <p:spPr>
          <a:xfrm>
            <a:off x="6357960" y="571680"/>
            <a:ext cx="2444760" cy="2473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/>
          <p:cNvPicPr/>
          <p:nvPr/>
        </p:nvPicPr>
        <p:blipFill>
          <a:blip r:embed="rId4"/>
          <a:stretch/>
        </p:blipFill>
        <p:spPr>
          <a:xfrm>
            <a:off x="214200" y="3929040"/>
            <a:ext cx="2819520" cy="21668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5"/>
          <a:stretch/>
        </p:blipFill>
        <p:spPr>
          <a:xfrm>
            <a:off x="3429000" y="3929040"/>
            <a:ext cx="2808360" cy="2244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"/>
          <p:cNvPicPr/>
          <p:nvPr/>
        </p:nvPicPr>
        <p:blipFill>
          <a:blip r:embed="rId6"/>
          <a:stretch/>
        </p:blipFill>
        <p:spPr>
          <a:xfrm>
            <a:off x="6348240" y="3284640"/>
            <a:ext cx="2567160" cy="3370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9796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400" spc="-1" strike="noStrike">
                <a:solidFill>
                  <a:srgbClr val="333333"/>
                </a:solidFill>
                <a:latin typeface="Arial"/>
              </a:rPr>
              <a:t>Сказки – учебник жизни</a:t>
            </a: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7" name="Picture 2" descr="https://encrypted-tbn1.gstatic.com/images?q=tbn:ANd9GcQr-IRH5pxBxRZen36QnC6GFWxdq_wPmmmklf0oMJggdtzPd0A5"/>
          <p:cNvPicPr/>
          <p:nvPr/>
        </p:nvPicPr>
        <p:blipFill>
          <a:blip r:embed="rId1"/>
          <a:stretch/>
        </p:blipFill>
        <p:spPr>
          <a:xfrm>
            <a:off x="571680" y="1714680"/>
            <a:ext cx="2562120" cy="1780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https://encrypted-tbn1.gstatic.com/images?q=tbn:ANd9GcSJxwwHeaPmTdcMWTjP3dOHAWiQ0D2SONfBvUSnne1RTEjV3QPm"/>
          <p:cNvPicPr/>
          <p:nvPr/>
        </p:nvPicPr>
        <p:blipFill>
          <a:blip r:embed="rId2"/>
          <a:stretch/>
        </p:blipFill>
        <p:spPr>
          <a:xfrm>
            <a:off x="4643280" y="1785960"/>
            <a:ext cx="2067120" cy="1928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https://encrypted-tbn1.gstatic.com/images?q=tbn:ANd9GcQkNhDBlVhKwjpwU74N3UHVeO4Mbj1lYSLLyThV_SS42w67Jj2m"/>
          <p:cNvPicPr/>
          <p:nvPr/>
        </p:nvPicPr>
        <p:blipFill>
          <a:blip r:embed="rId3"/>
          <a:stretch/>
        </p:blipFill>
        <p:spPr>
          <a:xfrm>
            <a:off x="1285920" y="3714840"/>
            <a:ext cx="1733400" cy="26384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https://encrypted-tbn1.gstatic.com/images?q=tbn:ANd9GcTafNYivcq3sb-X-jispLhp-Rb8iQAay8-uhfh0jVDc0CLFaJ5dag"/>
          <p:cNvPicPr/>
          <p:nvPr/>
        </p:nvPicPr>
        <p:blipFill>
          <a:blip r:embed="rId4"/>
          <a:stretch/>
        </p:blipFill>
        <p:spPr>
          <a:xfrm>
            <a:off x="5000760" y="4071960"/>
            <a:ext cx="180972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9796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400" spc="-1" strike="noStrike">
                <a:solidFill>
                  <a:srgbClr val="333333"/>
                </a:solidFill>
                <a:latin typeface="Arial"/>
              </a:rPr>
              <a:t>Напишите черты характера добрых сказочных героев.</a:t>
            </a:r>
            <a:br>
              <a:rPr sz="3400"/>
            </a:b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71040" y="1906560"/>
            <a:ext cx="779796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ескорыстие, доброта, преданность, человечность , щедрость, трудолюбие, аккуратность, справедливость, смелость, самостоятельность, ответствен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9796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400" spc="-1" strike="noStrike">
                <a:solidFill>
                  <a:srgbClr val="333333"/>
                </a:solidFill>
                <a:latin typeface="Arial"/>
              </a:rPr>
              <a:t>Какой сказочный герой объединяет сказки:</a:t>
            </a: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71040" y="1906560"/>
            <a:ext cx="779796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Конь, скатерть и рожок», «Конёк-Горбунок», «Иван крестьянский сын и Чудо- юдо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https://encrypted-tbn2.gstatic.com/images?q=tbn:ANd9GcQosC87BdcbIfTkTGGHW1NNPHSmILwBZhPGwtQP84LiWaJ9lui_EQ"/>
          <p:cNvPicPr/>
          <p:nvPr/>
        </p:nvPicPr>
        <p:blipFill>
          <a:blip r:embed="rId1"/>
          <a:srcRect l="55298" t="0" r="0" b="0"/>
          <a:stretch/>
        </p:blipFill>
        <p:spPr>
          <a:xfrm>
            <a:off x="4429080" y="3714840"/>
            <a:ext cx="4071960" cy="29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       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431640" y="3168720"/>
            <a:ext cx="828360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3333"/>
                </a:solidFill>
                <a:latin typeface="Arial"/>
                <a:ea typeface="Lucida Sans Unicode"/>
              </a:rPr>
              <a:t>Душа человека стремитс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3333"/>
                </a:solidFill>
                <a:latin typeface="Arial"/>
                <a:ea typeface="Lucida Sans Unicode"/>
              </a:rPr>
              <a:t> </a:t>
            </a:r>
            <a:r>
              <a:rPr b="1" lang="ru-RU" sz="4400" spc="-1" strike="noStrike">
                <a:solidFill>
                  <a:srgbClr val="ff3333"/>
                </a:solidFill>
                <a:latin typeface="Arial"/>
                <a:ea typeface="Lucida Sans Unicode"/>
              </a:rPr>
              <a:t>к добру,  истине  и красот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1640" y="2060280"/>
            <a:ext cx="403236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203040" y="936720"/>
            <a:ext cx="891864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Lucida Sans Unicode"/>
              </a:rPr>
              <a:t>Относись к другим так, как хочешь, чтобы они относились к тебе!»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612720" y="2908440"/>
            <a:ext cx="809784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–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Lucida Sans Unicode"/>
              </a:rPr>
              <a:t>это «золотое правило нравственности», основа всех человеческих отношений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2T20:16:08Z</dcterms:created>
  <dc:creator>Мама</dc:creator>
  <dc:description/>
  <dc:language>en-US</dc:language>
  <cp:lastModifiedBy>Александр</cp:lastModifiedBy>
  <dcterms:modified xsi:type="dcterms:W3CDTF">2015-02-08T07:09:55Z</dcterms:modified>
  <cp:revision>15</cp:revision>
  <dc:subject/>
  <dc:title>Модуль «Основы светской этики»  Урок 20.  Тема: «Золотое правило нравственности»</dc:title>
</cp:coreProperties>
</file>