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6DB-AC2A-44DC-AED3-DE5B66D8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8B-527C-4117-B2A6-F486D4B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0B9-1BCF-41A5-8FBC-5E6C631F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200-825D-46E0-8EB2-7AAE9D5D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B8EC-765D-49C9-B2F0-67E05FA7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147F-4F79-47F6-9946-34FD57E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B2E-EA2D-46BF-BD00-02A0218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2E7D-0E2D-4981-98E2-EB2D391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721E-CDD7-405A-A2EA-AA890613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8D2-B6DC-44D7-9DE9-8F12477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A96-0EC1-4B65-B28E-7F6CE3E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043-4498-4551-9E69-C0E7C54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9D0F-5FFB-4F8F-955E-C0FDBB3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708C-D02E-45BF-8BC0-081765C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548-7F2F-4B55-A471-85BD29B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B3F-4CE3-49A6-BA66-2E80B061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B56-9A1D-4FB0-AB7B-3D57600D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6050-598D-420B-9379-325DE87E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23B2-2C1B-43EE-8050-A6393D1D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7B1E-5F59-4ADD-A04A-8B4D589A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D54C-716A-4F36-863A-05E191F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1944-FE7D-4CEE-9C2D-DF2A19CC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B02-1909-458D-8BDF-5CA6D386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365F-BC56-4891-B802-6E1AACDA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1A9E-4F4D-4338-B584-E31BAD7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9BD9-1880-4D4D-8060-DC22D81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D02F-8ED4-4225-8FA3-6131590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7BC7-BD13-4EE3-B817-0C55AE5D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3C38-1F70-4A53-A077-39064B9A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E27F-25A2-497F-AA1E-A8C85006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F4B8-1AFB-4830-92E9-DF23A670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014C-B643-47D0-BEB2-1ABFF47B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D9A8-5A85-446B-88C5-6869AC36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3FB-8663-421A-A736-7FC9B12D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B22B-D7FB-4691-9511-6274562B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594D-96BA-4B45-A4F2-EBFE5C0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8836-4224-451F-9718-0EF680F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6466-485F-4B45-AC43-AEF089A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2ABC-3B8D-4B5A-A8EE-AF6ACB9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F94E-78DD-461E-B27E-AF1F6CA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34B2-FCE5-44F8-8883-CD5A72E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D67C-3B45-4DAA-AACA-C8C9872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E94F8-D84E-4AF8-91BD-C55A0F38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756-2B89-4DCD-98DA-6532F7D9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887-60ED-458A-8956-75A769C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A25-AB55-4EF8-865E-B222A712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A04-2294-47EA-8F0D-70F3507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14B-82DB-47AB-BE6E-154E1EB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28C-7FE6-4B2B-98D1-972F54A82E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639F-4DF6-4719-A3EF-1176CCE19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AC0-2C42-4D56-A11F-2315F11828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476-278D-4D7F-AB64-15E37DB4C3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9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мографическая ситуация в  селе Старые Чечкабы в период с 1795 по 2010 г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114440" y="38858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 учитель химии и биологии: Зиннатуллин Р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 выполне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ми 10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Число рожденных и умерших по селу Старые Чечкабы с 2002года по 2010 год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3680" y="1704960"/>
          <a:ext cx="8329320" cy="44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704960"/>
                    <a:ext cx="832932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99"/>
                </a:solidFill>
                <a:latin typeface="Tahoma"/>
              </a:rPr>
              <a:t>Регистрация рождения детей  по Кайбицкому муниципальному району</a:t>
            </a:r>
            <a:br>
              <a:rPr sz="2800"/>
            </a:br>
            <a:r>
              <a:rPr b="1" lang="be-BY" sz="2800" spc="-1" strike="noStrike">
                <a:solidFill>
                  <a:srgbClr val="333399"/>
                </a:solidFill>
                <a:latin typeface="Tahoma"/>
              </a:rPr>
              <a:t>Республики  Татарста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38080" y="1974960"/>
          <a:ext cx="762012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74960"/>
                    <a:ext cx="762012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нализ рождения по селу Старые Чечкабы и по Кайбицкому району с 2002 года по 2009год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1382760"/>
          <a:ext cx="9072720" cy="501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907272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смерти по годам </a:t>
            </a:r>
            <a:r>
              <a:rPr b="0" lang="be-BY" sz="3200" spc="-1" strike="noStrike">
                <a:solidFill>
                  <a:srgbClr val="333399"/>
                </a:solidFill>
                <a:latin typeface="Tahoma"/>
              </a:rPr>
              <a:t>умерших по половому признаку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 район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66680" y="1911240"/>
          <a:ext cx="7805880" cy="42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11240"/>
                    <a:ext cx="780588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нализ смерти по годам </a:t>
            </a:r>
            <a:r>
              <a:rPr b="1" lang="be-BY" sz="2600" spc="-1" strike="noStrike">
                <a:solidFill>
                  <a:srgbClr val="330066"/>
                </a:solidFill>
                <a:latin typeface="Arial"/>
              </a:rPr>
              <a:t>умерших по половому признаку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по селу Старые Чечкабы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719360"/>
          <a:ext cx="815832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719360"/>
                    <a:ext cx="815832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озрастная структура населения села Старые Чечкабы на 2001 год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82600" y="2943360"/>
          <a:ext cx="3808440" cy="226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943360"/>
                    <a:ext cx="3808440" cy="22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143000" y="2209680"/>
          <a:ext cx="6934320" cy="374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09680"/>
                    <a:ext cx="69343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инамика изменений полового состава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191120" y="1371600"/>
          <a:ext cx="495288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371600"/>
                    <a:ext cx="4952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09680" y="3962520"/>
          <a:ext cx="5257800" cy="28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962520"/>
                    <a:ext cx="5257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0" y="1371600"/>
          <a:ext cx="4191120" cy="259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371600"/>
                    <a:ext cx="4191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0" y="0"/>
          <a:ext cx="80773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077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ы исслед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району и селу наблюдается снижение численности населения, однако по району это выражено сильнее нежели по селу. По населенному пункту села Старые Чечкабы с 2001 года наблюд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ая  стабилизация численности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умерших  по району и селу превышает число рожденных на тот же пери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умерших мужчин по району несколько меньше чем женщин, однако по селу наблюдается обратная картина, т.е число умерших мужчин больше чем женщин, примерно за одинаковые пери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 населения села Чечкабы представлена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жчин рождается больше чем женщин, однако начиная с 60 лет доля женского населения увеличи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репродуктивного населения с 25 лет до 40 лет составляет самую большую часть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структура населения с 1977 года по 2010 год изменяется в сторону уменьшения женского  и рост мужского нас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бщий вывод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мографическая ситуация деревни Старые Чечкабы отображает социальные и экологические проблемы района и России в целом, однако некоторое стабильность численности населения и неуклонный рост доли мужского населения дают основания предполагать что население имеет предпосылки для позитивного демографического  развития. Это значит, что село будет жить и развиваться не смотря на миграцию молодого населения из села в город и в райцентр и некоторый дисбаланс между родившимися и умерш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421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ahoma"/>
              </a:rPr>
              <a:t>Изучи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ь демографическую ситуацию в селе Старые Чечка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ь перспективы демографического развития популя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анализировать данные о численности (популяции) нас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о возрастам,по половому признаку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анализировать рождаемость смертность в районе и в се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ь перспективы демографического развит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ла и район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971800"/>
            <a:ext cx="777240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ается  стабилизация или рост численности поп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ается депопуляция насе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итературный обзор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А.Каменский, Е.А. Криксунов, В.В.Пасечник «Общая биология» учебник для общеобразовательных учреждений. М.Дрофа. 2006 г. 367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.М. Чернова, В.М. Галушин, В.М. Константинов           « Основы эколог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для 9 класса общеобразовательных учреждений. М. Просвещение 1997 г.-238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.Галимов «Эзле Чэчкаб» </a:t>
            </a:r>
            <a:r>
              <a:rPr b="0" lang="tt-RU" sz="2400" spc="-1" strike="noStrike">
                <a:solidFill>
                  <a:srgbClr val="000000"/>
                </a:solidFill>
                <a:latin typeface="Tahoma"/>
              </a:rPr>
              <a:t>Каза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ь -2004 г.-328 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ы предвыборных компа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«Списки избирателей по селу Старые Чечкаб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стические данные ОШ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тистические данные по району (ЗАГС, статисти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ик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 материалам книги об истории села отбираются данные о численности населения в деревне с 1795 г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бираются и подсчитываются данные из списков избирателей ( возрастной и половой соста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абатываются статистические данные и заносятся в таблицу и отображается в графи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Динамика изменения численности населения по району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828800"/>
          <a:ext cx="861048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61048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исслед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722160"/>
          <a:ext cx="9144000" cy="61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2160"/>
                    <a:ext cx="91440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исло рожденных и умерших по Кайбицкому району с 2002года по 2009 г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1981080"/>
          <a:ext cx="792468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79246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-gm200</cp:lastModifiedBy>
  <dcterms:modified xsi:type="dcterms:W3CDTF">2010-12-01T20:58:5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