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021-8DE3-4D8C-9320-503ECECE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359-32CE-40C6-B3E7-643EDBB6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476F-ADBD-42BD-8DC6-8BB7E465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944-D886-4D44-BF7F-B67D8E29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B0A2-E01F-4953-BB14-1C946A8D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12FC-65CD-4A7C-9F9A-D66D98AD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7273-141C-4306-A9F8-743B7FC5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87DD-8ECF-439C-9373-EB81AA13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7FCC-1E9E-43ED-968B-3C822969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1181-40D9-483D-8851-7B1F6F39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BD05-26E9-432C-BCA8-EBD9DB36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D8A-2E36-444A-8E30-74BE849D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19E7-F4A0-40DA-9689-8039CFCA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7BC7-5F1C-4634-A9B9-EF6D5470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6F3E-961D-447B-A5E2-874B3EEA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7E04-3896-4F5D-8EED-1BA572C9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C56E-39E6-44A2-8A84-F1299D0F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CA894-6D3E-4C72-838B-48AA8BB1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571D1-0907-41C7-8F96-E096682C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988BA-778A-4007-BDA8-8DD80994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AFF4B-47ED-4114-A302-10FBD2C6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1C5A6-EA3A-429B-BD57-C52B5767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864-C970-49DE-A0FF-3C84298D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FAFF7-4326-4C11-899E-99FEC098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D1058-DCAE-418C-AECE-A123124D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753C0-6441-46F1-B909-5416FF4E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4B836-3D45-49FC-9E01-25F82561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72635-AFFB-44B1-9706-F0F2D1FF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BBFE1-03C8-4B81-974C-79C9BC40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E6768-D170-4355-8FCC-909FE012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AAE3D-B917-46FD-99FB-819ADD77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FE379-4203-44B9-9C50-664D6D9C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AECF0-D2F0-4E6D-A3F1-6780DB17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E9C-BF96-4C0A-80C7-7002FF96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C9583-A5A2-4646-AE2C-9043A9DD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1D9EF-A3C1-49C6-BCAD-009B4885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083D7-3C28-47CA-A424-DCFA3021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DC209-4B8F-47C5-9C6C-5E62B9E5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4A2EB-1D02-48B2-BD5E-CB664DA2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8F089-F8B9-4D34-85DC-A4EC2506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BE0F5-4748-49B5-B9B5-723D9F39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7BC46-5F69-4CAD-9D0B-FAD8F993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B3F05-D929-432E-95A6-6D9A75ED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4DEF-D4D2-420B-A57E-9ECACDC8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4F55-8CFD-4FC6-9E4A-7EC52D15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FF6-68BE-4AE6-9FBF-6A38F16E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F63A-1A85-41C2-89A8-5EBC97EB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6EF1-F4AD-4258-930C-D229ABD7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92F4-0DC2-4BAC-B3C4-F91A165582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24A0-E7FD-4588-9FB3-50FADC606B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A8BA-DC08-415B-92B7-F6276B47808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6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6535-1D14-4F27-B0EB-80983A805F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9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емографическая ситуация в  селе Старые Чечкабы в период с 1795 по 2010 г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114440" y="3885840"/>
            <a:ext cx="4724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ководитель: учитель химии и биологии: Зиннатуллин Р.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бота выполне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иками 10 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Число рожденных и умерших по селу Старые Чечкабы с 2002года по 2010 год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63680" y="1704960"/>
          <a:ext cx="8329320" cy="444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704960"/>
                    <a:ext cx="8329320" cy="44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333399"/>
                </a:solidFill>
                <a:latin typeface="Tahoma"/>
              </a:rPr>
              <a:t>Регистрация рождения детей  по Кайбицкому муниципальному району</a:t>
            </a:r>
            <a:br>
              <a:rPr sz="2800"/>
            </a:br>
            <a:r>
              <a:rPr b="1" lang="be-BY" sz="2800" spc="-1" strike="noStrike">
                <a:solidFill>
                  <a:srgbClr val="333399"/>
                </a:solidFill>
                <a:latin typeface="Tahoma"/>
              </a:rPr>
              <a:t>Республики  Татарстан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838080" y="1974960"/>
          <a:ext cx="7620120" cy="412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74960"/>
                    <a:ext cx="7620120" cy="41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Анализ рождения по селу Старые Чечкабы и по Кайбицкому району с 2002 года по 2009год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0" y="1382760"/>
          <a:ext cx="9072720" cy="501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82760"/>
                    <a:ext cx="907272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нализ смерти по годам </a:t>
            </a:r>
            <a:r>
              <a:rPr b="0" lang="be-BY" sz="3200" spc="-1" strike="noStrike">
                <a:solidFill>
                  <a:srgbClr val="333399"/>
                </a:solidFill>
                <a:latin typeface="Tahoma"/>
              </a:rPr>
              <a:t>умерших по половому признаку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 району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066680" y="1911240"/>
          <a:ext cx="7805880" cy="422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11240"/>
                    <a:ext cx="7805880" cy="42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Анализ смерти по годам </a:t>
            </a:r>
            <a:r>
              <a:rPr b="1" lang="be-BY" sz="2600" spc="-1" strike="noStrike">
                <a:solidFill>
                  <a:srgbClr val="330066"/>
                </a:solidFill>
                <a:latin typeface="Arial"/>
              </a:rPr>
              <a:t>умерших по половому признаку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по селу Старые Чечкабы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92120" y="1719360"/>
          <a:ext cx="8158320" cy="441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1719360"/>
                    <a:ext cx="8158320" cy="44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озрастная структура населения села Старые Чечкабы на 2001 год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182600" y="2943360"/>
          <a:ext cx="3808440" cy="226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2943360"/>
                    <a:ext cx="3808440" cy="22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143000" y="2209680"/>
          <a:ext cx="6934320" cy="3749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209680"/>
                    <a:ext cx="69343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Динамика изменений полового состава насел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4191120" y="1371600"/>
          <a:ext cx="495288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371600"/>
                    <a:ext cx="49528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209680" y="3962520"/>
          <a:ext cx="5257800" cy="2895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962520"/>
                    <a:ext cx="52578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0" y="1371600"/>
          <a:ext cx="4191120" cy="2590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371600"/>
                    <a:ext cx="41911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0" y="0"/>
          <a:ext cx="80773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077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ыводы исследования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району и селу наблюдается снижение численности населения, однако по району это выражено сильнее нежели по селу. По населенному пункту села Старые Чечкабы с 2001 года наблюдаетс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которая  стабилизация численности популя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сло умерших  по району и селу превышает число рожденных на тот же пери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сло умерших мужчин по району несколько меньше чем женщин, однако по селу наблюдается обратная картина, т.е число умерших мужчин больше чем женщин, примерно за одинаковые пери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растная структура населения села Чечкабы представлена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жчин рождается больше чем женщин, однако начиная с 60 лет доля женского населения увеличива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я репродуктивного населения с 25 лет до 40 лет составляет самую большую часть на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овая структура населения с 1977 года по 2010 год изменяется в сторону уменьшения женского  и рост мужского насе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Общий вывод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мографическая ситуация деревни Старые Чечкабы отображает социальные и экологические проблемы района и России в целом, однако некоторое стабильность численности населения и неуклонный рост доли мужского населения дают основания предполагать что население имеет предпосылки для позитивного демографического  развития. Это значит, что село будет жить и развиваться не смотря на миграцию молодого населения из села в город и в райцентр и некоторый дисбаланс между родившимися и умерш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 исслед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514600"/>
            <a:ext cx="8421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Tahoma"/>
              </a:rPr>
              <a:t>Изучи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ь демографическую ситуацию в селе Старые Чечкаб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ценить перспективы демографического развития популя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дачи исслед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анализировать данные о численности (популяции) насе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по возрастам,по половому признаку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анализировать рождаемость смертность в районе и в сел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ценить перспективы демографического развит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ла и района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Гипотеза исслед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2971800"/>
            <a:ext cx="7772400" cy="20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блюдается  стабилизация или рост численности популя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блюдается депопуляция насе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итературный обзор исслед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.А.Каменский, Е.А. Криксунов, В.В.Пасечник «Общая биология» учебник для общеобразовательных учреждений. М.Дрофа. 2006 г. 367 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.М. Чернова, В.М. Галушин, В.М. Константинов           « Основы экологи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ебник для 9 класса общеобразовательных учреждений. М. Просвещение 1997 г.-238 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.Галимов «Эзле Чэчкаб» </a:t>
            </a:r>
            <a:r>
              <a:rPr b="0" lang="tt-RU" sz="2400" spc="-1" strike="noStrike">
                <a:solidFill>
                  <a:srgbClr val="000000"/>
                </a:solidFill>
                <a:latin typeface="Tahoma"/>
              </a:rPr>
              <a:t>Казан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ь -2004 г.-328 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риалы предвыборных компа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«Списки избирателей по селу Старые Чечкабы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атистические данные ОШ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атистические данные по району (ЗАГС, статисти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етодика исслед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 материалам книги об истории села отбираются данные о численности населения в деревне с 1795 год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бираются и подсчитываются данные из списков избирателей ( возрастной и половой соста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брабатываются статистические данные и заносятся в таблицу и отображается в графика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Динамика изменения численности населения по району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33520" y="1828800"/>
          <a:ext cx="861048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61048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езультаты исследова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0" y="722160"/>
          <a:ext cx="9144000" cy="613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22160"/>
                    <a:ext cx="9144000" cy="61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Число рожденных и умерших по Кайбицкому району с 2002года по 2009 год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219320" y="1981080"/>
          <a:ext cx="7924680" cy="42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792468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g-gm200</cp:lastModifiedBy>
  <dcterms:modified xsi:type="dcterms:W3CDTF">2010-12-01T20:58:50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