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EDE-4CDA-4100-AC2D-EEB991DE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C77-BA06-4974-B8F6-A179BC1B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AD0-0AE9-4F74-BCB9-98463303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A61-1579-4EA6-BE26-9DE14925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345-B19F-47B1-AB02-CA2B3B3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E34-8761-4C08-8845-2D3BAB85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800-2609-4C19-9DF7-AA4D108F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2A3-493D-4DD0-93BC-D56789A7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E6A-E2E8-45E9-AF3F-53F23238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374-1137-4E61-98FB-04D85687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1EA-8953-4078-8FDB-81A29B5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7D4-05DA-4D3B-9AC0-FE612F10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F52E-9DA8-429D-8F77-896C9A676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200" spc="-1" strike="noStrike">
                <a:solidFill>
                  <a:srgbClr val="0070c0"/>
                </a:solidFill>
                <a:latin typeface="Calibri"/>
              </a:rPr>
              <a:t>Die Familie</a:t>
            </a:r>
            <a:r>
              <a:rPr b="1" i="1" lang="ru-RU" sz="7200" spc="-1" strike="noStrike">
                <a:solidFill>
                  <a:srgbClr val="0070c0"/>
                </a:solidFill>
                <a:latin typeface="Calibri"/>
              </a:rPr>
              <a:t>, </a:t>
            </a:r>
            <a:br>
              <a:rPr sz="7200"/>
            </a:br>
            <a:r>
              <a:rPr b="1" i="1" lang="de-DE" sz="7200" spc="-1" strike="noStrike">
                <a:solidFill>
                  <a:srgbClr val="0070c0"/>
                </a:solidFill>
                <a:latin typeface="Calibri"/>
              </a:rPr>
              <a:t>2 Klass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иготовила Колесниченко О.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учитель немецкого языка МБОУ СОШ п. Нивенск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1, 2, Polizei.                    Ich bin gro</a:t>
            </a:r>
            <a:r>
              <a:rPr b="0" lang="el-GR" sz="2800" spc="-1" strike="noStrike">
                <a:solidFill>
                  <a:srgbClr val="c00000"/>
                </a:solidFill>
                <a:latin typeface="Calibri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3,4, Offizier.                  Du bist kle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5,6, alte Hex.                 Sie ist schö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7,8, gute Nacht!            Es ist fein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Ihr seid net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Wir sind lusti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0" lang="de-DE" sz="2800" spc="-1" strike="noStrike">
                <a:solidFill>
                  <a:srgbClr val="c00000"/>
                </a:solidFill>
                <a:latin typeface="Calibri"/>
              </a:rPr>
              <a:t>Alle mögen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95120"/>
            <a:ext cx="8315280" cy="1140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F:\semj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semja-na-nemeck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99880"/>
          <a:ext cx="8229600" cy="3222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in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a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in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p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ine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ut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ine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ma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in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rüderc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in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westerc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ine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eschwis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ine</a:t>
                      </a: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reun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66636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Wie ist deine Famil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Wie hei</a:t>
            </a:r>
            <a:r>
              <a:rPr b="0" lang="el-GR" sz="3200" spc="-1" strike="noStrike">
                <a:solidFill>
                  <a:srgbClr val="00b0f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t der Vater? Wie ist 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 hei</a:t>
            </a:r>
            <a:r>
              <a:rPr b="0" lang="el-GR" sz="3200" spc="-1" strike="noStrike">
                <a:solidFill>
                  <a:srgbClr val="00b05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t deine Mutter? Wie ist s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030a0"/>
                </a:solidFill>
                <a:latin typeface="Calibri"/>
              </a:rPr>
              <a:t>Wie hei</a:t>
            </a:r>
            <a:r>
              <a:rPr b="0" lang="el-GR" sz="3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7030a0"/>
                </a:solidFill>
                <a:latin typeface="Calibri"/>
              </a:rPr>
              <a:t>t deine Schwester? Wie ist s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000"/>
                </a:solidFill>
                <a:latin typeface="Calibri"/>
              </a:rPr>
              <a:t>Wie hei</a:t>
            </a:r>
            <a:r>
              <a:rPr b="0" lang="el-GR" sz="3200" spc="-1" strike="noStrike">
                <a:solidFill>
                  <a:srgbClr val="ffc00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ffc000"/>
                </a:solidFill>
                <a:latin typeface="Calibri"/>
              </a:rPr>
              <a:t>t dein Bruder? Wie ist 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979560" y="4140360"/>
            <a:ext cx="7210440" cy="164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Mein Vater hei</a:t>
            </a:r>
            <a:r>
              <a:rPr b="0" lang="el-GR" sz="40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t Alex. Er ist gro</a:t>
            </a:r>
            <a:r>
              <a:rPr b="0" lang="el-GR" sz="40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, klug und hilfsbere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00000"/>
                </a:solidFill>
                <a:latin typeface="Calibri"/>
              </a:rPr>
              <a:t>Sabines F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Hier ist ein M… . Der Mann ist Sabines V… . Er … Lars Mül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Das hier ist eine F... . Die Frau  … Sabines Mutter. Sie … Karin Mül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030a0"/>
                </a:solidFill>
                <a:latin typeface="Calibri"/>
              </a:rPr>
              <a:t>Und das ist ein K… . Das Kind … drei Jahre alt. Es ist klein. … hei</a:t>
            </a:r>
            <a:r>
              <a:rPr b="0" lang="el-GR" sz="3200" spc="-1" strike="noStrike">
                <a:solidFill>
                  <a:srgbClr val="7030a0"/>
                </a:solidFill>
                <a:latin typeface="Calibri"/>
              </a:rPr>
              <a:t>β</a:t>
            </a:r>
            <a:r>
              <a:rPr b="0" lang="de-DE" sz="3200" spc="-1" strike="noStrike">
                <a:solidFill>
                  <a:srgbClr val="7030a0"/>
                </a:solidFill>
                <a:latin typeface="Calibri"/>
              </a:rPr>
              <a:t>t Uli. Uli ist Sabines B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b0f0"/>
                </a:solidFill>
                <a:latin typeface="Calibri"/>
              </a:rPr>
              <a:t>Dank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8:43:52Z</dcterms:created>
  <dc:creator>Инна</dc:creator>
  <dc:description/>
  <dc:language>en-US</dc:language>
  <cp:lastModifiedBy>Учитель</cp:lastModifiedBy>
  <dcterms:modified xsi:type="dcterms:W3CDTF">2015-02-05T11:13:56Z</dcterms:modified>
  <cp:revision>7</cp:revision>
  <dc:subject/>
  <dc:title>Презентация PowerPoint</dc:title>
</cp:coreProperties>
</file>