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E9AE-76D4-4300-8579-4066A954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E7D2-3DAF-4B12-B2D2-D3113E69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65D7-89B4-45FA-A84A-A9761803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C244-384F-4ADB-B02F-6125874D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7949-C076-49E7-956B-BF2FA60D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B4BB-363B-4C21-AA15-D59D414C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0FC2-DD9C-425D-859F-35617DCC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A350-8E9D-49FF-A356-7F6D5D1A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A0BF-3F3F-409C-9D24-982A9697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E840-68F1-455E-B344-61D71AA5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120D-639A-4A54-8345-35702648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FE9C-165C-45A4-9200-63BA71F9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450E-E020-4194-831A-DDC941E5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BACC-61AF-4A7A-90FC-73ABE2EC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68ED-A9F6-4942-8195-5EBFF406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BB23-200A-4E9A-B92D-29687053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0F2F-4B86-4F60-8B3B-C98DB69D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D0EA-998F-414D-A260-A5CFA09D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2D4C-7851-4BC4-88AE-52F6B31F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9986-5CC7-4226-9523-4A935B62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4260-18C6-45C4-9427-15530C55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3DE4-610C-4532-80E9-823060EB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0C74-5B46-4ECF-B518-EC50939E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1A6F-EBB0-4C84-A4B3-32D90C08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D626-0CFE-4A27-BD22-6F41A15C750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191C-EA8D-466B-B75D-A3A76F4D8013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Стили реагирования в конфликтных ситуациях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BB06"/>
          <p:cNvPicPr/>
          <p:nvPr/>
        </p:nvPicPr>
        <p:blipFill>
          <a:blip r:embed="rId1"/>
          <a:stretch/>
        </p:blipFill>
        <p:spPr>
          <a:xfrm>
            <a:off x="2340000" y="3621240"/>
            <a:ext cx="4672080" cy="2400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2771640" y="3933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олько раз тебе говорить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064920" y="48909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,а,а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«Черепаха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трагиваемая проблема не столь важна для вас, и вы не хотите тратить силы на её реш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 чувствуете, что находитесь в безнадёжном положе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 чувствуете себя неправым и предчувствуете правоту другого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ш собеседник обладает большей власть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еимуществ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«безопасный стиль в опасност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 сам конфликты не создаё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Недостатк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фликт не решается и может возникнуть через некоторое врем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«Медвежонок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ход дела важен для другого человека и не очень существенен для ва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гой человек обладает большей власт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смягчить ситуац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жно сохранить отношения, а не отстаивать свои интере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еимуществ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храняются взаимоотношения между людь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Недостатк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фликты не решаются, накапливаются и снова возвращаю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«Лиса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раивает временное решение пробл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упаете в своих интересах, чтобы удовлетворить их частично, и другая сторона делает то же сам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еимуществ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ыстрое разрешение конфликта, но не всегда справедлив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Недостатк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накапливаться неудовлетворённость у люд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«Сова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шение проблемы очень важно для обеих сторон, и никто не хочет полностью от него устранить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вас хорошие взаимоотношения с другой сторон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вас есть время поработать над возникшей проблем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 вовлеченные в конфликт стороны обладают равной власть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white"/>
          <p:cNvPicPr/>
          <p:nvPr/>
        </p:nvPicPr>
        <p:blipFill>
          <a:blip r:embed="rId1"/>
          <a:stretch/>
        </p:blipFill>
        <p:spPr>
          <a:xfrm>
            <a:off x="468360" y="1844640"/>
            <a:ext cx="8207280" cy="42861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тиль конкуренция – «акула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риентация только на свои интересы и игнорирование интересов своего партнёра, то есть стремление добиться своих интересов в ущерб друго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6633"/>
                </a:solidFill>
                <a:uFillTx/>
                <a:latin typeface="Times New Roman"/>
                <a:hlinkClick r:id="rId2" action="ppaction://hlinksldjump"/>
              </a:rPr>
              <a:t>Использовани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6633"/>
                </a:solidFill>
                <a:uFillTx/>
                <a:latin typeface="Times New Roman"/>
                <a:hlinkClick r:id="rId3" action="ppaction://hlinksldjump"/>
              </a:rPr>
              <a:t>Преимуществ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6633"/>
                </a:solidFill>
                <a:uFillTx/>
                <a:latin typeface="Times New Roman"/>
                <a:hlinkClick r:id="rId4" action="ppaction://hlinksldjump"/>
              </a:rPr>
              <a:t>Недостатк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еимуществ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аведливое, окончательное разрешение конфлик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Недостатк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овой» быть трудно, так как надо думать не только о себе, но и о друг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Черепаха"/>
          <p:cNvPicPr/>
          <p:nvPr/>
        </p:nvPicPr>
        <p:blipFill>
          <a:blip r:embed="rId1">
            <a:lum bright="12000"/>
          </a:blip>
          <a:srcRect l="0" t="0" r="12175" b="0"/>
          <a:stretch/>
        </p:blipFill>
        <p:spPr>
          <a:xfrm>
            <a:off x="395280" y="1773360"/>
            <a:ext cx="7272360" cy="4371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тиль уклонение – «черепаха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ловек не отстаивает свои права, не хочет вступать в сотрудничество для выработки решения проблемы, а просто уходит от разрешения конфлик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6633"/>
                </a:solidFill>
                <a:uFillTx/>
                <a:latin typeface="Times New Roman"/>
                <a:hlinkClick r:id="rId2" action="ppaction://hlinksldjump"/>
              </a:rPr>
              <a:t>Использовани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имуществ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достатк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Белый медведь+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68360" y="1773360"/>
            <a:ext cx="8207280" cy="4356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тиль приспособление – «медвежонок»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ловек стремится уйти от конфликта, жертвует своими личными интересами в пользу интересов соперника, не пытаясь отстаивать собственные интере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спользовани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имуществ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достатк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FOX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268360" y="1700280"/>
            <a:ext cx="4672080" cy="4033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тиль компромисс – «лиса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ловек озабочен и сохранением отношений, и разрешением конфликта, но не справедливым, а быстрым – никто ничего не теряет, но никто ничего не выигрыва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OWL2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1187280" y="1773360"/>
            <a:ext cx="5905800" cy="4464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тиль сотрудничество – «сова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иль позволяет выработать наиболее удовлетворяющие обе стороны решение в конфликтных ситуация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спользовани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имуществ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доста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«Акула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ход очень важен для вас, и вы делаете большую ставку на разрешение возникшей пробл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шение необходимо принять очень быст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 чувствуете, что у вас нет другого выбора и вам нечего теря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 находитесь в критической ситуации, которая требует мгновенного реагир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еимуществ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копятся отрицательные эмо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ходит для экстремальных ситу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Недостатки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фликт не решается справедли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тоянный конфликт со все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07:54:15Z</dcterms:created>
  <dc:creator>Протасов</dc:creator>
  <dc:description/>
  <dc:language>en-US</dc:language>
  <cp:lastModifiedBy>UserPC</cp:lastModifiedBy>
  <dcterms:modified xsi:type="dcterms:W3CDTF">2010-02-18T21:05:16Z</dcterms:modified>
  <cp:revision>4</cp:revision>
  <dc:subject/>
  <dc:title>Стили реагирования в конфликтных ситуациях</dc:title>
</cp:coreProperties>
</file>