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01D7-DA26-4F8F-BDF5-E3D7391D1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BBC2-3600-4800-BF7A-A0DC342FD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FB89-7982-4621-948B-3B1876A71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8571-3D5B-4B7D-AE9E-A0A008F69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5B978-68B0-45D9-9F39-93E65634A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BF56D-FF62-4FD9-AFF8-82B6EE5CC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64ACD-640B-40BB-B7A4-20B89B2A5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37DC2-16E0-401A-9D5D-52DDC4446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01106-C81C-4202-A1C4-27B705451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8D03E-E51F-4CCC-B74E-DEEF1414F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E284B-5757-4325-AE4B-B582B8DE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E5B6-4670-498E-8551-62AD6E646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94995-74F3-4CBB-8C0F-A6946665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FB3C3-0C2D-4FDC-952F-40D1695A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B5FE2-C270-4476-B826-886B56FFF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EE140-20B1-47BE-B185-F47DC322C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9CF35-9B4F-4D75-BBF5-6A8786826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87C2-BA00-482A-A08D-396BC0F5E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7780-0B56-41F1-9FA8-A40787547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8E73-B952-40A4-BF13-D74426FD0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9EE8-189C-4C93-B5E9-AEAD852CF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585F-D59E-49D4-B10E-CA1E0ACF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A8ED-C20F-4D47-B84E-97D97417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0CAF-E457-4170-801F-BE84444B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95041-15A5-44EB-A0B8-78E9081E738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BB5B5-2577-4434-BA5D-0B6C175EB4E7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20000"/>
                </a:solidFill>
                <a:latin typeface="Times New Roman"/>
              </a:rPr>
              <a:t>Стили реагирования в конфликтных ситуациях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BB06"/>
          <p:cNvPicPr/>
          <p:nvPr/>
        </p:nvPicPr>
        <p:blipFill>
          <a:blip r:embed="rId1"/>
          <a:stretch/>
        </p:blipFill>
        <p:spPr>
          <a:xfrm>
            <a:off x="2340000" y="3621240"/>
            <a:ext cx="4672080" cy="24001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2771640" y="393372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колько раз тебе говорить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6064920" y="489096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,а,а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«Черепаха»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трагиваемая проблема не столь важна для вас, и вы не хотите тратить силы на её реш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 чувствуете, что находитесь в безнадёжном положен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 чувствуете себя неправым и предчувствуете правоту другого челове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аш собеседник обладает большей власть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4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реимущества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о «безопасный стиль в опасности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еловек сам конфликты не создаё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4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Недостатк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фликт не решается и может возникнуть через некоторое врем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4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«Медвежонок»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ход дела важен для другого человека и не очень существенен для ва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ругой человек обладает большей власть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обходимо смягчить ситуаци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ажно сохранить отношения, а не отстаивать свои интерес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4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реимущества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храняются взаимоотношения между людь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4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Недостатк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фликты не решаются, накапливаются и снова возвращаютс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4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«Лиса»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страивает временное решение пробл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ступаете в своих интересах, чтобы удовлетворить их частично, и другая сторона делает то же само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4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реимущества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ыстрое разрешение конфликта, но не всегда справедливо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4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Недостатк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жет накапливаться неудовлетворённость у люд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4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«Сова»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шение проблемы очень важно для обеих сторон, и никто не хочет полностью от него устранить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 вас хорошие взаимоотношения с другой стороно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 вас есть время поработать над возникшей проблемо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е вовлеченные в конфликт стороны обладают равной власть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4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white"/>
          <p:cNvPicPr/>
          <p:nvPr/>
        </p:nvPicPr>
        <p:blipFill>
          <a:blip r:embed="rId1"/>
          <a:stretch/>
        </p:blipFill>
        <p:spPr>
          <a:xfrm>
            <a:off x="468360" y="1844640"/>
            <a:ext cx="8207280" cy="428616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Стиль конкуренция – «акула»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риентация только на свои интересы и игнорирование интересов своего партнёра, то есть стремление добиться своих интересов в ущерб другом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996633"/>
                </a:solidFill>
                <a:uFillTx/>
                <a:latin typeface="Times New Roman"/>
                <a:hlinkClick r:id="rId2" action="ppaction://hlinksldjump"/>
              </a:rPr>
              <a:t>Использование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996633"/>
                </a:solidFill>
                <a:uFillTx/>
                <a:latin typeface="Times New Roman"/>
                <a:hlinkClick r:id="rId3" action="ppaction://hlinksldjump"/>
              </a:rPr>
              <a:t>Преимуществ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996633"/>
                </a:solidFill>
                <a:uFillTx/>
                <a:latin typeface="Times New Roman"/>
                <a:hlinkClick r:id="rId4" action="ppaction://hlinksldjump"/>
              </a:rPr>
              <a:t>Недостатки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реимущества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раведливое, окончательное разрешение конфлик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4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Недостатк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Совой» быть трудно, так как надо думать не только о себе, но и о други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4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Черепаха"/>
          <p:cNvPicPr/>
          <p:nvPr/>
        </p:nvPicPr>
        <p:blipFill>
          <a:blip r:embed="rId1">
            <a:lum bright="12000"/>
          </a:blip>
          <a:srcRect l="0" t="0" r="12175" b="0"/>
          <a:stretch/>
        </p:blipFill>
        <p:spPr>
          <a:xfrm>
            <a:off x="395280" y="1773360"/>
            <a:ext cx="7272360" cy="43718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Стиль уклонение – «черепаха»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Человек не отстаивает свои права, не хочет вступать в сотрудничество для выработки решения проблемы, а просто уходит от разрешения конфлик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996633"/>
                </a:solidFill>
                <a:uFillTx/>
                <a:latin typeface="Times New Roman"/>
                <a:hlinkClick r:id="rId2" action="ppaction://hlinksldjump"/>
              </a:rPr>
              <a:t>Использование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еимуществ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едостатки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Белый медведь+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468360" y="1773360"/>
            <a:ext cx="8207280" cy="4356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Стиль приспособление – «медвежонок»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Человек стремится уйти от конфликта, жертвует своими личными интересами в пользу интересов соперника, не пытаясь отстаивать собственные интерес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спользование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еимуществ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едостатки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FOX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2268360" y="1700280"/>
            <a:ext cx="4672080" cy="40338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Стиль компромисс – «лиса»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39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еловек озабочен и сохранением отношений, и разрешением конфликта, но не справедливым, а быстрым – никто ничего не теряет, но никто ничего не выигрыва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спользован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еимуществ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достат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OWL2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1187280" y="1773360"/>
            <a:ext cx="5905800" cy="4464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Стиль сотрудничество – «сова»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иль позволяет выработать наиболее удовлетворяющие обе стороны решение в конфликтных ситуация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спользование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еимуществ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едостат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«Акула»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ход очень важен для вас, и вы делаете большую ставку на разрешение возникшей проблем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шение необходимо принять очень быстр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 чувствуете, что у вас нет другого выбора и вам нечего теря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 находитесь в критической ситуации, которая требует мгновенного реагиро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4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реимущества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 копятся отрицательные эмо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ходит для экстремальных ситуац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4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Недостатки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фликт не решается справедлив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стоянный конфликт со все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4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1T07:54:15Z</dcterms:created>
  <dc:creator>Протасов</dc:creator>
  <dc:description/>
  <dc:language>en-US</dc:language>
  <cp:lastModifiedBy>UserPC</cp:lastModifiedBy>
  <dcterms:modified xsi:type="dcterms:W3CDTF">2010-02-18T21:05:16Z</dcterms:modified>
  <cp:revision>4</cp:revision>
  <dc:subject/>
  <dc:title>Стили реагирования в конфликтных ситуациях</dc:title>
</cp:coreProperties>
</file>