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F3B-4B9B-4063-B575-D5092CA4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A61-8426-4801-BB7A-2AA2D2AD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7B5-B766-46F1-BEBB-B366F604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B5D-9E53-42D8-B2D9-3D9E066B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B82-147C-4B94-AB00-7667D4A8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7A5-2595-4455-8F9F-943BC598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8F88-ECC2-40AA-BEE0-5A42BAC5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A2F9-2067-4806-9456-7572685C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D348-E9F4-450C-A152-A016EE8C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2E89-6D03-45C7-9DA5-32207C8B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B37-E81D-47B2-99E7-2408AE7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361-0333-4B8B-8C55-76253966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03E0-3F0E-416E-904F-3E71CD8D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09CC-EB4F-41BD-8CA7-BF7ED7D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DF23-AFB0-40BB-BEAC-411F9B1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7996-93EE-483D-A43C-A79C556B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F5B0-8EB8-4C96-8AF3-7A50314C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081-D3FA-4083-99F9-BFC2554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756-9915-4CE5-AFD6-43FCBC8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591-CAB8-4E82-B3D2-95CC4F09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15F-B6C8-460E-BAF9-173C3A17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012-87FF-4213-8E25-5C4ACA6A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B32-F6B4-4DB1-8E8D-2A0709A4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F76-42A6-4D65-9581-19F372B7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9419-6591-4DB4-82BC-C6D7FE7C93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5C02-5556-4DE6-B701-DE266F4E8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033560"/>
            <a:ext cx="9144000" cy="2233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Электрический ток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00000" y="3298680"/>
            <a:ext cx="734400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Проект ученика 8 класс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МОУ «СШ №4» г. Ким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Устинова Ил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201</a:t>
            </a: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4-2015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Алессандро Вол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64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тальянский физик, химик и физиолог, один из основоположников учения об электричеств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ессандро  Вольта родился в 1745,был четвёртым ребенком в семь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01 году получил от Наполеона титул графа и   сенато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ер Вольта в   Комо 5 марта 182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Рисунок 4" descr=""/>
          <p:cNvPicPr/>
          <p:nvPr/>
        </p:nvPicPr>
        <p:blipFill>
          <a:blip r:embed="rId1"/>
          <a:stretch/>
        </p:blipFill>
        <p:spPr>
          <a:xfrm>
            <a:off x="4824360" y="1268280"/>
            <a:ext cx="34178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Вольтметр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844640"/>
            <a:ext cx="428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4400" algn="r"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льтметр- прибор для измерения электрического напря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14400" algn="r">
              <a:spcBef>
                <a:spcPts val="601"/>
              </a:spcBef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льтметр включают в цепь параллельно  тому участку цепи между концами которого измеряют напряж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14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Содержимое 4" descr="вольтметр.JPG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302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Измерение напря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1534680"/>
            <a:ext cx="4321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хема электрической цеп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598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лектрическая цеп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Содержимое 4" descr="измерение напряжения.JPG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15" descr="схема для измерения напряжения.JPG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52472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Электрическое  сопроти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противление прямо пропорционально длине проводника, обратно пропорционально площади его поперечного сечения и зависит от вещества проводн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05092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203920" y="4221000"/>
            <a:ext cx="156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ℓ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627280" y="5445000"/>
            <a:ext cx="4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2340000" y="5300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4572000" y="4149720"/>
            <a:ext cx="439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ротив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дельное сопротив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лина провод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поперечного сеч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26560" y="907560"/>
            <a:ext cx="7193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Причиной сопротивления является взаимодействие движущихся электронов с ионами кристаллической решёт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5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5364000" y="2852640"/>
            <a:ext cx="252108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7812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За единицу сопротивления принимают 1 О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76960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противление такого проводника, в котором при напряжении на концах 1 вольт сила тока ровна 1 ампер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114000" y="4643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Ом Геор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34920" y="1962000"/>
            <a:ext cx="529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Oh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Георг Симон (16 марта 1787, Эрланген - 6 июля 1854, Мюнхен), немецкий физик, автор одного из основных законов, Ом занялся исследованиями электричест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52 году Ом получил пост ординарного профессо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м скончался 6 июля 1854 года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9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81 году на электротехниче-ском съезде в Париже ученые единогласно утвердили наименование единицы сопротивления- 1 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Рисунок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384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Закон  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ла тока  в  участке  цепи  прямо  пропорциональна  напряжению  на  концах  этого  участка   и  обратно  пропорциональна  его  сопротивле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140360" y="3716280"/>
            <a:ext cx="93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067280" y="4869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851280" y="4797360"/>
            <a:ext cx="12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7885080" cy="12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Определение сопротивления проводника   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R=U: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мерение силы тока и напря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Содержимое 8" descr="измерение силы тока и напряжения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989000"/>
            <a:ext cx="40420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хема электрической цеп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Содержимое 9" descr="для измерения силы тока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0400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ПРИМЕНЕНИЕ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ЭЛЕКТРИЧЕСКОГО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Т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7" descr="BD18217_"/>
          <p:cNvPicPr/>
          <p:nvPr/>
        </p:nvPicPr>
        <p:blipFill>
          <a:blip r:embed="rId1"/>
          <a:stretch/>
        </p:blipFill>
        <p:spPr>
          <a:xfrm>
            <a:off x="3419640" y="3645000"/>
            <a:ext cx="194760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2268360" y="765000"/>
            <a:ext cx="29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12" descr="j0199283"/>
          <p:cNvPicPr/>
          <p:nvPr/>
        </p:nvPicPr>
        <p:blipFill>
          <a:blip r:embed="rId2"/>
          <a:stretch/>
        </p:blipFill>
        <p:spPr>
          <a:xfrm>
            <a:off x="6012000" y="4437000"/>
            <a:ext cx="2303280" cy="2068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j0234266"/>
          <p:cNvPicPr/>
          <p:nvPr/>
        </p:nvPicPr>
        <p:blipFill>
          <a:blip r:embed="rId3"/>
          <a:stretch/>
        </p:blipFill>
        <p:spPr>
          <a:xfrm>
            <a:off x="0" y="3909960"/>
            <a:ext cx="3024360" cy="2948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j0285750"/>
          <p:cNvPicPr/>
          <p:nvPr/>
        </p:nvPicPr>
        <p:blipFill>
          <a:blip r:embed="rId4"/>
          <a:stretch/>
        </p:blipFill>
        <p:spPr>
          <a:xfrm>
            <a:off x="5508720" y="1916280"/>
            <a:ext cx="3346200" cy="205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7" descr="BD18215_"/>
          <p:cNvPicPr/>
          <p:nvPr/>
        </p:nvPicPr>
        <p:blipFill>
          <a:blip r:embed="rId5"/>
          <a:stretch/>
        </p:blipFill>
        <p:spPr>
          <a:xfrm>
            <a:off x="179280" y="2060640"/>
            <a:ext cx="270036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7561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лектрическим   током  называется  упорядоченное (направленное) движение  заряженных  частиц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84360" y="3141720"/>
            <a:ext cx="7920000" cy="1871640"/>
          </a:xfrm>
          <a:prstGeom prst="flowChartMagneticDrum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Группа 21"/>
          <p:cNvGrpSpPr/>
          <p:nvPr/>
        </p:nvGrpSpPr>
        <p:grpSpPr>
          <a:xfrm>
            <a:off x="3419640" y="4653000"/>
            <a:ext cx="720720" cy="144360"/>
            <a:chOff x="3419640" y="4653000"/>
            <a:chExt cx="720720" cy="144360"/>
          </a:xfrm>
        </p:grpSpPr>
        <p:sp>
          <p:nvSpPr>
            <p:cNvPr id="157" name="Oval 15"/>
            <p:cNvSpPr/>
            <p:nvPr/>
          </p:nvSpPr>
          <p:spPr>
            <a:xfrm>
              <a:off x="3419640" y="4653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58" name="Прямая со стрелкой 19"/>
            <p:cNvCxnSpPr/>
            <p:nvPr/>
          </p:nvCxnSpPr>
          <p:spPr>
            <a:xfrm>
              <a:off x="3563640" y="4723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59" name="Группа 22"/>
          <p:cNvGrpSpPr/>
          <p:nvPr/>
        </p:nvGrpSpPr>
        <p:grpSpPr>
          <a:xfrm>
            <a:off x="4211640" y="3860640"/>
            <a:ext cx="720720" cy="144720"/>
            <a:chOff x="4211640" y="3860640"/>
            <a:chExt cx="720720" cy="144720"/>
          </a:xfrm>
        </p:grpSpPr>
        <p:sp>
          <p:nvSpPr>
            <p:cNvPr id="160" name="Oval 15"/>
            <p:cNvSpPr/>
            <p:nvPr/>
          </p:nvSpPr>
          <p:spPr>
            <a:xfrm>
              <a:off x="4211640" y="386064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1" name="Прямая со стрелкой 24"/>
            <p:cNvCxnSpPr/>
            <p:nvPr/>
          </p:nvCxnSpPr>
          <p:spPr>
            <a:xfrm>
              <a:off x="4355640" y="3931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62" name="Группа 25"/>
          <p:cNvGrpSpPr/>
          <p:nvPr/>
        </p:nvGrpSpPr>
        <p:grpSpPr>
          <a:xfrm>
            <a:off x="6875640" y="4292640"/>
            <a:ext cx="720720" cy="144360"/>
            <a:chOff x="6875640" y="4292640"/>
            <a:chExt cx="720720" cy="144360"/>
          </a:xfrm>
        </p:grpSpPr>
        <p:sp>
          <p:nvSpPr>
            <p:cNvPr id="163" name="Oval 15"/>
            <p:cNvSpPr/>
            <p:nvPr/>
          </p:nvSpPr>
          <p:spPr>
            <a:xfrm>
              <a:off x="6875640" y="4292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4" name="Прямая со стрелкой 27"/>
            <p:cNvCxnSpPr/>
            <p:nvPr/>
          </p:nvCxnSpPr>
          <p:spPr>
            <a:xfrm>
              <a:off x="7019640" y="436356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65" name="Группа 28"/>
          <p:cNvGrpSpPr/>
          <p:nvPr/>
        </p:nvGrpSpPr>
        <p:grpSpPr>
          <a:xfrm>
            <a:off x="5219640" y="4508640"/>
            <a:ext cx="720720" cy="144360"/>
            <a:chOff x="5219640" y="4508640"/>
            <a:chExt cx="720720" cy="144360"/>
          </a:xfrm>
        </p:grpSpPr>
        <p:sp>
          <p:nvSpPr>
            <p:cNvPr id="166" name="Oval 15"/>
            <p:cNvSpPr/>
            <p:nvPr/>
          </p:nvSpPr>
          <p:spPr>
            <a:xfrm>
              <a:off x="5219640" y="4508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7" name="Прямая со стрелкой 30"/>
            <p:cNvCxnSpPr/>
            <p:nvPr/>
          </p:nvCxnSpPr>
          <p:spPr>
            <a:xfrm>
              <a:off x="5363640" y="457956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68" name="Группа 31"/>
          <p:cNvGrpSpPr/>
          <p:nvPr/>
        </p:nvGrpSpPr>
        <p:grpSpPr>
          <a:xfrm>
            <a:off x="1619280" y="4437000"/>
            <a:ext cx="720720" cy="144360"/>
            <a:chOff x="1619280" y="4437000"/>
            <a:chExt cx="720720" cy="144360"/>
          </a:xfrm>
        </p:grpSpPr>
        <p:sp>
          <p:nvSpPr>
            <p:cNvPr id="169" name="Oval 15"/>
            <p:cNvSpPr/>
            <p:nvPr/>
          </p:nvSpPr>
          <p:spPr>
            <a:xfrm>
              <a:off x="1619280" y="4437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0" name="Прямая со стрелкой 33"/>
            <p:cNvCxnSpPr/>
            <p:nvPr/>
          </p:nvCxnSpPr>
          <p:spPr>
            <a:xfrm>
              <a:off x="1763280" y="4507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71" name="Группа 34"/>
          <p:cNvGrpSpPr/>
          <p:nvPr/>
        </p:nvGrpSpPr>
        <p:grpSpPr>
          <a:xfrm>
            <a:off x="7885080" y="3645000"/>
            <a:ext cx="719280" cy="144360"/>
            <a:chOff x="7885080" y="3645000"/>
            <a:chExt cx="719280" cy="144360"/>
          </a:xfrm>
        </p:grpSpPr>
        <p:sp>
          <p:nvSpPr>
            <p:cNvPr id="172" name="Oval 15"/>
            <p:cNvSpPr/>
            <p:nvPr/>
          </p:nvSpPr>
          <p:spPr>
            <a:xfrm>
              <a:off x="7885080" y="3645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3" name="Прямая со стрелкой 36"/>
            <p:cNvCxnSpPr/>
            <p:nvPr/>
          </p:nvCxnSpPr>
          <p:spPr>
            <a:xfrm>
              <a:off x="8029080" y="3715920"/>
              <a:ext cx="57564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74" name="Группа 37"/>
          <p:cNvGrpSpPr/>
          <p:nvPr/>
        </p:nvGrpSpPr>
        <p:grpSpPr>
          <a:xfrm>
            <a:off x="1187280" y="3429000"/>
            <a:ext cx="720720" cy="144360"/>
            <a:chOff x="1187280" y="3429000"/>
            <a:chExt cx="720720" cy="144360"/>
          </a:xfrm>
        </p:grpSpPr>
        <p:sp>
          <p:nvSpPr>
            <p:cNvPr id="175" name="Oval 15"/>
            <p:cNvSpPr/>
            <p:nvPr/>
          </p:nvSpPr>
          <p:spPr>
            <a:xfrm>
              <a:off x="1187280" y="3429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6" name="Прямая со стрелкой 39"/>
            <p:cNvCxnSpPr/>
            <p:nvPr/>
          </p:nvCxnSpPr>
          <p:spPr>
            <a:xfrm>
              <a:off x="1331280" y="3499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77" name="Группа 40"/>
          <p:cNvGrpSpPr/>
          <p:nvPr/>
        </p:nvGrpSpPr>
        <p:grpSpPr>
          <a:xfrm>
            <a:off x="5364000" y="3429000"/>
            <a:ext cx="720720" cy="144360"/>
            <a:chOff x="5364000" y="3429000"/>
            <a:chExt cx="720720" cy="144360"/>
          </a:xfrm>
        </p:grpSpPr>
        <p:sp>
          <p:nvSpPr>
            <p:cNvPr id="178" name="Oval 15"/>
            <p:cNvSpPr/>
            <p:nvPr/>
          </p:nvSpPr>
          <p:spPr>
            <a:xfrm>
              <a:off x="5364000" y="3429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9" name="Прямая со стрелкой 42"/>
            <p:cNvCxnSpPr/>
            <p:nvPr/>
          </p:nvCxnSpPr>
          <p:spPr>
            <a:xfrm>
              <a:off x="5508000" y="3499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80" name="Группа 43"/>
          <p:cNvGrpSpPr/>
          <p:nvPr/>
        </p:nvGrpSpPr>
        <p:grpSpPr>
          <a:xfrm>
            <a:off x="2771640" y="4149720"/>
            <a:ext cx="720720" cy="144360"/>
            <a:chOff x="2771640" y="4149720"/>
            <a:chExt cx="720720" cy="144360"/>
          </a:xfrm>
        </p:grpSpPr>
        <p:sp>
          <p:nvSpPr>
            <p:cNvPr id="181" name="Oval 15"/>
            <p:cNvSpPr/>
            <p:nvPr/>
          </p:nvSpPr>
          <p:spPr>
            <a:xfrm>
              <a:off x="2771640" y="414972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82" name="Прямая со стрелкой 45"/>
            <p:cNvCxnSpPr/>
            <p:nvPr/>
          </p:nvCxnSpPr>
          <p:spPr>
            <a:xfrm>
              <a:off x="2915640" y="422064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  <p:grpSp>
        <p:nvGrpSpPr>
          <p:cNvPr id="183" name="Группа 46"/>
          <p:cNvGrpSpPr/>
          <p:nvPr/>
        </p:nvGrpSpPr>
        <p:grpSpPr>
          <a:xfrm>
            <a:off x="2843280" y="3429000"/>
            <a:ext cx="720720" cy="144360"/>
            <a:chOff x="2843280" y="3429000"/>
            <a:chExt cx="720720" cy="144360"/>
          </a:xfrm>
        </p:grpSpPr>
        <p:sp>
          <p:nvSpPr>
            <p:cNvPr id="184" name="Oval 15"/>
            <p:cNvSpPr/>
            <p:nvPr/>
          </p:nvSpPr>
          <p:spPr>
            <a:xfrm>
              <a:off x="2843280" y="34290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85" name="Прямая со стрелкой 48"/>
            <p:cNvCxnSpPr/>
            <p:nvPr/>
          </p:nvCxnSpPr>
          <p:spPr>
            <a:xfrm>
              <a:off x="2987280" y="3499920"/>
              <a:ext cx="577080" cy="1080"/>
            </a:xfrm>
            <a:prstGeom prst="straightConnector1">
              <a:avLst/>
            </a:prstGeom>
            <a:ln w="63360">
              <a:solidFill>
                <a:srgbClr val="00b050"/>
              </a:solidFill>
              <a:miter/>
              <a:tailEnd len="med" type="arrow" w="med"/>
            </a:ln>
          </p:spPr>
        </p:cxnSp>
      </p:grp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Сила тока равна отношению электрического заряда 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q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, прошедшего через поперечное сечение проводника, ко времен его прохождения 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t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I=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сила тока(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лектрический заряд(Кл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мя(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5148360" y="3933720"/>
            <a:ext cx="129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408280" y="3068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435640" y="4005360"/>
            <a:ext cx="4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858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Единица измерения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силы т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 единицу силы  тока принимают силу тока, при которой отрезки  параллельных проводников длиной 1м взаимодействуют с силой 2∙1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Н (0,0000002Н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Эту единицу называют АМПЕР (А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878160" y="31417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Ампер Андре Мар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1828800"/>
            <a:ext cx="4174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дился 22 января 1775 в Полемье близ Лиона в аристократической семье. Получил домашнее образование.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Занимался исследованиям связи между электричеством и магнетизмом (этот круг явлений Ампер называл электродинамикой). Впоследствии разработал теорию магнетизм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мер Ампер в Марсел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 июня 183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384720" cy="4421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Ампермет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417672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r">
              <a:spcBef>
                <a:spcPts val="601"/>
              </a:spcBef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мперметр- прибор для измерения силы то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 algn="r">
              <a:spcBef>
                <a:spcPts val="601"/>
              </a:spcBef>
              <a:buNone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мперметр включают в цепь последовательно с тем прибором, силу тока в котором измеря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Содержимое 5" descr="амперметр.JPG"/>
          <p:cNvPicPr/>
          <p:nvPr/>
        </p:nvPicPr>
        <p:blipFill>
          <a:blip r:embed="rId1"/>
          <a:stretch/>
        </p:blipFill>
        <p:spPr>
          <a:xfrm>
            <a:off x="4500720" y="2205000"/>
            <a:ext cx="407664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Измерение силы т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лектрическая цеп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7" descr="электрическая цепь амперметра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1640" y="1844280"/>
            <a:ext cx="4321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хема электрической цеп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схема амперметра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528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1280" indent="-71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Напряжение это физическая величина которая</a:t>
            </a:r>
            <a:r>
              <a:rPr b="0" lang="en-US" sz="36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оказывает, какую работу совершает электрическое поле при перемещении единичного положительного заряда из  одной точки в другую.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1280" indent="-71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5003640" y="4437000"/>
            <a:ext cx="6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081760" y="530064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5003640" y="551664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368520" y="4797360"/>
            <a:ext cx="166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U=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За единицу измерения принимают такое    </a:t>
            </a: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лектрическое напряжение на концах проводника , при котором работа по перемещению электрического заряда в 1 Кл по этому проводнику равна 1 Дж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ту единицу называют ВОЛЬТ (В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4:51:15Z</dcterms:created>
  <dc:creator>Устинов Илья</dc:creator>
  <dc:description/>
  <dc:language>en-US</dc:language>
  <cp:lastModifiedBy>hotel_13</cp:lastModifiedBy>
  <dcterms:modified xsi:type="dcterms:W3CDTF">2015-02-08T06:51:21Z</dcterms:modified>
  <cp:revision>24</cp:revision>
  <dc:subject/>
  <dc:title>Электрический ток</dc:title>
</cp:coreProperties>
</file>