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A301-EA2F-4BBB-B5D4-40A3477E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750-B7CB-4D2E-9D47-8BBC0CE0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6C89-E4FF-4F8E-8B61-78F0705C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568-BF31-4A24-963F-5CAB7DFA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1834-2D74-4C1F-A601-FBCA58E4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51D1-F8B6-4409-910B-105781C6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D02D-6ACA-4AE7-8877-B202EA33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E2BD-9923-4312-91B3-9911FADE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8F08-F54B-45D7-A50E-636CAB4B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30F9-2007-4361-9473-B8EDC708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1E47-AD7A-4DC7-9B31-8CFAE081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FA08-8628-47D0-B61B-FBC76880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EB60-B28F-47D5-8120-565DCF71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7DE8-2DF5-481E-8B55-39E862AD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B5A2-90A4-4C3A-97E3-6493F005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EEA3-086A-4475-9626-EF1F8F93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7B73-0C34-485C-82A5-052AE62F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56B-B49D-488B-BC71-49D7231D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5EF-7AA3-4FF7-9E4F-641A46B8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05F-F574-4E71-9050-264C2E88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901F-0851-47E8-BDB3-FACDCFB6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E1D-58A3-41FA-9392-3E61FD88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3C1-70CE-4438-B4BF-556E5740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298-8992-476A-9A7E-6AD7F3A6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0A1E-DA60-45EB-93EA-199FDC6969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EF72-779C-49A8-8EE0-F6E2A00A78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033560"/>
            <a:ext cx="9144000" cy="2233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Электрический ток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00000" y="3298680"/>
            <a:ext cx="7344000" cy="31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Проект ученика 8 класс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МОУ «СШ №4» г. Ким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Устинова Иль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201</a:t>
            </a: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4-2015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го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687096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Алессандро Вол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64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тальянский физик, химик и физиолог, один из основоположников учения об электричеств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ессандро  Вольта родился в 1745,был четвёртым ребенком в семь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1801 году получил от Наполеона титул графа и   сенатор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мер Вольта в   Комо 5 марта 1827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Рисунок 4" descr=""/>
          <p:cNvPicPr/>
          <p:nvPr/>
        </p:nvPicPr>
        <p:blipFill>
          <a:blip r:embed="rId1"/>
          <a:stretch/>
        </p:blipFill>
        <p:spPr>
          <a:xfrm>
            <a:off x="4824360" y="1268280"/>
            <a:ext cx="341784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870600" cy="8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Вольтметр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9280" y="1844640"/>
            <a:ext cx="4284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4400" algn="r">
              <a:spcBef>
                <a:spcPts val="6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льтметр- прибор для измерения электрического напряж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14400" algn="r">
              <a:spcBef>
                <a:spcPts val="6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льтметр включают в цепь параллельно  тому участку цепи между концами которого измеряют напряж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14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Содержимое 4" descr="вольтметр.JPG"/>
          <p:cNvPicPr/>
          <p:nvPr/>
        </p:nvPicPr>
        <p:blipFill>
          <a:blip r:embed="rId1"/>
          <a:stretch/>
        </p:blipFill>
        <p:spPr>
          <a:xfrm>
            <a:off x="4643280" y="1916280"/>
            <a:ext cx="4032360" cy="3025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Измерение напряж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560" y="1534680"/>
            <a:ext cx="4321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хема электрической цеп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3598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лектрическая цеп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Содержимое 4" descr="измерение напряжения.JPG"/>
          <p:cNvPicPr/>
          <p:nvPr/>
        </p:nvPicPr>
        <p:blipFill>
          <a:blip r:embed="rId1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224" name="Содержимое 15" descr="схема для измерения напряжения.JPG"/>
          <p:cNvPicPr/>
          <p:nvPr/>
        </p:nvPicPr>
        <p:blipFill>
          <a:blip r:embed="rId2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7524720" cy="120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Электрическое  сопротив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1856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противление прямо пропорционально длине проводника, обратно пропорционально площади его поперечного сечения и зависит от вещества проводни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05092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203920" y="4221000"/>
            <a:ext cx="156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ℓ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627280" y="5445000"/>
            <a:ext cx="4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2340000" y="530064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4572000" y="4149720"/>
            <a:ext cx="439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ротивл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дельное сопротивл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длина проводн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щадь поперечного сечен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826560" y="907560"/>
            <a:ext cx="7193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Причиной сопротивления является взаимодействие движущихся электронов с ионами кристаллической решёт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5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5364000" y="2852640"/>
            <a:ext cx="2521080" cy="3672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78123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За единицу сопротивления принимают 1 О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433600"/>
            <a:ext cx="76960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опротивление такого проводника, в котором при напряжении на концах 1 вольт сила тока ровна 1 амперу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3114000" y="4643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Ом Геор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34920" y="1962000"/>
            <a:ext cx="5294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Ohm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 Георг Симон (16 марта 1787, Эрланген - 6 июля 1854, Мюнхен), немецкий физик, автор одного из основных законов, Ом занялся исследованиями электричеств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90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1852 году Ом получил пост ординарного профессор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90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м скончался 6 июля 1854 года.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90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1881 году на электротехниче-ском съезде в Париже ученые единогласно утвердили наименование единицы сопротивления- 1 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Рисунок 7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384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Закон  О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ила тока  в  участке  цепи  прямо  пропорциональна  напряжению  на  концах  этого  участка   и  обратно  пропорциональна  его  сопротивле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4140360" y="3716280"/>
            <a:ext cx="93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4067280" y="486900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3851280" y="4797360"/>
            <a:ext cx="129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7885080" cy="128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Определение сопротивления проводника    </a:t>
            </a:r>
            <a:r>
              <a:rPr b="1" lang="en-US" sz="4400" spc="-1" strike="noStrike">
                <a:solidFill>
                  <a:srgbClr val="7030a0"/>
                </a:solidFill>
                <a:latin typeface="Comic Sans MS"/>
              </a:rPr>
              <a:t>R=U: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мерение силы тока и напряж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Содержимое 8" descr="измерение силы тока и напряжения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3280" y="1989000"/>
            <a:ext cx="404208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хема электрической цеп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Содержимое 9" descr="для измерения силы тока.JPG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0400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ПРИМЕНЕНИЕ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ЭЛЕКТРИЧЕСКОГО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ТО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Picture 7" descr="BD18217_"/>
          <p:cNvPicPr/>
          <p:nvPr/>
        </p:nvPicPr>
        <p:blipFill>
          <a:blip r:embed="rId1"/>
          <a:stretch/>
        </p:blipFill>
        <p:spPr>
          <a:xfrm>
            <a:off x="3419640" y="3645000"/>
            <a:ext cx="1947600" cy="2425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0"/>
          <p:cNvSpPr/>
          <p:nvPr/>
        </p:nvSpPr>
        <p:spPr>
          <a:xfrm>
            <a:off x="2268360" y="765000"/>
            <a:ext cx="29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3" name="Picture 12" descr="j0199283"/>
          <p:cNvPicPr/>
          <p:nvPr/>
        </p:nvPicPr>
        <p:blipFill>
          <a:blip r:embed="rId2"/>
          <a:stretch/>
        </p:blipFill>
        <p:spPr>
          <a:xfrm>
            <a:off x="6012000" y="4437000"/>
            <a:ext cx="2303280" cy="2068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j0234266"/>
          <p:cNvPicPr/>
          <p:nvPr/>
        </p:nvPicPr>
        <p:blipFill>
          <a:blip r:embed="rId3"/>
          <a:stretch/>
        </p:blipFill>
        <p:spPr>
          <a:xfrm>
            <a:off x="0" y="3909960"/>
            <a:ext cx="3024360" cy="2948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j0285750"/>
          <p:cNvPicPr/>
          <p:nvPr/>
        </p:nvPicPr>
        <p:blipFill>
          <a:blip r:embed="rId4"/>
          <a:stretch/>
        </p:blipFill>
        <p:spPr>
          <a:xfrm>
            <a:off x="5508720" y="1916280"/>
            <a:ext cx="3346200" cy="2057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7" descr="BD18215_"/>
          <p:cNvPicPr/>
          <p:nvPr/>
        </p:nvPicPr>
        <p:blipFill>
          <a:blip r:embed="rId5"/>
          <a:stretch/>
        </p:blipFill>
        <p:spPr>
          <a:xfrm>
            <a:off x="179280" y="2060640"/>
            <a:ext cx="2700360" cy="1879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50560" y="549360"/>
            <a:ext cx="7561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Электрическим   током  называется  упорядоченное (направленное) движение  заряженных  частиц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684360" y="3141720"/>
            <a:ext cx="7920000" cy="1871640"/>
          </a:xfrm>
          <a:prstGeom prst="flowChartMagneticDrum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6" name="Группа 21"/>
          <p:cNvGrpSpPr/>
          <p:nvPr/>
        </p:nvGrpSpPr>
        <p:grpSpPr>
          <a:xfrm>
            <a:off x="3419640" y="4653000"/>
            <a:ext cx="720720" cy="144360"/>
            <a:chOff x="3419640" y="4653000"/>
            <a:chExt cx="720720" cy="144360"/>
          </a:xfrm>
        </p:grpSpPr>
        <p:sp>
          <p:nvSpPr>
            <p:cNvPr id="157" name="Oval 15"/>
            <p:cNvSpPr/>
            <p:nvPr/>
          </p:nvSpPr>
          <p:spPr>
            <a:xfrm>
              <a:off x="3419640" y="4653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58" name="Прямая со стрелкой 19"/>
            <p:cNvCxnSpPr/>
            <p:nvPr/>
          </p:nvCxnSpPr>
          <p:spPr>
            <a:xfrm>
              <a:off x="3563640" y="4723920"/>
              <a:ext cx="577080" cy="1080"/>
            </a:xfrm>
            <a:prstGeom prst="straightConnector1">
              <a:avLst/>
            </a:prstGeom>
            <a:ln w="6336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59" name="Группа 22"/>
          <p:cNvGrpSpPr/>
          <p:nvPr/>
        </p:nvGrpSpPr>
        <p:grpSpPr>
          <a:xfrm>
            <a:off x="4211640" y="3860640"/>
            <a:ext cx="720720" cy="144720"/>
            <a:chOff x="4211640" y="3860640"/>
            <a:chExt cx="720720" cy="144720"/>
          </a:xfrm>
        </p:grpSpPr>
        <p:sp>
          <p:nvSpPr>
            <p:cNvPr id="160" name="Oval 15"/>
            <p:cNvSpPr/>
            <p:nvPr/>
          </p:nvSpPr>
          <p:spPr>
            <a:xfrm>
              <a:off x="4211640" y="386064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61" name="Прямая со стрелкой 24"/>
            <p:cNvCxnSpPr/>
            <p:nvPr/>
          </p:nvCxnSpPr>
          <p:spPr>
            <a:xfrm>
              <a:off x="4355640" y="3931920"/>
              <a:ext cx="577080" cy="1080"/>
            </a:xfrm>
            <a:prstGeom prst="straightConnector1">
              <a:avLst/>
            </a:prstGeom>
            <a:ln w="6336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62" name="Группа 25"/>
          <p:cNvGrpSpPr/>
          <p:nvPr/>
        </p:nvGrpSpPr>
        <p:grpSpPr>
          <a:xfrm>
            <a:off x="6875640" y="4292640"/>
            <a:ext cx="720720" cy="144360"/>
            <a:chOff x="6875640" y="4292640"/>
            <a:chExt cx="720720" cy="144360"/>
          </a:xfrm>
        </p:grpSpPr>
        <p:sp>
          <p:nvSpPr>
            <p:cNvPr id="163" name="Oval 15"/>
            <p:cNvSpPr/>
            <p:nvPr/>
          </p:nvSpPr>
          <p:spPr>
            <a:xfrm>
              <a:off x="6875640" y="42926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64" name="Прямая со стрелкой 27"/>
            <p:cNvCxnSpPr/>
            <p:nvPr/>
          </p:nvCxnSpPr>
          <p:spPr>
            <a:xfrm>
              <a:off x="7019640" y="4363560"/>
              <a:ext cx="577080" cy="1080"/>
            </a:xfrm>
            <a:prstGeom prst="straightConnector1">
              <a:avLst/>
            </a:prstGeom>
            <a:ln w="6336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65" name="Группа 28"/>
          <p:cNvGrpSpPr/>
          <p:nvPr/>
        </p:nvGrpSpPr>
        <p:grpSpPr>
          <a:xfrm>
            <a:off x="5219640" y="4508640"/>
            <a:ext cx="720720" cy="144360"/>
            <a:chOff x="5219640" y="4508640"/>
            <a:chExt cx="720720" cy="144360"/>
          </a:xfrm>
        </p:grpSpPr>
        <p:sp>
          <p:nvSpPr>
            <p:cNvPr id="166" name="Oval 15"/>
            <p:cNvSpPr/>
            <p:nvPr/>
          </p:nvSpPr>
          <p:spPr>
            <a:xfrm>
              <a:off x="5219640" y="45086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67" name="Прямая со стрелкой 30"/>
            <p:cNvCxnSpPr/>
            <p:nvPr/>
          </p:nvCxnSpPr>
          <p:spPr>
            <a:xfrm>
              <a:off x="5363640" y="4579560"/>
              <a:ext cx="577080" cy="1080"/>
            </a:xfrm>
            <a:prstGeom prst="straightConnector1">
              <a:avLst/>
            </a:prstGeom>
            <a:ln w="6336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68" name="Группа 31"/>
          <p:cNvGrpSpPr/>
          <p:nvPr/>
        </p:nvGrpSpPr>
        <p:grpSpPr>
          <a:xfrm>
            <a:off x="1619280" y="4437000"/>
            <a:ext cx="720720" cy="144360"/>
            <a:chOff x="1619280" y="4437000"/>
            <a:chExt cx="720720" cy="144360"/>
          </a:xfrm>
        </p:grpSpPr>
        <p:sp>
          <p:nvSpPr>
            <p:cNvPr id="169" name="Oval 15"/>
            <p:cNvSpPr/>
            <p:nvPr/>
          </p:nvSpPr>
          <p:spPr>
            <a:xfrm>
              <a:off x="1619280" y="4437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70" name="Прямая со стрелкой 33"/>
            <p:cNvCxnSpPr/>
            <p:nvPr/>
          </p:nvCxnSpPr>
          <p:spPr>
            <a:xfrm>
              <a:off x="1763280" y="4507920"/>
              <a:ext cx="577080" cy="1080"/>
            </a:xfrm>
            <a:prstGeom prst="straightConnector1">
              <a:avLst/>
            </a:prstGeom>
            <a:ln w="6336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71" name="Группа 34"/>
          <p:cNvGrpSpPr/>
          <p:nvPr/>
        </p:nvGrpSpPr>
        <p:grpSpPr>
          <a:xfrm>
            <a:off x="7885080" y="3645000"/>
            <a:ext cx="719280" cy="144360"/>
            <a:chOff x="7885080" y="3645000"/>
            <a:chExt cx="719280" cy="144360"/>
          </a:xfrm>
        </p:grpSpPr>
        <p:sp>
          <p:nvSpPr>
            <p:cNvPr id="172" name="Oval 15"/>
            <p:cNvSpPr/>
            <p:nvPr/>
          </p:nvSpPr>
          <p:spPr>
            <a:xfrm>
              <a:off x="7885080" y="3645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73" name="Прямая со стрелкой 36"/>
            <p:cNvCxnSpPr/>
            <p:nvPr/>
          </p:nvCxnSpPr>
          <p:spPr>
            <a:xfrm>
              <a:off x="8029080" y="3715920"/>
              <a:ext cx="575640" cy="1080"/>
            </a:xfrm>
            <a:prstGeom prst="straightConnector1">
              <a:avLst/>
            </a:prstGeom>
            <a:ln w="6336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74" name="Группа 37"/>
          <p:cNvGrpSpPr/>
          <p:nvPr/>
        </p:nvGrpSpPr>
        <p:grpSpPr>
          <a:xfrm>
            <a:off x="1187280" y="3429000"/>
            <a:ext cx="720720" cy="144360"/>
            <a:chOff x="1187280" y="3429000"/>
            <a:chExt cx="720720" cy="144360"/>
          </a:xfrm>
        </p:grpSpPr>
        <p:sp>
          <p:nvSpPr>
            <p:cNvPr id="175" name="Oval 15"/>
            <p:cNvSpPr/>
            <p:nvPr/>
          </p:nvSpPr>
          <p:spPr>
            <a:xfrm>
              <a:off x="1187280" y="3429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76" name="Прямая со стрелкой 39"/>
            <p:cNvCxnSpPr/>
            <p:nvPr/>
          </p:nvCxnSpPr>
          <p:spPr>
            <a:xfrm>
              <a:off x="1331280" y="3499920"/>
              <a:ext cx="577080" cy="1080"/>
            </a:xfrm>
            <a:prstGeom prst="straightConnector1">
              <a:avLst/>
            </a:prstGeom>
            <a:ln w="6336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77" name="Группа 40"/>
          <p:cNvGrpSpPr/>
          <p:nvPr/>
        </p:nvGrpSpPr>
        <p:grpSpPr>
          <a:xfrm>
            <a:off x="5364000" y="3429000"/>
            <a:ext cx="720720" cy="144360"/>
            <a:chOff x="5364000" y="3429000"/>
            <a:chExt cx="720720" cy="144360"/>
          </a:xfrm>
        </p:grpSpPr>
        <p:sp>
          <p:nvSpPr>
            <p:cNvPr id="178" name="Oval 15"/>
            <p:cNvSpPr/>
            <p:nvPr/>
          </p:nvSpPr>
          <p:spPr>
            <a:xfrm>
              <a:off x="5364000" y="3429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79" name="Прямая со стрелкой 42"/>
            <p:cNvCxnSpPr/>
            <p:nvPr/>
          </p:nvCxnSpPr>
          <p:spPr>
            <a:xfrm>
              <a:off x="5508000" y="3499920"/>
              <a:ext cx="577080" cy="1080"/>
            </a:xfrm>
            <a:prstGeom prst="straightConnector1">
              <a:avLst/>
            </a:prstGeom>
            <a:ln w="6336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80" name="Группа 43"/>
          <p:cNvGrpSpPr/>
          <p:nvPr/>
        </p:nvGrpSpPr>
        <p:grpSpPr>
          <a:xfrm>
            <a:off x="2771640" y="4149720"/>
            <a:ext cx="720720" cy="144360"/>
            <a:chOff x="2771640" y="4149720"/>
            <a:chExt cx="720720" cy="144360"/>
          </a:xfrm>
        </p:grpSpPr>
        <p:sp>
          <p:nvSpPr>
            <p:cNvPr id="181" name="Oval 15"/>
            <p:cNvSpPr/>
            <p:nvPr/>
          </p:nvSpPr>
          <p:spPr>
            <a:xfrm>
              <a:off x="2771640" y="41497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82" name="Прямая со стрелкой 45"/>
            <p:cNvCxnSpPr/>
            <p:nvPr/>
          </p:nvCxnSpPr>
          <p:spPr>
            <a:xfrm>
              <a:off x="2915640" y="4220640"/>
              <a:ext cx="577080" cy="1080"/>
            </a:xfrm>
            <a:prstGeom prst="straightConnector1">
              <a:avLst/>
            </a:prstGeom>
            <a:ln w="6336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83" name="Группа 46"/>
          <p:cNvGrpSpPr/>
          <p:nvPr/>
        </p:nvGrpSpPr>
        <p:grpSpPr>
          <a:xfrm>
            <a:off x="2843280" y="3429000"/>
            <a:ext cx="720720" cy="144360"/>
            <a:chOff x="2843280" y="3429000"/>
            <a:chExt cx="720720" cy="144360"/>
          </a:xfrm>
        </p:grpSpPr>
        <p:sp>
          <p:nvSpPr>
            <p:cNvPr id="184" name="Oval 15"/>
            <p:cNvSpPr/>
            <p:nvPr/>
          </p:nvSpPr>
          <p:spPr>
            <a:xfrm>
              <a:off x="2843280" y="3429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85" name="Прямая со стрелкой 48"/>
            <p:cNvCxnSpPr/>
            <p:nvPr/>
          </p:nvCxnSpPr>
          <p:spPr>
            <a:xfrm>
              <a:off x="2987280" y="3499920"/>
              <a:ext cx="577080" cy="1080"/>
            </a:xfrm>
            <a:prstGeom prst="straightConnector1">
              <a:avLst/>
            </a:prstGeom>
            <a:ln w="63360">
              <a:solidFill>
                <a:srgbClr val="00b050"/>
              </a:solidFill>
              <a:miter/>
              <a:tailEnd len="med" type="arrow" w="med"/>
            </a:ln>
          </p:spPr>
        </p:cxnSp>
      </p:grp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Сила тока равна отношению электрического заряда </a:t>
            </a: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q</a:t>
            </a: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, прошедшего через поперечное сечение проводника, ко времен его прохождения </a:t>
            </a: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t</a:t>
            </a: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.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32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I=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сила тока(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-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лектрический заряд(Кл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-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ремя(с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5148360" y="3933720"/>
            <a:ext cx="129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5408280" y="3068640"/>
            <a:ext cx="56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5435640" y="4005360"/>
            <a:ext cx="49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785808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Единица измерения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силы т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За единицу силы  тока принимают силу тока, при которой отрезки  параллельных проводников длиной 1м взаимодействуют с силой 2∙10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Н (0,0000002Н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Эту единицу называют АМПЕР (А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6878160" y="31417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Ампер Андре Мар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000" y="1828800"/>
            <a:ext cx="4174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одился 22 января 1775 в Полемье близ Лиона в аристократической семье. Получил домашнее образование.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Занимался исследованиям связи между электричеством и магнетизмом (этот круг явлений Ампер называл электродинамикой). Впоследствии разработал теорию магнетизм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мер Ампер в Марсел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0 июня 183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Рисунок 1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3384720" cy="4421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Ампермет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2349000"/>
            <a:ext cx="417672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r">
              <a:spcBef>
                <a:spcPts val="601"/>
              </a:spcBef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мперметр- прибор для измерения силы то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 algn="r">
              <a:spcBef>
                <a:spcPts val="601"/>
              </a:spcBef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мперметр включают в цепь последовательно с тем прибором, силу тока в котором измеряю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Содержимое 5" descr="амперметр.JPG"/>
          <p:cNvPicPr/>
          <p:nvPr/>
        </p:nvPicPr>
        <p:blipFill>
          <a:blip r:embed="rId1"/>
          <a:stretch/>
        </p:blipFill>
        <p:spPr>
          <a:xfrm>
            <a:off x="4500720" y="2205000"/>
            <a:ext cx="4076640" cy="3057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Измерение силы т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лектрическая цеп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7" descr="электрическая цепь амперметра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1640" y="1844280"/>
            <a:ext cx="4321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хема электрической цеп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8" descr="схема амперметра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95280" y="76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71280" indent="-71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mic Sans MS"/>
              </a:rPr>
              <a:t>Напряжение это физическая величина которая</a:t>
            </a:r>
            <a:r>
              <a:rPr b="0" lang="en-US" sz="36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Comic Sans MS"/>
              </a:rPr>
              <a:t>показывает, какую работу совершает электрическое поле при перемещении единичного положительного заряда из  одной точки в другую.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1280" indent="-71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5003640" y="4437000"/>
            <a:ext cx="6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5081760" y="5300640"/>
            <a:ext cx="8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17"/>
          <p:cNvSpPr/>
          <p:nvPr/>
        </p:nvSpPr>
        <p:spPr>
          <a:xfrm>
            <a:off x="5003640" y="5516640"/>
            <a:ext cx="936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3368520" y="4797360"/>
            <a:ext cx="166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U=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За единицу измерения принимают такое    </a:t>
            </a: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электрическое напряжение на концах проводника , при котором работа по перемещению электрического заряда в 1 Кл по этому проводнику равна 1 Дж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Эту единицу называют ВОЛЬТ (В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04:51:15Z</dcterms:created>
  <dc:creator>Устинов Илья</dc:creator>
  <dc:description/>
  <dc:language>en-US</dc:language>
  <cp:lastModifiedBy>hotel_13</cp:lastModifiedBy>
  <dcterms:modified xsi:type="dcterms:W3CDTF">2015-02-08T06:51:21Z</dcterms:modified>
  <cp:revision>24</cp:revision>
  <dc:subject/>
  <dc:title>Электрический ток</dc:title>
</cp:coreProperties>
</file>