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1A9-701D-46E0-91DA-2B2B102A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522-CF73-4A59-A187-CAE54FE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B3B-CA94-42C9-9423-BCA90B0C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976-36C5-4B50-8F5A-A87133B8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D0C-F2C3-4C4A-8E05-CEDB4B30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CE3-48B9-4CD4-BAF9-5715EE84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DBE-A771-48B0-9C12-2582E404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0C6-1BE4-4D5A-BF1D-199133C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8D4-59F3-4E96-A37E-D01397B5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907-4E31-4E52-A9D9-9CD8B30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9AA-1040-4009-A656-0BDBA63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D4D-07F1-475E-8699-2C29761C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FA1-916B-4B0C-84B1-72329155E07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енская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E704-98DF-443D-975E-B7600109D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:\5_Рисунки\Пейзаж\Пейзаж (171).JPG"/>
          <p:cNvPicPr/>
          <p:nvPr/>
        </p:nvPicPr>
        <p:blipFill>
          <a:blip r:embed="rId1"/>
          <a:stretch/>
        </p:blipFill>
        <p:spPr>
          <a:xfrm>
            <a:off x="250920" y="2565360"/>
            <a:ext cx="3305160" cy="2185920"/>
          </a:xfrm>
          <a:prstGeom prst="rect">
            <a:avLst/>
          </a:prstGeom>
          <a:ln w="38160">
            <a:solidFill>
              <a:srgbClr val="333399"/>
            </a:solidFill>
            <a:round/>
          </a:ln>
        </p:spPr>
      </p:pic>
      <p:pic>
        <p:nvPicPr>
          <p:cNvPr id="42" name="Picture 10" descr="E:\5_Рисунки\Пейзаж\Пейзаж (246).JPG"/>
          <p:cNvPicPr/>
          <p:nvPr/>
        </p:nvPicPr>
        <p:blipFill>
          <a:blip r:embed="rId2"/>
          <a:stretch/>
        </p:blipFill>
        <p:spPr>
          <a:xfrm>
            <a:off x="5364000" y="2565360"/>
            <a:ext cx="3240360" cy="2163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" name="WordArt 8"/>
          <p:cNvSpPr txBox="1"/>
          <p:nvPr/>
        </p:nvSpPr>
        <p:spPr>
          <a:xfrm>
            <a:off x="250920" y="260280"/>
            <a:ext cx="86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Формы земной поверх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33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Picture 6" descr="E:\5_Рисунки\Пейзаж\Пейзаж (176).JPG"/>
          <p:cNvPicPr/>
          <p:nvPr/>
        </p:nvPicPr>
        <p:blipFill>
          <a:blip r:embed="rId3"/>
          <a:stretch/>
        </p:blipFill>
        <p:spPr>
          <a:xfrm>
            <a:off x="3059280" y="4653000"/>
            <a:ext cx="2950920" cy="202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250920" y="260280"/>
            <a:ext cx="8713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роверка домашнего задания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лишн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. Евразия, Антарктида, Африка, Австралия - части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, Евразия, Антарктида, Африка, Австралия – мат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уда и куда течёт р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части р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река пит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79280" y="189000"/>
            <a:ext cx="87854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ОРМЫ ЗЕМНОЙ ПОВЕРХ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57120" y="857160"/>
            <a:ext cx="3783240" cy="500040"/>
          </a:xfrm>
          <a:prstGeom prst="rect">
            <a:avLst/>
          </a:prstGeom>
          <a:solidFill>
            <a:srgbClr val="ffcc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003640" y="928800"/>
            <a:ext cx="3384720" cy="428400"/>
          </a:xfrm>
          <a:prstGeom prst="rect">
            <a:avLst/>
          </a:prstGeom>
          <a:solidFill>
            <a:srgbClr val="00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ВН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411280" y="1197000"/>
            <a:ext cx="46080" cy="16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6715080" y="1143000"/>
            <a:ext cx="4608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"/>
          <p:cNvPicPr/>
          <p:nvPr/>
        </p:nvPicPr>
        <p:blipFill>
          <a:blip r:embed="rId1"/>
          <a:stretch/>
        </p:blipFill>
        <p:spPr>
          <a:xfrm>
            <a:off x="142920" y="1428840"/>
            <a:ext cx="4000320" cy="5429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4" name="Text Box 12"/>
          <p:cNvSpPr/>
          <p:nvPr/>
        </p:nvSpPr>
        <p:spPr>
          <a:xfrm>
            <a:off x="4286160" y="1643040"/>
            <a:ext cx="485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Что находится ближе всего к  уровню мор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357800" y="3857760"/>
            <a:ext cx="45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Что находится вы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равнина"/>
          <p:cNvPicPr/>
          <p:nvPr/>
        </p:nvPicPr>
        <p:blipFill>
          <a:blip r:embed="rId1"/>
          <a:stretch/>
        </p:blipFill>
        <p:spPr>
          <a:xfrm>
            <a:off x="539640" y="189000"/>
            <a:ext cx="4176720" cy="294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7" name="Picture 3" descr="равнина"/>
          <p:cNvPicPr/>
          <p:nvPr/>
        </p:nvPicPr>
        <p:blipFill>
          <a:blip r:embed="rId2"/>
          <a:stretch/>
        </p:blipFill>
        <p:spPr>
          <a:xfrm>
            <a:off x="250920" y="3429000"/>
            <a:ext cx="4897440" cy="321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5219640" y="765000"/>
            <a:ext cx="392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РАВНИНЫ -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большие участки суши, имеющие ровную или почти ровную поверх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ОРМЫ ЗЕМНОЙ ПОВЕРХ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5640" y="1916280"/>
            <a:ext cx="3384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003640" y="1916280"/>
            <a:ext cx="3384720" cy="914400"/>
          </a:xfrm>
          <a:prstGeom prst="rect">
            <a:avLst/>
          </a:prstGeom>
          <a:solidFill>
            <a:srgbClr val="00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ВН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197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6659640" y="1197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6877080" y="2852640"/>
            <a:ext cx="8636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5219640" y="4076640"/>
            <a:ext cx="36734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ОЛМИС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403280" y="4076640"/>
            <a:ext cx="33847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О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2771280" y="2852640"/>
            <a:ext cx="3024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920" y="260280"/>
            <a:ext cx="856908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ДНО-СИБИРСКАЯ РАВНИНА – это огромная низменность, и её поверхность действительно очень ровная, её называют «плоская равнина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 Уралом на западе и Среднесибирским плоскогорьем на востоке. Много болот и озёр. Вода выпавшая в осадках и появившаяся от талых снегов, никуда не стекает, а остаётся на поверхности, только часть её проникает вглубь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140360" y="4032360"/>
            <a:ext cx="4824360" cy="26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вказские горы"/>
          <p:cNvPicPr/>
          <p:nvPr/>
        </p:nvPicPr>
        <p:blipFill>
          <a:blip r:embed="rId1"/>
          <a:stretch/>
        </p:blipFill>
        <p:spPr>
          <a:xfrm>
            <a:off x="468360" y="260280"/>
            <a:ext cx="3816360" cy="2854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Picture 3" descr="уральские горы"/>
          <p:cNvPicPr/>
          <p:nvPr/>
        </p:nvPicPr>
        <p:blipFill>
          <a:blip r:embed="rId2"/>
          <a:stretch/>
        </p:blipFill>
        <p:spPr>
          <a:xfrm>
            <a:off x="179280" y="3284640"/>
            <a:ext cx="4464000" cy="3354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" name="Text Box 4"/>
          <p:cNvSpPr/>
          <p:nvPr/>
        </p:nvSpPr>
        <p:spPr>
          <a:xfrm>
            <a:off x="4788000" y="765000"/>
            <a:ext cx="435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ГОРЫ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очень неровные участки земной поверхности, которые сильно возвышаются над окружающей мест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4932360" y="333360"/>
            <a:ext cx="352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ые высокие горы России – Кавказские, до 5000 м и даже больше. Многие вершины и склоны Кавказских гор постоянно покрыты льдом и сне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4103640" cy="271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5" name="Picture 1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384360" cy="26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1763640" y="2421000"/>
            <a:ext cx="3095640" cy="1976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528720" cy="229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480" y="214200"/>
            <a:ext cx="864396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ак называется самая  большая в мире пустыня? Где она расположен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51:32Z</dcterms:created>
  <dc:creator>Синецкая Г.Г.</dc:creator>
  <dc:description/>
  <dc:language>en-US</dc:language>
  <cp:lastModifiedBy>я</cp:lastModifiedBy>
  <dcterms:modified xsi:type="dcterms:W3CDTF">2015-02-08T05:19:40Z</dcterms:modified>
  <cp:revision>79</cp:revision>
  <dc:subject>Формы земной поверхности</dc:subject>
  <dc:title>Окружающий мир. 2 класс</dc:title>
</cp:coreProperties>
</file>