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D3F-4168-4403-B84E-ADB29B3E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F45-6093-4838-9494-5B103731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B58-4535-48CA-B69F-784EB322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ACB-0A53-43B0-9873-8C57C5BE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0F5-1BA7-47C6-80DD-68CD1A94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608-32A2-48D2-83BA-4F880AED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9B33-9767-4B76-8B9D-C84CAFA6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C00D-EC87-493D-9979-72168471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C03-2AA1-4162-A949-666111D2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91D-01C5-4649-AA32-DA36EC42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3BA-9D6E-48E5-8342-B397BE86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D76-8AA9-4542-801D-4945112C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3460-3E0D-4FAB-8B06-884F171D840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бенская Е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FCB9-BAFD-4D1B-B0DC-B8E139F0D0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E:\5_Рисунки\Пейзаж\Пейзаж (171).JPG"/>
          <p:cNvPicPr/>
          <p:nvPr/>
        </p:nvPicPr>
        <p:blipFill>
          <a:blip r:embed="rId1"/>
          <a:stretch/>
        </p:blipFill>
        <p:spPr>
          <a:xfrm>
            <a:off x="250920" y="2565360"/>
            <a:ext cx="3305160" cy="2185920"/>
          </a:xfrm>
          <a:prstGeom prst="rect">
            <a:avLst/>
          </a:prstGeom>
          <a:ln w="38160">
            <a:solidFill>
              <a:srgbClr val="333399"/>
            </a:solidFill>
            <a:round/>
          </a:ln>
        </p:spPr>
      </p:pic>
      <p:pic>
        <p:nvPicPr>
          <p:cNvPr id="42" name="Picture 10" descr="E:\5_Рисунки\Пейзаж\Пейзаж (246).JPG"/>
          <p:cNvPicPr/>
          <p:nvPr/>
        </p:nvPicPr>
        <p:blipFill>
          <a:blip r:embed="rId2"/>
          <a:stretch/>
        </p:blipFill>
        <p:spPr>
          <a:xfrm>
            <a:off x="5364000" y="2565360"/>
            <a:ext cx="3240360" cy="2163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43" name="WordArt 8"/>
          <p:cNvSpPr txBox="1"/>
          <p:nvPr/>
        </p:nvSpPr>
        <p:spPr>
          <a:xfrm>
            <a:off x="250920" y="260280"/>
            <a:ext cx="86421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Times New Roman"/>
              </a:rPr>
              <a:t>Формы земной поверхн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3300"/>
                  </a:gs>
                  <a:gs pos="100000">
                    <a:srgbClr val="ff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4" name="Picture 6" descr="E:\5_Рисунки\Пейзаж\Пейзаж (176).JPG"/>
          <p:cNvPicPr/>
          <p:nvPr/>
        </p:nvPicPr>
        <p:blipFill>
          <a:blip r:embed="rId3"/>
          <a:stretch/>
        </p:blipFill>
        <p:spPr>
          <a:xfrm>
            <a:off x="3059280" y="4653000"/>
            <a:ext cx="2950920" cy="2028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250920" y="260280"/>
            <a:ext cx="8713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07932" dir="189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Проверка домашнего задания</a:t>
            </a:r>
            <a:endParaRPr b="1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107932" dir="189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лишне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ерика. Евразия, Антарктида, Африка, Австралия - части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ерика, Евразия, Антарктида, Африка, Австралия – мате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уда и куда течёт р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части р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река пит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79280" y="189000"/>
            <a:ext cx="878544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ФОРМЫ ЗЕМНОЙ ПОВЕРХ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57120" y="857160"/>
            <a:ext cx="3783240" cy="500040"/>
          </a:xfrm>
          <a:prstGeom prst="rect">
            <a:avLst/>
          </a:prstGeom>
          <a:solidFill>
            <a:srgbClr val="ffcc6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5003640" y="928800"/>
            <a:ext cx="3384720" cy="428400"/>
          </a:xfrm>
          <a:prstGeom prst="rect">
            <a:avLst/>
          </a:prstGeom>
          <a:solidFill>
            <a:srgbClr val="00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ВН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2411280" y="1197000"/>
            <a:ext cx="46080" cy="16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>
            <a:off x="6715080" y="1143000"/>
            <a:ext cx="46080" cy="214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"/>
          <p:cNvPicPr/>
          <p:nvPr/>
        </p:nvPicPr>
        <p:blipFill>
          <a:blip r:embed="rId1"/>
          <a:stretch/>
        </p:blipFill>
        <p:spPr>
          <a:xfrm>
            <a:off x="142920" y="1428840"/>
            <a:ext cx="4000320" cy="54291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54" name="Text Box 12"/>
          <p:cNvSpPr/>
          <p:nvPr/>
        </p:nvSpPr>
        <p:spPr>
          <a:xfrm>
            <a:off x="4286160" y="1643040"/>
            <a:ext cx="485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 Что находится ближе всего к  уровню мор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4357800" y="3857760"/>
            <a:ext cx="45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Что находится выш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равнина"/>
          <p:cNvPicPr/>
          <p:nvPr/>
        </p:nvPicPr>
        <p:blipFill>
          <a:blip r:embed="rId1"/>
          <a:stretch/>
        </p:blipFill>
        <p:spPr>
          <a:xfrm>
            <a:off x="539640" y="189000"/>
            <a:ext cx="4176720" cy="2944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7" name="Picture 3" descr="равнина"/>
          <p:cNvPicPr/>
          <p:nvPr/>
        </p:nvPicPr>
        <p:blipFill>
          <a:blip r:embed="rId2"/>
          <a:stretch/>
        </p:blipFill>
        <p:spPr>
          <a:xfrm>
            <a:off x="250920" y="3429000"/>
            <a:ext cx="4897440" cy="3216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Text Box 4"/>
          <p:cNvSpPr/>
          <p:nvPr/>
        </p:nvSpPr>
        <p:spPr>
          <a:xfrm>
            <a:off x="5219640" y="765000"/>
            <a:ext cx="392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РАВНИНЫ -</a:t>
            </a: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большие участки суши, имеющие ровную или почти ровную поверх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ФОРМЫ ЗЕМНОЙ ПОВЕРХ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55640" y="1916280"/>
            <a:ext cx="338472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003640" y="1916280"/>
            <a:ext cx="3384720" cy="914400"/>
          </a:xfrm>
          <a:prstGeom prst="rect">
            <a:avLst/>
          </a:prstGeom>
          <a:solidFill>
            <a:srgbClr val="00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ВН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19700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6659640" y="119700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6877080" y="2852640"/>
            <a:ext cx="86364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5219640" y="4076640"/>
            <a:ext cx="367344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ХОЛМИСТ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1403280" y="4076640"/>
            <a:ext cx="338472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ЛО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 flipH="1">
            <a:off x="2771280" y="2852640"/>
            <a:ext cx="302436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50920" y="260280"/>
            <a:ext cx="856908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ДНО-СИБИРСКАЯ РАВНИНА – это огромная низменность, и её поверхность действительно очень ровная, её называют «плоская равнина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жду Уралом на западе и Среднесибирским плоскогорьем на востоке. Много болот и озёр. Вода выпавшая в осадках и появившаяся от талых снегов, никуда не стекает, а остаётся на поверхности, только часть её проникает вглубь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4140360" y="4032360"/>
            <a:ext cx="4824360" cy="261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кавказские горы"/>
          <p:cNvPicPr/>
          <p:nvPr/>
        </p:nvPicPr>
        <p:blipFill>
          <a:blip r:embed="rId1"/>
          <a:stretch/>
        </p:blipFill>
        <p:spPr>
          <a:xfrm>
            <a:off x="468360" y="260280"/>
            <a:ext cx="3816360" cy="2854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1" name="Picture 3" descr="уральские горы"/>
          <p:cNvPicPr/>
          <p:nvPr/>
        </p:nvPicPr>
        <p:blipFill>
          <a:blip r:embed="rId2"/>
          <a:stretch/>
        </p:blipFill>
        <p:spPr>
          <a:xfrm>
            <a:off x="179280" y="3284640"/>
            <a:ext cx="4464000" cy="3354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2" name="Text Box 4"/>
          <p:cNvSpPr/>
          <p:nvPr/>
        </p:nvSpPr>
        <p:spPr>
          <a:xfrm>
            <a:off x="4788000" y="765000"/>
            <a:ext cx="4356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ГОРЫ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очень неровные участки земной поверхности, которые сильно возвышаются над окружающей местност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4932360" y="333360"/>
            <a:ext cx="352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ые высокие горы России – Кавказские, до 5000 м и даже больше. Многие вершины и склоны Кавказских гор постоянно покрыты льдом и снег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"/>
          <p:cNvPicPr/>
          <p:nvPr/>
        </p:nvPicPr>
        <p:blipFill>
          <a:blip r:embed="rId1"/>
          <a:stretch/>
        </p:blipFill>
        <p:spPr>
          <a:xfrm>
            <a:off x="4716360" y="3716280"/>
            <a:ext cx="4103640" cy="271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5" name="Picture 12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384360" cy="2685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1763640" y="2421000"/>
            <a:ext cx="3095640" cy="1976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7" name="Picture 6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3528720" cy="2294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5480" y="214200"/>
            <a:ext cx="864396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ак называется самая  большая в мире пустыня? Где она расположена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51:32Z</dcterms:created>
  <dc:creator>Синецкая Г.Г.</dc:creator>
  <dc:description/>
  <dc:language>en-US</dc:language>
  <cp:lastModifiedBy>я</cp:lastModifiedBy>
  <dcterms:modified xsi:type="dcterms:W3CDTF">2015-02-08T05:19:40Z</dcterms:modified>
  <cp:revision>79</cp:revision>
  <dc:subject>Формы земной поверхности</dc:subject>
  <dc:title>Окружающий мир. 2 класс</dc:title>
</cp:coreProperties>
</file>