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7.png" ContentType="image/png"/>
  <Override PartName="/ppt/media/image4.gif" ContentType="image/gif"/>
  <Override PartName="/ppt/media/image12.jpeg" ContentType="image/jpeg"/>
  <Override PartName="/ppt/media/image18.jpeg" ContentType="image/jpeg"/>
  <Override PartName="/ppt/media/image17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5.gif" ContentType="image/gif"/>
  <Override PartName="/ppt/media/image14.jpeg" ContentType="image/jpeg"/>
  <Override PartName="/ppt/media/image8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F18-6B3F-4388-9CF4-3AC811B0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5B01-57B0-4669-8B37-4DA555A5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56B3-9FD1-4A4E-A5DC-498A5FD2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C247-E4D1-4E23-A2B0-030BA583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FA57-5AF5-42E8-AA86-21CDC553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A3FA-6345-42E8-AA15-CA437601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CDDB-E761-4BD2-BAC8-2AEC49CF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5925-749B-4C67-A847-993508DC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F8CD-AEA1-41D1-BB02-D51F0D2B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33FB-7203-4174-8296-8200177C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6BC5-8EEC-4B4A-BB11-C2C2ABEB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C31-2AA8-47B7-9E17-06EBA187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0555-E511-4FC0-87AB-C0283553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D0BA-2A28-43FD-ACAE-90E69617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D562-9653-40DE-BA85-32353408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65EC-7845-4B75-B15A-2228507E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B8CA-33E4-49FB-8BDD-1331F893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B97E1-8557-4C12-A9BB-C501DFBC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92ACF-97A7-466D-9D18-E6039520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B688F-0767-4B24-80AF-6BEC1617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A634B-50BC-4C49-ACF3-C2766984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EC46-54C3-4A4A-B7E3-17391046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8EAF-5ACB-4314-B04C-27E11D88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AE017-D44B-42CD-B38E-274E7D22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84AF5-E5FD-4B67-A654-426CCF45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8C31B-3B92-46D1-9DE0-CE66DEF7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36B7C-67F6-4D14-8D82-B2075196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767AC-DFB7-49C7-BD35-A2CD4594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B5921-F70B-4D93-8FFB-7447A6B0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182A4-3C67-45CE-BA5E-8C1F1461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3C3F1-C6D8-4F80-A7FA-34C51CED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09589-055F-4072-B1B3-1ECD6C24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5C43D-D6DA-4AA1-86EA-DC255996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C8D-EBA9-40BE-A13B-5BD95C28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93375-1ED2-4E70-90C7-C8D61CE5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117AD-E7AB-4FB7-A892-617A085B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9B578-151D-4A20-A993-62143FEB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AF408-515D-4616-B0C0-FF0B8455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D3E53-931F-4488-B5D2-49FA5B25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4A109-7FC1-4B5A-9359-4A8D65E2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7D39D-693A-429D-A46B-78E8653D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06F68-8700-4867-897B-2F3B1CD8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0E95C-3CFD-47BF-99F4-239CFF96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604-CCDB-4808-8D48-54F9B205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FB1-108A-4230-A190-7AD4F5CD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9A5C-25C4-4566-9371-1A2C6084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A470-B27E-4731-943E-76073007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712D-10EB-476F-A47D-352E70B4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nstanti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Constantia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AA55-5E4F-4DFC-877C-780DB1717FE9}" type="slidenum">
              <a:rPr b="0" lang="ru-RU" sz="1000" spc="-1" strike="noStrike">
                <a:solidFill>
                  <a:srgbClr val="a7a399"/>
                </a:solidFill>
                <a:latin typeface="Constanti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nstanti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Constantia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0CE2-2286-4608-8C03-8D24E742BBD1}" type="slidenum">
              <a:rPr b="0" lang="ru-RU" sz="1000" spc="-1" strike="noStrike">
                <a:solidFill>
                  <a:srgbClr val="a7a399"/>
                </a:solidFill>
                <a:latin typeface="Constanti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nstanti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Constantia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A1B3-7748-41A6-B8A1-BD030DC505A9}" type="slidenum">
              <a:rPr b="0" lang="ru-RU" sz="1000" spc="-1" strike="noStrike">
                <a:solidFill>
                  <a:srgbClr val="a7a399"/>
                </a:solidFill>
                <a:latin typeface="Constanti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nstanti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Constantia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2088-F7F7-4D9B-BA63-E72431D88B60}" type="slidenum">
              <a:rPr b="0" lang="ru-RU" sz="1000" spc="-1" strike="noStrike">
                <a:solidFill>
                  <a:srgbClr val="a7a399"/>
                </a:solidFill>
                <a:latin typeface="Constanti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&#1055;&#1088;&#1077;&#1079;&#1077;&#1085;&#1090;&#1072;&#1094;&#1080;&#1103;%20&#1044;&#1080;&#1085;&#1072;&#1088;&#1072;.ppt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7" name="Picture 4" descr="4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8" name="Загнутый угол 8"/>
          <p:cNvSpPr/>
          <p:nvPr/>
        </p:nvSpPr>
        <p:spPr>
          <a:xfrm>
            <a:off x="1116000" y="765000"/>
            <a:ext cx="6743880" cy="3168720"/>
          </a:xfrm>
          <a:prstGeom prst="foldedCorner">
            <a:avLst>
              <a:gd name="adj" fmla="val 41652"/>
            </a:avLst>
          </a:prstGeom>
          <a:solidFill>
            <a:srgbClr val="ffffff">
              <a:alpha val="37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«Активные формы взаимодействия психолога с педагогическим коллективом»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Круглая лента лицом вниз 9"/>
          <p:cNvSpPr/>
          <p:nvPr/>
        </p:nvSpPr>
        <p:spPr>
          <a:xfrm>
            <a:off x="1001880" y="5357880"/>
            <a:ext cx="7570800" cy="1214280"/>
          </a:xfrm>
          <a:custGeom>
            <a:avLst/>
            <a:gdLst>
              <a:gd name="textAreaLeft" fmla="*/ 1892520 w 7570800"/>
              <a:gd name="textAreaRight" fmla="*/ 5678280 w 7570800"/>
              <a:gd name="textAreaTop" fmla="*/ 303480 h 1214280"/>
              <a:gd name="textAreaBottom" fmla="*/ 117864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-психолог МБДОУ №53 «Светофорик» Маклова Н.А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0" name="Picture 10" descr="b170cc0b7efcb2484d75f5036a9e8e49"/>
          <p:cNvPicPr/>
          <p:nvPr/>
        </p:nvPicPr>
        <p:blipFill>
          <a:blip r:embed="rId2"/>
          <a:stretch/>
        </p:blipFill>
        <p:spPr>
          <a:xfrm>
            <a:off x="179280" y="3789360"/>
            <a:ext cx="1928880" cy="2782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b170cc0b7efcb2484d75f5036a9e8e49"/>
          <p:cNvPicPr/>
          <p:nvPr/>
        </p:nvPicPr>
        <p:blipFill>
          <a:blip r:embed="rId3"/>
          <a:stretch/>
        </p:blipFill>
        <p:spPr>
          <a:xfrm>
            <a:off x="0" y="2276640"/>
            <a:ext cx="1643040" cy="2369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d1067998bd7416aad3c1b4152aefab22"/>
          <p:cNvPicPr/>
          <p:nvPr/>
        </p:nvPicPr>
        <p:blipFill>
          <a:blip r:embed="rId4"/>
          <a:stretch/>
        </p:blipFill>
        <p:spPr>
          <a:xfrm rot="534600">
            <a:off x="7929360" y="5157720"/>
            <a:ext cx="1214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Constantia"/>
            </a:endParaRPr>
          </a:p>
        </p:txBody>
      </p:sp>
      <p:pic>
        <p:nvPicPr>
          <p:cNvPr id="185" name="Picture 8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600720" cy="2736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3"/>
          <a:stretch/>
        </p:blipFill>
        <p:spPr>
          <a:xfrm>
            <a:off x="5076720" y="404640"/>
            <a:ext cx="3456000" cy="2808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"/>
          <p:cNvPicPr/>
          <p:nvPr/>
        </p:nvPicPr>
        <p:blipFill>
          <a:blip r:embed="rId4"/>
          <a:stretch/>
        </p:blipFill>
        <p:spPr>
          <a:xfrm>
            <a:off x="539640" y="3500280"/>
            <a:ext cx="3600720" cy="3097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"/>
          <p:cNvPicPr/>
          <p:nvPr/>
        </p:nvPicPr>
        <p:blipFill>
          <a:blip r:embed="rId5"/>
          <a:stretch/>
        </p:blipFill>
        <p:spPr>
          <a:xfrm>
            <a:off x="5076720" y="3500280"/>
            <a:ext cx="3527640" cy="3024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"/>
          <p:cNvPicPr/>
          <p:nvPr/>
        </p:nvPicPr>
        <p:blipFill>
          <a:blip r:embed="rId6"/>
          <a:stretch/>
        </p:blipFill>
        <p:spPr>
          <a:xfrm>
            <a:off x="2916360" y="1773360"/>
            <a:ext cx="2950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Constantia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3"/>
          <a:stretch/>
        </p:blipFill>
        <p:spPr>
          <a:xfrm rot="20822400">
            <a:off x="306000" y="406080"/>
            <a:ext cx="3382920" cy="2592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4"/>
          <a:stretch/>
        </p:blipFill>
        <p:spPr>
          <a:xfrm rot="630600">
            <a:off x="5657760" y="260280"/>
            <a:ext cx="3259080" cy="2592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5"/>
          <a:stretch/>
        </p:blipFill>
        <p:spPr>
          <a:xfrm rot="724200">
            <a:off x="178920" y="3357720"/>
            <a:ext cx="3598920" cy="3095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"/>
          <p:cNvPicPr/>
          <p:nvPr/>
        </p:nvPicPr>
        <p:blipFill>
          <a:blip r:embed="rId6"/>
          <a:stretch/>
        </p:blipFill>
        <p:spPr>
          <a:xfrm rot="20818800">
            <a:off x="5724360" y="3213000"/>
            <a:ext cx="3186360" cy="324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"/>
          <p:cNvPicPr/>
          <p:nvPr/>
        </p:nvPicPr>
        <p:blipFill>
          <a:blip r:embed="rId7"/>
          <a:stretch/>
        </p:blipFill>
        <p:spPr>
          <a:xfrm>
            <a:off x="3132000" y="3500280"/>
            <a:ext cx="2951280" cy="2810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"/>
          <p:cNvPicPr/>
          <p:nvPr/>
        </p:nvPicPr>
        <p:blipFill>
          <a:blip r:embed="rId8"/>
          <a:stretch/>
        </p:blipFill>
        <p:spPr>
          <a:xfrm>
            <a:off x="3276720" y="620640"/>
            <a:ext cx="2736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-387360"/>
            <a:ext cx="8183520" cy="216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Прямоугольник 15"/>
          <p:cNvSpPr/>
          <p:nvPr/>
        </p:nvSpPr>
        <p:spPr>
          <a:xfrm>
            <a:off x="2987640" y="3284640"/>
            <a:ext cx="3214800" cy="3357360"/>
          </a:xfrm>
          <a:prstGeom prst="rect">
            <a:avLst/>
          </a:prstGeom>
          <a:solidFill>
            <a:srgbClr val="cc99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Тесты;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блюдение;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Беседы;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кетирование;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прос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Oval 9"/>
          <p:cNvSpPr/>
          <p:nvPr/>
        </p:nvSpPr>
        <p:spPr>
          <a:xfrm>
            <a:off x="539640" y="260280"/>
            <a:ext cx="8209080" cy="1368360"/>
          </a:xfrm>
          <a:prstGeom prst="ellipse">
            <a:avLst/>
          </a:prstGeom>
          <a:solidFill>
            <a:srgbClr val="cc99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аправления работы 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едагога –психолога с коллективом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2771640" y="1989000"/>
            <a:ext cx="3527640" cy="863640"/>
          </a:xfrm>
          <a:prstGeom prst="ellipse">
            <a:avLst/>
          </a:prstGeom>
          <a:solidFill>
            <a:srgbClr val="cc99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сиходиагностика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284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b9f25"/>
                </a:solidFill>
                <a:uFillTx/>
                <a:latin typeface="Monotype Corsiva"/>
                <a:hlinkClick r:id="rId2"/>
              </a:rPr>
              <a:t>Диагностика  педагогического коллектива на изучение конфликтности, сплоченности, удовлетворенности своим трудом и оценки психологического климата</a:t>
            </a:r>
            <a:endParaRPr b="1" lang="en-US" sz="32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-387360"/>
            <a:ext cx="8183520" cy="216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Прямоугольник 16"/>
          <p:cNvSpPr/>
          <p:nvPr/>
        </p:nvSpPr>
        <p:spPr>
          <a:xfrm>
            <a:off x="324000" y="3357720"/>
            <a:ext cx="2643120" cy="32860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Индивидуальные занятия;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абота в малых группах;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ренинговые занятия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Прямоугольник 17"/>
          <p:cNvSpPr/>
          <p:nvPr/>
        </p:nvSpPr>
        <p:spPr>
          <a:xfrm>
            <a:off x="3357720" y="3357720"/>
            <a:ext cx="2714400" cy="32860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- Индивидуальные  встречи;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Групповые мероприят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Прямоугольник 18"/>
          <p:cNvSpPr/>
          <p:nvPr/>
        </p:nvSpPr>
        <p:spPr>
          <a:xfrm>
            <a:off x="6500880" y="3357720"/>
            <a:ext cx="2357280" cy="32860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-Стендовая информация;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еминары-практикумы;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Круглые столы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Oval 13"/>
          <p:cNvSpPr/>
          <p:nvPr/>
        </p:nvSpPr>
        <p:spPr>
          <a:xfrm>
            <a:off x="539640" y="260280"/>
            <a:ext cx="7920000" cy="1152720"/>
          </a:xfrm>
          <a:prstGeom prst="ellipse">
            <a:avLst/>
          </a:prstGeom>
          <a:solidFill>
            <a:srgbClr val="cc99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правления работы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едагога –психолога с коллективом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0" y="1557360"/>
            <a:ext cx="2843280" cy="1224000"/>
          </a:xfrm>
          <a:prstGeom prst="ellipse">
            <a:avLst/>
          </a:prstGeom>
          <a:solidFill>
            <a:srgbClr val="cc99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Коррекционно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азвивающая работа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3203640" y="1989000"/>
            <a:ext cx="2950920" cy="936720"/>
          </a:xfrm>
          <a:prstGeom prst="ellipse">
            <a:avLst/>
          </a:prstGeom>
          <a:solidFill>
            <a:srgbClr val="cc99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сихологическое 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консультирование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6372360" y="1628640"/>
            <a:ext cx="2771640" cy="1152720"/>
          </a:xfrm>
          <a:prstGeom prst="ellipse">
            <a:avLst/>
          </a:prstGeom>
          <a:solidFill>
            <a:srgbClr val="cc99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сихологическое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росвещение и 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рофилактика 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1:09:30Z</dcterms:created>
  <dc:creator>Admin</dc:creator>
  <dc:description/>
  <dc:language>en-US</dc:language>
  <cp:lastModifiedBy>Детский сад 53</cp:lastModifiedBy>
  <dcterms:modified xsi:type="dcterms:W3CDTF">2015-02-08T18:29:57Z</dcterms:modified>
  <cp:revision>42</cp:revision>
  <dc:subject/>
  <dc:title>Слайд 1</dc:title>
</cp:coreProperties>
</file>