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7.png" ContentType="image/png"/>
  <Override PartName="/ppt/media/image4.gif" ContentType="image/gif"/>
  <Override PartName="/ppt/media/image12.jpeg" ContentType="image/jpeg"/>
  <Override PartName="/ppt/media/image18.jpeg" ContentType="image/jpeg"/>
  <Override PartName="/ppt/media/image17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5.gif" ContentType="image/gif"/>
  <Override PartName="/ppt/media/image14.jpeg" ContentType="image/jpeg"/>
  <Override PartName="/ppt/media/image8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A8C-2707-4A8E-BA3F-DA247D57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D08-BEC3-4124-BFC7-B6A9023A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5BD-F76F-46EF-8D28-86E10F33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B05-7483-453F-A18D-80FB134B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C8FA-1E8A-4D4E-A499-E3ACADC3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E0E6-E229-4ABF-B5ED-1547553F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7BD5-5349-413F-96C8-FBD6D2AA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2F0F-125A-45F9-B55A-5C192FCD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908A-ED5D-4AC9-B130-DA813283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6ED3-3925-45E6-9CE9-6AFB7739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2C82-0D4D-42D8-801E-41220C7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763-0087-4090-AF59-BB6859EE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A52E-8041-4692-ADFA-0F8B5363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BEEB-49C1-4FF0-AF4A-701E8074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8648-5E18-448B-BF19-EF9B3190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4C57-57B5-4678-A3D4-085752BC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931B-DBD6-4D91-A0A0-E21CF66D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5F0B-0713-48FB-83E5-FC0B7BEF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23A2-832D-4CFE-BB19-C9DBC885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F5DD-35A3-43DE-A47F-78F2DF73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B886-58B7-45B0-BA22-B52583C4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813D-E4AD-432A-B4E5-30FBC19B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BAC-9A83-4578-873B-787BF434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6C2E-4C4F-40F4-898E-73C9E6B1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CD57-2685-4F5C-849A-240D93B6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9413F-EA47-4046-A54F-615F5902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1971-5DE3-4CC0-A92C-E8BEA5DF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BB017-0F03-4DFA-AAA7-7EA74F20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39B5-DD09-4C79-8A8C-9DB5BF70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118F-4252-4A0E-94F8-3075110B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513D-56F6-4F97-990A-93139DBE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52C11-5FAD-4B89-B17A-CBA735AF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6518F-05AD-4010-946D-6B1B068A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1F2-2E0F-4264-943E-0C3FA22E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8A26-CCB4-40EC-B270-7636ADB7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969C-A4E6-43B9-A728-7B343BF5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B03B-B907-4A7D-A5D8-F9BE08D0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82D9-C2B5-4645-8BF3-DFB3A854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F814-C76B-4251-BC21-536537B1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5EAC-BC3C-492E-84FF-23A8418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84537-3E08-4638-A27E-53324B17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48F9-F45C-423C-86BC-C1EE7C4D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F578-BB6A-4D13-89DE-256127BA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E7F-DC09-4CC0-B67C-E92423C4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456-F0A9-48A8-9A6C-17661B74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E79-2EF1-44EB-8C0D-5C6D8B5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A03-D83A-4A22-BD50-C1739C44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ABD-055B-4AB7-8D58-B8EC2BF1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tanti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9560-0F8B-4C5C-867C-B3838DAF3EE0}" type="slidenum"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tanti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188E-1310-4405-A9DD-2835410E8CA6}" type="slidenum"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tanti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8709-68D9-47AE-A3DB-E58185380B1D}" type="slidenum"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nstanti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F383-ED84-4553-B4B9-ACA28C2E1D61}" type="slidenum">
              <a:rPr b="0" lang="ru-RU" sz="1000" spc="-1" strike="noStrike">
                <a:solidFill>
                  <a:srgbClr val="a7a399"/>
                </a:solidFill>
                <a:latin typeface="Constanti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&#1055;&#1088;&#1077;&#1079;&#1077;&#1085;&#1090;&#1072;&#1094;&#1080;&#1103;%20&#1044;&#1080;&#1085;&#1072;&#1088;&#1072;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Picture 4" descr="4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Загнутый угол 8"/>
          <p:cNvSpPr/>
          <p:nvPr/>
        </p:nvSpPr>
        <p:spPr>
          <a:xfrm>
            <a:off x="1116000" y="765000"/>
            <a:ext cx="6743880" cy="3168720"/>
          </a:xfrm>
          <a:prstGeom prst="foldedCorner">
            <a:avLst>
              <a:gd name="adj" fmla="val 41652"/>
            </a:avLst>
          </a:prstGeom>
          <a:solidFill>
            <a:srgbClr val="ffffff">
              <a:alpha val="37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«Активные формы взаимодействия психолога с педагогическим коллективом»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Круглая лента лицом вниз 9"/>
          <p:cNvSpPr/>
          <p:nvPr/>
        </p:nvSpPr>
        <p:spPr>
          <a:xfrm>
            <a:off x="1001880" y="5357880"/>
            <a:ext cx="7570800" cy="1214280"/>
          </a:xfrm>
          <a:custGeom>
            <a:avLst/>
            <a:gdLst>
              <a:gd name="textAreaLeft" fmla="*/ 1892520 w 7570800"/>
              <a:gd name="textAreaRight" fmla="*/ 5678280 w 7570800"/>
              <a:gd name="textAreaTop" fmla="*/ 303480 h 1214280"/>
              <a:gd name="textAreaBottom" fmla="*/ 1178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-психолог МБДОУ №53 «Светофорик» Маклова Н.А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0" name="Picture 10" descr="b170cc0b7efcb2484d75f5036a9e8e49"/>
          <p:cNvPicPr/>
          <p:nvPr/>
        </p:nvPicPr>
        <p:blipFill>
          <a:blip r:embed="rId2"/>
          <a:stretch/>
        </p:blipFill>
        <p:spPr>
          <a:xfrm>
            <a:off x="179280" y="3789360"/>
            <a:ext cx="1928880" cy="278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b170cc0b7efcb2484d75f5036a9e8e49"/>
          <p:cNvPicPr/>
          <p:nvPr/>
        </p:nvPicPr>
        <p:blipFill>
          <a:blip r:embed="rId3"/>
          <a:stretch/>
        </p:blipFill>
        <p:spPr>
          <a:xfrm>
            <a:off x="0" y="2276640"/>
            <a:ext cx="1643040" cy="236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d1067998bd7416aad3c1b4152aefab22"/>
          <p:cNvPicPr/>
          <p:nvPr/>
        </p:nvPicPr>
        <p:blipFill>
          <a:blip r:embed="rId4"/>
          <a:stretch/>
        </p:blipFill>
        <p:spPr>
          <a:xfrm rot="534600">
            <a:off x="7929360" y="5157720"/>
            <a:ext cx="1214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Constantia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600720" cy="2736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3"/>
          <a:stretch/>
        </p:blipFill>
        <p:spPr>
          <a:xfrm>
            <a:off x="5076720" y="40464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4"/>
          <a:stretch/>
        </p:blipFill>
        <p:spPr>
          <a:xfrm>
            <a:off x="539640" y="3500280"/>
            <a:ext cx="3600720" cy="309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"/>
          <p:cNvPicPr/>
          <p:nvPr/>
        </p:nvPicPr>
        <p:blipFill>
          <a:blip r:embed="rId5"/>
          <a:stretch/>
        </p:blipFill>
        <p:spPr>
          <a:xfrm>
            <a:off x="5076720" y="3500280"/>
            <a:ext cx="3527640" cy="302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"/>
          <p:cNvPicPr/>
          <p:nvPr/>
        </p:nvPicPr>
        <p:blipFill>
          <a:blip r:embed="rId6"/>
          <a:stretch/>
        </p:blipFill>
        <p:spPr>
          <a:xfrm>
            <a:off x="2916360" y="1773360"/>
            <a:ext cx="2950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Constantia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 rot="20822400">
            <a:off x="306000" y="406080"/>
            <a:ext cx="3382920" cy="259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 rot="630600">
            <a:off x="5657760" y="260280"/>
            <a:ext cx="3259080" cy="259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 rot="724200">
            <a:off x="178920" y="3357720"/>
            <a:ext cx="3598920" cy="309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6"/>
          <a:stretch/>
        </p:blipFill>
        <p:spPr>
          <a:xfrm rot="20818800">
            <a:off x="5724360" y="3213000"/>
            <a:ext cx="3186360" cy="324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7"/>
          <a:stretch/>
        </p:blipFill>
        <p:spPr>
          <a:xfrm>
            <a:off x="3132000" y="3500280"/>
            <a:ext cx="2951280" cy="281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8"/>
          <a:stretch/>
        </p:blipFill>
        <p:spPr>
          <a:xfrm>
            <a:off x="3276720" y="62064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-387360"/>
            <a:ext cx="8183520" cy="216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рямоугольник 15"/>
          <p:cNvSpPr/>
          <p:nvPr/>
        </p:nvSpPr>
        <p:spPr>
          <a:xfrm>
            <a:off x="2987640" y="3284640"/>
            <a:ext cx="3214800" cy="33573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сты;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блюдение;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седы;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кетирование;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прос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Oval 9"/>
          <p:cNvSpPr/>
          <p:nvPr/>
        </p:nvSpPr>
        <p:spPr>
          <a:xfrm>
            <a:off x="539640" y="260280"/>
            <a:ext cx="8209080" cy="136836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аправления работы 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едагога –психолога с коллективом</a:t>
            </a:r>
            <a:endParaRPr b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2771640" y="1989000"/>
            <a:ext cx="3527640" cy="86364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диагностика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284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2"/>
              </a:rPr>
              <a:t>Диагностика  педагогического коллектива на изучение конфликтности, сплоченности, удовлетворенности своим трудом и оценки психологического климата</a:t>
            </a:r>
            <a:endParaRPr b="1" lang="en-US" sz="32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-387360"/>
            <a:ext cx="8183520" cy="216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Прямоугольник 16"/>
          <p:cNvSpPr/>
          <p:nvPr/>
        </p:nvSpPr>
        <p:spPr>
          <a:xfrm>
            <a:off x="324000" y="3357720"/>
            <a:ext cx="2643120" cy="32860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ндивидуальные занятия;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бота в малых группах;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ренинговые занятия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3357720" y="3357720"/>
            <a:ext cx="2714400" cy="32860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Индивидуальные  встречи;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рупповые мероприят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6500880" y="3357720"/>
            <a:ext cx="2357280" cy="32860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Стендовая информация;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минары-практикумы;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руглые столы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Oval 13"/>
          <p:cNvSpPr/>
          <p:nvPr/>
        </p:nvSpPr>
        <p:spPr>
          <a:xfrm>
            <a:off x="539640" y="260280"/>
            <a:ext cx="7920000" cy="115272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правления работы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едагога –психолога с коллективом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0" y="1557360"/>
            <a:ext cx="2843280" cy="122400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оррекционно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звивающая работа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3203640" y="1989000"/>
            <a:ext cx="2950920" cy="93672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сихологическое 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онсультирование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6372360" y="1628640"/>
            <a:ext cx="2771640" cy="1152720"/>
          </a:xfrm>
          <a:prstGeom prst="ellipse">
            <a:avLst/>
          </a:prstGeom>
          <a:solidFill>
            <a:srgbClr val="cc99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сихологическое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освещение и 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офилактика 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1:09:30Z</dcterms:created>
  <dc:creator>Admin</dc:creator>
  <dc:description/>
  <dc:language>en-US</dc:language>
  <cp:lastModifiedBy>Детский сад 53</cp:lastModifiedBy>
  <dcterms:modified xsi:type="dcterms:W3CDTF">2015-02-08T18:29:57Z</dcterms:modified>
  <cp:revision>42</cp:revision>
  <dc:subject/>
  <dc:title>Слайд 1</dc:title>
</cp:coreProperties>
</file>