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1C1-48DF-4B0E-9316-AD85732D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718-BBB8-4331-8C81-9BD0AE7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768-2E84-4D9D-8F75-9EA1F7E3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8EE-845A-4C5E-B305-68BAA1A8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F58-5221-4EEF-B35A-34BD3EB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C9D-4F5E-4414-8BEE-D502111D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A7C-AD8C-439A-81EA-61C44A31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6A3-C3B8-40DC-A9D7-7D55123A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3C1-7928-4F23-9B65-5A03D86A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686-F4CD-4E87-876E-2528495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048-7A28-4679-9EEA-9E55DA3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707-6156-47ED-82BB-61E17BF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675-7FF0-4269-9081-431572A92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cc"/>
                </a:solidFill>
                <a:latin typeface="Monotype Corsiva"/>
              </a:rPr>
              <a:t>ИМПРЕССИОН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Работа Новиковой Елены Борисовны, учителя МБОУ «СОШ № 48» города Пер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45916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3276720" cy="244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796000" y="3213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«Нана»,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651640" y="630864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«Морской пейзаж», 18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24000" y="333360"/>
            <a:ext cx="5040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 1874 - в год первой выставки импрессионистов, Мане едет в «малую столицу импрессионизма» Аржантей, где работают К.Моне и О.Ренуар. Мазок в его картинах становится более дробным, способным чутко улавливать и передавать нюансы изменчивой жизни природы. В «Нана» художник создает образ содержанки в духе романов З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Поздние прои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5840" y="981000"/>
            <a:ext cx="2718000" cy="30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911680" cy="324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3148200" cy="2351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5580000" y="3141720"/>
            <a:ext cx="278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988080" cy="4437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0" y="189000"/>
            <a:ext cx="450072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Синтезом предшествующих художественных исканий Мане явилась картина « Бар «Фоли –Бержер»(1881 -82). Скучающая барменша на фоне огромного зеркала, в котором отражается зал с посетителями, кажется одинокой среди великолепия разноцветных бутылок, цветов в бокале и фруктов в хрустальной вазе. Тема «выключенности» человека из среды и тут остается глав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ff"/>
                </a:solidFill>
                <a:latin typeface="Georgia"/>
              </a:rPr>
              <a:t>Дега Эдг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99ff"/>
                </a:solidFill>
                <a:latin typeface="Monotype Corsiva"/>
              </a:rPr>
              <a:t>Французский живописец, график и скульптор. Представитель импрессионизма. Картины отличаются динамичным восприятием современной жизни, со строго выверенной асимметричной композицией, гибким и точным рисунком, неожиданными ракурсами фиг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340000" y="981000"/>
            <a:ext cx="44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19 июля 1834— 27 сентября 1917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d03035i"/>
          <p:cNvPicPr/>
          <p:nvPr/>
        </p:nvPicPr>
        <p:blipFill>
          <a:blip r:embed="rId1"/>
          <a:stretch/>
        </p:blipFill>
        <p:spPr>
          <a:xfrm>
            <a:off x="4859280" y="1773360"/>
            <a:ext cx="336384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>
            <a:hlinkClick r:id="" action="ppaction://hlinkshowjump?jump=previousslide"/>
          </p:cNvPr>
          <p:cNvSpPr/>
          <p:nvPr/>
        </p:nvSpPr>
        <p:spPr>
          <a:xfrm>
            <a:off x="395280" y="189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8172360" y="18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ff"/>
                </a:solidFill>
                <a:latin typeface="Arial"/>
              </a:rPr>
              <a:t>Ранни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99ff"/>
                </a:solidFill>
                <a:latin typeface="Palatino Linotype"/>
              </a:rPr>
              <a:t>Дега блестящий рисовальщик, душа его искусства — линия, быстрая, точная, стремительная. Несколько штрихов бывает достаточно, чтобы схватить характерную позу, профессиональный жест: «Голубые танцовщицы» , «Оркестр опе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Голубые танцовщицы"/>
          <p:cNvPicPr/>
          <p:nvPr/>
        </p:nvPicPr>
        <p:blipFill>
          <a:blip r:embed="rId1"/>
          <a:stretch/>
        </p:blipFill>
        <p:spPr>
          <a:xfrm>
            <a:off x="755640" y="1773360"/>
            <a:ext cx="3689280" cy="41050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" action="ppaction://hlinkshowjump?jump=previousslide"/>
          </p:cNvPr>
          <p:cNvSpPr/>
          <p:nvPr/>
        </p:nvSpPr>
        <p:spPr>
          <a:xfrm>
            <a:off x="395280" y="189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>
            <a:hlinkClick r:id="" action="ppaction://hlinkshowjump?jump=nextslide"/>
          </p:cNvPr>
          <p:cNvSpPr/>
          <p:nvPr/>
        </p:nvSpPr>
        <p:spPr>
          <a:xfrm>
            <a:off x="8172360" y="18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a007a"/>
                </a:solidFill>
                <a:latin typeface="Monotype Corsiva"/>
              </a:rPr>
              <a:t>Цикл театральных ра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Он показывает все стороны театра: феерию и рутину,  красивые представления и утомительные репетиции. Он стремится передать мгновенное, неуловимое движение — отсюда его интерес к миру театра, кулис, балету, цирку: балерины, оркестр, азартные, ловкие жокеи, взволнованные толпы зр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578400" cy="3981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826920" y="5950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Красные танцовщицы;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Танцовщицы на поклонах"/>
          <p:cNvPicPr/>
          <p:nvPr/>
        </p:nvPicPr>
        <p:blipFill>
          <a:blip r:embed="rId1"/>
          <a:stretch/>
        </p:blipFill>
        <p:spPr>
          <a:xfrm>
            <a:off x="4211640" y="476280"/>
            <a:ext cx="3705120" cy="276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Танц класс"/>
          <p:cNvPicPr/>
          <p:nvPr/>
        </p:nvPicPr>
        <p:blipFill>
          <a:blip r:embed="rId2"/>
          <a:stretch/>
        </p:blipFill>
        <p:spPr>
          <a:xfrm>
            <a:off x="4356000" y="3789360"/>
            <a:ext cx="3489480" cy="260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Зеленые танцовщицы"/>
          <p:cNvPicPr/>
          <p:nvPr/>
        </p:nvPicPr>
        <p:blipFill>
          <a:blip r:embed="rId3"/>
          <a:stretch/>
        </p:blipFill>
        <p:spPr>
          <a:xfrm>
            <a:off x="324000" y="1557360"/>
            <a:ext cx="33429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Звезда балета"/>
          <p:cNvPicPr/>
          <p:nvPr/>
        </p:nvPicPr>
        <p:blipFill>
          <a:blip r:embed="rId1"/>
          <a:stretch/>
        </p:blipFill>
        <p:spPr>
          <a:xfrm>
            <a:off x="755640" y="1557360"/>
            <a:ext cx="3471840" cy="386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Оркестр"/>
          <p:cNvPicPr/>
          <p:nvPr/>
        </p:nvPicPr>
        <p:blipFill>
          <a:blip r:embed="rId2"/>
          <a:stretch/>
        </p:blipFill>
        <p:spPr>
          <a:xfrm>
            <a:off x="4643280" y="404640"/>
            <a:ext cx="252432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Урок танца"/>
          <p:cNvPicPr/>
          <p:nvPr/>
        </p:nvPicPr>
        <p:blipFill>
          <a:blip r:embed="rId3"/>
          <a:stretch/>
        </p:blipFill>
        <p:spPr>
          <a:xfrm>
            <a:off x="4572000" y="3500280"/>
            <a:ext cx="274464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Дега тонкий колорист, его пастели то гармоничные, светлые, то, напротив, построены на резких цветовых контрастах. Картины его кажутся случайно выхваченными из потока жизни сценами, но «случайность» эта — плод продуманной композиции, где срезанный фрагмент фигуры, здания подчеркивает непосредственность впечат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Мал девочка"/>
          <p:cNvPicPr/>
          <p:nvPr/>
        </p:nvPicPr>
        <p:blipFill>
          <a:blip r:embed="rId1"/>
          <a:stretch/>
        </p:blipFill>
        <p:spPr>
          <a:xfrm>
            <a:off x="4356000" y="1413000"/>
            <a:ext cx="4643640" cy="3466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5076720" y="515772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Маленькая девочка с бонной на пляже. 1876-1877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99ff"/>
                </a:solidFill>
                <a:latin typeface="Georgia"/>
              </a:rPr>
              <a:t>Поздни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ега много путешествовал по Франции, побывал в Бельгии, в Америке у родственников матери в Нью-Орлеане, но главное из его наблюдений – Пари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Здесь он создает знаменитый «Абсент» -  187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абсент"/>
          <p:cNvPicPr/>
          <p:nvPr/>
        </p:nvPicPr>
        <p:blipFill>
          <a:blip r:embed="rId1"/>
          <a:stretch/>
        </p:blipFill>
        <p:spPr>
          <a:xfrm>
            <a:off x="5076720" y="1916280"/>
            <a:ext cx="3213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ff"/>
                </a:solidFill>
                <a:latin typeface="Palatino Linotype"/>
              </a:rPr>
              <a:t>ИМПРЕССИОНИЗМ (от франц. impression — впечатление), направление в искусстве последней трети 19 — нач. 20 вв., представители которого стремились наиболее естественно и непредвзято запечатлеть реальный мир в его подвижности и изменчивости, передать свои мимолетные впечатления</a:t>
            </a:r>
            <a:r>
              <a:rPr b="1" i="1" lang="ru-RU" sz="2800" spc="-1" strike="noStrike">
                <a:solidFill>
                  <a:srgbClr val="333399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>
            <a:hlinkClick r:id="" action="ppaction://hlinkshowjump?jump=previousslide"/>
          </p:cNvPr>
          <p:cNvSpPr/>
          <p:nvPr/>
        </p:nvSpPr>
        <p:spPr>
          <a:xfrm>
            <a:off x="395280" y="189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>
            <a:hlinkClick r:id="" action="ppaction://hlinkshowjump?jump=nextslide"/>
          </p:cNvPr>
          <p:cNvSpPr/>
          <p:nvPr/>
        </p:nvSpPr>
        <p:spPr>
          <a:xfrm>
            <a:off x="8172360" y="189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ff"/>
                </a:solidFill>
                <a:latin typeface="Georgia"/>
              </a:rPr>
              <a:t>Мане Эдуард</a:t>
            </a:r>
            <a:br>
              <a:rPr sz="4000"/>
            </a:b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(23 января 1832— 30 апреля 1883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99ff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cc66ff"/>
                </a:solidFill>
                <a:latin typeface="Monotype Corsiva"/>
              </a:rPr>
              <a:t>Французский живописец. Один из основоположников импрессио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cc66ff"/>
                </a:solidFill>
                <a:latin typeface="Monotype Corsiva"/>
              </a:rPr>
              <a:t>Ранним работам Мане присущи свежесть и острота восприятия («Завтрак в мастерской», 1868; «Бар «Фоли-Бержер», 1881-1882 , «Аржантей», 1874, «Цвет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10536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4724280" y="1700280"/>
            <a:ext cx="3624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ff"/>
                </a:solidFill>
                <a:latin typeface="Monotype Corsiva"/>
                <a:ea typeface="Arial"/>
              </a:rPr>
              <a:t>Испанская 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Первое значительное произведение- картина «Любитель абсента»(1858-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 традициях старых мастеров исполнен и «Портрет родителей»(1860,Париж),выполненный как жанровая кар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Одновременно художник разрабатывает «испанскую тему», создает «Лолу из Валенсии»(1862)- портрет испанской артистки на фоне театральных кул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К «испанскому циклу» относятся также «Гитарерро» и «Викторина Меран в костюме эспа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5932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183280" y="57340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«Музыка в Тюильри»,                 1862, 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26920" y="1197000"/>
            <a:ext cx="33832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Увлечение испанской темой заметно ослабевает после поездки в Испанию в 1865. Картина «Музыка в Тюильри»- образ нарядно одетой толпы в оболочке бытового жан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«Завтрак на тра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ff"/>
                </a:solidFill>
                <a:latin typeface="Monotype Corsiva"/>
              </a:rPr>
              <a:t>В 1863 Мане пишет картину «Завтрак на траве», которая под названием «Купание» была выставлена в скандально известном Салоне отверженных, где экспонировались произведения, не принятые официальным жюри. Разрушая традиционные каноны бытовой живописи,отказываясь от четкой мотивировки,Мане воспользовался иконографическими мотивами картин Тициана, Ватто, Кур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189000"/>
            <a:ext cx="367344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В том же году Мане пишет «Олимпию». В представленном здесь образе обнаженной женщины на ложе( как и в «Завтраке на траве», это Викторина Меран, в ногах женщины помещена черная кошка- бодлеровский символ из «Цветов зла»), присутствуют и приметы нового времени- черты марионетки и фети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453708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235320" cy="36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330048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ff"/>
                </a:solidFill>
                <a:latin typeface="Monotype Corsiva"/>
              </a:rPr>
              <a:t>К примерам чистой живописи относятся «Флейтист» и «Христос и анге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627520" cy="39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39640" y="4365720"/>
            <a:ext cx="820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В1867 Мане строит собственный павильон на всемирной выставке в Париже, для которой он создает не без влияния Гойи картину «Расстрел императора Мексики Максимилиана», повествующую о бесславной кончине ставленника Наполеона</a:t>
            </a:r>
            <a:r>
              <a:rPr b="0" lang="en-US" sz="2800" spc="-1" strike="noStrike">
                <a:solidFill>
                  <a:srgbClr val="cc66ff"/>
                </a:solidFill>
                <a:latin typeface="Monotype Corsiva"/>
              </a:rPr>
              <a:t> III</a:t>
            </a:r>
            <a:r>
              <a:rPr b="0" lang="ru-RU" sz="2800" spc="-1" strike="noStrike">
                <a:solidFill>
                  <a:srgbClr val="cc66ff"/>
                </a:solidFill>
                <a:latin typeface="Monotype Corsiva"/>
              </a:rPr>
              <a:t> на мексиканский пре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3:41:00Z</dcterms:created>
  <dc:creator>PC User</dc:creator>
  <dc:description/>
  <dc:language>en-US</dc:language>
  <cp:lastModifiedBy>user</cp:lastModifiedBy>
  <dcterms:modified xsi:type="dcterms:W3CDTF">2015-02-08T14:50:07Z</dcterms:modified>
  <cp:revision>10</cp:revision>
  <dc:subject/>
  <dc:title>ИМПРЕССИОНИЗМ</dc:title>
</cp:coreProperties>
</file>