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9FE-36D2-4B7C-B2E6-1BD6C776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681-60CC-457C-9970-61B4FB4A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DB1-8F9C-4EE7-949C-38B54EEE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C92-BAB2-491E-ACC4-C4CDC848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C4F-7550-4CA7-A41F-33B8223C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017-525D-409B-B6F9-FF4FEAAD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318-B973-49A4-BCE3-22196047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FF8-74AF-4A69-A4DD-E26594C8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B7F-B131-40F7-98EC-1AF4BDD9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213-AC65-4B33-B4FE-F7F2AD2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009-0FAE-4844-972F-BC9AEFF3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DE1-95D0-44BC-8A1A-AD7BC6A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6EFC-B990-4ABB-AEA6-83C365960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219320" y="-360"/>
            <a:ext cx="69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йонный семинар  учителей биологии и химии Кайбицкого муниципального района 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абрь 2010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685800" y="1828800"/>
            <a:ext cx="8229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требительские свой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нтетически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ющих средст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440360" y="541008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ы: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Нигматзянов Аяз, Газимзянова Чулпан, Сибгатуллина Эн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ки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Зиннатуллин Рашид Абдулхак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 МОУ Чечкабская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1676520" y="0"/>
            <a:ext cx="5972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 анкетир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05120" y="542880"/>
          <a:ext cx="5410080" cy="6340680"/>
        </p:xfrm>
        <a:graphic>
          <a:graphicData uri="http://schemas.openxmlformats.org/drawingml/2006/table">
            <a:tbl>
              <a:tblPr/>
              <a:tblGrid>
                <a:gridCol w="4317840"/>
                <a:gridCol w="109224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опрос с вариантами от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ТРЕБ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. Какие стирал</a:t>
                      </a: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ные порошки  Вы используете наиболее часто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А) </a:t>
                      </a:r>
                      <a:r>
                        <a:rPr b="1" lang="en-US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Persil</a:t>
                      </a: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Б) </a:t>
                      </a:r>
                      <a:r>
                        <a:rPr b="1" lang="en-US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Lo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В) Пем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Г) Ari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Д) Ta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Е) Sor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Ж) Миф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З) Сар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2. Как часто вы стираете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а) раз в недел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б) более раза в недел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в) менее раза в недел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3. Сколько раз вы ополаскиваете отстиранное белье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а) 1 ра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б) 2 р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в) 3 р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4. Часто ли Вы используете ручную стирку для удаления пятен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а) ча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) 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) редк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Часто ли раздражается Ваша кожа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) ча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) 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) редк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зультаты опроса потреб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Arial"/>
              </a:rPr>
              <a:t>Большинство потребителей нашего села отдают предпочтение стиральным порошкам товарной мар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Ariel-38</a:t>
            </a:r>
            <a:r>
              <a:rPr b="0" lang="ru-RU" sz="3200" spc="-1" strike="noStrike">
                <a:solidFill>
                  <a:srgbClr val="00cc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Persil-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Sorti-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Arial"/>
              </a:rPr>
              <a:t>Миф-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04920" y="304920"/>
            <a:ext cx="4724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спериментальная часть работы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80880" y="86760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ы исследовали влияние наиболее часто используемых моющих средств . Для этого использовали различные виды тканей: хлопчатобумажные  2. Льняные; 3.Синтетические Их поместили на несколько минут в представленные для исследования порошки и замачивали на сутки : 1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iel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; 2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sil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; 3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rti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; 4. Ми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152280" y="304920"/>
            <a:ext cx="579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 исследований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28600" y="685800"/>
            <a:ext cx="87631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Ариель и Сорти- больше пен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1Хлопчато-бумаж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1.Ариель –остались розовые пятна от чер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2.Миф-остался фиолетовый отте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3.Сорти -Осталось пя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4.Персил-Осталось пя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Синтетическая тк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1.Ариель- пятно исчез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2 Персил-Пятно исчез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3.Сорти- пятно чуть-чуть остало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4.Миф- пятно чуть-чуть остало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Льняная тк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1.Ариель-пятно исчез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2. Миф-остался фиолетовый отте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3.Персил-остался фиолетовый отте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4.Сорти-пятно остало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53"/>
          <p:cNvSpPr txBox="1"/>
          <p:nvPr/>
        </p:nvSpPr>
        <p:spPr>
          <a:xfrm>
            <a:off x="228600" y="685800"/>
            <a:ext cx="8534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ияние замачивания на качество стир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523880"/>
          <a:ext cx="7620120" cy="5054760"/>
        </p:xfrm>
        <a:graphic>
          <a:graphicData uri="http://schemas.openxmlformats.org/drawingml/2006/table">
            <a:tbl>
              <a:tblPr/>
              <a:tblGrid>
                <a:gridCol w="1414440"/>
                <a:gridCol w="1675080"/>
                <a:gridCol w="2106360"/>
                <a:gridCol w="2424240"/>
              </a:tblGrid>
              <a:tr h="4197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ccff"/>
                          </a:solidFill>
                          <a:latin typeface="Arial"/>
                          <a:ea typeface="Arial"/>
                        </a:rPr>
                        <a:t>Поро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ff"/>
                          </a:solidFill>
                          <a:latin typeface="Arial"/>
                          <a:ea typeface="Arial"/>
                        </a:rPr>
                        <a:t>Тип тк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Хлопчато-бума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льня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синтет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Ar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 отбел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 синеватый отте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бел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Per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 отбел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 отбел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 отбел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Sor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 заметный сл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 заметный сл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ccff"/>
                          </a:solidFill>
                          <a:latin typeface="Arial"/>
                          <a:ea typeface="Arial"/>
                        </a:rPr>
                        <a:t>Ми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 заметный сл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 заметный сл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о изчез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762120" y="228600"/>
            <a:ext cx="1533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воды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41360" y="950760"/>
            <a:ext cx="7635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На основании проведенного опроса-исследовани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пришли к выводу, что в нашем селе в качестве наиболее эффективного стирального порошка  предпочитают Ариель, Персил, Сорти, и Ми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Результаты лабораторного исследования позволяют сделать вывод о том что потребительский спрос действительно совпадает лабораторными те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Наиболее часто употребляется Ариель- он и более качественно удаляет чернильное пятно. Персил занимает примерно такое же положение на местном рынке и довольно хорошо удаляет чернильное пя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Несколько хуже Сорти и Миф, но и они часто используются вероятно из–за относительно дешевизны проду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371600" y="304920"/>
            <a:ext cx="15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52280" y="9144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457200" y="56386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9" descr="C:\Users\Neo\Desktop\Новая папка\235.jpg"/>
          <p:cNvPicPr/>
          <p:nvPr/>
        </p:nvPicPr>
        <p:blipFill>
          <a:blip r:embed="rId1"/>
          <a:stretch/>
        </p:blipFill>
        <p:spPr>
          <a:xfrm>
            <a:off x="457200" y="0"/>
            <a:ext cx="8001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C:\Users\Neo\Desktop\Новая папка\1_big_00007160.jpg"/>
          <p:cNvPicPr/>
          <p:nvPr/>
        </p:nvPicPr>
        <p:blipFill>
          <a:blip r:embed="rId1"/>
          <a:stretch/>
        </p:blipFill>
        <p:spPr>
          <a:xfrm>
            <a:off x="685800" y="380880"/>
            <a:ext cx="27846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C:\Users\Neo\Desktop\Новая папка\1_image.jpg"/>
          <p:cNvPicPr/>
          <p:nvPr/>
        </p:nvPicPr>
        <p:blipFill>
          <a:blip r:embed="rId2"/>
          <a:stretch/>
        </p:blipFill>
        <p:spPr>
          <a:xfrm>
            <a:off x="66294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C:\Users\Neo\Desktop\Новая папка\10372_0.jpg"/>
          <p:cNvPicPr/>
          <p:nvPr/>
        </p:nvPicPr>
        <p:blipFill>
          <a:blip r:embed="rId3"/>
          <a:stretch/>
        </p:blipFill>
        <p:spPr>
          <a:xfrm>
            <a:off x="624852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C:\Users\Neo\Desktop\Новая папка\file18110.jpg"/>
          <p:cNvPicPr/>
          <p:nvPr/>
        </p:nvPicPr>
        <p:blipFill>
          <a:blip r:embed="rId4"/>
          <a:stretch/>
        </p:blipFill>
        <p:spPr>
          <a:xfrm>
            <a:off x="609480" y="3352680"/>
            <a:ext cx="2514600" cy="325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C:\Users\Neo\Desktop\Новая папка\235.jpg"/>
          <p:cNvPicPr/>
          <p:nvPr/>
        </p:nvPicPr>
        <p:blipFill>
          <a:blip r:embed="rId5"/>
          <a:stretch/>
        </p:blipFill>
        <p:spPr>
          <a:xfrm>
            <a:off x="2819520" y="1371600"/>
            <a:ext cx="45720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28600" y="533520"/>
            <a:ext cx="1600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80880" y="28195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80880" y="1064880"/>
            <a:ext cx="74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жно ли проверить экспериментально и подобрать наиболее эффективный стиральный порошок в условиях нашего с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80880" y="373176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знаешь  состав и свойства современных  СМС, можно подобрать наиболее оптимальные по цене и качеству СМС и сохранить здоровые кожные покр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380880" y="5335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13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7200" y="914400"/>
            <a:ext cx="713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ть, какое средство из современных СМСнаиболее эффективно отстирывает трудновыводимые пятна согласно типу ткани. И узнать, соответствует ли мнение потребителей об используемом порошке с результатами исслед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380880" y="2666880"/>
            <a:ext cx="1371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457200" y="342900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 Узнать марки наиболее часто  употребляемых порошков и исследовать, как они удаляют трудновыводимые пят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Соотнести результаты исследований влияния моющих средств  на трудновыводимые пятна и выбор потребителей и узнать, совпадают ли о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ный обз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Рудзитис. Ф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дман Химия -1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Интернет ресурсы(сайты рекламирующие СМ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Рекламные этикетки С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Мы все дома химики”- Г.А.Балуева “химия”197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Химия вокруг нас” Ю.Н.Кукушкин.-”высшая школа ” 19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228600" y="9907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380880" y="228600"/>
            <a:ext cx="45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оварные марки СМ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152280" y="1371600"/>
            <a:ext cx="6477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Pers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стиральный порошок нового поколения. В нем использована инновационная технология ScanSystem – интеллектуальная система удаления пятен. ScanSystem обнаруживает пятна на поверхности одежды и распознает их, а затем применяет компонент, который наиболее эффективно справляется с данным типом пятен. ScanSystem распознает и удаляет одно пятно за другим до тех пор, пока белье не станет ослепительно чисты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МИ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В состав стирального порошка Миф входит целый ряд компонентов, благодаря которым белье после стирки становится чистым и свежим. Так, например, в Мифе несколько типов поверхностно-активных веществ, которые отвечают за удаление общих загрязнений. Силикаты и цеолиты надежно защищают механизмы стиральной машины во время стирки и помогают остальным компонентам стирального порошка работать эффективнее, а энзимы удаляют сложные пятна, такие как кровь, молоко, шоколад, желток и другие. В состав Мифа также входят специальные отбеливатели – кислородсодержащий, оптический отбеливатели и фотоотбеливатель. Благодаря их действию сохраняются яркие, натуральные цвета тка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C:\Users\Neo\Desktop\Новая папка\10372_0.jpg"/>
          <p:cNvPicPr/>
          <p:nvPr/>
        </p:nvPicPr>
        <p:blipFill>
          <a:blip r:embed="rId1"/>
          <a:stretch/>
        </p:blipFill>
        <p:spPr>
          <a:xfrm>
            <a:off x="6858000" y="36576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Neo\Desktop\Новая папка\iCAXBLMMV.jpg"/>
          <p:cNvPicPr/>
          <p:nvPr/>
        </p:nvPicPr>
        <p:blipFill>
          <a:blip r:embed="rId2"/>
          <a:stretch/>
        </p:blipFill>
        <p:spPr>
          <a:xfrm>
            <a:off x="6781680" y="533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7" descr="C:\Users\Neo\Desktop\Новая папка\71107_1.jpg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C:\Users\Neo\Desktop\Новая папка\i.jpg"/>
          <p:cNvPicPr/>
          <p:nvPr/>
        </p:nvPicPr>
        <p:blipFill>
          <a:blip r:embed="rId2"/>
          <a:stretch/>
        </p:blipFill>
        <p:spPr>
          <a:xfrm>
            <a:off x="6781680" y="4419720"/>
            <a:ext cx="1371600" cy="2085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609480" y="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тиральный порошок Ариэль - и не просто чисто, а безупречно чист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мпания Procter &amp; Gamble постоянно обновляет и улучшает продукты Ariel, так что хозяйкам не нужно застирывать, замачивать, отбеливать, применять дополнительные средства. Задача Ariel - сохранить время и силы хозяек, предоставляя безупречный результат стирки с первого раза. Стиральные порошки Ariel заботятся о чистоте и сохранности вещей, помогая защитить волокна ткани от истирания и изнашивания. В состав продуктов Ariel входят фосфаты, цеолиты, лимонная кислота, позволяющие защитить стиральную машину от накип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990720" y="396252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Потребительские качества SORTI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Высокая отстирывающая и отбеливающая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Бережно относится к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Содержит вещества, препятствующие образованию накип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Обладает нежным ароматом све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Arial"/>
              </a:rPr>
              <a:t>Яркий запоминающийся дизай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990720" y="60948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одика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19320" y="175140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. Анализ литера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. Проведение опро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. Исследование этикеток стиральных порошков и проведение химических опы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. Анализ полученны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52280" y="380880"/>
            <a:ext cx="3429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од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80880" y="10645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"/>
              </a:rPr>
              <a:t>В течение некоторого времени исследовались этикетки стиральных порошков. Предпочтение отдавалось наиболее часто покупаемым маркам моющих средст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80880" y="324324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 целью изучения наиболее предпочитаемых марок стиральных порошков на трудновыводимые пятна,  и их влияния на кожу рук мы провели анкетирование среди учащихся 9-11х классов и среди родителей. В опросе участвовало 30 человек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таблице приведены полученные данные в процентном соотнош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SHID</cp:lastModifiedBy>
  <dcterms:modified xsi:type="dcterms:W3CDTF">2015-02-08T17:10:44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