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DE5C-EA01-4452-BACF-C62DFD4E4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877E-3D5D-42EF-A3FE-FD44069C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DCC4-8D32-43FA-9DA9-E572D28E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7553-71B1-4768-80B2-4B76F5CA4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07D7-AB7B-4957-AAB7-3F43524A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0843-17E1-47A5-AB1F-ED92557E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785B-56B6-48CA-A163-2F7F3311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9427-4B50-4CD7-9A78-08DF8C71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316A-815E-42AC-8EA0-A1944D6C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AE03-550D-44B5-A175-AAA218EA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F71C-52A8-44AF-8147-DC56B02A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0E22-C896-45F4-A35D-5C858BE3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E752-E15C-4884-8C80-62AF6B1203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219320" y="-360"/>
            <a:ext cx="69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йонный семинар  учителей биологии и химии Кайбицкого муниципального района Р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кабрь 2010 год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8"/>
          <p:cNvSpPr txBox="1"/>
          <p:nvPr/>
        </p:nvSpPr>
        <p:spPr>
          <a:xfrm>
            <a:off x="685800" y="1828800"/>
            <a:ext cx="8229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требительские свойст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интетически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ющих средств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1440360" y="5410080"/>
            <a:ext cx="778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ы: </a:t>
            </a: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Нигматзянов Аяз, Газимзянова Чулпан, Сибгатуллина Эн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еники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ководитель: Зиннатуллин Рашид Абдулхак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химии МОУ Чечкабская СО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>
            <a:off x="1676520" y="0"/>
            <a:ext cx="5972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зультаты анкетирования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905120" y="542880"/>
          <a:ext cx="5410080" cy="6340680"/>
        </p:xfrm>
        <a:graphic>
          <a:graphicData uri="http://schemas.openxmlformats.org/drawingml/2006/table">
            <a:tbl>
              <a:tblPr/>
              <a:tblGrid>
                <a:gridCol w="4317840"/>
                <a:gridCol w="1092240"/>
              </a:tblGrid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опрос с вариантами отве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ТРЕБИТЕ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1. Какие стирал</a:t>
                      </a: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r>
                        <a:rPr b="1" lang="tt-RU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ные порошки  Вы используете наиболее часто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А) </a:t>
                      </a:r>
                      <a:r>
                        <a:rPr b="1" lang="en-US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Persil</a:t>
                      </a: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Б) </a:t>
                      </a:r>
                      <a:r>
                        <a:rPr b="1" lang="en-US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Los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В) Пемо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Г) Ari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Д) Ta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Е) Sor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Ж) Миф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З) Сар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2. Как часто вы стираете?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а) раз в недел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б) более раза в недел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в) менее раза в недел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3. Сколько раз вы ополаскиваете отстиранное белье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а) 1 ра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б) 2 ра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в) 3 ра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4. Часто ли Вы используете ручную стирку для удаления пятен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а) част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) иног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) редк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Часто ли раздражается Ваша кожа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) част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) иног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) редк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езультаты опроса потреб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ff"/>
                </a:solidFill>
                <a:latin typeface="Arial"/>
              </a:rPr>
              <a:t>Большинство потребителей нашего села отдают предпочтение стиральным порошкам товарной марк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"/>
              </a:rPr>
              <a:t>Ariel-38</a:t>
            </a:r>
            <a:r>
              <a:rPr b="0" lang="ru-RU" sz="3200" spc="-1" strike="noStrike">
                <a:solidFill>
                  <a:srgbClr val="00ccff"/>
                </a:solidFill>
                <a:latin typeface="Arial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ccff"/>
                </a:solidFill>
                <a:latin typeface="Arial"/>
              </a:rPr>
              <a:t>Persil-2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"/>
              </a:rPr>
              <a:t>Sorti-2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ff"/>
                </a:solidFill>
                <a:latin typeface="Arial"/>
              </a:rPr>
              <a:t>Миф-2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04920" y="304920"/>
            <a:ext cx="4724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кспериментальная часть работы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380880" y="867600"/>
            <a:ext cx="8209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Мы исследовали влияние наиболее часто используемых моющих средств . Для этого использовали различные виды тканей: хлопчатобумажные  2. Льняные; 3.Синтетические Их поместили на несколько минут в представленные для исследования порошки и замачивали на сутки : 1.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iel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; 2.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ersil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; 3.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rti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; 4. Ми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4"/>
          <p:cNvSpPr txBox="1"/>
          <p:nvPr/>
        </p:nvSpPr>
        <p:spPr>
          <a:xfrm>
            <a:off x="152280" y="304920"/>
            <a:ext cx="5791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зультаты исследований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228600" y="685800"/>
            <a:ext cx="87631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Ариель и Сорти- больше пен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1Хлопчато-бумаж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1.Ариель –остались розовые пятна от черн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2.Миф-остался фиолетовый оттен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3.Сорти -Осталось пят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4.Персил-Осталось пят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Синтетическая тка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1.Ариель- пятно исчез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2 Персил-Пятно исчез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3.Сорти- пятно чуть-чуть осталос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4.Миф- пятно чуть-чуть осталос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Льняная тка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1.Ариель-пятно исчез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2. Миф-остался фиолетовый оттен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3.Персил-остался фиолетовый оттен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4.Сорти-пятно осталос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253"/>
          <p:cNvSpPr txBox="1"/>
          <p:nvPr/>
        </p:nvSpPr>
        <p:spPr>
          <a:xfrm>
            <a:off x="228600" y="685800"/>
            <a:ext cx="85345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лияние замачивания на качество стирк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523880"/>
          <a:ext cx="7620120" cy="5054760"/>
        </p:xfrm>
        <a:graphic>
          <a:graphicData uri="http://schemas.openxmlformats.org/drawingml/2006/table">
            <a:tbl>
              <a:tblPr/>
              <a:tblGrid>
                <a:gridCol w="1414440"/>
                <a:gridCol w="1675080"/>
                <a:gridCol w="2106360"/>
                <a:gridCol w="2424240"/>
              </a:tblGrid>
              <a:tr h="4197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ccff"/>
                          </a:solidFill>
                          <a:latin typeface="Arial"/>
                          <a:ea typeface="Arial"/>
                        </a:rPr>
                        <a:t>Порош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ff"/>
                          </a:solidFill>
                          <a:latin typeface="Arial"/>
                          <a:ea typeface="Arial"/>
                        </a:rPr>
                        <a:t>Тип тк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Хлопчато-бумаж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льнян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синтетиче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Ar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ятно изчезло отбелила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ятно изчезло синеватый оттен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ятно изчез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белила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Pers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ятно изчезло отбелила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ятно изчезло отбелила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ятно изчезло отбелила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Sor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ле заметный сл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ле заметный сл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ятно изчез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ccff"/>
                          </a:solidFill>
                          <a:latin typeface="Arial"/>
                          <a:ea typeface="Arial"/>
                        </a:rPr>
                        <a:t>Ми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ле заметный сл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ле заметный сл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ятно изчез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>
            <a:off x="762120" y="228600"/>
            <a:ext cx="1533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воды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441360" y="950760"/>
            <a:ext cx="7635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"/>
              </a:rPr>
              <a:t>На основании проведенного опроса-исследования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"/>
              </a:rPr>
              <a:t>пришли к выводу, что в нашем селе в качестве наиболее эффективного стирального порошка  предпочитают Ариель, Персил, Сорти, и Ми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"/>
              </a:rPr>
              <a:t>Результаты лабораторного исследования позволяют сделать вывод о том что потребительский спрос действительно совпадает лабораторными тес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"/>
              </a:rPr>
              <a:t>Наиболее часто употребляется Ариель- он и более качественно удаляет чернильное пятно. Персил занимает примерно такое же положение на местном рынке и довольно хорошо удаляет чернильное пя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"/>
              </a:rPr>
              <a:t>Несколько хуже Сорти и Миф, но и они часто используются вероятно из–за относительно дешевизны проду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1371600" y="304920"/>
            <a:ext cx="1533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52280" y="9144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3"/>
          <p:cNvSpPr/>
          <p:nvPr/>
        </p:nvSpPr>
        <p:spPr>
          <a:xfrm>
            <a:off x="457200" y="56386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9" descr="C:\Users\Neo\Desktop\Новая папка\235.jpg"/>
          <p:cNvPicPr/>
          <p:nvPr/>
        </p:nvPicPr>
        <p:blipFill>
          <a:blip r:embed="rId1"/>
          <a:stretch/>
        </p:blipFill>
        <p:spPr>
          <a:xfrm>
            <a:off x="457200" y="0"/>
            <a:ext cx="800100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3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1" descr="C:\Users\Neo\Desktop\Новая папка\1_big_00007160.jpg"/>
          <p:cNvPicPr/>
          <p:nvPr/>
        </p:nvPicPr>
        <p:blipFill>
          <a:blip r:embed="rId1"/>
          <a:stretch/>
        </p:blipFill>
        <p:spPr>
          <a:xfrm>
            <a:off x="685800" y="380880"/>
            <a:ext cx="2784600" cy="2514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C:\Users\Neo\Desktop\Новая папка\1_image.jpg"/>
          <p:cNvPicPr/>
          <p:nvPr/>
        </p:nvPicPr>
        <p:blipFill>
          <a:blip r:embed="rId2"/>
          <a:stretch/>
        </p:blipFill>
        <p:spPr>
          <a:xfrm>
            <a:off x="6629400" y="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C:\Users\Neo\Desktop\Новая папка\10372_0.jpg"/>
          <p:cNvPicPr/>
          <p:nvPr/>
        </p:nvPicPr>
        <p:blipFill>
          <a:blip r:embed="rId3"/>
          <a:stretch/>
        </p:blipFill>
        <p:spPr>
          <a:xfrm>
            <a:off x="6248520" y="41911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C:\Users\Neo\Desktop\Новая папка\file18110.jpg"/>
          <p:cNvPicPr/>
          <p:nvPr/>
        </p:nvPicPr>
        <p:blipFill>
          <a:blip r:embed="rId4"/>
          <a:stretch/>
        </p:blipFill>
        <p:spPr>
          <a:xfrm>
            <a:off x="609480" y="3352680"/>
            <a:ext cx="2514600" cy="3252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C:\Users\Neo\Desktop\Новая папка\235.jpg"/>
          <p:cNvPicPr/>
          <p:nvPr/>
        </p:nvPicPr>
        <p:blipFill>
          <a:blip r:embed="rId5"/>
          <a:stretch/>
        </p:blipFill>
        <p:spPr>
          <a:xfrm>
            <a:off x="2819520" y="1371600"/>
            <a:ext cx="457200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228600" y="533520"/>
            <a:ext cx="16002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блема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380880" y="2819520"/>
            <a:ext cx="18288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ипотеза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380880" y="1064880"/>
            <a:ext cx="74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жно ли проверить экспериментально и подобрать наиболее эффективный стиральный порошок в условиях нашего се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380880" y="373176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знаешь  состав и свойства современных  СМС, можно подобрать наиболее оптимальные по цене и качеству СМС и сохранить здоровые кожные покро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4"/>
          <p:cNvSpPr txBox="1"/>
          <p:nvPr/>
        </p:nvSpPr>
        <p:spPr>
          <a:xfrm>
            <a:off x="380880" y="53352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ель: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41360" y="874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457200" y="914400"/>
            <a:ext cx="7137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знать, какое средство из современных СМСнаиболее эффективно отстирывает трудновыводимые пятна согласно типу ткани. И узнать, соответствует ли мнение потребителей об используемом порошке с результатами исследов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9"/>
          <p:cNvSpPr txBox="1"/>
          <p:nvPr/>
        </p:nvSpPr>
        <p:spPr>
          <a:xfrm>
            <a:off x="380880" y="2666880"/>
            <a:ext cx="13716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дачи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457200" y="3429000"/>
            <a:ext cx="830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  Узнать марки наиболее часто  употребляемых порошков и исследовать, как они удаляют трудновыводимые пят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Соотнести результаты исследований влияния моющих средств  на трудновыводимые пятна и выбор потребителей и узнать, совпадают ли о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тературный обз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Рудзитис. Фе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дман Химия -11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Интернет ресурсы(сайты рекламирующие СМ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Рекламные этикетки СМ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Мы все дома химики”- Г.А.Балуева “химия”1979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Химия вокруг нас” Ю.Н.Кукушкин.-”высшая школа ” 19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228600" y="990720"/>
            <a:ext cx="861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5"/>
          <p:cNvSpPr txBox="1"/>
          <p:nvPr/>
        </p:nvSpPr>
        <p:spPr>
          <a:xfrm>
            <a:off x="380880" y="228600"/>
            <a:ext cx="457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оварные марки СМ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152280" y="1371600"/>
            <a:ext cx="647712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Pers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стиральный порошок нового поколения. В нем использована инновационная технология ScanSystem – интеллектуальная система удаления пятен. ScanSystem обнаруживает пятна на поверхности одежды и распознает их, а затем применяет компонент, который наиболее эффективно справляется с данным типом пятен. ScanSystem распознает и удаляет одно пятно за другим до тех пор, пока белье не станет ослепительно чисты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МИ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В состав стирального порошка Миф входит целый ряд компонентов, благодаря которым белье после стирки становится чистым и свежим. Так, например, в Мифе несколько типов поверхностно-активных веществ, которые отвечают за удаление общих загрязнений. Силикаты и цеолиты надежно защищают механизмы стиральной машины во время стирки и помогают остальным компонентам стирального порошка работать эффективнее, а энзимы удаляют сложные пятна, такие как кровь, молоко, шоколад, желток и другие. В состав Мифа также входят специальные отбеливатели – кислородсодержащий, оптический отбеливатели и фотоотбеливатель. Благодаря их действию сохраняются яркие, натуральные цвета тка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1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2" descr="C:\Users\Neo\Desktop\Новая папка\10372_0.jpg"/>
          <p:cNvPicPr/>
          <p:nvPr/>
        </p:nvPicPr>
        <p:blipFill>
          <a:blip r:embed="rId1"/>
          <a:stretch/>
        </p:blipFill>
        <p:spPr>
          <a:xfrm>
            <a:off x="6858000" y="36576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C:\Users\Neo\Desktop\Новая папка\iCAXBLMMV.jpg"/>
          <p:cNvPicPr/>
          <p:nvPr/>
        </p:nvPicPr>
        <p:blipFill>
          <a:blip r:embed="rId2"/>
          <a:stretch/>
        </p:blipFill>
        <p:spPr>
          <a:xfrm>
            <a:off x="6781680" y="5335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7" descr="C:\Users\Neo\Desktop\Новая папка\71107_1.jpg"/>
          <p:cNvPicPr/>
          <p:nvPr/>
        </p:nvPicPr>
        <p:blipFill>
          <a:blip r:embed="rId1"/>
          <a:stretch/>
        </p:blipFill>
        <p:spPr>
          <a:xfrm>
            <a:off x="7238880" y="228600"/>
            <a:ext cx="1905120" cy="2057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9" descr="C:\Users\Neo\Desktop\Новая папка\i.jpg"/>
          <p:cNvPicPr/>
          <p:nvPr/>
        </p:nvPicPr>
        <p:blipFill>
          <a:blip r:embed="rId2"/>
          <a:stretch/>
        </p:blipFill>
        <p:spPr>
          <a:xfrm>
            <a:off x="6781680" y="4419720"/>
            <a:ext cx="1371600" cy="20858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609480" y="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тиральный порошок Ариэль - и не просто чисто, а безупречно чисто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Компания Procter &amp; Gamble постоянно обновляет и улучшает продукты Ariel, так что хозяйкам не нужно застирывать, замачивать, отбеливать, применять дополнительные средства. Задача Ariel - сохранить время и силы хозяек, предоставляя безупречный результат стирки с первого раза. Стиральные порошки Ariel заботятся о чистоте и сохранности вещей, помогая защитить волокна ткани от истирания и изнашивания. В состав продуктов Ariel входят фосфаты, цеолиты, лимонная кислота, позволяющие защитить стиральную машину от накип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990720" y="3962520"/>
            <a:ext cx="533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Потребительские качества SORTI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Высокая отстирывающая и отбеливающая способ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Бережно относится к тка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Содержит вещества, препятствующие образованию накип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Обладает нежным ароматом свеже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Яркий запоминающийся дизай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990720" y="609480"/>
            <a:ext cx="7010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етодика исследования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19320" y="1751400"/>
            <a:ext cx="7086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. Анализ литерату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2. Проведение опрос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3. Исследование этикеток стиральных порошков и проведение химических опы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4. Анализ полученных да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4"/>
          <p:cNvSpPr txBox="1"/>
          <p:nvPr/>
        </p:nvSpPr>
        <p:spPr>
          <a:xfrm>
            <a:off x="152280" y="380880"/>
            <a:ext cx="3429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од исследования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380880" y="1064520"/>
            <a:ext cx="838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"/>
              </a:rPr>
              <a:t>В течение некоторого времени исследовались этикетки стиральных порошков. Предпочтение отдавалось наиболее часто покупаемым маркам моющих средств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380880" y="3243240"/>
            <a:ext cx="8305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 целью изучения наиболее предпочитаемых марок стиральных порошков на трудновыводимые пятна,  и их влияния на кожу рук мы провели анкетирование среди учащихся 9-11х классов и среди родителей. В опросе участвовало 30 человек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 таблице приведены полученные данные в процентном соотнош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SHID</cp:lastModifiedBy>
  <dcterms:modified xsi:type="dcterms:W3CDTF">2015-02-08T17:10:44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