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C00-C35F-42B8-B93A-BFD67826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18F-D04A-4562-893C-539969BA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922-C975-43DC-B586-8C2694B0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B79-8E08-46B8-B077-F87713F8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2E500-9F6A-4F5A-BC65-D26FBF53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07892-D693-414A-89E5-B0459D57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DECD7-41C7-4037-AD14-2F1539A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90382-66B7-42C8-915A-A9C45A9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674A8-B364-436D-995D-D81D355A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5ED09-2452-425A-8DEA-0516458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CADC4-5860-4142-884E-7AA600B0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342-E44B-48DA-B916-0DC5938D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1712E-C140-4311-97BA-43A4301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B1F25-C61F-4DB3-9F14-C1C199AE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B0D09-0468-475A-A43F-5B56EA1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0676-546D-4ECA-BCF6-1D3F4178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BBE83-B2B3-44BE-8484-2E2B489A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6AF-ECA7-4987-ACD0-80DC446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688-189C-4BA1-9B62-5EA5FB63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B83-A3A4-403E-A583-51BC10FC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F6E-A3EC-4507-9298-CECFD72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2BF-5168-4AD1-8FB7-89FEE3B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CA2-8C18-401E-8353-97878CB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64B-6A53-4DE5-A51C-906491A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9866-7C9E-48A6-97B0-9D08E8EF7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23C-D72A-4440-B712-67ED2BA83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e3e3ff"/>
                </a:solidFill>
                <a:latin typeface="Arial Rounded MT Bold"/>
              </a:rPr>
              <a:t>Как стали печатать книги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58920" y="573408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ван Фёдор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графические данные об Иване Фёдорове крайне  скудны. В 1550-х годах он был дьяконом церкви Николы Гостунского в Московском Кремле. Вместе с Петром Мстиславцем напечатал первую книгу  - Апосто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же во Львове выпустил новое издание Апостола ив том же году напечатал Азбуку – первый печатный восточнославянский учебн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75 году Ивана Фёдорова пригласил на службу князь К.К.Острожский. Там Фёдоров основал Острожскую типографию, где выпустил новое издание Азбуки, а затем Псалтирь, Новый Завет и первую печатную восточнославянскую Библию (Острожская Библи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трожская Библия была издана большим для того времени тиражом – 1500 экземпляров. Книга распространялась в Литве, Белоруссии и на Украине. Часть тиража отправили в Москву. Несколько экземпляров от князя К.К.Острожского получил Иван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настоящее время сохранилось 232 экземпляра этой кни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всякое новшество, книгопечатание было встречено в Москве с испугом и непониманием. Книгопечатников стали обвинять в колдов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Федоров и Мстиславец ушли в Речь Посполитую, где во Львове продолжали печатание русских книг, не замерло печатное дело и в Москве. На Печатном дворе трудились Никифор Тарасиев, Андроник Тимофеев - Невежа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6897600" cy="666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185840" y="5516640"/>
            <a:ext cx="6915240" cy="825480"/>
          </a:xfrm>
          <a:prstGeom prst="rect">
            <a:avLst/>
          </a:prstGeom>
          <a:solidFill>
            <a:srgbClr val="00ff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мятник первопечатнику Ивану Фёдорову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ульптор С.Волну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зентацию подготовил учитель русского языка и литературы МБОУ Страшевичская СО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уканова Т.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у в русской письменности господствовала скоропись. Писцы стали зарабатывать себе на жизнь своим умением составлять документы для неграмотных. Подъячие устраивались на городских площадях и за плату составляли нужную бумагу. В Москве таких подъячих было много на Ивановской площади в Крем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кипела работа, люди диктовали писцам, подъячие громко зазывали к себе народ. Отсюда и пошла поговорка: «Кричать во всю ивановску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вую букву каждого абзаца рисовали с помощью кисточки красной краской – вспомним выражение «писать с красной стро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один год уходил на переписку книги. Потом листы сшивали и «одевали» в деревянные переплёты, обтянутые кожей, украшенные драгоценными камнями. С тех времён сохранились в русском языке выражения: «прочесть книгу от доски до  доски», «написано пером – не вырубишь топором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ые опыты печатания книг были предприняты в Китае в 1041-1048 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е немец Иоган Гутенберг придумал металлические литеры (буквы). Из них мастер набирал строки, покрывал их краской и с помощью пресса получал оттиск букв на бумаге. Книгопечатание быстро распространилось в Европ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ую славянскую типографию создал в Литве в 20-е год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Франциск Ско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ые попытки печатать книги в Москве были предприняты в окружении Сильвестра  - духовника Иван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50-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 годы действовала так называемая анонимная типография. Сохранилось несколько напечатанных в ней кни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563 – 1564 гг. Иван Фёдоров (это не фамилия, а отчество) и его помощник Петр Мстиславец создали Печатный двор в Москве . Первой книгой был «Апостол». На её создание ушёл год, зато вторая книга была отпечатана всего за два меся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0" t="5750" r="0" b="0"/>
          <a:stretch/>
        </p:blipFill>
        <p:spPr>
          <a:xfrm>
            <a:off x="0" y="1890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611280" y="5626080"/>
            <a:ext cx="75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постол Лу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2:49:45Z</dcterms:created>
  <dc:creator>Admin</dc:creator>
  <dc:description/>
  <dc:language>en-US</dc:language>
  <cp:lastModifiedBy>Athlon</cp:lastModifiedBy>
  <dcterms:modified xsi:type="dcterms:W3CDTF">2015-02-08T13:30:57Z</dcterms:modified>
  <cp:revision>10</cp:revision>
  <dc:subject/>
  <dc:title>   Как стали печатать книги</dc:title>
</cp:coreProperties>
</file>