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E9C-562F-4531-B36D-0B467047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A21-8B00-4B51-803D-489069C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321-4289-463E-AC0F-36496C4E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257-3FD8-4681-96A7-1458761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95AF8-8B19-48FA-8C2F-F83FCB8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71AE-3EE4-4ACA-B5E9-D8ECA2F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4E11-95F2-4785-87B1-DBABD60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1678-A233-44ED-B951-42C6275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AEED-B650-4FDA-BB29-9D5A8DCE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DA50-5C72-4039-AF13-E1EFF514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49BD2-F397-43B2-BF82-61F0C49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7D3-3B87-4D5D-9C95-0CDF594D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42391-E695-459C-BA82-548A937D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BCCF-7956-45EC-AEA3-5140308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0D099-DC89-4183-B5B2-01A5DD1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8364-1762-4F75-8469-2DE2C305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9D05B-CFDF-41FD-82B3-FE5C6D16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5C2-A3BB-4B4F-A208-1FF40819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BE0-9E9F-418F-BEA9-82AA589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F5F-80D7-495B-A00F-AA000C93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15B-EA85-42B2-87C8-F6065E7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75A-D65F-4684-8571-99C5A83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F97-069A-4C34-8BDB-8C5A20B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D81-F3AE-494B-80C2-CF89FDE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752F-1882-4F9E-86EA-C2B60A9B6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AF80-CE03-49E0-A5E9-B9C6F3AC63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1" lang="ru-RU" sz="9600" spc="-1" strike="noStrike">
                <a:solidFill>
                  <a:srgbClr val="e3e3ff"/>
                </a:solidFill>
                <a:latin typeface="Arial Rounded MT Bold"/>
              </a:rPr>
              <a:t>Как стали печатать книги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58920" y="573408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ван Фёдо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графические данные об Иване Фёдорове крайне  скудны. В 1550-х годах он был дьяконом церкви Николы Гостунского в Московском Кремле. Вместе с Петром Мстиславцем напечатал первую книгу  - Апосто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же во Львове выпустил новое издание Апостола ив том же году напечатал Азбуку – первый печатный восточнославянский учебн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75 году Ивана Фёдорова пригласил на службу князь К.К.Острожский. Там Фёдоров основал Острожскую типографию, где выпустил новое издание Азбуки, а затем Псалтирь, Новый Завет и первую печатную восточнославянскую Библию (Острожская Библи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трожская Библия была издана большим для того времени тиражом – 1500 экземпляров. Книга распространялась в Литве, Белоруссии и на Украине. Часть тиража отправили в Москву. Несколько экземпляров от князя К.К.Острожского получил Иван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стоящее время сохранилось 232 экземпляра этой кни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всякое новшество, книгопечатание было встречено в Москве с испугом и непониманием. Книгопечатников стали обвинять в колдов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Федоров и Мстиславец ушли в Речь Посполитую, где во Львове продолжали печатание русских книг, не замерло печатное дело и в Москве. На Печатном дворе трудились Никифор Тарасиев, Андроник Тимофеев - Невежа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116000" y="0"/>
            <a:ext cx="6897600" cy="666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185840" y="5516640"/>
            <a:ext cx="6915240" cy="825480"/>
          </a:xfrm>
          <a:prstGeom prst="rect">
            <a:avLst/>
          </a:prstGeom>
          <a:solidFill>
            <a:srgbClr val="00ff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мятник первопечатнику Ивану Фёдоров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ульптор С.Волну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зентацию подготовил учитель русского языка и литературы МБОУ Страшевичская СО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уканова Т.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у в русской письменности господствовала скоропись. Писцы стали зарабатывать себе на жизнь своим умением составлять документы для неграмотных. Подъячие устраивались на городских площадях и за плату составляли нужную бумагу. В Москве таких подъячих было много на Ивановской площади в Крем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кипела работа, люди диктовали писцам, подъячие громко зазывали к себе народ. Отсюда и пошла поговорка: «Кричать во всю ивановскую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ую букву каждого абзаца рисовали с помощью кисточки красной краской – вспомним выражение «писать с красной стро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один год уходил на переписку книги. Потом листы сшивали и «одевали» в деревянные переплёты, обтянутые кожей, украшенные драгоценными камнями. С тех времён сохранились в русском языке выражения: «прочесть книгу от доски до  доски», «написано пером – не вырубишь топором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ые опыты печатания книг были предприняты в Китае в 1041-1048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е немец Иоган Гутенберг придумал металлические литеры (буквы). Из них мастер набирал строки, покрывал их краской и с помощью пресса получал оттиск букв на бумаге. Книгопечатание быстро распространилось в Европ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ую славянскую типографию создал в Литве в 20-е год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Франциск Ско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ые попытки печатать книги в Москве были предприняты в окружении Сильвестра  - духовника Иван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50-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 годы действовала так называемая анонимная типография. Сохранилось несколько напечатанных в ней кни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563 – 1564 гг. Иван Фёдоров (это не фамилия, а отчество) и его помощник Петр Мстиславец создали Печатный двор в Москве . Первой книгой был «Апостол». На её создание ушёл год, зато вторая книга была отпечатана всего за два меся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0" t="5750" r="0" b="0"/>
          <a:stretch/>
        </p:blipFill>
        <p:spPr>
          <a:xfrm>
            <a:off x="0" y="18900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611280" y="5626080"/>
            <a:ext cx="75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постол Лу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49:45Z</dcterms:created>
  <dc:creator>Admin</dc:creator>
  <dc:description/>
  <dc:language>en-US</dc:language>
  <cp:lastModifiedBy>Athlon</cp:lastModifiedBy>
  <dcterms:modified xsi:type="dcterms:W3CDTF">2015-02-08T13:30:57Z</dcterms:modified>
  <cp:revision>10</cp:revision>
  <dc:subject/>
  <dc:title>   Как стали печатать книги</dc:title>
</cp:coreProperties>
</file>