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D2E-71B0-477F-882A-3140E424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3A6-9B0C-40DE-8CFA-21DDF4D3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7A5-CC75-4256-B4EB-9659AA03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1F0-29F5-4597-9E24-E0C4E3DC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689-8CAD-46C2-9541-7334D0C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C75-EEFB-404F-84D4-3B2E1C2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7AE-B087-46D3-A6D2-0944534C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614-0045-44C0-8389-23DC9099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32B-5A8E-4D12-9173-1DB5701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A3A-B647-469F-B153-E02F313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18A-8290-48DC-9242-6354D3D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684-7895-4976-BCA1-A85CBCB1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0801-4348-4269-BB04-AC011348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время года изобразил худож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5185080" cy="348300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532400" y="0"/>
            <a:ext cx="46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Шишкин Утро в сосновом л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318360" cy="452592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484360" y="1890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eghel the Eld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ники на снегу (Февра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5800" y="573408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еревьях нет листьев. Вдалеке озеро, оно замерз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люди катаются на коньках. Конечно же это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860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есна - большая вода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5043240" cy="547200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58760" y="618480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ег растаял, очень много воды, на деревьях пока еще нет листьев. Это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201080" cy="535644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5005440" y="18900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Цветущие яблони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3640" y="616572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о совсем тепло, зацвели яблони, появилась травка.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350200" cy="495468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409000" y="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ерёзовая роща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093000"/>
            <a:ext cx="86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сный день, жарко, трава зеленая, листья на  березках тоже  зеленые – это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545000" cy="540072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464000" y="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. П. Брюл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альянский пол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2720" y="6237360"/>
            <a:ext cx="70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же созрел сочный виноград, женщина собирает его в корз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5545440" cy="551988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45200" y="0"/>
            <a:ext cx="3898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М.Кустодиев Купчиха за 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4653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400" y="6113520"/>
            <a:ext cx="77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эта женщина пьет чай. На её столе тоже виноград, арбузы и ябл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 уже созрели, значит заканчивается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13372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515772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начинаетс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488360" cy="556272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967280" y="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ueghel the Eld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не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" y="61135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олях созрела пшеница. Люди её скашивают (жнут) и суш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оторые устали, отдыхают и обедают под деревом. Это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280360" cy="524484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367240" y="1890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олотая осень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6237360"/>
            <a:ext cx="75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ики на деревьях совсем желтые, это красивая золотая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9920" y="-360"/>
            <a:ext cx="447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Шишкин На севере дик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3994200" cy="568800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950760" y="632952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ом белый снег, холодно. После осени наступает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4724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10:01:22Z</dcterms:created>
  <dc:creator>1</dc:creator>
  <dc:description/>
  <dc:language>en-US</dc:language>
  <cp:lastModifiedBy>COMP</cp:lastModifiedBy>
  <dcterms:modified xsi:type="dcterms:W3CDTF">2010-02-04T08:11:36Z</dcterms:modified>
  <cp:revision>11</cp:revision>
  <dc:subject/>
  <dc:title>Слайд 1</dc:title>
</cp:coreProperties>
</file>