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9B7-9BF2-40BF-814D-1777FA8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A23-6BD2-453D-87BF-A7ABDC3E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52A-CADA-4D7A-A2A0-E95CDBD5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B76-8213-4FE8-9587-D13CFED6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F6D-B378-49B7-9D7E-1C146218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AA9-F2CB-4065-A809-DD8EED68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C97-0ED0-4E99-B286-C864FC5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14B-CCCA-4CC7-97B1-3C7986F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D80-D4A5-4745-8D4C-3CF4288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2F8-3E96-4376-930B-B23D427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AC0-D4CA-4410-945D-CA5D55E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907-B942-4EC3-BD4E-243A609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8A5-821B-430E-B4EB-0E116156C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время года изобразил худож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5185080" cy="348300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532400" y="0"/>
            <a:ext cx="46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Шишкин Утро в сосновом л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318360" cy="452592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484360" y="1890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eghel the Eld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ники на снегу (Февра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5800" y="573408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еревьях нет листьев. Вдалеке озеро, оно замерз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юди катаются на коньках. Конечно же это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860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есна - большая вода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5043240" cy="547200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58760" y="618480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ег растаял, очень много воды, на деревьях пока еще нет листьев. Эт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201080" cy="535644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5005440" y="18900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Цветущие яблони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3640" y="616572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о совсем тепло, зацвели яблони, появилась травка.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350200" cy="495468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409000" y="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ерёзовая роща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093000"/>
            <a:ext cx="86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сный день, жарко, трава зеленая, листья на  березках тоже  зеленые – эт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545000" cy="540072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464000" y="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. П. Брюл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альянский пол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2720" y="6237360"/>
            <a:ext cx="70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же созрел сочный виноград, женщина собирает его в корз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5545440" cy="551988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45200" y="0"/>
            <a:ext cx="3898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М.Кустодиев Купчиха за 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4653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400" y="6113520"/>
            <a:ext cx="77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эта женщина пьет чай. На её столе тоже виноград, арбузы и ябл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 уже созрели, значит заканчивается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13372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515772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начинаетс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488360" cy="556272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967280" y="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ueghel the Eld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не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480" y="61135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олях созрела пшеница. Люди её скашивают (жнут) и суш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оторые устали, отдыхают и обедают под деревом. Это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280360" cy="524484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367240" y="1890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олотая осень» И.И. 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3716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СЕ</a:t>
            </a:r>
            <a:r>
              <a:rPr b="0" lang="en-US" sz="7200" spc="-1" strike="noStrike">
                <a:solidFill>
                  <a:srgbClr val="660066"/>
                </a:solidFill>
                <a:latin typeface="Arial"/>
              </a:rPr>
              <a:t>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6237360"/>
            <a:ext cx="75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ики на деревьях совсем желтые, это красивая золотая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9920" y="-360"/>
            <a:ext cx="447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 Шишкин На севере дик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3994200" cy="568800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950760" y="632952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ом белый снег, холодно. После осени наступает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472428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0:01:22Z</dcterms:created>
  <dc:creator>1</dc:creator>
  <dc:description/>
  <dc:language>en-US</dc:language>
  <cp:lastModifiedBy>COMP</cp:lastModifiedBy>
  <dcterms:modified xsi:type="dcterms:W3CDTF">2010-02-04T08:11:36Z</dcterms:modified>
  <cp:revision>11</cp:revision>
  <dc:subject/>
  <dc:title>Слайд 1</dc:title>
</cp:coreProperties>
</file>