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D6C6-7DFA-4889-A5F3-EFE92C7257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DF68-CA4B-49B8-BE3A-D54C51D737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44B-E50B-4530-9334-2328BB23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114-AC2E-41BA-A795-F23A70C6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60B-D020-4BE0-A3DE-0584EF2D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883-C87F-4A4A-8D47-10D1EF1E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5AA-D575-4A6D-96A5-A7C86B77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AFB-402E-4FAE-ABB1-1A8BE08F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739-737B-4DDE-B877-9133AB68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B53-81C1-4341-B3DF-1B5BA346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83E-1D6A-48F3-8D6B-52CFAEB0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4EB-DBB8-4F08-94E2-7AB5F9DB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4859-0602-45E4-B520-957E9A8C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CFE-6898-42C9-994C-2D111DCF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4226-ADD7-4911-9341-4F4587DB61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Рабочий стол\угадай\Зелёный.gif"/>
          <p:cNvPicPr/>
          <p:nvPr/>
        </p:nvPicPr>
        <p:blipFill>
          <a:blip r:embed="rId3"/>
          <a:stretch/>
        </p:blipFill>
        <p:spPr>
          <a:xfrm>
            <a:off x="7500960" y="6507000"/>
            <a:ext cx="1643040" cy="35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3"/>
          <p:cNvSpPr/>
          <p:nvPr/>
        </p:nvSpPr>
        <p:spPr>
          <a:xfrm>
            <a:off x="681120" y="2565360"/>
            <a:ext cx="75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53735"/>
                </a:solidFill>
                <a:latin typeface="Cambria"/>
              </a:rPr>
              <a:t>Этике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Заголовок 1"/>
          <p:cNvSpPr/>
          <p:nvPr/>
        </p:nvSpPr>
        <p:spPr>
          <a:xfrm>
            <a:off x="-3240" y="463680"/>
            <a:ext cx="47149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3162240" y="4303800"/>
            <a:ext cx="60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D:\картинки\дети и книга.png"/>
          <p:cNvPicPr/>
          <p:nvPr/>
        </p:nvPicPr>
        <p:blipFill>
          <a:blip r:embed="rId1"/>
          <a:stretch/>
        </p:blipFill>
        <p:spPr>
          <a:xfrm>
            <a:off x="6372360" y="836640"/>
            <a:ext cx="17287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-157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Цели мероприят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осмысление детьми через частично-поисковый метод места этикета в духовно-нравственном развитии чело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с понятием «этикет», и его значение в жизни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 с некоторыми правилами этик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логическое мышление, внимание, вообра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чувство терпимости друг к друг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1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mbria"/>
              </a:rPr>
              <a:t>Истории про друзей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Прямоугольник 3"/>
          <p:cNvSpPr/>
          <p:nvPr/>
        </p:nvSpPr>
        <p:spPr>
          <a:xfrm>
            <a:off x="3375000" y="1343160"/>
            <a:ext cx="534672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Максимка зашел в свою комнату, подошел к столу и хотел сесть за уроки, но тут у улицы донесся какой-то свист. Он кинулся к окну и увидел во дворе своего друга и одноклассника Димку. Димка стоял посреди двора и свистел. Заметив Максима, он замахал руками и закричал  во все горло, что ему надоело ждать и что, если Максимка через минуту не выйдет, он уйдёт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http://www.eduklgd.ru/org/mou01/mou0116/izobrajenia/trewq.png"/>
          <p:cNvPicPr/>
          <p:nvPr/>
        </p:nvPicPr>
        <p:blipFill>
          <a:blip r:embed="rId1"/>
          <a:stretch/>
        </p:blipFill>
        <p:spPr>
          <a:xfrm>
            <a:off x="496800" y="1628640"/>
            <a:ext cx="2411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3"/>
          <p:cNvSpPr/>
          <p:nvPr/>
        </p:nvSpPr>
        <p:spPr>
          <a:xfrm>
            <a:off x="3132000" y="1243080"/>
            <a:ext cx="5380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Дружная четвёрка двигалась по улице к парку, разглядывая прохожих, транспорт, витрины магазинов. У Димки в кармане нашлось немного семечек, и он охотно предложил их своим спутникам. Мальчики вертелись, размахивали руками, толкались и грызли семечки, отплёвывая их – кто дальше. Выйдя на тротуар, они вытянулись стройной шеренгой и заняли половину тротуара. Встречные прохожие обходили их по краю, прижимались к дом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"/>
          <p:cNvPicPr/>
          <p:nvPr/>
        </p:nvPicPr>
        <p:blipFill>
          <a:blip r:embed="rId2"/>
          <a:stretch/>
        </p:blipFill>
        <p:spPr>
          <a:xfrm>
            <a:off x="277920" y="1773360"/>
            <a:ext cx="2062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1332000" y="333360"/>
            <a:ext cx="722772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Этикет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– установленные правила поведения для особых случаев. (В.В. Реп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Этикет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– установленный, принятый порядок поведения, форм обхождения.  (С.И. Ожег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Этикет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– это правила хорошего поведе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( Учебн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5435640" y="4869000"/>
            <a:ext cx="150984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1" name="Picture 2" descr="picture"/>
          <p:cNvPicPr/>
          <p:nvPr/>
        </p:nvPicPr>
        <p:blipFill>
          <a:blip r:embed="rId2"/>
          <a:stretch/>
        </p:blipFill>
        <p:spPr>
          <a:xfrm>
            <a:off x="2195640" y="4724280"/>
            <a:ext cx="1439640" cy="1944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2"/>
          <p:cNvSpPr/>
          <p:nvPr/>
        </p:nvSpPr>
        <p:spPr>
          <a:xfrm>
            <a:off x="324000" y="125280"/>
            <a:ext cx="512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mbria"/>
                <a:ea typeface="Times New Roman"/>
              </a:rPr>
              <a:t>Виды этик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684360" y="990720"/>
            <a:ext cx="8280360" cy="59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речев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толов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«выходного дня» (при посещении различных культурных мес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религиоз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овседнев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лужебный (а также студенческий, школьный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азднич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офессиональный (специализированны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вадеб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дипломатическ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траурный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7740720" y="5102280"/>
            <a:ext cx="1218960" cy="1351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2"/>
          <a:stretch/>
        </p:blipFill>
        <p:spPr>
          <a:xfrm>
            <a:off x="7380360" y="620640"/>
            <a:ext cx="136836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3"/>
          <p:cNvSpPr/>
          <p:nvPr/>
        </p:nvSpPr>
        <p:spPr>
          <a:xfrm>
            <a:off x="262080" y="549360"/>
            <a:ext cx="8677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mbria"/>
                <a:ea typeface="Times New Roman"/>
              </a:rPr>
              <a:t>Решение жизненных ситу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6" descr="D:\картинки\школьники.png"/>
          <p:cNvPicPr/>
          <p:nvPr/>
        </p:nvPicPr>
        <p:blipFill>
          <a:blip r:embed="rId1"/>
          <a:stretch/>
        </p:blipFill>
        <p:spPr>
          <a:xfrm>
            <a:off x="3708360" y="2492280"/>
            <a:ext cx="1800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6"/>
          <p:cNvSpPr/>
          <p:nvPr/>
        </p:nvSpPr>
        <p:spPr>
          <a:xfrm>
            <a:off x="1332000" y="1484280"/>
            <a:ext cx="6511680" cy="22320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Ты вошел в раздевалку, там много ребят толпится. Рядом с тобой девочка, и ее все отталкивают. Как ты поступ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 Утро, ты входишь в свой класс. В классе уже несколько твоих товарищей. Как ты войдешь в клас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79200" y="333360"/>
            <a:ext cx="9010800" cy="1176480"/>
          </a:xfrm>
          <a:prstGeom prst="rect">
            <a:avLst/>
          </a:prstGeom>
          <a:ln w="0">
            <a:noFill/>
          </a:ln>
        </p:spPr>
      </p:pic>
      <p:sp>
        <p:nvSpPr>
          <p:cNvPr id="300" name="Скругленный прямоугольник 10"/>
          <p:cNvSpPr/>
          <p:nvPr/>
        </p:nvSpPr>
        <p:spPr>
          <a:xfrm>
            <a:off x="1332000" y="4149720"/>
            <a:ext cx="6656400" cy="208764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На перемене ты случайно налетаешь на одноклассника. Как поступишь в этой ситу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 Когда пришли в буфет, на общем блюде лежали пирожки. Как ты будешь себя вести в этой ситу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Скругленный прямоугольник 6"/>
          <p:cNvSpPr/>
          <p:nvPr/>
        </p:nvSpPr>
        <p:spPr>
          <a:xfrm>
            <a:off x="509760" y="1509840"/>
            <a:ext cx="7375320" cy="220644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Утром по коридору навстречу тебе шла твоя учительница и учительница соседнего класса. Как ты поздороваеш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 Если ты поздоровался с учителем один раз, надо ли здороваться ещ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9200" y="333360"/>
            <a:ext cx="9010800" cy="1176480"/>
          </a:xfrm>
          <a:prstGeom prst="rect">
            <a:avLst/>
          </a:prstGeom>
          <a:ln w="0">
            <a:noFill/>
          </a:ln>
        </p:spPr>
      </p:pic>
      <p:sp>
        <p:nvSpPr>
          <p:cNvPr id="303" name="Скругленный прямоугольник 10"/>
          <p:cNvSpPr/>
          <p:nvPr/>
        </p:nvSpPr>
        <p:spPr>
          <a:xfrm>
            <a:off x="515880" y="3976560"/>
            <a:ext cx="7585200" cy="208764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Ты увидел, что твои одноклассники дерутся. Как ты поступ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 Девочка обозвала тебя на перемене. Что ты сдела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7451640" y="5157720"/>
            <a:ext cx="148752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08:07Z</dcterms:created>
  <dc:creator>Федотова Виктория Александровна</dc:creator>
  <dc:description/>
  <dc:language>en-US</dc:language>
  <cp:lastModifiedBy>Иван</cp:lastModifiedBy>
  <dcterms:modified xsi:type="dcterms:W3CDTF">2015-02-08T11:19:37Z</dcterms:modified>
  <cp:revision>75</cp:revision>
  <dc:subject/>
  <dc:title>Слайд 1</dc:title>
</cp:coreProperties>
</file>