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7E0-82FF-46CC-885E-84F4CD9510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EBE9-FAEE-4FC6-BEFD-097A58B5E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A32-C11F-4F32-A078-FC7A79F4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8C5-84F4-4CDA-B50C-78B7CEC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BA1-0479-42E0-9FC2-729467DE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5AA-27AF-4CB5-9ACF-B0FF8636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972-08AA-43B1-96A6-9AE0522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AFF-2A53-43BD-8FE5-691D3470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283-1638-4262-BBA4-AA5E4DC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27C-83C7-4C3B-A276-7EFCEA3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F7F-D6EF-4D5A-8EE0-B7F4031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5E9-9E25-41CC-B992-4DA7908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F3C-B73C-4257-A084-5B8B5F9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AB4-FBEC-4734-91CC-D369524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F29-3118-4376-948E-054E47A37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681120" y="2565360"/>
            <a:ext cx="75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Cambria"/>
              </a:rPr>
              <a:t>Этик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-3240" y="463680"/>
            <a:ext cx="4714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3162240" y="4303800"/>
            <a:ext cx="60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D:\картинки\дети и книга.png"/>
          <p:cNvPicPr/>
          <p:nvPr/>
        </p:nvPicPr>
        <p:blipFill>
          <a:blip r:embed="rId1"/>
          <a:stretch/>
        </p:blipFill>
        <p:spPr>
          <a:xfrm>
            <a:off x="6372360" y="836640"/>
            <a:ext cx="17287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-157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и мероприят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смысление детьми через частично-поисковый метод места этикета в духовно-нравственном развитии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понятием «этикет», и его значение в жизни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 с некоторыми правилами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, внимание, вообра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терпимости друг к дру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1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Истории про друзей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3375000" y="1343160"/>
            <a:ext cx="534672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Максимка зашел в свою комнату, подошел к столу и хотел сесть за уроки, но тут у улицы донесся какой-то свист. Он кинулся к окну и увидел во дворе своего друга и одноклассника Димку. Димка стоял посреди двора и свистел. Заметив Максима, он замахал руками и закричал  во все горло, что ему надоело ждать и что, если Максимка через минуту не выйдет, он уйдёт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http://www.eduklgd.ru/org/mou01/mou0116/izobrajenia/trewq.png"/>
          <p:cNvPicPr/>
          <p:nvPr/>
        </p:nvPicPr>
        <p:blipFill>
          <a:blip r:embed="rId1"/>
          <a:stretch/>
        </p:blipFill>
        <p:spPr>
          <a:xfrm>
            <a:off x="496800" y="1628640"/>
            <a:ext cx="2411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3"/>
          <p:cNvSpPr/>
          <p:nvPr/>
        </p:nvSpPr>
        <p:spPr>
          <a:xfrm>
            <a:off x="3132000" y="1243080"/>
            <a:ext cx="5380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Дружная четвёрка двигалась по улице к парку, разглядывая прохожих, транспорт, витрины магазинов. У Димки в кармане нашлось немного семечек, и он охотно предложил их своим спутникам. Мальчики вертелись, размахивали руками, толкались и грызли семечки, отплёвывая их – кто дальше. Выйдя на тротуар, они вытянулись стройной шеренгой и заняли половину тротуара. Встречные прохожие обходили их по краю, прижимались к до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2"/>
          <a:stretch/>
        </p:blipFill>
        <p:spPr>
          <a:xfrm>
            <a:off x="277920" y="1773360"/>
            <a:ext cx="2062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1332000" y="333360"/>
            <a:ext cx="72277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установленные правила поведения для особых случаев. (В.В. Реп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– установленный, принятый порядок поведения, форм обхождения.  (С.И. Оже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– это правила хорошего повед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( Учеб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15098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Picture 2" descr="picture"/>
          <p:cNvPicPr/>
          <p:nvPr/>
        </p:nvPicPr>
        <p:blipFill>
          <a:blip r:embed="rId2"/>
          <a:stretch/>
        </p:blipFill>
        <p:spPr>
          <a:xfrm>
            <a:off x="2195640" y="4724280"/>
            <a:ext cx="143964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"/>
          <p:cNvSpPr/>
          <p:nvPr/>
        </p:nvSpPr>
        <p:spPr>
          <a:xfrm>
            <a:off x="324000" y="125280"/>
            <a:ext cx="512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mbria"/>
                <a:ea typeface="Times New Roman"/>
              </a:rPr>
              <a:t>Виды эти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684360" y="990720"/>
            <a:ext cx="828036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че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ол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«выходного дня» (при посещении различных культурных мес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лигиоз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вседне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лужебный (а также студенческий, школьный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азднич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фессиональный (специализированны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ва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ипломат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аурный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7740720" y="5102280"/>
            <a:ext cx="1218960" cy="135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3683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262080" y="549360"/>
            <a:ext cx="8677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D:\картинки\школьники.png"/>
          <p:cNvPicPr/>
          <p:nvPr/>
        </p:nvPicPr>
        <p:blipFill>
          <a:blip r:embed="rId1"/>
          <a:stretch/>
        </p:blipFill>
        <p:spPr>
          <a:xfrm>
            <a:off x="3708360" y="2492280"/>
            <a:ext cx="180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6"/>
          <p:cNvSpPr/>
          <p:nvPr/>
        </p:nvSpPr>
        <p:spPr>
          <a:xfrm>
            <a:off x="1332000" y="1484280"/>
            <a:ext cx="6511680" cy="2232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Ты вошел в раздевалку, там много ребят толпится. Рядом с тобой девочка, и ее все отталкивают. Как ты посту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Утро, ты входишь в свой класс. В классе уже несколько твоих товарищей. Как ты войдешь в кла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79200" y="333360"/>
            <a:ext cx="9010800" cy="1176480"/>
          </a:xfrm>
          <a:prstGeom prst="rect">
            <a:avLst/>
          </a:prstGeom>
          <a:ln w="0">
            <a:noFill/>
          </a:ln>
        </p:spPr>
      </p:pic>
      <p:sp>
        <p:nvSpPr>
          <p:cNvPr id="300" name="Скругленный прямоугольник 10"/>
          <p:cNvSpPr/>
          <p:nvPr/>
        </p:nvSpPr>
        <p:spPr>
          <a:xfrm>
            <a:off x="1332000" y="4149720"/>
            <a:ext cx="6656400" cy="20876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На перемене ты случайно налетаешь на одноклассника. Как поступишь в эт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Когда пришли в буфет, на общем блюде лежали пирожки. Как ты будешь себя вести в эт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6"/>
          <p:cNvSpPr/>
          <p:nvPr/>
        </p:nvSpPr>
        <p:spPr>
          <a:xfrm>
            <a:off x="509760" y="1509840"/>
            <a:ext cx="7375320" cy="22064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Утром по коридору навстречу тебе шла твоя учительница и учительница соседнего класса. Как ты поздороваеш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Если ты поздоровался с учителем один раз, надо ли здороваться ещ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9200" y="333360"/>
            <a:ext cx="9010800" cy="1176480"/>
          </a:xfrm>
          <a:prstGeom prst="rect">
            <a:avLst/>
          </a:prstGeom>
          <a:ln w="0">
            <a:noFill/>
          </a:ln>
        </p:spPr>
      </p:pic>
      <p:sp>
        <p:nvSpPr>
          <p:cNvPr id="303" name="Скругленный прямоугольник 10"/>
          <p:cNvSpPr/>
          <p:nvPr/>
        </p:nvSpPr>
        <p:spPr>
          <a:xfrm>
            <a:off x="515880" y="3976560"/>
            <a:ext cx="7585200" cy="20876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Ты увидел, что твои одноклассники дерутся. Как ты посту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Девочка обозвала тебя на перемене. Что ты сдел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1487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Иван</cp:lastModifiedBy>
  <dcterms:modified xsi:type="dcterms:W3CDTF">2015-02-08T11:19:37Z</dcterms:modified>
  <cp:revision>75</cp:revision>
  <dc:subject/>
  <dc:title>Слайд 1</dc:title>
</cp:coreProperties>
</file>