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B6E-72F7-498D-A304-1652CFC3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0DA-3934-4E9F-A276-EE69395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906-7BA9-4ECD-AB22-A48F0C3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6AD-0F06-4DA7-9066-418F52B5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DB4D-5038-427D-A599-651C4082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6AC-C9D6-4940-B645-A609CAE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F37-7CAA-4804-9F80-7DB9F258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0E71-D5B7-4CEC-B621-8CCE5604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E5B1-F1ED-403B-963B-6408D44A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83A-DA37-4381-B28B-0F289A34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84C-12C5-4F4C-8290-3EDEEF4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237-1BDC-4AA2-B4DC-5385D3C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88B8-3369-48F6-A276-4C0A860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E5FC-4CEB-4D83-88FB-C8FDC48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F18D-07E5-48E4-B088-CA88F9A9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109-647B-4FA0-A4D4-8230A872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3C5-8317-4791-8F10-6E8D6E4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7CA-3F0C-44AA-8DD9-4A1D699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A6B-D0D8-4F14-88FF-033C5624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4D-69E8-4118-A7E5-FC9F2508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13A-3892-4F6F-B470-57FDD26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2BA-5953-40B6-BD4B-2E5CCE8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CA5-B2E0-43B6-B49A-3B379E3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1FC-4C1D-4768-99D7-0A27C045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D66-AE04-4014-812D-4E60279A00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7391-B139-4790-8E9E-A6A34B3939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2160" y="846000"/>
            <a:ext cx="73008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999900"/>
                </a:solidFill>
                <a:latin typeface="Garamond"/>
              </a:rPr>
              <a:t>Урок по теме:</a:t>
            </a:r>
            <a:endParaRPr b="0" lang="en-US" sz="6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3284280"/>
            <a:ext cx="742968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Verdana"/>
              </a:rPr>
              <a:t>«КООРДИНАТНАЯ ПЛОСКОСТЬ»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3760" y="506520"/>
            <a:ext cx="8002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Какова координата точки пересечения перпендикулярных прямых?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52214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8532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40" y="27860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7227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(0;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5864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(3;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27280" y="1916280"/>
          <a:ext cx="6095880" cy="410040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 flipV="1">
            <a:off x="5219640" y="2133360"/>
            <a:ext cx="0" cy="36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371628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724000" y="1341000"/>
            <a:ext cx="1513080" cy="41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27280" y="1916280"/>
            <a:ext cx="4751280" cy="1584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851280" y="2997000"/>
            <a:ext cx="4753080" cy="1655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2276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3645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40720" y="321300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2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2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0252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452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144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2144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616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9800" y="3716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4581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45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24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24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24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animClr clrSpc="rgb">
                                      <p:cBhvr>
                                        <p:cTn id="37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376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Разминка для глаз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1484280"/>
            <a:ext cx="8207280" cy="4610160"/>
          </a:xfrm>
          <a:prstGeom prst="ellipse">
            <a:avLst/>
          </a:prstGeom>
          <a:solidFill>
            <a:srgbClr val="ffffff"/>
          </a:solidFill>
          <a:ln w="117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8360" y="1483920"/>
            <a:ext cx="3959280" cy="2305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1484280"/>
            <a:ext cx="4248000" cy="2232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789360"/>
            <a:ext cx="3961080" cy="23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72000" y="3789000"/>
            <a:ext cx="4103640" cy="23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1280" y="2637000"/>
            <a:ext cx="0" cy="223200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4869000"/>
            <a:ext cx="4105440" cy="7272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516720" y="2637000"/>
            <a:ext cx="0" cy="230472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1280" y="2637000"/>
            <a:ext cx="4105440" cy="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34136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20000" y="134136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23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На координатной плоскости отметьте точки, последовательно соединяя их друг с другом. Получится рисунок животного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8,5; 7), (-9,5; 6), (-10; 4), (-10; 3,5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9; 3), (-8; 3,5), (-7,5; 2,5), (-6,5; 2,5), (-3; -7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; -7), (-2; -3), (-1; -1), (0; -1,5), (2; -1,5), (3; -7), (4; -7), (5; 1), (5,5; 1), (5,5; 2), (5; 3), (3; 4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; 4,5), (-2; 5), (-3; 6), (-4; 6,5), (-6,5; 7), (-4; 8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; 10), (-4; 9), (-4; 10), (-5; 9), (-6; 9,5), (-7; 8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8; 8), (-9; 9,5), (-10; 9), (-11; 10), (-11; 9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; -10), (-11; 8), (-9; 7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(-8,5; 5,5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4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4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79280" y="20606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ЕМА: «КРАСНАЯ КНИГА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1773360"/>
            <a:ext cx="705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лагодаря принятым мерам численность этих животных заметно возросла.   Летом они питаются сочными болотными растениями и их корневищами, а так же листвой, побегами и  молодыми ветвями деревьев. Зимой же переходят на грубые корма – ветки древесных пород (особенно осины или ивы), кору, древесные лишайники и частично хвою. В неволе быстро приручаются и привыкают ходить в упряжке. Что это за живот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с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>
            <a:lum contrast="18000"/>
          </a:blip>
          <a:srcRect l="43346" t="9866" r="14994" b="53559"/>
          <a:stretch/>
        </p:blipFill>
        <p:spPr>
          <a:xfrm>
            <a:off x="0" y="0"/>
            <a:ext cx="9793440" cy="710568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они нуждаются в охран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76720" y="90792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664000" cy="2655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248360" cy="3836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4360" y="6021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Джей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36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Орлан - бело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5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3135600" y="2060640"/>
            <a:ext cx="24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2924280"/>
            <a:ext cx="8496360" cy="265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о координатам точек составить рисунок животного и приготовить о нем сообщение, включая данные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 каких районах Казахстана это живот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би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7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700"/>
                            </p:stCondLst>
                            <p:childTnLst>
                              <p:par>
                                <p:cTn id="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172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Устная 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работ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968560"/>
            <a:ext cx="19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ордин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1080" y="3332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544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708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216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816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88560" y="33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2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0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3080" y="337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652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652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6520" y="407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6520" y="3716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7800" y="335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64280" y="131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4520" y="178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78680" y="224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8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05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84360" y="189000"/>
          <a:ext cx="6096240" cy="6381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680"/>
                <a:gridCol w="434880"/>
                <a:gridCol w="479520"/>
                <a:gridCol w="431640"/>
                <a:gridCol w="395280"/>
                <a:gridCol w="434880"/>
                <a:gridCol w="435240"/>
                <a:gridCol w="436320"/>
                <a:gridCol w="435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4643280" y="333360"/>
            <a:ext cx="0" cy="561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35772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852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16360" y="1052640"/>
            <a:ext cx="0" cy="1800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125360"/>
            <a:ext cx="0" cy="129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421000"/>
            <a:ext cx="86364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1052640"/>
            <a:ext cx="86364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1052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1052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85264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3789360"/>
            <a:ext cx="79200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860640"/>
            <a:ext cx="0" cy="1800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716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58972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716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386064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472428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3860640"/>
            <a:ext cx="0" cy="86364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924280"/>
            <a:ext cx="0" cy="1800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2428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2852640"/>
            <a:ext cx="1443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85264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378936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378936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720" y="4653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653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1557360"/>
            <a:ext cx="43200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620640"/>
            <a:ext cx="0" cy="18018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20640"/>
            <a:ext cx="93672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421000"/>
            <a:ext cx="100836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2349360"/>
            <a:ext cx="14472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549360"/>
            <a:ext cx="14472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49360"/>
            <a:ext cx="1443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1484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02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7280" y="-360"/>
            <a:ext cx="5076720" cy="6669000"/>
          </a:xfrm>
          <a:prstGeom prst="rect">
            <a:avLst/>
          </a:prstGeom>
          <a:solidFill>
            <a:srgbClr val="ccecff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 шанырака — символ общего дома всех народов, проживающих в Казахст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частье в нём зависит от благополучия каждого, как прочность шанырака зависит от надёжности его уыков.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ыки, изображенные в виде лучей солнца, поддерживают шанырак.  Его обрамляют крылья тулпара - мифического коня. Такие же кони украшают шлем Золотого человека. 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ылья коня символизируют мечту о построении сильного, процветающего государ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и свидетельствуют также о чистых помыслах и стремлении к совершенствованию и достижению гармонии в обществе, с природой и мировой цивилизацией. В центре герба расположен  тундык, отверстие в центре юрты, олицетворяющее солнце на фоне мирного голубого неба. 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у герба изображена пятиконечная  звезда. Она символизирует высокие цели и идеалы. Внизу герба расположена надпись «Қазақстан». Герб Казахстана, демонстрирует мирную направленность страны и единение всех народов, проживающих здесь. Золотой цвет символизирует светло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уще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9160" y="1984320"/>
            <a:ext cx="80578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ройте на координатной плоскости четырехугольни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CD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-2; 4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,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6; 4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6; -2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-2; -2). Что за фигура получилась? Измерьте стороны получившегося четырехугольника и найдите его площадь и периметр. Затем проведите отрезк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айдите координату точки пересечения этих отрез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4365720"/>
            <a:ext cx="151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1. 14 см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2. 7 см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3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1655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1. *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2. 12 см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  <a:ea typeface="Arial"/>
              </a:rPr>
              <a:t>²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3. 48 см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  <a:ea typeface="Arial"/>
              </a:rPr>
              <a:t>²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16286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781360"/>
            <a:ext cx="165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Garamond"/>
              </a:rPr>
              <a:t>2. 12 см</a:t>
            </a: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5040" y="39337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520" y="443700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1. 1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771640" y="765000"/>
          <a:ext cx="6095880" cy="54673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5364000" y="907920"/>
            <a:ext cx="0" cy="540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3500280"/>
            <a:ext cx="5905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170028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1628640"/>
            <a:ext cx="0" cy="273708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36572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1628640"/>
            <a:ext cx="0" cy="273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1627920"/>
            <a:ext cx="1425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27640" y="4291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956720" y="4291920"/>
            <a:ext cx="1425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452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944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1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2160" y="83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45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427640" y="1627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771640" y="765000"/>
          <a:ext cx="6096240" cy="5496120"/>
        </p:xfrm>
        <a:graphic>
          <a:graphicData uri="http://schemas.openxmlformats.org/drawingml/2006/table">
            <a:tbl>
              <a:tblPr/>
              <a:tblGrid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5364000" y="907920"/>
            <a:ext cx="0" cy="540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3500280"/>
            <a:ext cx="5905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70028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1628640"/>
            <a:ext cx="0" cy="273708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36572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1628640"/>
            <a:ext cx="0" cy="273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956720" y="1627920"/>
            <a:ext cx="1425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27640" y="4291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956720" y="4291920"/>
            <a:ext cx="1425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452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944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61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2160" y="83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745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27640" y="1627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360" y="2498760"/>
            <a:ext cx="2124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3573360"/>
            <a:ext cx="1871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1. (1; 2)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2. (2; 1)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3. *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518040" y="429264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2. (2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500720" y="1700280"/>
            <a:ext cx="3527280" cy="26654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700280"/>
            <a:ext cx="3456000" cy="2592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56360" y="2924280"/>
            <a:ext cx="216000" cy="2174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247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Отметьте на координатной плоскости точк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4; -3),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3; 2)  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-2; -2). Проведите луч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N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. Измерьте угол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N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3760" y="506160"/>
            <a:ext cx="792468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акова градусная мера угла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NMK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615960" y="2349360"/>
            <a:ext cx="17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 4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3800" y="32846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6680" y="4005360"/>
            <a:ext cx="211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. 14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00360" y="1700280"/>
          <a:ext cx="6095880" cy="410040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4880"/>
                <a:gridCol w="43524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 flipV="1">
            <a:off x="6516720" y="2060640"/>
            <a:ext cx="503280" cy="27352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2421000"/>
            <a:ext cx="2808360" cy="2376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249228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48360" y="4797360"/>
            <a:ext cx="14472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492280"/>
            <a:ext cx="14472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7733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8532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2792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1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44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6144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5800" y="47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3573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92720" y="184428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50028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908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67800" y="1633680"/>
            <a:ext cx="762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оординатной плоскости отметьте точки А(-3; -2), В(6; 1) и С(2; 3). Проведите прямую АВ, а через точку С прямую перпендикулярную АВ. Найдите координату точки пересечения перпендикулярных прямы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2:25:55Z</dcterms:created>
  <dc:creator>user</dc:creator>
  <dc:description/>
  <dc:language>en-US</dc:language>
  <cp:lastModifiedBy>Бахтияр</cp:lastModifiedBy>
  <dcterms:modified xsi:type="dcterms:W3CDTF">2013-02-13T00:24:21Z</dcterms:modified>
  <cp:revision>32</cp:revision>
  <dc:subject/>
  <dc:title>Урок по теме:</dc:title>
</cp:coreProperties>
</file>