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3E1-9680-4D52-810D-564F19AF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FFB-0F6E-46BA-BA92-479365CD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401-BD36-40CE-925C-D553A21B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984-8209-45D1-949B-0D924AE7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D2AA-EA53-4971-8B05-151725C7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D5F6-EB70-4A93-B6AE-04348FFE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737E-29C4-4EE3-BF39-42ED541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C895-783D-4DE4-BFC8-BB857424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5E99-3D6F-4453-A4D4-04679368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DF71-7816-441A-B225-8DD34DEA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4F9B-4348-4E09-B656-CA42E08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F66-359B-43CB-B382-40998E0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5C37-8B57-4DDA-930F-7B6A7D0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588F-D845-4E5E-B5C9-5718EDB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BC02-BA1E-4910-9901-3F30111D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26C2-94EC-47F3-B287-47B340FD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9A18-C74B-4459-9824-BB16BFA2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C98C-6763-4329-9228-EA5EB54C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2893-D260-4BAF-823F-86CA9DD8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8C12-768E-421D-90F3-B1DFD2D8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FEE2-080E-4654-B374-538EE73A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85A8-0E0D-4404-9400-D102F08C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29F-0B2D-481E-B92F-2BD82710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F3F0-E8AF-489F-BAFE-2A0B0E45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DEDA-4F78-4F5B-A5F6-8C30EA38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0DAE-D850-4E75-AA6F-5BDB685F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A5C5-DADB-49E8-B543-A205DA9A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0101-091F-44E2-B3D8-6A510D2B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FA78-AA0E-4B61-9158-C397456B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9278-17BE-4003-9B7C-1AC7C9B0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643A-D73C-4E32-96DC-3E18D9C2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1CB9-D516-4A5E-A20A-F5DB175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9152-55E8-4A8F-ACEB-0BD237A1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72B-A2AA-42F6-B9D4-A258D5C9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2797-F41E-4351-839E-E32CD5AE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7832-C410-4566-9AB0-9D084647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5D3D-64AF-4E9C-B6D4-0B270963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4997-7CCC-4334-946B-4B1F415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F15B-191E-45BA-BBB5-C41418D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024C-E651-473B-B8C3-0E9C64A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E058B-D466-439C-9549-3682B584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1E62-D6F4-4255-ABE4-9D8E1AE6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2A94-922B-422C-819D-2A663B96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5789-B018-48D4-AD14-970396B3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7C5-D4B2-41B8-AA64-9205323A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86C3-1944-4C14-B771-A2D33D7E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81C0-99F5-48FE-9AFC-C5D74272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0C49B-4F93-404C-B3E6-C803FDEA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E6D26-CD92-40DA-B398-612D714C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B89FC-30CE-499F-B9A6-357D25FC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1E08-F3DF-444C-9C07-93590F4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609C-9702-468F-9D13-26C61468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56337-7C33-4D76-B89A-AB090DE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7A1A7-9D67-40C5-81D9-6F5443B3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DDDA2-EC56-4292-AB8A-CE74F4C4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668-BA5A-4602-AB42-F1238336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8A97-F218-4480-B253-8CE9D793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C4A-B518-48A6-B36C-FF65475F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440-9C45-4B47-AA94-E2B531EE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E58-8513-40A5-B1E6-06D278B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FFF-D2DD-487F-979E-2F513AE33B68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FC3-DFB0-4899-8706-41340C8F3436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6B4E-CA7E-4CAB-B672-A6E3990F2B9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6778-1268-4048-A94F-1081A13254AF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F3DB-84C9-487B-9329-31AC326E8D45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23640" y="1989000"/>
            <a:ext cx="5761080" cy="2448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2060"/>
            </a:solidFill>
            <a:miter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Book Antiqua"/>
              </a:rPr>
              <a:t>Красная Книга Северного</a:t>
            </a:r>
            <a:endParaRPr b="1" lang="en-US" sz="45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858920" y="5300280"/>
            <a:ext cx="3745080" cy="57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ганов Павел 2 «В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11280" y="981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 Antiqua"/>
              </a:rPr>
              <a:t>Цель работы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научиться береч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животных и раст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 Antiqua"/>
              </a:rPr>
              <a:t>Описани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мы живем на севере столицы 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чень красивой местности.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едалеко водоемы «Долг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руды», леса, парки, и несмотр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 то что мы живем в городе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ядом с нами живут удивитель-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ые растения, животные, котор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уждаются в ох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ро некоторых из них я расскаж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свое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276720" y="549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 Antiqua"/>
              </a:rPr>
              <a:t>Живот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C:\Users\-\Desktop\загруженное.jpg"/>
          <p:cNvPicPr/>
          <p:nvPr/>
        </p:nvPicPr>
        <p:blipFill>
          <a:blip r:embed="rId1"/>
          <a:stretch/>
        </p:blipFill>
        <p:spPr>
          <a:xfrm>
            <a:off x="6156360" y="69228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-\Desktop\загруженное (3).jpg"/>
          <p:cNvPicPr/>
          <p:nvPr/>
        </p:nvPicPr>
        <p:blipFill>
          <a:blip r:embed="rId2"/>
          <a:stretch/>
        </p:blipFill>
        <p:spPr>
          <a:xfrm>
            <a:off x="3492360" y="1341360"/>
            <a:ext cx="1962360" cy="1470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-\Desktop\загруженное (4).jpg"/>
          <p:cNvPicPr/>
          <p:nvPr/>
        </p:nvPicPr>
        <p:blipFill>
          <a:blip r:embed="rId3"/>
          <a:stretch/>
        </p:blipFill>
        <p:spPr>
          <a:xfrm>
            <a:off x="755640" y="765000"/>
            <a:ext cx="2160720" cy="1617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-\Desktop\f0de107dad97d7fb2b705ba6a70.jpg"/>
          <p:cNvPicPr/>
          <p:nvPr/>
        </p:nvPicPr>
        <p:blipFill>
          <a:blip r:embed="rId4"/>
          <a:stretch/>
        </p:blipFill>
        <p:spPr>
          <a:xfrm>
            <a:off x="6012000" y="3357720"/>
            <a:ext cx="2411280" cy="1657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Users\-\Desktop\загруженное (5).jpg"/>
          <p:cNvPicPr/>
          <p:nvPr/>
        </p:nvPicPr>
        <p:blipFill>
          <a:blip r:embed="rId5"/>
          <a:stretch/>
        </p:blipFill>
        <p:spPr>
          <a:xfrm>
            <a:off x="3635280" y="4005360"/>
            <a:ext cx="1944720" cy="1558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:\Users\-\Desktop\загруженное (2).jpg"/>
          <p:cNvPicPr/>
          <p:nvPr/>
        </p:nvPicPr>
        <p:blipFill>
          <a:blip r:embed="rId6"/>
          <a:stretch/>
        </p:blipFill>
        <p:spPr>
          <a:xfrm>
            <a:off x="684360" y="3357720"/>
            <a:ext cx="2342880" cy="1726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8"/>
          <p:cNvSpPr/>
          <p:nvPr/>
        </p:nvSpPr>
        <p:spPr>
          <a:xfrm>
            <a:off x="755640" y="24210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постоянно живу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парке за Д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3419640" y="2924280"/>
            <a:ext cx="23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Дяте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живут в лесах и парках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5940360" y="2349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квор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каждый год прилетаю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Северы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396720" y="5300640"/>
            <a:ext cx="32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зерная ч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место гнездования чай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а прудах в 9 мкрн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3492360" y="558972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Ёж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кто не видел ежик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обирая в лесу гриб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6000840" y="5103720"/>
            <a:ext cx="274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У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когда тает сне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в парке появляются огромные лужи, к нам прилетают утк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3492360" y="5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C:\Users\-\Desktop\загруженное (7).jpg"/>
          <p:cNvPicPr/>
          <p:nvPr/>
        </p:nvPicPr>
        <p:blipFill>
          <a:blip r:embed="rId1"/>
          <a:stretch/>
        </p:blipFill>
        <p:spPr>
          <a:xfrm>
            <a:off x="971640" y="1052640"/>
            <a:ext cx="2666880" cy="1714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-\Desktop\images (8).jpg"/>
          <p:cNvPicPr/>
          <p:nvPr/>
        </p:nvPicPr>
        <p:blipFill>
          <a:blip r:embed="rId2"/>
          <a:stretch/>
        </p:blipFill>
        <p:spPr>
          <a:xfrm>
            <a:off x="5508720" y="1052640"/>
            <a:ext cx="2619360" cy="165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Users\-\Desktop\images (1).jpg"/>
          <p:cNvPicPr/>
          <p:nvPr/>
        </p:nvPicPr>
        <p:blipFill>
          <a:blip r:embed="rId3"/>
          <a:stretch/>
        </p:blipFill>
        <p:spPr>
          <a:xfrm>
            <a:off x="900000" y="3860640"/>
            <a:ext cx="2667240" cy="1714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-\Desktop\Новая папка (2)\images.jpg"/>
          <p:cNvPicPr/>
          <p:nvPr/>
        </p:nvPicPr>
        <p:blipFill>
          <a:blip r:embed="rId4"/>
          <a:stretch/>
        </p:blipFill>
        <p:spPr>
          <a:xfrm>
            <a:off x="5580000" y="3716280"/>
            <a:ext cx="2664000" cy="16574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539640" y="2781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растет в парках и лесах, занесен в Красную книгу стран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5003640" y="2708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очень красиво в Северн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есной благодаря этим кустам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539640" y="5661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Ак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растет в сквере у «Аллеи памяти»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4932360" y="5300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Ту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растет в старой части района, очень жаль, что плохо следят  за больными деревья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1332000" y="2349360"/>
            <a:ext cx="61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Берегите природу своего район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5:48:12Z</dcterms:created>
  <dc:creator>Колганов</dc:creator>
  <dc:description/>
  <dc:language>en-US</dc:language>
  <cp:lastModifiedBy>Колганов</cp:lastModifiedBy>
  <dcterms:modified xsi:type="dcterms:W3CDTF">2014-11-30T16:45:23Z</dcterms:modified>
  <cp:revision>6</cp:revision>
  <dc:subject/>
  <dc:title>Красная Книга Северного</dc:title>
</cp:coreProperties>
</file>