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55B-A1B3-45B3-8DAF-339E2D61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2C0-A821-4989-B0F6-874BF1BD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9D8-7013-4137-B058-740501FB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7FE-231D-472D-8948-3794E91E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3FE7-BD19-4801-9FFE-352B4D2B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7A34-17A5-4384-9B36-64710A31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977E-EEB7-475D-8AC8-21A115A1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B7C6-31D9-47F7-8787-7A637EE7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6F2-6A04-48E4-A788-5FA1589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9FA9-3A39-4604-B691-DB986BAE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B20F-A753-44FC-90F4-B9F596C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94E-4A43-407E-A325-02A445BA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0D1A-2602-4C77-B480-BE1B6C40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8411-236B-46ED-91FB-DF0BEC60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CAA1-DE42-4885-B324-B526CE9C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0EE2-563E-4697-8792-6BA69464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F251-53A0-49A3-AB64-25635E02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7100-2A82-4CAD-A585-8DC2EE15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DD6B-52FE-4068-8316-D4F1318C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70F71-BAA6-4769-BB83-473F950F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F94A-6671-444B-9F09-09E1E5C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F6C9-188B-4FFD-B7C7-D5D02312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6FF-6E2A-43C9-99FB-C30B289C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5085-F970-4516-BB4D-50560661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C699-D798-4431-BBED-1CF7C82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06F7-C2C7-4344-92E3-CE259CAF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33AE-7341-4374-BF54-47CA12E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4E85-D403-4B25-9C65-C4AC609C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3944-10B6-4099-B999-782AA864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9308-1DD3-4C31-8CC6-A7D5DED9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3195-AE53-40D9-B075-073C3FE4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E45DD-D423-45FF-ACF5-017DF79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A5C9-5147-4297-9A9D-AFB4F482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1F3-96CD-4687-BA59-78C397BC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927B-D454-4B97-AE77-D7D7615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31CE-C50B-4675-86B0-A21BFBF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4EC8-161D-4317-9AE5-D71A5A9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415B-C60D-4F59-AA01-807D70DA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E64F-A16B-4365-AABC-560CDDE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F9D3-58B9-4AAA-BAE7-F97C0D7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8831-C109-4A45-814A-D2A9392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5973-C7E4-4A97-AF1B-12EBA01B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3F57-93DA-43C1-9AB2-0641421F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E12A-C4E5-420E-AB50-CDE6A1BD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840-FFDD-4D0F-99D3-4B4587E3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DF6D-36DE-4246-AE96-A7728EA7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D6743-67B8-43E6-AB02-B3FA12C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6955-92F9-42E7-A4A2-7D21DC45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FCCCB-EF3C-409C-952D-E76F1D50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AAD3-9F64-4301-BC3D-8014EF4D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AB8C-1AB8-45C7-9BC9-38084092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9F1E7-91A0-4D25-8A5A-8D79432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7454-86E2-4C4D-9720-074C944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3CEA-1213-4D8E-A06A-4ABECFFC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83E95-AEB8-4C4A-85D9-86F0BBE2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9CF-23D1-4F93-B7F6-1FAA1D8F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4896A-0D21-45D4-9D80-AB167D84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CFF-D710-430D-A52C-E6312BA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0E4-8FC0-4520-9CB6-9DC67F4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A3F-D102-4F5E-87DA-3823214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79BF-CA04-4637-B9A7-9023DBB331AD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D53-E22A-4512-ADFC-8CD3A7A62BE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C31A-7CF5-4776-B2EE-AB0F40D78BE0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F595-CB39-461D-87C5-8D1038D8407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F085-3132-42CC-B3CA-C0E764A7EF65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23640" y="1989000"/>
            <a:ext cx="5761080" cy="2448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2060"/>
            </a:solidFill>
            <a:miter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Book Antiqua"/>
              </a:rPr>
              <a:t>Красная Книга Северного</a:t>
            </a:r>
            <a:endParaRPr b="1" lang="en-US" sz="45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858920" y="5300280"/>
            <a:ext cx="3745080" cy="57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ганов Павел 2 «В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11280" y="981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 Antiqua"/>
              </a:rPr>
              <a:t>Цель работы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научиться береч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животных и раст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 Antiqua"/>
              </a:rPr>
              <a:t>Описани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мы живем на севере столицы 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чень красивой местности.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едалеко водоемы «Долг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руды», леса, парки, и несмотр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 то что мы живем в городе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ядом с нами живут удивитель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ые растения, животные, котор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уждаются в ох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ро некоторых из них я расскаж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свое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276720" y="549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 Antiqua"/>
              </a:rPr>
              <a:t>Живот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C:\Users\-\Desktop\загруженное.jpg"/>
          <p:cNvPicPr/>
          <p:nvPr/>
        </p:nvPicPr>
        <p:blipFill>
          <a:blip r:embed="rId1"/>
          <a:stretch/>
        </p:blipFill>
        <p:spPr>
          <a:xfrm>
            <a:off x="6156360" y="69228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-\Desktop\загруженное (3).jpg"/>
          <p:cNvPicPr/>
          <p:nvPr/>
        </p:nvPicPr>
        <p:blipFill>
          <a:blip r:embed="rId2"/>
          <a:stretch/>
        </p:blipFill>
        <p:spPr>
          <a:xfrm>
            <a:off x="3492360" y="1341360"/>
            <a:ext cx="1962360" cy="147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-\Desktop\загруженное (4).jpg"/>
          <p:cNvPicPr/>
          <p:nvPr/>
        </p:nvPicPr>
        <p:blipFill>
          <a:blip r:embed="rId3"/>
          <a:stretch/>
        </p:blipFill>
        <p:spPr>
          <a:xfrm>
            <a:off x="755640" y="765000"/>
            <a:ext cx="2160720" cy="1617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-\Desktop\f0de107dad97d7fb2b705ba6a70.jpg"/>
          <p:cNvPicPr/>
          <p:nvPr/>
        </p:nvPicPr>
        <p:blipFill>
          <a:blip r:embed="rId4"/>
          <a:stretch/>
        </p:blipFill>
        <p:spPr>
          <a:xfrm>
            <a:off x="6012000" y="3357720"/>
            <a:ext cx="2411280" cy="1657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Users\-\Desktop\загруженное (5).jpg"/>
          <p:cNvPicPr/>
          <p:nvPr/>
        </p:nvPicPr>
        <p:blipFill>
          <a:blip r:embed="rId5"/>
          <a:stretch/>
        </p:blipFill>
        <p:spPr>
          <a:xfrm>
            <a:off x="3635280" y="4005360"/>
            <a:ext cx="1944720" cy="1558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:\Users\-\Desktop\загруженное (2).jpg"/>
          <p:cNvPicPr/>
          <p:nvPr/>
        </p:nvPicPr>
        <p:blipFill>
          <a:blip r:embed="rId6"/>
          <a:stretch/>
        </p:blipFill>
        <p:spPr>
          <a:xfrm>
            <a:off x="684360" y="3357720"/>
            <a:ext cx="2342880" cy="1726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8"/>
          <p:cNvSpPr/>
          <p:nvPr/>
        </p:nvSpPr>
        <p:spPr>
          <a:xfrm>
            <a:off x="755640" y="24210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постоянно живу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парке за Д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419640" y="2924280"/>
            <a:ext cx="23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живут в лесах и парках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5940360" y="2349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квор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каждый год прилетаю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Северы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396720" y="5300640"/>
            <a:ext cx="32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зерная ч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место гнездования чай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а прудах в 9 мкрн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3492360" y="558972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Ёж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кто не видел ежик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обирая в лесу гриб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6000840" y="5103720"/>
            <a:ext cx="274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У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когда тает сне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в парке появляются огромные лужи, к нам прилетают утк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3492360" y="5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C:\Users\-\Desktop\загруженное (7).jpg"/>
          <p:cNvPicPr/>
          <p:nvPr/>
        </p:nvPicPr>
        <p:blipFill>
          <a:blip r:embed="rId1"/>
          <a:stretch/>
        </p:blipFill>
        <p:spPr>
          <a:xfrm>
            <a:off x="971640" y="1052640"/>
            <a:ext cx="2666880" cy="1714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-\Desktop\images (8).jpg"/>
          <p:cNvPicPr/>
          <p:nvPr/>
        </p:nvPicPr>
        <p:blipFill>
          <a:blip r:embed="rId2"/>
          <a:stretch/>
        </p:blipFill>
        <p:spPr>
          <a:xfrm>
            <a:off x="5508720" y="1052640"/>
            <a:ext cx="2619360" cy="165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Users\-\Desktop\images (1).jpg"/>
          <p:cNvPicPr/>
          <p:nvPr/>
        </p:nvPicPr>
        <p:blipFill>
          <a:blip r:embed="rId3"/>
          <a:stretch/>
        </p:blipFill>
        <p:spPr>
          <a:xfrm>
            <a:off x="900000" y="3860640"/>
            <a:ext cx="2667240" cy="1714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-\Desktop\Новая папка (2)\images.jpg"/>
          <p:cNvPicPr/>
          <p:nvPr/>
        </p:nvPicPr>
        <p:blipFill>
          <a:blip r:embed="rId4"/>
          <a:stretch/>
        </p:blipFill>
        <p:spPr>
          <a:xfrm>
            <a:off x="5580000" y="3716280"/>
            <a:ext cx="2664000" cy="1657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539640" y="27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растет в парках и лесах, занесен в Красную книгу стран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5003640" y="2708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очень красиво в Северн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есной благодаря этим кустам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539640" y="5661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Ак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растет в сквере у «Аллеи памяти»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4932360" y="5300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Ту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растет в старой части района, очень жаль, что плохо следят  за больными деревья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1332000" y="2349360"/>
            <a:ext cx="61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Берегите природу своего район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5:48:12Z</dcterms:created>
  <dc:creator>Колганов</dc:creator>
  <dc:description/>
  <dc:language>en-US</dc:language>
  <cp:lastModifiedBy>Колганов</cp:lastModifiedBy>
  <dcterms:modified xsi:type="dcterms:W3CDTF">2014-11-30T16:45:23Z</dcterms:modified>
  <cp:revision>6</cp:revision>
  <dc:subject/>
  <dc:title>Красная Книга Северного</dc:title>
</cp:coreProperties>
</file>