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093-BAE8-4AB9-BB83-8D19403D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7C1-24FE-44F1-8CC0-F1F8C8DE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B7A7-F316-4D35-8EAF-A96DCB92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36F-3E75-4E24-963B-E814D630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888-2BFF-45AB-A24C-590B0FB8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E15-8116-433D-9C6F-C0A0F7E3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5C2-426C-4905-8E0C-1FEFEC04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6C2-6B18-4CFD-BE10-15BD020B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9A2-6DC8-491A-915E-0C1C0212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729-F724-43C8-A82F-045D049C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615-7785-46FC-8CF0-D26A8837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DCD-282B-4EA9-88E1-7BB694F8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D1A9-E889-423F-BDA3-F3394A69A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285560"/>
            <a:ext cx="74865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 Antiqua"/>
              </a:rPr>
              <a:t>Русский народ создал русский язык. Яркий как радуга после весеннего ливня меткий как стрелы певучий и богатый задушевный как песня над колыбелью.Что такое Родина?Это весь народ. Это его культура его язык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 Antiqua"/>
              </a:rPr>
              <a:t>      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Book Antiqua"/>
              </a:rPr>
              <a:t>(А. Н. Толстой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становите соответствие между предложениями и допущенными в них грамматическими ошибками: к каждой позиции первого столбца подберите соответствующую позицию из второго столб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2920" y="1500120"/>
          <a:ext cx="9001080" cy="5291280"/>
        </p:xfrm>
        <a:graphic>
          <a:graphicData uri="http://schemas.openxmlformats.org/drawingml/2006/table">
            <a:tbl>
              <a:tblPr/>
              <a:tblGrid>
                <a:gridCol w="4344840"/>
                <a:gridCol w="4656240"/>
              </a:tblGrid>
              <a:tr h="71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) Он был одним из тех, кто не любили говорить по пустяк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нарушение в построении предложения с причастным оборо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5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) Журналист беседовал с командой футболистов, принявшим участие в чемпионате 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ошибка в построении предложения с однородными 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) Переводя текст, вам понадобится словар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 нарушение в построении предложения с несогласованным прилож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5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) Ряд статей о загадках природы Заполярья напечатан в журнале «Юном натуралисте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) неправильное употребление предл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5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) Сразу же по приезду из лагеря Иринка побежала к Светке похвастаться найденным кусочком янтар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) нарушение в построении предложения с деепричастным оборо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1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)неправильное построение предложения с косвенной реч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) нарушение связи между подлежащим и сказуем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85480" y="-360"/>
            <a:ext cx="87152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В.Шефнера «Устная реч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Это так, а не инач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ы мне, друг мой, не переч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Люди стали жить богач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о беднее стала реч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Гаснет устная словесност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азговорная кра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тступают в неизвест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ечи русской чуде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отни слов родных и метких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никнув, голос потеря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Взаперти, как птицы в клетках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Дремлют в толстых словар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ы их выпусти оттуд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В быт обыденный верн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Чтобы речь - людское чудо 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е скудела в наши д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ленарное заседание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заседание организаций, в пленарном заседании выступают наиболее значимые лица, включая приглашенных гостей, происходит отчет руководителей секций, принятие общих реш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Кворум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число присутствующих на собрании организации, достаточное по закону или уставу для признания решения собрания правомоч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ерманентно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одолжающийся непрерыв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Индустрия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ромышленность, сфера производства, оснащённая современной техни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одсек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отдел, являющийся частью сек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Минимальн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самое малое, по меньшей м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Дискусс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обсуждение спорного вопроса, пробл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езидиу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руководящий орган выборной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바탕"/>
                <a:ea typeface="바탕"/>
              </a:rPr>
              <a:t>Прекрасная мысль теряет всю свою ценность, если она дурно выражена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바탕"/>
                <a:ea typeface="바탕"/>
              </a:rPr>
              <a:t>                                                                      </a:t>
            </a:r>
            <a:r>
              <a:rPr b="1" i="1" lang="ru-RU" sz="4800" spc="-1" strike="noStrike">
                <a:solidFill>
                  <a:srgbClr val="ff0000"/>
                </a:solidFill>
                <a:latin typeface="바탕"/>
                <a:ea typeface="바탕"/>
              </a:rPr>
              <a:t>(Вольтер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рфоэпическ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МЕНИЕ,  ОБЕСПЕЧЕНИЕ. МАРКЕТИНГ, УПРОЧЕНИЕ, ИКОНОПИСЬ, ТАНЦОВЩИЦА, ДОГОВОР,  СТОЛЯР, ИСПОВЕДАНИЕ, ИЗЫСК,  КАТАЛОГ,  ТУФЛЯ, ЖАЛЮЗИ, МЫТАРСТВО, БАРМ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ряд – с ударением на первом слог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ряд – с ударением на втором слог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ряд – с ударением на третьем слог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71680" y="9284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р. – зн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ние, м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кетинг,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опись, т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ля, б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м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р. – упр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ние, танц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щица, стол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, из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, мыт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р. – обесп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ние, догов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, испов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ние, катал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, жалюз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 одном из приведённых ниже предложений НЕВЕРНО употреблено выделенное слово. Исправьте лексическую ошибку, подобрав к выделенному слову пароним. Запишите подобранное слово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ОЛОТНЫЙ ил является превосходным удобрени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го доклад был ИНФОРМАТИВНЫМ и познавательны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ЕСИСТАЯ гора привлекла внимание турис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РТИСТИЧЕСКИЙ  по своей природе, он необыкновенно точно копировал поведение других люд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читься он не хотел, поэтому и вырос НЕВЕЖД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В одном из приведённых ниже предложений НЕВЕРНО употреблено выделенное слово. Исправьте лексическую ошибку, подобрав к выделенному слову пароним. Запишите подобранное слово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ольшинство отрицательных героев Н. Гоголя можно собрать в ЕДИНЫЙ образ пошл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малыша отняли ЕДИНСТВЕННУЮ игрушк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. Горький советовал критикам обращать внимание на литературу в целом, а не на ЕДИНЫЕ явления её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ветители XVIII века считали, что права и обязанности гражданина должны быть ЕДИНЫМИ для все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т человек был далеко не ЕДИНСТВЕННЫЙ в своём род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уст румяных без улыб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 грамматической оши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русской речи не люб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А.С. Пушк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икто из наших поэтов не был так скуп на слова и выражения, как  Пушкин, так и смотрел осторожно за самим собой, чтобы не сказать неумеренного и лишнего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Н.В. Гогол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дном из выделенных ниже слов допущена ошибка в образовании формы слова. Исправьте ошибку и запишите слово прави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колько ПОЛОТЕНЕ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Х тетр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ОЛТОРА метров мате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й МОЛОД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 БОТИ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дном из выделенных ниже слов допущена ошибка в образовании формы слова. Исправьте ошибку и запишите слово правиль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ТЫРЬМЯСТАМИ рубл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ЩУЩИЙ бель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 ВИШ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ее ВЫШЕ прыгну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ытные ТРЕНЕ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Установите соответствие между предложениями и допущенными в них грамматическими ошибками: к каждой позиции первого столбца подберите соответствующую позицию из второго столб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2920" y="1357200"/>
          <a:ext cx="9001080" cy="5050080"/>
        </p:xfrm>
        <a:graphic>
          <a:graphicData uri="http://schemas.openxmlformats.org/drawingml/2006/table">
            <a:tbl>
              <a:tblPr/>
              <a:tblGrid>
                <a:gridCol w="4484520"/>
                <a:gridCol w="4516560"/>
              </a:tblGrid>
              <a:tr h="63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) Увидев Андрея рядом с командиром, всё стало легко объяснимым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ошибка в употреблении производного предл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) Все, кто сегодня пришел на встречу с писателем, остался доволен интересной бесед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нарушение связи между подлежащим и сказуем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) По окончанию института я решила поступать в магистратур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 нарушение в построении предложения с несогласованным прилож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) Пушкин стал первым издателем журнала «Современник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) ошибка в построении предложения с однородными 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) Благодаря осадкам в виде снега и дождя, выпавших зимой, в почве сохранилось много влаг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) неправильное построение предложения с деепричастным оборо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) нарушение в построении предложения с причастным оборо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неправильное построение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косвенной реч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3:44:59Z</dcterms:created>
  <dc:creator>Faust</dc:creator>
  <dc:description/>
  <dc:language>en-US</dc:language>
  <cp:lastModifiedBy>Faust</cp:lastModifiedBy>
  <dcterms:modified xsi:type="dcterms:W3CDTF">2015-02-08T10:21:05Z</dcterms:modified>
  <cp:revision>19</cp:revision>
  <dc:subject/>
  <dc:title>«Подготовка к ЕГЭ. Грамотная речь как показатель культуры человека».</dc:title>
</cp:coreProperties>
</file>