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30.jpeg" ContentType="image/jpeg"/>
  <Override PartName="/ppt/media/image52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1.jpeg" ContentType="image/jpeg"/>
  <Override PartName="/ppt/media/image45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51.png" ContentType="image/png"/>
  <Override PartName="/ppt/media/image40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080-53CC-4896-85AF-A49BD3EF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F80-0716-49BA-A2C2-7084E026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F1C7-204A-4561-B094-D937EEE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39D4-B0C7-434D-BD95-ED087A89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BD2B-DEBB-4232-A68A-522BB338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C6AA-C368-4F4F-9907-E8EB80D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9B58-FD6E-41DE-949C-C2692AE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B18A-5D80-456C-B027-BF83647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9A97-F463-4DD1-A077-8956633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716F-AC14-44F6-B8E7-D5134039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2C8B-BD5B-4ECF-8B1E-E9DF0D26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8F7-3B14-42D3-8BBB-3239C285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D9C-5973-4404-AE67-4460FBE1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DBE-BDE7-4B4D-9405-8CFE084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538-0953-4F46-A919-E38813B1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7E3-C322-4DC0-9FD6-62AB3661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6C0-87FB-4330-8E9C-E85BFC6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8F6-2348-407E-8983-C330856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1A8-12D7-4723-98C5-0DE6461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FE9-0E6C-428A-B978-F835E36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C8B3-1D64-41B9-8990-EA0E47DC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BBE3-986C-4903-905C-D406F395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96F-9ACE-4512-9711-860D1ED9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E8D-6063-4AB5-AB2A-D81B408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3655-D8BF-4085-B6C0-23E2DDD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100-7D50-4CD5-8F2F-34794D9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636-BFA2-47B7-8DF3-0DAA7AFD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156-1C78-46B2-B075-9DC258E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59E7-E6ED-44F5-A835-13EC58D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4B8C-6587-45ED-A9B7-AAE978B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D34D-0E0D-4B7B-AB46-07785C25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1840-11BA-4A7A-8754-1D2EBBA1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6DD5-941C-42E9-AB26-214A1A75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66EC-A488-44C9-99BD-8A42D2E1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48A9-CF3F-4DC5-A4F5-C4E5FBCC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B7FD-C755-4FBF-B96E-0CA621ED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950C-B7BB-4052-BC2C-2D5565969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CB0-2A22-4C7B-A9DB-60C26C584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833-CBAF-4E1C-8A0D-3D716372F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18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714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br>
              <a:rPr sz="54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гарифмы и их применени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0" y="221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0" y="32860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тизация, закрепление  и углубление знаний, умений и навыков  обучающихся по применению свойств логариф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творческих способностей обучаю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культуры математическ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3" descr="C:\Documents and Settings\Администратор\Рабочий стол\Демина Л.М\Звездное небо.jpg"/>
          <p:cNvPicPr/>
          <p:nvPr/>
        </p:nvPicPr>
        <p:blipFill>
          <a:blip r:embed="rId1"/>
          <a:stretch/>
        </p:blipFill>
        <p:spPr>
          <a:xfrm>
            <a:off x="2771640" y="3807000"/>
            <a:ext cx="4068720" cy="3051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"/>
          <p:cNvSpPr/>
          <p:nvPr/>
        </p:nvSpPr>
        <p:spPr>
          <a:xfrm>
            <a:off x="214200" y="214200"/>
            <a:ext cx="89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ы распределяют звезды по степеням видимой яр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ветила первой, второй, третьей и т.д. звезд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ая яркость звезд составляет геометрическую прогрессию со знаменателем 2,5. Поэтому «величина» звезды представляет собой не что иное,как логарифм ее физической яркости. Оценива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идимую яркость звезд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строном оперир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таблицей логарифмов, составленной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основанию  2,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Демина Л.М\Гидроузел.jpg"/>
          <p:cNvPicPr/>
          <p:nvPr/>
        </p:nvPicPr>
        <p:blipFill>
          <a:blip r:embed="rId1"/>
          <a:stretch/>
        </p:blipFill>
        <p:spPr>
          <a:xfrm>
            <a:off x="900000" y="765000"/>
            <a:ext cx="7458120" cy="45104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"/>
          <p:cNvSpPr/>
          <p:nvPr/>
        </p:nvSpPr>
        <p:spPr>
          <a:xfrm>
            <a:off x="0" y="538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ым образом оценивается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омкость шу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редное влияние промышленных шумов на здоровье рабочих и производительность труда побудило выработать приемы точной числовой оценки громкости шума. Единицей громкости служит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практически – его десятая дол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бе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Заголовок 1"/>
          <p:cNvGrpSpPr/>
          <p:nvPr/>
        </p:nvGrpSpPr>
        <p:grpSpPr>
          <a:xfrm>
            <a:off x="-60480" y="-36360"/>
            <a:ext cx="9259920" cy="1322280"/>
            <a:chOff x="-60480" y="-36360"/>
            <a:chExt cx="9259920" cy="1322280"/>
          </a:xfrm>
        </p:grpSpPr>
        <p:pic>
          <p:nvPicPr>
            <p:cNvPr id="4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0"/>
              <a:ext cx="9144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езды, шум и логарифм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5214960" y="1571760"/>
            <a:ext cx="3929040" cy="41148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сть шума и яркость звезд оцениваются одинаковым образом – по логарифмической шкале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3886200" cy="26510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357120" y="5214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сть шу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в бе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сятично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физической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Заголовок 1"/>
          <p:cNvGrpSpPr/>
          <p:nvPr/>
        </p:nvGrpSpPr>
        <p:grpSpPr>
          <a:xfrm>
            <a:off x="-60480" y="-36360"/>
            <a:ext cx="9259920" cy="1322280"/>
            <a:chOff x="-60480" y="-36360"/>
            <a:chExt cx="9259920" cy="1322280"/>
          </a:xfrm>
        </p:grpSpPr>
        <p:pic>
          <p:nvPicPr>
            <p:cNvPr id="46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0" y="0"/>
              <a:ext cx="9144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 логарифм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 txBox="1"/>
          <p:nvPr/>
        </p:nvSpPr>
        <p:spPr>
          <a:xfrm>
            <a:off x="6071760" y="1285920"/>
            <a:ext cx="2143080" cy="714240"/>
          </a:xfrm>
          <a:prstGeom prst="rect">
            <a:avLst/>
          </a:prstGeom>
          <a:solidFill>
            <a:srgbClr val="fac09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2" name="TextBox 3"/>
          <p:cNvSpPr/>
          <p:nvPr/>
        </p:nvSpPr>
        <p:spPr>
          <a:xfrm>
            <a:off x="3214800" y="2214720"/>
            <a:ext cx="52149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4"/>
          <p:cNvSpPr/>
          <p:nvPr/>
        </p:nvSpPr>
        <p:spPr>
          <a:xfrm>
            <a:off x="5143680" y="2143080"/>
            <a:ext cx="4000320" cy="4117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емые ступени частот звуковых колебаний представляют собой логарифмы. Только основание этих логарифмов равно 2 (а не 10, как принято в других случаях). Номера клавишей рояля представляют собой логарифмы чисел колебаний соответствующих зву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3073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Заголовок 1"/>
          <p:cNvGrpSpPr/>
          <p:nvPr/>
        </p:nvGrpSpPr>
        <p:grpSpPr>
          <a:xfrm>
            <a:off x="-60480" y="176040"/>
            <a:ext cx="9259920" cy="1324080"/>
            <a:chOff x="-60480" y="176040"/>
            <a:chExt cx="9259920" cy="1324080"/>
          </a:xfrm>
        </p:grpSpPr>
        <p:pic>
          <p:nvPicPr>
            <p:cNvPr id="4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176040"/>
              <a:ext cx="925992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0" y="214200"/>
              <a:ext cx="91440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сихолог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 txBox="1"/>
          <p:nvPr/>
        </p:nvSpPr>
        <p:spPr>
          <a:xfrm>
            <a:off x="4572000" y="1714320"/>
            <a:ext cx="439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логарифмы, ученые пришли к выводу о том, что организм как бы «логарифмирует» полученные им раздражения. Здесь действует так называемый «психофизический закон Фехнера»: величина ощущения пропорциональна логарифму величины раздражения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м, логарифмы вторгаюсь и в область психологи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30862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ическая спирал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4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ская кривая, описываемая точкой, движущейся по прямой, которая вращается около одной из своих точек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(полюса логарифмической спирали) так, что логарифм расстояния движущейся точки от полюса изменяется пропорционально углу поворота; логарифмическая спираль пересекает под постоянным углом a все прямые, выходящие из полюса.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81" name="Picture 2" descr="C:\Documents and Settings\Администратор\Рабочий стол\Демина Л.М\Спираль2.jpg"/>
          <p:cNvPicPr/>
          <p:nvPr/>
        </p:nvPicPr>
        <p:blipFill>
          <a:blip r:embed="rId1"/>
          <a:stretch/>
        </p:blipFill>
        <p:spPr>
          <a:xfrm>
            <a:off x="2700360" y="3933720"/>
            <a:ext cx="35132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5428800" y="1600200"/>
            <a:ext cx="3257640" cy="41148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ке логарифмическая спираль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упоминается в 1638 году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ене Декартом</a:t>
            </a:r>
            <a:r>
              <a:rPr b="0" lang="ru-RU" sz="2800" spc="-1" strike="noStrike">
                <a:solidFill>
                  <a:srgbClr val="ff0066"/>
                </a:solidFill>
                <a:latin typeface="Sego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83" name="Picture 3" descr="Декарт"/>
          <p:cNvPicPr/>
          <p:nvPr/>
        </p:nvPicPr>
        <p:blipFill>
          <a:blip r:embed="rId1"/>
          <a:stretch/>
        </p:blipFill>
        <p:spPr>
          <a:xfrm>
            <a:off x="1547640" y="1916280"/>
            <a:ext cx="2808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Заголовок 1"/>
          <p:cNvGrpSpPr/>
          <p:nvPr/>
        </p:nvGrpSpPr>
        <p:grpSpPr>
          <a:xfrm>
            <a:off x="-60480" y="-36360"/>
            <a:ext cx="9259920" cy="1255680"/>
            <a:chOff x="-60480" y="-36360"/>
            <a:chExt cx="9259920" cy="1255680"/>
          </a:xfrm>
        </p:grpSpPr>
        <p:pic>
          <p:nvPicPr>
            <p:cNvPr id="48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арифмическая спираль в природ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Box 4"/>
          <p:cNvSpPr/>
          <p:nvPr/>
        </p:nvSpPr>
        <p:spPr>
          <a:xfrm>
            <a:off x="4357800" y="1357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3571920" y="1571760"/>
            <a:ext cx="37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3429000" y="1928880"/>
            <a:ext cx="41432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2214720" y="1428840"/>
            <a:ext cx="4572000" cy="2396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наиболее распространенных пауков, сплетая паутину, закручивает нити вокруг центра по логарифмической 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2"/>
          <a:srcRect l="0" t="0" r="-165" b="0"/>
          <a:stretch/>
        </p:blipFill>
        <p:spPr>
          <a:xfrm>
            <a:off x="3276720" y="4508640"/>
            <a:ext cx="3065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Заголовок 1"/>
          <p:cNvGrpSpPr/>
          <p:nvPr/>
        </p:nvGrpSpPr>
        <p:grpSpPr>
          <a:xfrm>
            <a:off x="-60480" y="-36360"/>
            <a:ext cx="9259920" cy="1255680"/>
            <a:chOff x="-60480" y="-36360"/>
            <a:chExt cx="9259920" cy="1255680"/>
          </a:xfrm>
        </p:grpSpPr>
        <p:pic>
          <p:nvPicPr>
            <p:cNvPr id="4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арифмическая спираль в природ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Прямоугольник 5"/>
          <p:cNvSpPr/>
          <p:nvPr/>
        </p:nvSpPr>
        <p:spPr>
          <a:xfrm>
            <a:off x="5857920" y="1500120"/>
            <a:ext cx="3071880" cy="4359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 птицы кружат над добычей по логарифмической спирали. Дело в том, что они лучше видят, если смотрят не прямо на добычу, а чуть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288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Documents and Settings\Администратор\Рабочий стол\Демина Л.М\Раковина1.jpg"/>
          <p:cNvPicPr/>
          <p:nvPr/>
        </p:nvPicPr>
        <p:blipFill>
          <a:blip r:embed="rId1"/>
          <a:stretch/>
        </p:blipFill>
        <p:spPr>
          <a:xfrm>
            <a:off x="0" y="1700280"/>
            <a:ext cx="4224240" cy="31687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"/>
          <p:cNvSpPr/>
          <p:nvPr/>
        </p:nvSpPr>
        <p:spPr>
          <a:xfrm>
            <a:off x="3429000" y="457200"/>
            <a:ext cx="5486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ые существа обычно раст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я общее начер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й формы.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ще всего они растут во всех направл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рослое сущест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ыше и толще детен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раковины морски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т расти лишь в од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не слишком вытяг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 приходится скруч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ем рост совершается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охраняется подобие раков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ее первоначальной фор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повторение свойств логарифмов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логарифма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) Вычислите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числите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числите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 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айдите х:            = 2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5143680" y="4929120"/>
            <a:ext cx="799920" cy="4478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6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Администратор\Рабочий стол\Демина Л.М\Раковина2.jpg"/>
          <p:cNvPicPr/>
          <p:nvPr/>
        </p:nvPicPr>
        <p:blipFill>
          <a:blip r:embed="rId1"/>
          <a:stretch/>
        </p:blipFill>
        <p:spPr>
          <a:xfrm>
            <a:off x="0" y="1628640"/>
            <a:ext cx="3735360" cy="28641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285840" y="571680"/>
            <a:ext cx="885816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овины моллюсков, ули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га млекопитающ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учены по логарифмической спир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сказать,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та спираль, является математическим символом соотношения формы и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Администратор\Рабочий стол\Демина Л.М\ШишкаРис.jpg"/>
          <p:cNvPicPr/>
          <p:nvPr/>
        </p:nvPicPr>
        <p:blipFill>
          <a:blip r:embed="rId1"/>
          <a:stretch/>
        </p:blipFill>
        <p:spPr>
          <a:xfrm>
            <a:off x="3132000" y="2421000"/>
            <a:ext cx="3672000" cy="32400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"/>
          <p:cNvSpPr/>
          <p:nvPr/>
        </p:nvSpPr>
        <p:spPr>
          <a:xfrm>
            <a:off x="1000080" y="214200"/>
            <a:ext cx="7767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чки в подсолнухе расположены по дугам,                                                      близким к логарифм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Администратор\Рабочий стол\Демина Л.М\Шишки.jpg"/>
          <p:cNvPicPr/>
          <p:nvPr/>
        </p:nvPicPr>
        <p:blipFill>
          <a:blip r:embed="rId1"/>
          <a:stretch/>
        </p:blipFill>
        <p:spPr>
          <a:xfrm>
            <a:off x="3132000" y="2997360"/>
            <a:ext cx="4091040" cy="30686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3"/>
          <p:cNvSpPr/>
          <p:nvPr/>
        </p:nvSpPr>
        <p:spPr>
          <a:xfrm>
            <a:off x="357120" y="29556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шка хвойного дерев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чешуек на конической поверхности отличается изяществом, рациональностью и совершенством геометрической формы. Весь конус развивается по двум спиралеобразным вит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C:\Documents and Settings\Администратор\Рабочий стол\Демина Л.М\Галактика.jpg"/>
          <p:cNvPicPr/>
          <p:nvPr/>
        </p:nvPicPr>
        <p:blipFill>
          <a:blip r:embed="rId1"/>
          <a:stretch/>
        </p:blipFill>
        <p:spPr>
          <a:xfrm>
            <a:off x="539640" y="1341360"/>
            <a:ext cx="4862520" cy="36464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2"/>
          <p:cNvSpPr/>
          <p:nvPr/>
        </p:nvSpPr>
        <p:spPr>
          <a:xfrm>
            <a:off x="6000840" y="214200"/>
            <a:ext cx="314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логарифмичесим спиралям закручены и многие Галак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астности Галактика, которой принадлежит Солнеч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группами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4481640" y="2799360"/>
            <a:ext cx="1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>
            <a:off x="2160" y="3967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4"/>
          <p:cNvSpPr/>
          <p:nvPr/>
        </p:nvSpPr>
        <p:spPr>
          <a:xfrm>
            <a:off x="4481640" y="564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7"/>
          <p:cNvSpPr/>
          <p:nvPr/>
        </p:nvSpPr>
        <p:spPr>
          <a:xfrm>
            <a:off x="4481640" y="564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27"/>
          <p:cNvGrpSpPr/>
          <p:nvPr/>
        </p:nvGrpSpPr>
        <p:grpSpPr>
          <a:xfrm>
            <a:off x="2857680" y="1716840"/>
            <a:ext cx="3862080" cy="726480"/>
            <a:chOff x="2857680" y="1716840"/>
            <a:chExt cx="3862080" cy="726480"/>
          </a:xfrm>
        </p:grpSpPr>
        <p:sp>
          <p:nvSpPr>
            <p:cNvPr id="524" name="Rectangle 8"/>
            <p:cNvSpPr/>
            <p:nvPr/>
          </p:nvSpPr>
          <p:spPr>
            <a:xfrm>
              <a:off x="2857680" y="1716840"/>
              <a:ext cx="7855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19" descr=""/>
            <p:cNvPicPr/>
            <p:nvPr/>
          </p:nvPicPr>
          <p:blipFill>
            <a:blip r:embed="rId1"/>
            <a:stretch/>
          </p:blipFill>
          <p:spPr>
            <a:xfrm>
              <a:off x="3357720" y="1785960"/>
              <a:ext cx="3362040" cy="65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Группа 42"/>
          <p:cNvGrpSpPr/>
          <p:nvPr/>
        </p:nvGrpSpPr>
        <p:grpSpPr>
          <a:xfrm>
            <a:off x="2857680" y="932040"/>
            <a:ext cx="4205160" cy="3144600"/>
            <a:chOff x="2857680" y="932040"/>
            <a:chExt cx="4205160" cy="3144600"/>
          </a:xfrm>
        </p:grpSpPr>
        <p:sp>
          <p:nvSpPr>
            <p:cNvPr id="527" name="Rectangle 7"/>
            <p:cNvSpPr/>
            <p:nvPr/>
          </p:nvSpPr>
          <p:spPr>
            <a:xfrm>
              <a:off x="2857680" y="932040"/>
              <a:ext cx="285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.Вычислите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)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Группа 28"/>
            <p:cNvGrpSpPr/>
            <p:nvPr/>
          </p:nvGrpSpPr>
          <p:grpSpPr>
            <a:xfrm>
              <a:off x="2857680" y="2286000"/>
              <a:ext cx="4205160" cy="619200"/>
              <a:chOff x="2857680" y="2286000"/>
              <a:chExt cx="4205160" cy="619200"/>
            </a:xfrm>
          </p:grpSpPr>
          <p:sp>
            <p:nvSpPr>
              <p:cNvPr id="529" name="Rectangle 9"/>
              <p:cNvSpPr/>
              <p:nvPr/>
            </p:nvSpPr>
            <p:spPr>
              <a:xfrm>
                <a:off x="2857680" y="2287440"/>
                <a:ext cx="71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)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7720" y="2286000"/>
                <a:ext cx="370512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1" name="Группа 41"/>
            <p:cNvGrpSpPr/>
            <p:nvPr/>
          </p:nvGrpSpPr>
          <p:grpSpPr>
            <a:xfrm>
              <a:off x="2857680" y="1285920"/>
              <a:ext cx="2828880" cy="2790720"/>
              <a:chOff x="2857680" y="1285920"/>
              <a:chExt cx="2828880" cy="2790720"/>
            </a:xfrm>
          </p:grpSpPr>
          <p:pic>
            <p:nvPicPr>
              <p:cNvPr id="532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640" y="1285920"/>
                <a:ext cx="1428840" cy="64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3" name="Группа 29"/>
              <p:cNvGrpSpPr/>
              <p:nvPr/>
            </p:nvGrpSpPr>
            <p:grpSpPr>
              <a:xfrm>
                <a:off x="2857680" y="2857320"/>
                <a:ext cx="2828880" cy="1219320"/>
                <a:chOff x="2857680" y="2857320"/>
                <a:chExt cx="2828880" cy="1219320"/>
              </a:xfrm>
            </p:grpSpPr>
            <p:sp>
              <p:nvSpPr>
                <p:cNvPr id="534" name="Rectangle 10"/>
                <p:cNvSpPr/>
                <p:nvPr/>
              </p:nvSpPr>
              <p:spPr>
                <a:xfrm>
                  <a:off x="2857680" y="2929680"/>
                  <a:ext cx="500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)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5" name="Picture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29000" y="2857320"/>
                  <a:ext cx="2257560" cy="121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36" name="Rectangle 40"/>
          <p:cNvSpPr/>
          <p:nvPr/>
        </p:nvSpPr>
        <p:spPr>
          <a:xfrm>
            <a:off x="4481640" y="88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Группа 40"/>
          <p:cNvGrpSpPr/>
          <p:nvPr/>
        </p:nvGrpSpPr>
        <p:grpSpPr>
          <a:xfrm>
            <a:off x="1857240" y="3957840"/>
            <a:ext cx="5724720" cy="2590560"/>
            <a:chOff x="1857240" y="3957840"/>
            <a:chExt cx="5724720" cy="2590560"/>
          </a:xfrm>
        </p:grpSpPr>
        <p:sp>
          <p:nvSpPr>
            <p:cNvPr id="541" name="Rectangle 11"/>
            <p:cNvSpPr/>
            <p:nvPr/>
          </p:nvSpPr>
          <p:spPr>
            <a:xfrm>
              <a:off x="2928600" y="3957840"/>
              <a:ext cx="2357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Найдите х: </a:t>
              </a:r>
              <a:br>
                <a:rPr sz="24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Picture 30" descr=""/>
            <p:cNvPicPr/>
            <p:nvPr/>
          </p:nvPicPr>
          <p:blipFill>
            <a:blip r:embed="rId5"/>
            <a:stretch/>
          </p:blipFill>
          <p:spPr>
            <a:xfrm>
              <a:off x="2214360" y="4500720"/>
              <a:ext cx="4353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38" descr=""/>
            <p:cNvPicPr/>
            <p:nvPr/>
          </p:nvPicPr>
          <p:blipFill>
            <a:blip r:embed="rId6"/>
            <a:stretch/>
          </p:blipFill>
          <p:spPr>
            <a:xfrm>
              <a:off x="1857240" y="5000760"/>
              <a:ext cx="572472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4" descr=""/>
            <p:cNvPicPr/>
            <p:nvPr/>
          </p:nvPicPr>
          <p:blipFill>
            <a:blip r:embed="rId7"/>
            <a:stretch/>
          </p:blipFill>
          <p:spPr>
            <a:xfrm>
              <a:off x="3214440" y="5429160"/>
              <a:ext cx="213372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37" descr=""/>
            <p:cNvPicPr/>
            <p:nvPr/>
          </p:nvPicPr>
          <p:blipFill>
            <a:blip r:embed="rId8"/>
            <a:stretch/>
          </p:blipFill>
          <p:spPr>
            <a:xfrm>
              <a:off x="3000240" y="6072480"/>
              <a:ext cx="2724120" cy="4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Rectangle 3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(1;2); № 305(1-3)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571680"/>
            <a:ext cx="4500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        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0" y="571680"/>
            <a:ext cx="4572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085760" cy="4759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214960" y="571680"/>
            <a:ext cx="1085760" cy="4759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085760" cy="4762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4"/>
          <a:stretch/>
        </p:blipFill>
        <p:spPr>
          <a:xfrm>
            <a:off x="5214960" y="1143000"/>
            <a:ext cx="1085760" cy="4762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"/>
          <p:cNvPicPr/>
          <p:nvPr/>
        </p:nvPicPr>
        <p:blipFill>
          <a:blip r:embed="rId5"/>
          <a:stretch/>
        </p:blipFill>
        <p:spPr>
          <a:xfrm>
            <a:off x="642960" y="1571760"/>
            <a:ext cx="895320" cy="70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3" descr=""/>
          <p:cNvPicPr/>
          <p:nvPr/>
        </p:nvPicPr>
        <p:blipFill>
          <a:blip r:embed="rId6"/>
          <a:stretch/>
        </p:blipFill>
        <p:spPr>
          <a:xfrm>
            <a:off x="5286240" y="1428840"/>
            <a:ext cx="885960" cy="8665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5" descr=""/>
          <p:cNvPicPr/>
          <p:nvPr/>
        </p:nvPicPr>
        <p:blipFill>
          <a:blip r:embed="rId7"/>
          <a:stretch/>
        </p:blipFill>
        <p:spPr>
          <a:xfrm>
            <a:off x="642960" y="2643120"/>
            <a:ext cx="914400" cy="5047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7" descr=""/>
          <p:cNvPicPr/>
          <p:nvPr/>
        </p:nvPicPr>
        <p:blipFill>
          <a:blip r:embed="rId8"/>
          <a:stretch/>
        </p:blipFill>
        <p:spPr>
          <a:xfrm>
            <a:off x="5286240" y="2643120"/>
            <a:ext cx="914400" cy="5047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9" descr=""/>
          <p:cNvPicPr/>
          <p:nvPr/>
        </p:nvPicPr>
        <p:blipFill>
          <a:blip r:embed="rId9"/>
          <a:stretch/>
        </p:blipFill>
        <p:spPr>
          <a:xfrm>
            <a:off x="571680" y="3143160"/>
            <a:ext cx="1123920" cy="50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1" descr=""/>
          <p:cNvPicPr/>
          <p:nvPr/>
        </p:nvPicPr>
        <p:blipFill>
          <a:blip r:embed="rId10"/>
          <a:stretch/>
        </p:blipFill>
        <p:spPr>
          <a:xfrm>
            <a:off x="5214960" y="3143160"/>
            <a:ext cx="1123920" cy="505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Группа 38"/>
          <p:cNvGrpSpPr/>
          <p:nvPr/>
        </p:nvGrpSpPr>
        <p:grpSpPr>
          <a:xfrm>
            <a:off x="642960" y="4214880"/>
            <a:ext cx="2328840" cy="476280"/>
            <a:chOff x="642960" y="4214880"/>
            <a:chExt cx="2328840" cy="476280"/>
          </a:xfrm>
        </p:grpSpPr>
        <p:pic>
          <p:nvPicPr>
            <p:cNvPr id="390" name="Picture 23" descr=""/>
            <p:cNvPicPr/>
            <p:nvPr/>
          </p:nvPicPr>
          <p:blipFill>
            <a:blip r:embed="rId11"/>
            <a:stretch/>
          </p:blipFill>
          <p:spPr>
            <a:xfrm>
              <a:off x="642960" y="4214880"/>
              <a:ext cx="1085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Box 30"/>
            <p:cNvSpPr/>
            <p:nvPr/>
          </p:nvSpPr>
          <p:spPr>
            <a:xfrm>
              <a:off x="1643040" y="4214880"/>
              <a:ext cx="5713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25" descr=""/>
            <p:cNvPicPr/>
            <p:nvPr/>
          </p:nvPicPr>
          <p:blipFill>
            <a:blip r:embed="rId12"/>
            <a:stretch/>
          </p:blipFill>
          <p:spPr>
            <a:xfrm>
              <a:off x="2000160" y="4214880"/>
              <a:ext cx="971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Группа 39"/>
          <p:cNvGrpSpPr/>
          <p:nvPr/>
        </p:nvGrpSpPr>
        <p:grpSpPr>
          <a:xfrm>
            <a:off x="5286240" y="4214880"/>
            <a:ext cx="2610000" cy="476280"/>
            <a:chOff x="5286240" y="4214880"/>
            <a:chExt cx="2610000" cy="476280"/>
          </a:xfrm>
        </p:grpSpPr>
        <p:pic>
          <p:nvPicPr>
            <p:cNvPr id="396" name="Picture 27" descr=""/>
            <p:cNvPicPr/>
            <p:nvPr/>
          </p:nvPicPr>
          <p:blipFill>
            <a:blip r:embed="rId13"/>
            <a:stretch/>
          </p:blipFill>
          <p:spPr>
            <a:xfrm>
              <a:off x="5286240" y="4214880"/>
              <a:ext cx="12859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35"/>
            <p:cNvSpPr/>
            <p:nvPr/>
          </p:nvSpPr>
          <p:spPr>
            <a:xfrm>
              <a:off x="6500880" y="4214880"/>
              <a:ext cx="5713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Picture 29" descr=""/>
            <p:cNvPicPr/>
            <p:nvPr/>
          </p:nvPicPr>
          <p:blipFill>
            <a:blip r:embed="rId14"/>
            <a:stretch/>
          </p:blipFill>
          <p:spPr>
            <a:xfrm>
              <a:off x="7000920" y="4214880"/>
              <a:ext cx="89532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Группа 44"/>
          <p:cNvGrpSpPr/>
          <p:nvPr/>
        </p:nvGrpSpPr>
        <p:grpSpPr>
          <a:xfrm>
            <a:off x="785880" y="4643280"/>
            <a:ext cx="1714320" cy="557280"/>
            <a:chOff x="785880" y="4643280"/>
            <a:chExt cx="1714320" cy="557280"/>
          </a:xfrm>
        </p:grpSpPr>
        <p:pic>
          <p:nvPicPr>
            <p:cNvPr id="401" name="Picture 31" descr=""/>
            <p:cNvPicPr/>
            <p:nvPr/>
          </p:nvPicPr>
          <p:blipFill>
            <a:blip r:embed="rId15"/>
            <a:stretch/>
          </p:blipFill>
          <p:spPr>
            <a:xfrm>
              <a:off x="785880" y="4714560"/>
              <a:ext cx="8665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42"/>
            <p:cNvSpPr/>
            <p:nvPr/>
          </p:nvSpPr>
          <p:spPr>
            <a:xfrm>
              <a:off x="1571760" y="4857480"/>
              <a:ext cx="556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43"/>
            <p:cNvSpPr/>
            <p:nvPr/>
          </p:nvSpPr>
          <p:spPr>
            <a:xfrm>
              <a:off x="1857240" y="4643280"/>
              <a:ext cx="642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51"/>
          <p:cNvGrpSpPr/>
          <p:nvPr/>
        </p:nvGrpSpPr>
        <p:grpSpPr>
          <a:xfrm>
            <a:off x="5357880" y="4714920"/>
            <a:ext cx="1643040" cy="557280"/>
            <a:chOff x="5357880" y="4714920"/>
            <a:chExt cx="1643040" cy="557280"/>
          </a:xfrm>
        </p:grpSpPr>
        <p:sp>
          <p:nvSpPr>
            <p:cNvPr id="407" name="TextBox 47"/>
            <p:cNvSpPr/>
            <p:nvPr/>
          </p:nvSpPr>
          <p:spPr>
            <a:xfrm>
              <a:off x="6143760" y="4857840"/>
              <a:ext cx="500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35" descr=""/>
            <p:cNvPicPr/>
            <p:nvPr/>
          </p:nvPicPr>
          <p:blipFill>
            <a:blip r:embed="rId16"/>
            <a:stretch/>
          </p:blipFill>
          <p:spPr>
            <a:xfrm>
              <a:off x="5357880" y="471492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50"/>
            <p:cNvSpPr/>
            <p:nvPr/>
          </p:nvSpPr>
          <p:spPr>
            <a:xfrm>
              <a:off x="6429600" y="4714920"/>
              <a:ext cx="5713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Группа 56"/>
          <p:cNvGrpSpPr/>
          <p:nvPr/>
        </p:nvGrpSpPr>
        <p:grpSpPr>
          <a:xfrm>
            <a:off x="714240" y="5143680"/>
            <a:ext cx="1643040" cy="556920"/>
            <a:chOff x="714240" y="5143680"/>
            <a:chExt cx="1643040" cy="556920"/>
          </a:xfrm>
        </p:grpSpPr>
        <p:pic>
          <p:nvPicPr>
            <p:cNvPr id="412" name="Picture 37" descr=""/>
            <p:cNvPicPr/>
            <p:nvPr/>
          </p:nvPicPr>
          <p:blipFill>
            <a:blip r:embed="rId17"/>
            <a:stretch/>
          </p:blipFill>
          <p:spPr>
            <a:xfrm>
              <a:off x="714240" y="521496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54"/>
            <p:cNvSpPr/>
            <p:nvPr/>
          </p:nvSpPr>
          <p:spPr>
            <a:xfrm>
              <a:off x="1571400" y="5286240"/>
              <a:ext cx="4284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55"/>
            <p:cNvSpPr/>
            <p:nvPr/>
          </p:nvSpPr>
          <p:spPr>
            <a:xfrm>
              <a:off x="1857240" y="5143680"/>
              <a:ext cx="5000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61"/>
          <p:cNvGrpSpPr/>
          <p:nvPr/>
        </p:nvGrpSpPr>
        <p:grpSpPr>
          <a:xfrm>
            <a:off x="5357880" y="5214960"/>
            <a:ext cx="1643040" cy="485640"/>
            <a:chOff x="5357880" y="5214960"/>
            <a:chExt cx="1643040" cy="485640"/>
          </a:xfrm>
        </p:grpSpPr>
        <p:pic>
          <p:nvPicPr>
            <p:cNvPr id="417" name="Picture 39" descr=""/>
            <p:cNvPicPr/>
            <p:nvPr/>
          </p:nvPicPr>
          <p:blipFill>
            <a:blip r:embed="rId18"/>
            <a:stretch/>
          </p:blipFill>
          <p:spPr>
            <a:xfrm>
              <a:off x="5357880" y="521496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59"/>
            <p:cNvSpPr/>
            <p:nvPr/>
          </p:nvSpPr>
          <p:spPr>
            <a:xfrm>
              <a:off x="6215040" y="5286240"/>
              <a:ext cx="4284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60"/>
            <p:cNvSpPr/>
            <p:nvPr/>
          </p:nvSpPr>
          <p:spPr>
            <a:xfrm>
              <a:off x="6500880" y="5214960"/>
              <a:ext cx="5000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69"/>
          <p:cNvGrpSpPr/>
          <p:nvPr/>
        </p:nvGrpSpPr>
        <p:grpSpPr>
          <a:xfrm>
            <a:off x="714240" y="5643720"/>
            <a:ext cx="1771920" cy="704520"/>
            <a:chOff x="714240" y="5643720"/>
            <a:chExt cx="1771920" cy="704520"/>
          </a:xfrm>
        </p:grpSpPr>
        <p:pic>
          <p:nvPicPr>
            <p:cNvPr id="422" name="Picture 41" descr=""/>
            <p:cNvPicPr/>
            <p:nvPr/>
          </p:nvPicPr>
          <p:blipFill>
            <a:blip r:embed="rId19"/>
            <a:stretch/>
          </p:blipFill>
          <p:spPr>
            <a:xfrm>
              <a:off x="714240" y="5643720"/>
              <a:ext cx="866880" cy="70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67"/>
            <p:cNvSpPr/>
            <p:nvPr/>
          </p:nvSpPr>
          <p:spPr>
            <a:xfrm>
              <a:off x="1500120" y="5715000"/>
              <a:ext cx="5572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68"/>
            <p:cNvSpPr/>
            <p:nvPr/>
          </p:nvSpPr>
          <p:spPr>
            <a:xfrm>
              <a:off x="1857600" y="5643720"/>
              <a:ext cx="6285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Группа 73"/>
          <p:cNvGrpSpPr/>
          <p:nvPr/>
        </p:nvGrpSpPr>
        <p:grpSpPr>
          <a:xfrm>
            <a:off x="5357880" y="5643720"/>
            <a:ext cx="1771560" cy="776160"/>
            <a:chOff x="5357880" y="5643720"/>
            <a:chExt cx="1771560" cy="776160"/>
          </a:xfrm>
        </p:grpSpPr>
        <p:sp>
          <p:nvSpPr>
            <p:cNvPr id="427" name="TextBox 66"/>
            <p:cNvSpPr/>
            <p:nvPr/>
          </p:nvSpPr>
          <p:spPr>
            <a:xfrm>
              <a:off x="6143760" y="5786280"/>
              <a:ext cx="5572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43" descr=""/>
            <p:cNvPicPr/>
            <p:nvPr/>
          </p:nvPicPr>
          <p:blipFill>
            <a:blip r:embed="rId20"/>
            <a:stretch/>
          </p:blipFill>
          <p:spPr>
            <a:xfrm>
              <a:off x="5357880" y="5715000"/>
              <a:ext cx="866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72"/>
            <p:cNvSpPr/>
            <p:nvPr/>
          </p:nvSpPr>
          <p:spPr>
            <a:xfrm>
              <a:off x="6500880" y="5643720"/>
              <a:ext cx="6285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Группа 78"/>
          <p:cNvGrpSpPr/>
          <p:nvPr/>
        </p:nvGrpSpPr>
        <p:grpSpPr>
          <a:xfrm>
            <a:off x="714240" y="6215040"/>
            <a:ext cx="2257560" cy="485640"/>
            <a:chOff x="714240" y="6215040"/>
            <a:chExt cx="2257560" cy="485640"/>
          </a:xfrm>
        </p:grpSpPr>
        <p:sp>
          <p:nvSpPr>
            <p:cNvPr id="433" name="TextBox 65"/>
            <p:cNvSpPr/>
            <p:nvPr/>
          </p:nvSpPr>
          <p:spPr>
            <a:xfrm>
              <a:off x="1571400" y="6286320"/>
              <a:ext cx="5572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45" descr=""/>
            <p:cNvPicPr/>
            <p:nvPr/>
          </p:nvPicPr>
          <p:blipFill>
            <a:blip r:embed="rId21"/>
            <a:stretch/>
          </p:blipFill>
          <p:spPr>
            <a:xfrm>
              <a:off x="714240" y="6215040"/>
              <a:ext cx="8668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7" descr=""/>
            <p:cNvPicPr/>
            <p:nvPr/>
          </p:nvPicPr>
          <p:blipFill>
            <a:blip r:embed="rId22"/>
            <a:stretch/>
          </p:blipFill>
          <p:spPr>
            <a:xfrm>
              <a:off x="2000160" y="6215040"/>
              <a:ext cx="971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9" descr=""/>
          <p:cNvPicPr/>
          <p:nvPr/>
        </p:nvPicPr>
        <p:blipFill>
          <a:blip r:embed="rId23"/>
          <a:stretch/>
        </p:blipFill>
        <p:spPr>
          <a:xfrm>
            <a:off x="5286240" y="6215040"/>
            <a:ext cx="2419560" cy="47628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ая соединительная линия 82"/>
          <p:cNvSpPr/>
          <p:nvPr/>
        </p:nvSpPr>
        <p:spPr>
          <a:xfrm>
            <a:off x="4285440" y="571680"/>
            <a:ext cx="71640" cy="6286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83"/>
          <p:cNvSpPr/>
          <p:nvPr/>
        </p:nvSpPr>
        <p:spPr>
          <a:xfrm>
            <a:off x="642960" y="214308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g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84"/>
          <p:cNvSpPr/>
          <p:nvPr/>
        </p:nvSpPr>
        <p:spPr>
          <a:xfrm>
            <a:off x="5143680" y="2143080"/>
            <a:ext cx="914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86"/>
          <p:cNvSpPr/>
          <p:nvPr/>
        </p:nvSpPr>
        <p:spPr>
          <a:xfrm>
            <a:off x="654480" y="37148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g 50 + lg 2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87"/>
          <p:cNvSpPr/>
          <p:nvPr/>
        </p:nvSpPr>
        <p:spPr>
          <a:xfrm>
            <a:off x="9644040" y="2286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8"/>
          <p:cNvSpPr/>
          <p:nvPr/>
        </p:nvSpPr>
        <p:spPr>
          <a:xfrm>
            <a:off x="5223600" y="357192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g 4 + lg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71720" y="642960"/>
            <a:ext cx="2944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97760" y="714240"/>
            <a:ext cx="2946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47" name="Прямая соединительная линия 5"/>
          <p:cNvSpPr/>
          <p:nvPr/>
        </p:nvSpPr>
        <p:spPr>
          <a:xfrm>
            <a:off x="4572000" y="642960"/>
            <a:ext cx="0" cy="62150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им оценки…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х ответов - оценка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10                                                  «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8                                                  «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«2»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026" descr="C:\Documents and Settings\Администратор\Рабочий стол\Демина Л.М\Корабль.jpg"/>
          <p:cNvPicPr/>
          <p:nvPr/>
        </p:nvPicPr>
        <p:blipFill>
          <a:blip r:embed="rId1"/>
          <a:stretch/>
        </p:blipFill>
        <p:spPr>
          <a:xfrm>
            <a:off x="2268360" y="2421000"/>
            <a:ext cx="5256360" cy="3744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027"/>
          <p:cNvSpPr/>
          <p:nvPr/>
        </p:nvSpPr>
        <p:spPr>
          <a:xfrm>
            <a:off x="214200" y="214200"/>
            <a:ext cx="924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чени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. резко вырос объем работы, связанный с провед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ближенных вычислений в  хо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я  разных  задач, и в перву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едь  задач  астроном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ющих  практ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fac09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истории</a:t>
            </a:r>
            <a:endParaRPr b="0" lang="en-US" sz="5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4167360" cy="50007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4"/>
          <p:cNvSpPr/>
          <p:nvPr/>
        </p:nvSpPr>
        <p:spPr>
          <a:xfrm>
            <a:off x="4643280" y="1643040"/>
            <a:ext cx="4500720" cy="2531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изобретатель логарифмов — шотландский барон Джон Непер (1550—16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ическая линейк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456" name="Picture 4" descr="600px-Sliderule_2005"/>
          <p:cNvPicPr/>
          <p:nvPr/>
        </p:nvPicPr>
        <p:blipFill>
          <a:blip r:embed="rId1"/>
          <a:srcRect l="2749" t="8012" r="1966" b="5215"/>
          <a:stretch/>
        </p:blipFill>
        <p:spPr>
          <a:xfrm>
            <a:off x="250920" y="2349360"/>
            <a:ext cx="8713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3214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рифмы в нашей жизни:</a:t>
            </a:r>
            <a:endParaRPr b="0" lang="en-US" sz="6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59:12Z</dcterms:created>
  <dc:creator>Катя</dc:creator>
  <dc:description/>
  <dc:language>en-US</dc:language>
  <cp:lastModifiedBy>user</cp:lastModifiedBy>
  <dcterms:modified xsi:type="dcterms:W3CDTF">2013-05-27T08:22:16Z</dcterms:modified>
  <cp:revision>128</cp:revision>
  <dc:subject/>
  <dc:title>Презентация Логарифмы. </dc:title>
</cp:coreProperties>
</file>