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wmf" ContentType="image/x-wmf"/>
  <Override PartName="/ppt/media/image19.jpeg" ContentType="image/jpeg"/>
  <Override PartName="/ppt/media/image10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CC72-5B34-46EF-A527-1EA5D9FF8F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95A8-B4D2-4D4F-AEE4-082D50BC42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D8DC-3168-4691-9D33-D9802054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C303-65C9-4EC7-853C-A4654ABD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767E-278A-4A4E-A21E-F6CD8952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4FA4-6DC9-48D7-BC05-3B5968BF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40633-D456-43ED-8175-8AB0F72A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D1AC9-C11B-48C7-8C24-D42EAAEB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26845-DE77-40F0-9F1A-850917CA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4D76C-4986-47FE-ADF2-FB1073FA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362F5-0870-4FB9-B9AC-0FA4B655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F467B-7B77-4C69-99C8-37ACFFCC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D8C0F-26EF-425B-9805-CBF0EE57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2744-F7A0-404A-BC63-69CECCC9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83347-B3D5-4784-A2FF-FF96E94A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429CB-2F4F-48C7-875F-39BA9B83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67EF4-7EA5-44A3-B809-C659F49E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C4166-E2E4-4BB6-A793-015DE08B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7F69A-5B67-47F7-8E62-782A8DC6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5423-E895-4502-A200-D94D7F49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07A-242A-4938-8CA5-B4841F3E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6445-AF8D-47DE-A52B-2B96BC2F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2F1-7F87-4193-A6EE-1B317182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CF61-DCF3-457F-BDC5-24B26DF6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8BE8-D9BD-44A1-A2C9-079A0E0D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9DBE-4855-4615-997D-660FFE5D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445D-A771-4124-A480-8269C69167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6B0F-21DB-4BFB-B8B1-18987B8889F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Проект «Можно ли прожить без воды?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280" y="1904760"/>
            <a:ext cx="7715160" cy="13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ыполнили учен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0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3 «Б» класс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0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БОУ  лицей №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06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ушов Ром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06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Голосков Пет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06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Алыев Тура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06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Лысиков Тимоф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06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уководитель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Давыдкина И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57240"/>
            <a:ext cx="822960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Вода в природе постоянно совершает круговорот: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испаряется с поверхности земли, образует облака, в виде дождя и снега возвращается на земл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C:\Users\user\Desktop\Рисунок1.png"/>
          <p:cNvPicPr/>
          <p:nvPr/>
        </p:nvPicPr>
        <p:blipFill>
          <a:blip r:embed="rId2"/>
          <a:stretch/>
        </p:blipFill>
        <p:spPr>
          <a:xfrm>
            <a:off x="2571840" y="2000160"/>
            <a:ext cx="3641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Общественное мн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2560" y="1571760"/>
            <a:ext cx="749916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ходе работы над изучением вопроса о значении воды мы провели соцопрос учащихся нашей школы и получили следующие данные при ответе на вопрос </a:t>
            </a:r>
            <a:r>
              <a:rPr b="0" lang="ru-RU" sz="2800" spc="-1" strike="noStrike">
                <a:solidFill>
                  <a:srgbClr val="ffba2f"/>
                </a:solidFill>
                <a:latin typeface="Comic Sans MS"/>
              </a:rPr>
              <a:t>«Сколько стаканов воды вы выпиваете в день?»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2f"/>
                </a:solidFill>
                <a:latin typeface="Tahoma"/>
              </a:rPr>
              <a:t>2-3 стакана – 53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2f"/>
                </a:solidFill>
                <a:latin typeface="Tahoma"/>
              </a:rPr>
              <a:t>4-5 стаканов – 45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2f"/>
                </a:solidFill>
                <a:latin typeface="Tahoma"/>
              </a:rPr>
              <a:t>1 стакан – 2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Chart 2" descr=""/>
          <p:cNvPicPr/>
          <p:nvPr/>
        </p:nvPicPr>
        <p:blipFill>
          <a:blip r:embed="rId2"/>
          <a:stretch/>
        </p:blipFill>
        <p:spPr>
          <a:xfrm>
            <a:off x="4286160" y="3932280"/>
            <a:ext cx="40039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Сравнение практических результатов с гипотез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000" indent="-2700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В ходе наших исследований мы выяснили, что минимум воды, который выпивает человек в день -  2-3 стакана. Это ещё раз доказывает, что вода – необходимое и драгоценное вещество, которое мы должны беречь и охраня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214200" y="30960"/>
            <a:ext cx="4357800" cy="63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Вода – источник жизни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Она нужна нам всем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И путнику в пустын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И деревцу в долине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И рыбам в океане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И кораблю в туман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А тёплый дождь весенн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Умоет город сонный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Поднимет настроенье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И нас развесели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Цветущими садами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Журчащими ручьям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И ветками сирени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Растущей во двор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Давайте же все вмест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Любить нашу природу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Беречь родные реки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Озёра и моря!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Информационные ресур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82296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. Е. Чижевский, «Я познаю мир», Детская энциклопедия. Экология, М., 1997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Вторая жизнь воды», Детская энциклопедия, журнал № 2, 2006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Обо всём на свете», Большая детская энциклопедия, АСТ «Астрель», 2007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ьшая книга вопросов и ответов «Что? Зачем? Почему?». – М., 2002. – С.8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лубева Е. А. Занимательное естествознание «Нескучный учебник». – С. – Пб., 1998. – 60 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заков А. В. Учебное пособие: «География»,           2 класс. – К., 2000. – 135 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Цель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исследов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564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Изучить, почему вода – одно из самых главных богатств Зем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адачи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сследов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Вспомнить, где в природе встречается в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Выяснить, какое значение вода имеет для растений, животных, чело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Изучить свойства в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Доказать, что в природе происходят удивительные превращения в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Гипотез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d6ffad"/>
                </a:solidFill>
                <a:latin typeface="Tahoma"/>
              </a:rPr>
              <a:t>Если без воды нельзя прожить, то вода - самое драгоценное вещество на  Земл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j0430073"/>
          <p:cNvPicPr/>
          <p:nvPr/>
        </p:nvPicPr>
        <p:blipFill>
          <a:blip r:embed="rId2"/>
          <a:stretch/>
        </p:blipFill>
        <p:spPr>
          <a:xfrm>
            <a:off x="6715080" y="5000760"/>
            <a:ext cx="20368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Ход исследов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спомнить уже полученные знания из курса окружающего мира о воде – источнике жиз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Изучить содержание источников информации по вопрос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Изучить общественное мн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Изучить свойства воды, проделав опы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делать выводы о значении воды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формить результаты исслед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c000"/>
                </a:solidFill>
                <a:latin typeface="Comic Sans MS"/>
              </a:rPr>
              <a:t>Вода – источник жиз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5480" y="1500120"/>
            <a:ext cx="8429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Если взглянуть на глобус, больше всего на нё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голубой краски. Это в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Вода – одно из самых важных для челове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веществ. Без нее не обойтись никому и никогда и заменить ее неч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Вода образу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озера,         реки,          моря,          океан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6" descr="F:\Kazak\media materials\Рисунок5.gif"/>
          <p:cNvPicPr/>
          <p:nvPr/>
        </p:nvPicPr>
        <p:blipFill>
          <a:blip r:embed="rId1"/>
          <a:stretch/>
        </p:blipFill>
        <p:spPr>
          <a:xfrm>
            <a:off x="7286760" y="1214280"/>
            <a:ext cx="1643040" cy="1501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F:\Kazak\media materials\Рисунок3.jpg"/>
          <p:cNvPicPr/>
          <p:nvPr/>
        </p:nvPicPr>
        <p:blipFill>
          <a:blip r:embed="rId2"/>
          <a:stretch/>
        </p:blipFill>
        <p:spPr>
          <a:xfrm>
            <a:off x="357120" y="4357800"/>
            <a:ext cx="1982880" cy="1500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F:\Kazak\media materials\вод.jpg"/>
          <p:cNvPicPr/>
          <p:nvPr/>
        </p:nvPicPr>
        <p:blipFill>
          <a:blip r:embed="rId3"/>
          <a:stretch/>
        </p:blipFill>
        <p:spPr>
          <a:xfrm>
            <a:off x="6858000" y="4351320"/>
            <a:ext cx="2000160" cy="1434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F:\Kazak\media materials\Рисунок2.jpg"/>
          <p:cNvPicPr/>
          <p:nvPr/>
        </p:nvPicPr>
        <p:blipFill>
          <a:blip r:embed="rId4"/>
          <a:stretch/>
        </p:blipFill>
        <p:spPr>
          <a:xfrm>
            <a:off x="2571840" y="4357800"/>
            <a:ext cx="1857240" cy="1477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F:\Kazak\media materials\вода.jpg"/>
          <p:cNvPicPr/>
          <p:nvPr/>
        </p:nvPicPr>
        <p:blipFill>
          <a:blip r:embed="rId5"/>
          <a:stretch/>
        </p:blipFill>
        <p:spPr>
          <a:xfrm>
            <a:off x="4714920" y="4357800"/>
            <a:ext cx="1905120" cy="1434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7120" y="357120"/>
            <a:ext cx="650088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Вода нужна все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Растения при отсутствии воды увядают и могут погибнуть. Животные, если лишить их воды, быстро умирают: например, упитанная собака может прожить без пищи до 100 дней, а без воды — менее 10. Потеря воды опаснее для организма, чем голодание: без пищи человек может прожить больше месяца, без воды — всего лишь 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5715000" y="4579920"/>
            <a:ext cx="34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Мы на 70 % состоим из в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Без воды человек может  прожить только 3 дн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7" descr="F:\Kazak\media materials\Рисунок4.jpg"/>
          <p:cNvPicPr/>
          <p:nvPr/>
        </p:nvPicPr>
        <p:blipFill>
          <a:blip r:embed="rId1"/>
          <a:stretch/>
        </p:blipFill>
        <p:spPr>
          <a:xfrm>
            <a:off x="4429080" y="4857840"/>
            <a:ext cx="968400" cy="20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C:\Users\Public\Pictures\Sample Pictures\дельфин.jpg"/>
          <p:cNvPicPr/>
          <p:nvPr/>
        </p:nvPicPr>
        <p:blipFill>
          <a:blip r:embed="rId2"/>
          <a:stretch/>
        </p:blipFill>
        <p:spPr>
          <a:xfrm>
            <a:off x="6500880" y="2500200"/>
            <a:ext cx="1928880" cy="1981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C:\Users\Public\Pictures\Sample Pictures\кот.jpg"/>
          <p:cNvPicPr/>
          <p:nvPr/>
        </p:nvPicPr>
        <p:blipFill>
          <a:blip r:embed="rId3"/>
          <a:stretch/>
        </p:blipFill>
        <p:spPr>
          <a:xfrm>
            <a:off x="7283520" y="0"/>
            <a:ext cx="1860480" cy="2500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630440"/>
            <a:ext cx="8229600" cy="1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000"/>
                </a:solidFill>
                <a:latin typeface="Tahoma"/>
              </a:rPr>
              <a:t>Мы проделали опыты, изучили свойства воды и пришли к выводу, что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499760"/>
            <a:ext cx="82296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ВОДА – прозрачная, бесцветная жидкость, не имеет запах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При нагревании вода расширяется, 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при охлаждении сжимаетс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Вода растворяет  многие веществ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Monotype Corsiva"/>
              </a:rPr>
              <a:t>Вода находится в природе в трёх состояниях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71720" y="1928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Comic Sans MS"/>
              </a:rPr>
              <a:t>Жидк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Comic Sans MS"/>
              </a:rPr>
              <a:t>Твёрд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Comic Sans MS"/>
              </a:rPr>
              <a:t>Газообраз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2" descr="F:\Kazak\media materials\i.jpg"/>
          <p:cNvPicPr/>
          <p:nvPr/>
        </p:nvPicPr>
        <p:blipFill>
          <a:blip r:embed="rId2"/>
          <a:stretch/>
        </p:blipFill>
        <p:spPr>
          <a:xfrm>
            <a:off x="3857760" y="1857240"/>
            <a:ext cx="1933560" cy="1819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user\Desktop\Новая папка\untitled.bmp"/>
          <p:cNvPicPr/>
          <p:nvPr/>
        </p:nvPicPr>
        <p:blipFill>
          <a:blip r:embed="rId3"/>
          <a:stretch/>
        </p:blipFill>
        <p:spPr>
          <a:xfrm>
            <a:off x="5214960" y="3429000"/>
            <a:ext cx="1881000" cy="1762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Users\user\Desktop\парок.jpg"/>
          <p:cNvPicPr/>
          <p:nvPr/>
        </p:nvPicPr>
        <p:blipFill>
          <a:blip r:embed="rId4"/>
          <a:stretch/>
        </p:blipFill>
        <p:spPr>
          <a:xfrm>
            <a:off x="6500880" y="4929120"/>
            <a:ext cx="200016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11:13:05Z</dcterms:created>
  <dc:creator>КабинетИВТ</dc:creator>
  <dc:description/>
  <dc:language>en-US</dc:language>
  <cp:lastModifiedBy>PLayer</cp:lastModifiedBy>
  <dcterms:modified xsi:type="dcterms:W3CDTF">2015-02-08T14:30:07Z</dcterms:modified>
  <cp:revision>112</cp:revision>
  <dc:subject/>
  <dc:title>Проблема распространения оружия массового уничтожения</dc:title>
</cp:coreProperties>
</file>