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F343-1FAF-4E2E-9E1B-111A191ED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F41-8327-44FF-994B-6818F75DA8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814-F870-44FF-A837-50C48D37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109-2870-4F32-AEC7-80AA94F4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FC1-F0E7-4098-B427-53A66FF6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79D-3DEE-4A4B-9AEC-9730A0E1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1F5A2-E06E-4326-8E41-372D6923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01078-222C-48E3-B8B8-013EC491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E369A-9344-453C-BCD3-964AA33D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F0C01-B78C-403E-85EB-4CE8878D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A7E17-65EE-47A0-87FA-00BD1610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B91C-A9B5-42A5-8346-27E3F334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4EBEF-8E25-4F01-80E7-D3D98486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65A-F363-4769-9DE1-F7B65AEC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CC9BD-8312-48E2-BD43-6BB619C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013DF-5A56-4AF2-954F-104515B7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C0483-D6B6-4F1D-A0CB-ED6B1925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A7C7C-6700-4E3E-932D-EEA2B7BB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C371B-06F4-4961-BA9C-DD422426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384-F61D-40DF-9FA3-09FF11A5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6F9-E7F1-4A3E-BBFE-BE325C1B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0ED-FFEC-4000-8F65-3EA865FB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9FA-FECD-4EF0-8CE2-95F559C9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E69-C3D4-465F-84C4-EFDCB72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6C1-9637-44EB-A4AD-C937059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920-C0CB-4657-942C-C208A2F1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07A0-D5C5-4A99-A07B-C01E105DB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1767-1122-47F3-8EE9-B941F6DA29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Проект «Можно ли прожить без воды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904760"/>
            <a:ext cx="771516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ыполнили уче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 «Б»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БОУ  лицей №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ушов Ро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олосков П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лыев Тур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Лысиков Тимоф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06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уководител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Давыдкина И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Вода в природе постоянно совершает круговорот: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испаряется с поверхности земли, образует облака, в виде дождя и снега возвращается на земл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C:\Users\user\Desktop\Рисунок1.png"/>
          <p:cNvPicPr/>
          <p:nvPr/>
        </p:nvPicPr>
        <p:blipFill>
          <a:blip r:embed="rId2"/>
          <a:stretch/>
        </p:blipFill>
        <p:spPr>
          <a:xfrm>
            <a:off x="2571840" y="2000160"/>
            <a:ext cx="3641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бщественное мн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560" y="1571760"/>
            <a:ext cx="74991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ходе работы над изучением вопроса о значении воды мы провели соцопрос учащихся нашей школы и получили следующие данные при ответе на вопрос </a:t>
            </a:r>
            <a:r>
              <a:rPr b="0" lang="ru-RU" sz="2800" spc="-1" strike="noStrike">
                <a:solidFill>
                  <a:srgbClr val="ffba2f"/>
                </a:solidFill>
                <a:latin typeface="Comic Sans MS"/>
              </a:rPr>
              <a:t>«Сколько стаканов воды вы выпиваете в день?»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2f"/>
                </a:solidFill>
                <a:latin typeface="Tahoma"/>
              </a:rPr>
              <a:t>2-3 стакана – 53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2f"/>
                </a:solidFill>
                <a:latin typeface="Tahoma"/>
              </a:rPr>
              <a:t>4-5 стаканов – 4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2f"/>
                </a:solidFill>
                <a:latin typeface="Tahoma"/>
              </a:rPr>
              <a:t>1 стакан – 2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Chart 2" descr=""/>
          <p:cNvPicPr/>
          <p:nvPr/>
        </p:nvPicPr>
        <p:blipFill>
          <a:blip r:embed="rId2"/>
          <a:stretch/>
        </p:blipFill>
        <p:spPr>
          <a:xfrm>
            <a:off x="4286160" y="3932280"/>
            <a:ext cx="40039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Сравнение практических результатов с гипотез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000" indent="-2700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 ходе наших исследований мы выяснили, что минимум воды, который выпивает человек в день -  2-3 стакана. Это ещё раз доказывает, что вода – необходимое и драгоценное вещество, которое мы должны беречь и охран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14200" y="30960"/>
            <a:ext cx="4357800" cy="63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Вода – источник жизни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Она нужна нам все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путнику в пустын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деревцу в долине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рыбам в океане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кораблю в туман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А тёплый дождь весен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Умоет город сонный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Поднимет настроенье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нас развесели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Цветущими садами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Журчащими ручья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И ветками сирени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Растущей во двор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Давайте же все вмест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Любить нашу природу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Беречь родные реки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Озёра и моря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 Е. Чижевский, «Я познаю мир», Детская энциклопедия. Экология, М., 1997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торая жизнь воды», Детская энциклопедия, журнал № 2, 2006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бо всём на свете», Большая детская энциклопедия, АСТ «Астрель», 2007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ая книга вопросов и ответов «Что? Зачем? Почему?». – М., 2002. – С.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лубева Е. А. Занимательное естествознание «Нескучный учебник». – С. – Пб., 1998. – 60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заков А. В. Учебное пособие: «География»,           2 класс. – К., 2000. – 135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Цель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64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зучить, почему вода – одно из самых главных богатств Зем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Вспомнить, где в природе встречается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Выяснить, какое значение вода имеет для растений, животных,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Изучить свойства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Доказать, что в природе происходят удивительные превращения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d6ffad"/>
                </a:solidFill>
                <a:latin typeface="Tahoma"/>
              </a:rPr>
              <a:t>Если без воды нельзя прожить, то вода - самое драгоценное вещество на  Зем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j0430073"/>
          <p:cNvPicPr/>
          <p:nvPr/>
        </p:nvPicPr>
        <p:blipFill>
          <a:blip r:embed="rId2"/>
          <a:stretch/>
        </p:blipFill>
        <p:spPr>
          <a:xfrm>
            <a:off x="6715080" y="5000760"/>
            <a:ext cx="2036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Ход 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спомнить уже полученные знания из курса окружающего мира о воде – источнике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учить содержание источников информации по вопрос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учить общественное мн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учить свойства воды, проделав опы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делать выводы о значении вод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формить результаты иссле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Comic Sans MS"/>
              </a:rPr>
              <a:t>Вода – источник жи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5480" y="1500120"/>
            <a:ext cx="8429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Если взглянуть на глобус, больше всего на нё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олубой краски. Это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ода – одно из самых важных для челове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еществ. Без нее не обойтись никому и никогда и заменить ее неч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Вода образу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озера,         реки,          моря,          оке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F:\Kazak\media materials\Рисунок5.gif"/>
          <p:cNvPicPr/>
          <p:nvPr/>
        </p:nvPicPr>
        <p:blipFill>
          <a:blip r:embed="rId1"/>
          <a:stretch/>
        </p:blipFill>
        <p:spPr>
          <a:xfrm>
            <a:off x="7286760" y="1214280"/>
            <a:ext cx="1643040" cy="1501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F:\Kazak\media materials\Рисунок3.jpg"/>
          <p:cNvPicPr/>
          <p:nvPr/>
        </p:nvPicPr>
        <p:blipFill>
          <a:blip r:embed="rId2"/>
          <a:stretch/>
        </p:blipFill>
        <p:spPr>
          <a:xfrm>
            <a:off x="357120" y="4357800"/>
            <a:ext cx="198288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F:\Kazak\media materials\вод.jpg"/>
          <p:cNvPicPr/>
          <p:nvPr/>
        </p:nvPicPr>
        <p:blipFill>
          <a:blip r:embed="rId3"/>
          <a:stretch/>
        </p:blipFill>
        <p:spPr>
          <a:xfrm>
            <a:off x="6858000" y="4351320"/>
            <a:ext cx="2000160" cy="1434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F:\Kazak\media materials\Рисунок2.jpg"/>
          <p:cNvPicPr/>
          <p:nvPr/>
        </p:nvPicPr>
        <p:blipFill>
          <a:blip r:embed="rId4"/>
          <a:stretch/>
        </p:blipFill>
        <p:spPr>
          <a:xfrm>
            <a:off x="2571840" y="4357800"/>
            <a:ext cx="185724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F:\Kazak\media materials\вода.jpg"/>
          <p:cNvPicPr/>
          <p:nvPr/>
        </p:nvPicPr>
        <p:blipFill>
          <a:blip r:embed="rId5"/>
          <a:stretch/>
        </p:blipFill>
        <p:spPr>
          <a:xfrm>
            <a:off x="4714920" y="4357800"/>
            <a:ext cx="1905120" cy="143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357120"/>
            <a:ext cx="6500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Вода нужна вс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Растения при отсутствии воды увядают и могут погибнуть. Животные, если лишить их воды, быстро умирают: например, упитанная собака может прожить без пищи до 100 дней, а без воды — менее 10. Потеря воды опаснее для организма, чем голодание: без пищи человек может прожить больше месяца, без воды — всего лишь 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5715000" y="457992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Мы на 70 % состоим из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Без воды человек может  прожить только 3 д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F:\Kazak\media materials\Рисунок4.jpg"/>
          <p:cNvPicPr/>
          <p:nvPr/>
        </p:nvPicPr>
        <p:blipFill>
          <a:blip r:embed="rId1"/>
          <a:stretch/>
        </p:blipFill>
        <p:spPr>
          <a:xfrm>
            <a:off x="4429080" y="4857840"/>
            <a:ext cx="968400" cy="20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:\Users\Public\Pictures\Sample Pictures\дельфин.jpg"/>
          <p:cNvPicPr/>
          <p:nvPr/>
        </p:nvPicPr>
        <p:blipFill>
          <a:blip r:embed="rId2"/>
          <a:stretch/>
        </p:blipFill>
        <p:spPr>
          <a:xfrm>
            <a:off x="6500880" y="2500200"/>
            <a:ext cx="192888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C:\Users\Public\Pictures\Sample Pictures\кот.jpg"/>
          <p:cNvPicPr/>
          <p:nvPr/>
        </p:nvPicPr>
        <p:blipFill>
          <a:blip r:embed="rId3"/>
          <a:stretch/>
        </p:blipFill>
        <p:spPr>
          <a:xfrm>
            <a:off x="7283520" y="0"/>
            <a:ext cx="1860480" cy="2500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630440"/>
            <a:ext cx="8229600" cy="1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000"/>
                </a:solidFill>
                <a:latin typeface="Tahoma"/>
              </a:rPr>
              <a:t>Мы проделали опыты, изучили свойства воды и пришли к выводу, что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ВОДА – прозрачная, бесцветная жидкость, не имеет запах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При нагревании вода расширяется, 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при охлаждении сжимаетс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Вода растворяет  многие веще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Monotype Corsiva"/>
              </a:rPr>
              <a:t>Вода находится в природе в трёх состояния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omic Sans MS"/>
              </a:rPr>
              <a:t>Жидк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omic Sans MS"/>
              </a:rPr>
              <a:t>Твёрд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omic Sans MS"/>
              </a:rPr>
              <a:t>Газообраз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F:\Kazak\media materials\i.jpg"/>
          <p:cNvPicPr/>
          <p:nvPr/>
        </p:nvPicPr>
        <p:blipFill>
          <a:blip r:embed="rId2"/>
          <a:stretch/>
        </p:blipFill>
        <p:spPr>
          <a:xfrm>
            <a:off x="3857760" y="1857240"/>
            <a:ext cx="1933560" cy="181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user\Desktop\Новая папка\untitled.bmp"/>
          <p:cNvPicPr/>
          <p:nvPr/>
        </p:nvPicPr>
        <p:blipFill>
          <a:blip r:embed="rId3"/>
          <a:stretch/>
        </p:blipFill>
        <p:spPr>
          <a:xfrm>
            <a:off x="5214960" y="3429000"/>
            <a:ext cx="188100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user\Desktop\парок.jpg"/>
          <p:cNvPicPr/>
          <p:nvPr/>
        </p:nvPicPr>
        <p:blipFill>
          <a:blip r:embed="rId4"/>
          <a:stretch/>
        </p:blipFill>
        <p:spPr>
          <a:xfrm>
            <a:off x="6500880" y="4929120"/>
            <a:ext cx="20001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1:13:05Z</dcterms:created>
  <dc:creator>КабинетИВТ</dc:creator>
  <dc:description/>
  <dc:language>en-US</dc:language>
  <cp:lastModifiedBy>PLayer</cp:lastModifiedBy>
  <dcterms:modified xsi:type="dcterms:W3CDTF">2015-02-08T14:30:07Z</dcterms:modified>
  <cp:revision>112</cp:revision>
  <dc:subject/>
  <dc:title>Проблема распространения оружия массового уничтожения</dc:title>
</cp:coreProperties>
</file>