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92E4-A21D-4798-AD5B-A27B95C8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2964-BCBD-42AB-A1D2-64044E58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33D0-16EE-4CE9-9523-3FDC5F19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03B-D092-464C-99F9-16C9F276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B50-71F5-403A-B876-4A3C43F7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610-8E55-4E37-8AD2-A3A817E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4A7D-1489-47AF-BDCE-F9C2034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DD9B-4B10-49A9-825E-13ED657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26DD-B317-40F4-8BEB-7B4271E3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03B-1C5C-4579-B719-592298F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B523-CF86-4F8C-B28D-B490DDC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808D-53E6-473A-8460-02ED487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7427-9E95-4A1F-B3A7-5B07509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0E28-9F31-4C22-96A6-3CAA675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17C2-51FD-4D04-BC0E-D928D9E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F175-95F9-40C4-8850-CAB39738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D2B7-750E-4264-BF33-E81A1575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62AF-11D7-425C-AE79-91B3F88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FD31-13CA-4DEB-8267-AA4C9B7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75F5-0DDE-4BE4-9350-6D94C91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1310-3EC6-49C3-B41B-2F3FCE3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1F4F-7C13-4AFC-8FE7-ACBEEC5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4672-79F1-4697-981E-5DD4B9E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09AE-3240-4B3C-967E-6B64DC4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5BB-A166-44BF-A412-73AC1DE5C5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F2B-8D2D-4684-B869-759B2E995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2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тский сад № 20</a:t>
            </a:r>
            <a:endParaRPr b="1" lang="en-US" sz="20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Воспитатель: Краснова Т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3059280" y="623736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 Павлово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Цель и задачи: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533240"/>
            <a:ext cx="8640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63c60"/>
                </a:solidFill>
                <a:latin typeface="Arial"/>
              </a:rPr>
              <a:t>формировать простейшие навыки опрятности и самообслуживания, закладывать фундамент гигиенической 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рмировать культурно-гигиенические навыки у детей младшего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крепить представления о правилах личной гигиены; уточнить и систематизировать знания детей о необходимости гигиенических процед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ывать у детей желание выглядеть чистыми, аккуратными и опрят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гатить предметно-развивающую среду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крепить связи между детским садом и семьёй, изменить позицию родителей в отношении своего здоровья и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ланируемые результаты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33600"/>
            <a:ext cx="896472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3c60"/>
                </a:solidFill>
                <a:latin typeface="Arial"/>
              </a:rPr>
              <a:t>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едят за своим внешним ви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ются мылом, аккуратно моют руки, лицо; насухо вытираются после умы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шают полотенце на место, пользуются расчёской и носовым пла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авильно пользуются столовой и чайной ложками, салфетко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крошат хлеб, пережёвывают пищу с закрытым ртом, не разговаривают с полным р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3c60"/>
                </a:solidFill>
                <a:latin typeface="Arial"/>
              </a:rPr>
              <a:t>для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вышение знаний для обеспечения успешного развити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учение консультаций по вопросам формирования культурно-гигиенических навы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крепление связей между детским садом и семьё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позиции родителей в отношении своего здоровья и здоровь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3c60"/>
                </a:solidFill>
                <a:latin typeface="Arial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вышение знаний по формированию к/г навыков у младших дошколь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мирование валеологической культуры, изменение отношения педагогов к своему здоро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лучшение отношений между детьми, укрепление связей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Основные направления работы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627280" y="2163600"/>
            <a:ext cx="352908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a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40000" y="3500280"/>
            <a:ext cx="4824360" cy="15843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7aa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-252360" y="1557360"/>
            <a:ext cx="2879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19038"/>
              </a:gs>
              <a:gs pos="100000">
                <a:srgbClr val="aad955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0" y="3022560"/>
            <a:ext cx="226836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05f3e"/>
              </a:gs>
              <a:gs pos="100000">
                <a:srgbClr val="c7aa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2262240" y="4869000"/>
            <a:ext cx="4973760" cy="19890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59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0" y="4411800"/>
            <a:ext cx="2411280" cy="2446200"/>
          </a:xfrm>
          <a:prstGeom prst="upArrow">
            <a:avLst>
              <a:gd name="adj1" fmla="val 50000"/>
              <a:gd name="adj2" fmla="val 18937"/>
            </a:avLst>
          </a:prstGeom>
          <a:gradFill rotWithShape="0">
            <a:gsLst>
              <a:gs pos="0">
                <a:srgbClr val="315777"/>
              </a:gs>
              <a:gs pos="100000">
                <a:srgbClr val="5598c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50920" y="1628640"/>
            <a:ext cx="208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нащен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- пространствен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68360" y="3429000"/>
            <a:ext cx="1439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тодическая копи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39640" y="4970520"/>
            <a:ext cx="1368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411280" y="4869000"/>
            <a:ext cx="51850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амятки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одительское собр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апки -передви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700360" y="2252520"/>
            <a:ext cx="36003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уголка дежур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полнение уголка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борка дидактических 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2411280" y="3500280"/>
            <a:ext cx="496908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авление перспективного плана работы по формированию к/г навыков во 2 мл.груп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конспектов НОД,  развлечений по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одготовительный этап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Содерж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ие уровня знаний в области к/г навыков у детей младшего дошкольного возраста через наблюдения, беседы с детьми, составление план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60"/>
                </a:solidFill>
                <a:latin typeface="Arial"/>
              </a:rPr>
              <a:t>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бор и изучение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блюдения за детьми в ходе режимных мо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ление плана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аботка содержания темы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рактический этап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533240"/>
            <a:ext cx="8964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63c60"/>
                </a:solidFill>
                <a:latin typeface="Arial"/>
              </a:rPr>
              <a:t>Содержание</a:t>
            </a:r>
            <a:r>
              <a:rPr b="0" lang="ru-RU" sz="1600" spc="-1" strike="noStrike">
                <a:solidFill>
                  <a:srgbClr val="063c6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полнение плана работы по теме 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борка художественных произведений, потешек, стих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адок, игр по те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Д по данной теме, ОД в ходе режимных мо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63c60"/>
                </a:solidFill>
                <a:latin typeface="Arial"/>
              </a:rPr>
              <a:t>План мероприят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ля де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ение: «Мойдодыр», «Федорино горе» К.И.Чуковского; . « Про непослушные ручки и ножки» С.Прокофьевой с последующей драматиз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учивание стишков и потеш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ровые ситуации «Купание куклы», «Накормим куклу», «Расти коса до пояса»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/и и упр-ния «Оденем куклу на прогулку», «Уложим куклу спать», «Умывалочка», «Делаем причёску», «Покажем кукле, как мы накрываем на стол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 нам гости пришли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/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 игра «Поликлиника», «Боль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кскурсия в медицинский 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глядная информация в родительском уголке: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 Культурно-гигиенические навыки, их значение в развитии ребёнка», «Как научить ребёнка одеваться самостоятель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ка «Что лучше - жевачка или зубная щётка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пка-передвижка «Культурно-гигиенические навыки нашей групп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Заключительный этап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едение итогов работы по теме проек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ентац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нкетирование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тему «Чему научи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ребёнок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ентация проекта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дагогов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мен опытом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Тема «Зимние олимпийские игры» </a:t>
            </a:r>
            <a:br>
              <a:rPr sz="3200"/>
            </a:b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(ЗОЖ)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1981080"/>
            <a:ext cx="3522600" cy="4079880"/>
          </a:xfrm>
          <a:prstGeom prst="rightArrow">
            <a:avLst>
              <a:gd name="adj1" fmla="val 62806"/>
              <a:gd name="adj2" fmla="val 32949"/>
            </a:avLst>
          </a:prstGeom>
          <a:solidFill>
            <a:srgbClr val="ffffff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9280" y="2781360"/>
            <a:ext cx="292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c6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63c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63c60"/>
                </a:solidFill>
                <a:latin typeface="Arial"/>
              </a:rPr>
              <a:t>Дать детям элементарные сведения о зимних олимпийских играх, проводимых в нашей стране; о необходимости укреплять своё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592440" y="2050920"/>
            <a:ext cx="4713480" cy="3868920"/>
          </a:xfrm>
          <a:prstGeom prst="roundRect">
            <a:avLst>
              <a:gd name="adj" fmla="val 3481"/>
            </a:avLst>
          </a:prstGeom>
          <a:solidFill>
            <a:srgbClr val="ffffff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3664080" y="2205000"/>
            <a:ext cx="3931920" cy="863640"/>
            <a:chOff x="3664080" y="2205000"/>
            <a:chExt cx="3931920" cy="863640"/>
          </a:xfrm>
        </p:grpSpPr>
        <p:sp>
          <p:nvSpPr>
            <p:cNvPr id="107" name="AutoShape 7"/>
            <p:cNvSpPr/>
            <p:nvPr/>
          </p:nvSpPr>
          <p:spPr>
            <a:xfrm>
              <a:off x="3701880" y="2205000"/>
              <a:ext cx="389412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5598cf"/>
                </a:gs>
                <a:gs pos="100000">
                  <a:srgbClr val="dbe9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3664080" y="2526120"/>
              <a:ext cx="425880" cy="267480"/>
            </a:xfrm>
            <a:prstGeom prst="rightArrow">
              <a:avLst>
                <a:gd name="adj1" fmla="val 50000"/>
                <a:gd name="adj2" fmla="val 663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3664080" y="3414600"/>
            <a:ext cx="3931920" cy="951120"/>
            <a:chOff x="3664080" y="3414600"/>
            <a:chExt cx="3931920" cy="951120"/>
          </a:xfrm>
        </p:grpSpPr>
        <p:sp>
          <p:nvSpPr>
            <p:cNvPr id="110" name="AutoShape 10"/>
            <p:cNvSpPr/>
            <p:nvPr/>
          </p:nvSpPr>
          <p:spPr>
            <a:xfrm>
              <a:off x="3701880" y="3414600"/>
              <a:ext cx="3894120" cy="951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7aa6f"/>
                </a:gs>
                <a:gs pos="100000">
                  <a:srgbClr val="f3ed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3664080" y="3776040"/>
              <a:ext cx="425880" cy="294840"/>
            </a:xfrm>
            <a:prstGeom prst="rightArrow">
              <a:avLst>
                <a:gd name="adj1" fmla="val 50000"/>
                <a:gd name="adj2" fmla="val 60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3664080" y="4654440"/>
            <a:ext cx="4003200" cy="935280"/>
            <a:chOff x="3664080" y="4654440"/>
            <a:chExt cx="4003200" cy="935280"/>
          </a:xfrm>
        </p:grpSpPr>
        <p:sp>
          <p:nvSpPr>
            <p:cNvPr id="113" name="AutoShape 13"/>
            <p:cNvSpPr/>
            <p:nvPr/>
          </p:nvSpPr>
          <p:spPr>
            <a:xfrm>
              <a:off x="3702600" y="4654440"/>
              <a:ext cx="3964680" cy="935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ad955"/>
                </a:gs>
                <a:gs pos="100000">
                  <a:srgbClr val="edf7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4"/>
            <p:cNvSpPr/>
            <p:nvPr/>
          </p:nvSpPr>
          <p:spPr>
            <a:xfrm>
              <a:off x="3664080" y="5002200"/>
              <a:ext cx="433440" cy="289800"/>
            </a:xfrm>
            <a:prstGeom prst="rightArrow">
              <a:avLst>
                <a:gd name="adj1" fmla="val 50000"/>
                <a:gd name="adj2" fmla="val 6231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5"/>
          <p:cNvSpPr/>
          <p:nvPr/>
        </p:nvSpPr>
        <p:spPr>
          <a:xfrm>
            <a:off x="4295880" y="4653000"/>
            <a:ext cx="33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явление спортивных интересов, склонностей и способностей воспитанников; развитие интереса к спорту, желания заниматься спо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295880" y="3567240"/>
            <a:ext cx="38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доровом образе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295880" y="2344680"/>
            <a:ext cx="33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хранение и укрепление физического и психического здоровь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0" y="530064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340000" y="530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0" y="2708280"/>
            <a:ext cx="24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 flipV="1">
            <a:off x="241128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 flipV="1">
            <a:off x="2340000" y="3933720"/>
            <a:ext cx="129528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2411280" y="1989000"/>
            <a:ext cx="1224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Целевые ориентиры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5075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Сохранение и укрепление здоровья воспитанников, профилактика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Создание условий каждому ребёнку для наиболее полного раскрытия и реализации его возрастного потенц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Расширение интереса к двигательной активности, занятиям физической культурой и физическими упраж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Установление комфортного общения между детьми, педагогами и родителями, творческого содружества  в решении проблемно-творческих задач разного уровня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6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930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Организация системы физкультурно-оздоровительной работы в рамках темы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797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трення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сихомышеч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одрящая гимнастика после с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Д по физической куль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культмин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портивные праздники и дос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 активных точек (ладони, ступ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7920" y="487692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Организация системы разнообразных </a:t>
            </a:r>
            <a:br>
              <a:rPr sz="2800"/>
            </a:b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форм закаливания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533240"/>
            <a:ext cx="87854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мывание рук до предплеч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невной сон в облегчённой одежде в холодное время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культурные занятия в лёгкой спортивной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хождение  в группе в облегчённой одеж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осохождение по полу, коррекционной дорож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уществление проветривания (согласно график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людение СанП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гулка,  в соответствие с распорядком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Организация системы профилактических мероприятий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блюдение распорядка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тамин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мунизац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нение народных средств (чеснок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63c60"/>
              </a:solidFill>
              <a:latin typeface="Arial"/>
            </a:endParaRPr>
          </a:p>
        </p:txBody>
      </p:sp>
      <p:pic>
        <p:nvPicPr>
          <p:cNvPr id="139" name="Picture 3" descr="circuler_1"/>
          <p:cNvPicPr/>
          <p:nvPr/>
        </p:nvPicPr>
        <p:blipFill>
          <a:blip r:embed="rId1"/>
          <a:stretch/>
        </p:blipFill>
        <p:spPr>
          <a:xfrm>
            <a:off x="4233960" y="3013200"/>
            <a:ext cx="2309760" cy="2288880"/>
          </a:xfrm>
          <a:prstGeom prst="rect">
            <a:avLst/>
          </a:prstGeom>
          <a:ln w="0">
            <a:noFill/>
          </a:ln>
        </p:spPr>
      </p:pic>
      <p:sp>
        <p:nvSpPr>
          <p:cNvPr id="140" name="Arc 4"/>
          <p:cNvSpPr/>
          <p:nvPr/>
        </p:nvSpPr>
        <p:spPr>
          <a:xfrm flipH="1" flipV="1" rot="5400000">
            <a:off x="3684960" y="3571200"/>
            <a:ext cx="2279880" cy="1174680"/>
          </a:xfrm>
          <a:prstGeom prst="pie">
            <a:avLst/>
          </a:prstGeom>
          <a:solidFill>
            <a:srgbClr val="c7aa6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5"/>
          <p:cNvSpPr/>
          <p:nvPr/>
        </p:nvSpPr>
        <p:spPr>
          <a:xfrm flipH="1" flipV="1" rot="16490400">
            <a:off x="4786200" y="3588480"/>
            <a:ext cx="2279520" cy="1230120"/>
          </a:xfrm>
          <a:prstGeom prst="pie">
            <a:avLst/>
          </a:prstGeom>
          <a:solidFill>
            <a:srgbClr val="0099cc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4955040" y="3886560"/>
            <a:ext cx="1623240" cy="1480680"/>
            <a:chOff x="4955040" y="3886560"/>
            <a:chExt cx="1623240" cy="1480680"/>
          </a:xfrm>
        </p:grpSpPr>
        <p:grpSp>
          <p:nvGrpSpPr>
            <p:cNvPr id="143" name="Group 7"/>
            <p:cNvGrpSpPr/>
            <p:nvPr/>
          </p:nvGrpSpPr>
          <p:grpSpPr>
            <a:xfrm>
              <a:off x="5329080" y="3886560"/>
              <a:ext cx="1249200" cy="1466640"/>
              <a:chOff x="5329080" y="3886560"/>
              <a:chExt cx="1249200" cy="1466640"/>
            </a:xfrm>
          </p:grpSpPr>
          <p:sp>
            <p:nvSpPr>
              <p:cNvPr id="144" name="AutoShape 8"/>
              <p:cNvSpPr/>
              <p:nvPr/>
            </p:nvSpPr>
            <p:spPr>
              <a:xfrm flipH="1" flipV="1" rot="1528800">
                <a:off x="6024960" y="389088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9"/>
              <p:cNvSpPr/>
              <p:nvPr/>
            </p:nvSpPr>
            <p:spPr>
              <a:xfrm flipH="1" flipV="1" rot="2344200">
                <a:off x="5930640" y="407052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 flipH="1" flipV="1" rot="2640000">
                <a:off x="5852520" y="415728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1"/>
              <p:cNvSpPr/>
              <p:nvPr/>
            </p:nvSpPr>
            <p:spPr>
              <a:xfrm flipH="1" flipV="1" rot="3172200">
                <a:off x="5755320" y="425880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2"/>
            <p:cNvGrpSpPr/>
            <p:nvPr/>
          </p:nvGrpSpPr>
          <p:grpSpPr>
            <a:xfrm>
              <a:off x="4955040" y="4290120"/>
              <a:ext cx="1568880" cy="1077120"/>
              <a:chOff x="4955040" y="4290120"/>
              <a:chExt cx="1568880" cy="1077120"/>
            </a:xfrm>
          </p:grpSpPr>
          <p:sp>
            <p:nvSpPr>
              <p:cNvPr id="149" name="AutoShape 13"/>
              <p:cNvSpPr/>
              <p:nvPr/>
            </p:nvSpPr>
            <p:spPr>
              <a:xfrm flipH="1" flipV="1" rot="2881800">
                <a:off x="5821560" y="4199040"/>
                <a:ext cx="298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4"/>
              <p:cNvSpPr/>
              <p:nvPr/>
            </p:nvSpPr>
            <p:spPr>
              <a:xfrm flipH="1" flipV="1" rot="3697200">
                <a:off x="5666040" y="432900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5"/>
              <p:cNvSpPr/>
              <p:nvPr/>
            </p:nvSpPr>
            <p:spPr>
              <a:xfrm flipH="1" flipV="1" rot="3993000">
                <a:off x="5560560" y="4379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16"/>
              <p:cNvSpPr/>
              <p:nvPr/>
            </p:nvSpPr>
            <p:spPr>
              <a:xfrm flipH="1" flipV="1" rot="4525200">
                <a:off x="5431680" y="443376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17"/>
          <p:cNvSpPr/>
          <p:nvPr/>
        </p:nvSpPr>
        <p:spPr>
          <a:xfrm>
            <a:off x="4419720" y="367344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3919680" y="3427560"/>
            <a:ext cx="342720" cy="10764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3990960" y="5119560"/>
            <a:ext cx="247680" cy="19080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4857840" y="5364000"/>
            <a:ext cx="516960" cy="70848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3813120" y="4380120"/>
            <a:ext cx="397080" cy="2952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H="1">
            <a:off x="5994360" y="2759760"/>
            <a:ext cx="277200" cy="31788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H="1" flipV="1">
            <a:off x="6576480" y="4724280"/>
            <a:ext cx="254520" cy="18144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H="1">
            <a:off x="6456240" y="3207960"/>
            <a:ext cx="254160" cy="18180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2467080" y="2967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2500200" y="300672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flipH="1">
            <a:off x="5866560" y="1916280"/>
            <a:ext cx="1382760" cy="67752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9"/>
          <p:cNvSpPr/>
          <p:nvPr/>
        </p:nvSpPr>
        <p:spPr>
          <a:xfrm flipH="1">
            <a:off x="5866560" y="1773360"/>
            <a:ext cx="2449800" cy="82692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я «Зим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спор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835720" y="31273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5940360" y="2097000"/>
            <a:ext cx="16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2"/>
          <p:cNvSpPr/>
          <p:nvPr/>
        </p:nvSpPr>
        <p:spPr>
          <a:xfrm>
            <a:off x="2309760" y="4083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2195640" y="3786120"/>
            <a:ext cx="1728720" cy="101124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2195640" y="385776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ртив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здн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развл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2843280" y="5168880"/>
            <a:ext cx="114768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6"/>
          <p:cNvSpPr/>
          <p:nvPr/>
        </p:nvSpPr>
        <p:spPr>
          <a:xfrm>
            <a:off x="2643120" y="5084640"/>
            <a:ext cx="1785960" cy="108108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643120" y="5157720"/>
            <a:ext cx="15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вижные игры и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8"/>
          <p:cNvSpPr/>
          <p:nvPr/>
        </p:nvSpPr>
        <p:spPr>
          <a:xfrm>
            <a:off x="5072040" y="6357960"/>
            <a:ext cx="388800" cy="1191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9"/>
          <p:cNvSpPr/>
          <p:nvPr/>
        </p:nvSpPr>
        <p:spPr>
          <a:xfrm>
            <a:off x="4214880" y="6072120"/>
            <a:ext cx="2500200" cy="78588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4429080" y="6072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1"/>
          <p:cNvSpPr/>
          <p:nvPr/>
        </p:nvSpPr>
        <p:spPr>
          <a:xfrm flipH="1">
            <a:off x="6726960" y="264960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2"/>
          <p:cNvSpPr/>
          <p:nvPr/>
        </p:nvSpPr>
        <p:spPr>
          <a:xfrm flipH="1">
            <a:off x="6763680" y="2637000"/>
            <a:ext cx="2128680" cy="72072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3"/>
          <p:cNvSpPr/>
          <p:nvPr/>
        </p:nvSpPr>
        <p:spPr>
          <a:xfrm>
            <a:off x="6804000" y="2637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уктивная 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4"/>
          <p:cNvSpPr/>
          <p:nvPr/>
        </p:nvSpPr>
        <p:spPr>
          <a:xfrm flipH="1">
            <a:off x="7151040" y="37162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5"/>
          <p:cNvSpPr/>
          <p:nvPr/>
        </p:nvSpPr>
        <p:spPr>
          <a:xfrm flipH="1">
            <a:off x="7092360" y="3429000"/>
            <a:ext cx="1871640" cy="100800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7093080" y="342900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краш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крас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иды спор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7"/>
          <p:cNvSpPr/>
          <p:nvPr/>
        </p:nvSpPr>
        <p:spPr>
          <a:xfrm flipH="1">
            <a:off x="6881040" y="47372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8"/>
          <p:cNvSpPr/>
          <p:nvPr/>
        </p:nvSpPr>
        <p:spPr>
          <a:xfrm flipH="1">
            <a:off x="6876360" y="4572000"/>
            <a:ext cx="2266920" cy="78588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877080" y="457200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атривание картинок и иллюстр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0"/>
          <p:cNvSpPr/>
          <p:nvPr/>
        </p:nvSpPr>
        <p:spPr>
          <a:xfrm flipH="1">
            <a:off x="6735240" y="4043520"/>
            <a:ext cx="313560" cy="900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3885480" y="4852080"/>
            <a:ext cx="380520" cy="15804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Формы работы с родителями 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глядная информация в папке-передвижке (в родительском угол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сультации о здоровье в родительском уголке (рубрика «Советы Айболит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местный спортивный праздник «Малые олимпийские иг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с работ и поделок «Вся Россия рада -у нас Олимпиа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мятка по формированию ЗОЖ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Тема «Формирование культурно-гигиенических навыков у младших дошкольников»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3743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2:52:25Z</dcterms:created>
  <dc:creator>Admin</dc:creator>
  <dc:description/>
  <dc:language>en-US</dc:language>
  <cp:lastModifiedBy>Admin</cp:lastModifiedBy>
  <dcterms:modified xsi:type="dcterms:W3CDTF">2015-02-08T10:29:12Z</dcterms:modified>
  <cp:revision>36</cp:revision>
  <dc:subject/>
  <dc:title>Муниципальное бюджетное дошкольное образовательное учреждение детский сад № 20</dc:title>
</cp:coreProperties>
</file>