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DF41-0406-4179-AB4B-3D091C1B1F25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виз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роговор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99DA-0B94-4180-96E2-ADD03BBB34B9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 лишние предм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300B-A9F7-465A-969B-D7D503D5F678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 на те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Кота в рассказе зову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Борька; б) Васька; в) Тиш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Кот попал п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латок; б) пальто; в) шляп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Спасаясь, от шляпы мальчики взя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лыжную палку; б) кочергу; в) дос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Чем стреляли мальчики в шляп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морковкой; б) картошкой; в) огурц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Кто был под шляпо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щенок; б) котенок; мышон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91BE-BF7F-40E5-B90B-F863345DA9E3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скажи с опорой  на карти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4734-D9BE-4695-B98F-1CF523E2FF28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авь пропущенные бук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0D8E-5908-44C1-AB85-9C7E73A323FF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авь пропущенные бук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0174-E116-4D73-A809-A3848F5C8767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277D-DD87-4D1C-93F9-6CF0A5A31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9F37-6D18-4480-BFC6-7B211238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CE1F-889A-4419-9AB1-258B5F887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D073-1DCF-4987-A2FD-4C587755C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DE34-AF8C-4127-9781-6B6B7A3D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AB62-2F4C-424F-AA2E-44754E88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3765-B8D2-4401-8272-C9C0CA1A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2A3D-8379-4522-9076-FD53C035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5ADE-9820-45E3-A27E-39FCA5DA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DAA4-D8F8-4F4D-A27C-CD3EAA10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1752-F724-4A29-9E99-ED27E568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DA92-5ABD-4908-B18C-664DA71E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75AD-26D0-487A-82B0-C37CF30ABC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12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Нежные фоны. Обсуждение на LiveInternet - Российский Сервис Онлайн-Дневнико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684360" y="620640"/>
            <a:ext cx="324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Каждый день- всегда, везде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занятиях в игр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мело, чётко говорим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 тихонечко сидим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1619280" y="1773360"/>
            <a:ext cx="691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ыдра из ведра выпрыгнула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оду из ведра выплеснул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ыпрыгнуть –то на выпрыгнула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ыплеснуть –то она выплеснула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А обратно впрыгнуть и вплеснуть не смогл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1" name="Picture 4" descr="попробуй, выговори... Алла Берташ"/>
          <p:cNvPicPr/>
          <p:nvPr/>
        </p:nvPicPr>
        <p:blipFill>
          <a:blip r:embed="rId2"/>
          <a:stretch/>
        </p:blipFill>
        <p:spPr>
          <a:xfrm>
            <a:off x="7164360" y="4336920"/>
            <a:ext cx="17812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Нежные фоны. Обсуждение на LiveInternet - Российский Сервис Онлайн-Дневнико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2"/>
          <p:cNvSpPr/>
          <p:nvPr/>
        </p:nvSpPr>
        <p:spPr>
          <a:xfrm>
            <a:off x="468360" y="333360"/>
            <a:ext cx="676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дготовить пересказ по плану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р. 59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7" name="Picture 2" descr="Книга &quot;Живая шляпа&quot; - Muffinbook - Магазин детских книг"/>
          <p:cNvPicPr/>
          <p:nvPr/>
        </p:nvPicPr>
        <p:blipFill>
          <a:blip r:embed="rId2"/>
          <a:stretch/>
        </p:blipFill>
        <p:spPr>
          <a:xfrm>
            <a:off x="12600" y="1689120"/>
            <a:ext cx="3548160" cy="4394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http://im3-tub-ru.yandex.net/i?id=9c99f0c76d9b8062ae8995b58e553373-60-144&amp;n=21"/>
          <p:cNvPicPr/>
          <p:nvPr/>
        </p:nvPicPr>
        <p:blipFill>
          <a:blip r:embed="rId3"/>
          <a:stretch/>
        </p:blipFill>
        <p:spPr>
          <a:xfrm>
            <a:off x="7308720" y="2565360"/>
            <a:ext cx="1544760" cy="2016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http://im1-tub-ru.yandex.net/i?id=d6b5d1fddea45a5a198c251e18d43634-30-144&amp;n=21"/>
          <p:cNvPicPr/>
          <p:nvPr/>
        </p:nvPicPr>
        <p:blipFill>
          <a:blip r:embed="rId4"/>
          <a:stretch/>
        </p:blipFill>
        <p:spPr>
          <a:xfrm>
            <a:off x="5364000" y="2349360"/>
            <a:ext cx="1409760" cy="1871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http://im2-tub-ru.yandex.net/i?id=877426c2e92f16ba1c6de27eb4725658-25-144&amp;n=21"/>
          <p:cNvPicPr/>
          <p:nvPr/>
        </p:nvPicPr>
        <p:blipFill>
          <a:blip r:embed="rId5"/>
          <a:stretch/>
        </p:blipFill>
        <p:spPr>
          <a:xfrm>
            <a:off x="5940360" y="4599000"/>
            <a:ext cx="1656000" cy="2259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http://im3-tub-ru.yandex.net/i?id=fd3458a8fe5ab3bd11cd8785dd34c608-29-144&amp;n=21"/>
          <p:cNvPicPr/>
          <p:nvPr/>
        </p:nvPicPr>
        <p:blipFill>
          <a:blip r:embed="rId6"/>
          <a:stretch/>
        </p:blipFill>
        <p:spPr>
          <a:xfrm>
            <a:off x="3851280" y="4365720"/>
            <a:ext cx="172872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василиса премудрая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5" name="василиса2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4"/>
          <p:cNvSpPr/>
          <p:nvPr/>
        </p:nvSpPr>
        <p:spPr>
          <a:xfrm>
            <a:off x="2542680" y="337824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ловарная работа в 1 классе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7" name="Picture 2" descr="Нежные фоны. Обсуждение на LiveInternet - Российский Сервис Онлайн-Дневников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7"/>
          <p:cNvSpPr/>
          <p:nvPr/>
        </p:nvSpPr>
        <p:spPr>
          <a:xfrm>
            <a:off x="1692360" y="260280"/>
            <a:ext cx="611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иколай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иколаевич Носов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9" name="Picture 19" descr="Носов2"/>
          <p:cNvPicPr/>
          <p:nvPr/>
        </p:nvPicPr>
        <p:blipFill>
          <a:blip r:embed="rId4"/>
          <a:stretch/>
        </p:blipFill>
        <p:spPr>
          <a:xfrm>
            <a:off x="2771640" y="1844640"/>
            <a:ext cx="3456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Нежные фоны. Обсуждение на LiveInternet - Российский Сервис Онлайн-Дневнико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http://im3-tub-ru.yandex.net/i?id=dc3e6c6f5079c59d5fdeefc30884a53d-92-144&amp;n=21"/>
          <p:cNvPicPr/>
          <p:nvPr/>
        </p:nvPicPr>
        <p:blipFill>
          <a:blip r:embed="rId2"/>
          <a:stretch/>
        </p:blipFill>
        <p:spPr>
          <a:xfrm>
            <a:off x="468360" y="54936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http://im0-tub-ru.yandex.net/i?id=27a27994fa55b8e72e80494695884325-39-144&amp;n=21"/>
          <p:cNvPicPr/>
          <p:nvPr/>
        </p:nvPicPr>
        <p:blipFill>
          <a:blip r:embed="rId3"/>
          <a:stretch/>
        </p:blipFill>
        <p:spPr>
          <a:xfrm>
            <a:off x="2556000" y="2133720"/>
            <a:ext cx="1428480" cy="1428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http://im1-tub-ru.yandex.net/i?id=47988f573581b54f767dc2024ea8b847-117-144&amp;n=21"/>
          <p:cNvPicPr/>
          <p:nvPr/>
        </p:nvPicPr>
        <p:blipFill>
          <a:blip r:embed="rId4"/>
          <a:stretch/>
        </p:blipFill>
        <p:spPr>
          <a:xfrm>
            <a:off x="4356000" y="105264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Нуждаемся в котЭ ) - Форум г. Салехард и Ямало-Ненецкого автономного округа - Drahelas.ru"/>
          <p:cNvPicPr/>
          <p:nvPr/>
        </p:nvPicPr>
        <p:blipFill>
          <a:blip r:embed="rId5"/>
          <a:stretch/>
        </p:blipFill>
        <p:spPr>
          <a:xfrm>
            <a:off x="395280" y="3284640"/>
            <a:ext cx="1873080" cy="1873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ГБОУ города Москвы СОШ 843 - Новости"/>
          <p:cNvPicPr/>
          <p:nvPr/>
        </p:nvPicPr>
        <p:blipFill>
          <a:blip r:embed="rId6"/>
          <a:stretch/>
        </p:blipFill>
        <p:spPr>
          <a:xfrm>
            <a:off x="2771640" y="3933720"/>
            <a:ext cx="2857680" cy="2038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Хоккейные клюшки ЭФСИ. Клюшка ЭФСИ 5200 детская.(прав). Компания МОТО-ВЕЛО, г. Коломна, Московская область, куплю, мотовелозапча"/>
          <p:cNvPicPr/>
          <p:nvPr/>
        </p:nvPicPr>
        <p:blipFill>
          <a:blip r:embed="rId7"/>
          <a:stretch/>
        </p:blipFill>
        <p:spPr>
          <a:xfrm>
            <a:off x="6804000" y="620640"/>
            <a:ext cx="1513080" cy="2062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http://im1-tub-ru.yandex.net/i?id=1712c3acde24483345e908b581efc7ad-94-144&amp;n=21"/>
          <p:cNvPicPr/>
          <p:nvPr/>
        </p:nvPicPr>
        <p:blipFill>
          <a:blip r:embed="rId8"/>
          <a:stretch/>
        </p:blipFill>
        <p:spPr>
          <a:xfrm>
            <a:off x="6227640" y="3141720"/>
            <a:ext cx="2143080" cy="1428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8" descr="Живая шляпа * - Страница 2 Носов Н."/>
          <p:cNvPicPr/>
          <p:nvPr/>
        </p:nvPicPr>
        <p:blipFill>
          <a:blip r:embed="rId9"/>
          <a:stretch/>
        </p:blipFill>
        <p:spPr>
          <a:xfrm>
            <a:off x="6804000" y="4713120"/>
            <a:ext cx="201600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Нежные фоны. Обсуждение на LiveInternet - Российский Сервис Онлайн-Дневнико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1908000" y="1341360"/>
            <a:ext cx="59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Васька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Шляпу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Кочергу, лыжную палку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Картошкой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Котенок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Нежные фоны. Обсуждение на LiveInternet - Российский Сервис Онлайн-Дневнико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кот Васька охотится за мухой"/>
          <p:cNvPicPr/>
          <p:nvPr/>
        </p:nvPicPr>
        <p:blipFill>
          <a:blip r:embed="rId2"/>
          <a:stretch/>
        </p:blipFill>
        <p:spPr>
          <a:xfrm>
            <a:off x="0" y="0"/>
            <a:ext cx="1690560" cy="1989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Вовка и Вадик сидят за столом и рисуют"/>
          <p:cNvPicPr/>
          <p:nvPr/>
        </p:nvPicPr>
        <p:blipFill>
          <a:blip r:embed="rId3"/>
          <a:stretch/>
        </p:blipFill>
        <p:spPr>
          <a:xfrm>
            <a:off x="2195640" y="189000"/>
            <a:ext cx="1931760" cy="1944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шляпа упала на пол и накрыла кота Ваську"/>
          <p:cNvPicPr/>
          <p:nvPr/>
        </p:nvPicPr>
        <p:blipFill>
          <a:blip r:embed="rId4"/>
          <a:stretch/>
        </p:blipFill>
        <p:spPr>
          <a:xfrm>
            <a:off x="4356000" y="260280"/>
            <a:ext cx="1541520" cy="2060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Вовка и Вадик рисуют"/>
          <p:cNvPicPr/>
          <p:nvPr/>
        </p:nvPicPr>
        <p:blipFill>
          <a:blip r:embed="rId5"/>
          <a:stretch/>
        </p:blipFill>
        <p:spPr>
          <a:xfrm>
            <a:off x="6588000" y="189000"/>
            <a:ext cx="2286000" cy="1928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Вовка и Вадик и живая шляпа на полу"/>
          <p:cNvPicPr/>
          <p:nvPr/>
        </p:nvPicPr>
        <p:blipFill>
          <a:blip r:embed="rId6"/>
          <a:stretch/>
        </p:blipFill>
        <p:spPr>
          <a:xfrm>
            <a:off x="0" y="2492280"/>
            <a:ext cx="1908000" cy="1590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Вовка и Вадик влезли на диван в испуге"/>
          <p:cNvPicPr/>
          <p:nvPr/>
        </p:nvPicPr>
        <p:blipFill>
          <a:blip r:embed="rId7"/>
          <a:stretch/>
        </p:blipFill>
        <p:spPr>
          <a:xfrm>
            <a:off x="2124000" y="2421000"/>
            <a:ext cx="2063880" cy="1728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живая шляпа посредине комнаты"/>
          <p:cNvPicPr/>
          <p:nvPr/>
        </p:nvPicPr>
        <p:blipFill>
          <a:blip r:embed="rId8"/>
          <a:stretch/>
        </p:blipFill>
        <p:spPr>
          <a:xfrm>
            <a:off x="4572000" y="2492280"/>
            <a:ext cx="2065320" cy="1731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6" descr="Вовка и Вадик бегут из комнаты к двери"/>
          <p:cNvPicPr/>
          <p:nvPr/>
        </p:nvPicPr>
        <p:blipFill>
          <a:blip r:embed="rId9"/>
          <a:stretch/>
        </p:blipFill>
        <p:spPr>
          <a:xfrm>
            <a:off x="6948360" y="2276640"/>
            <a:ext cx="1811520" cy="2163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8" descr="Вовка и Вадик закрылись и держат дверь от живой шляпы"/>
          <p:cNvPicPr/>
          <p:nvPr/>
        </p:nvPicPr>
        <p:blipFill>
          <a:blip r:embed="rId10"/>
          <a:stretch/>
        </p:blipFill>
        <p:spPr>
          <a:xfrm>
            <a:off x="0" y="4221000"/>
            <a:ext cx="1871640" cy="1990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0" descr="Вовка и Вадик пугают шляпу стучат клюшкой и лыжной палкой по полу"/>
          <p:cNvPicPr/>
          <p:nvPr/>
        </p:nvPicPr>
        <p:blipFill>
          <a:blip r:embed="rId11"/>
          <a:stretch/>
        </p:blipFill>
        <p:spPr>
          <a:xfrm>
            <a:off x="2124000" y="4365720"/>
            <a:ext cx="1860480" cy="2016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2" descr="Вовка и Вадик вместе кидают картошкой в живую шляпу"/>
          <p:cNvPicPr/>
          <p:nvPr/>
        </p:nvPicPr>
        <p:blipFill>
          <a:blip r:embed="rId12"/>
          <a:stretch/>
        </p:blipFill>
        <p:spPr>
          <a:xfrm>
            <a:off x="4211640" y="4437000"/>
            <a:ext cx="1838160" cy="1944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4" descr="кот Васька на руках у ребят Вовка и Вадик"/>
          <p:cNvPicPr/>
          <p:nvPr/>
        </p:nvPicPr>
        <p:blipFill>
          <a:blip r:embed="rId13"/>
          <a:stretch/>
        </p:blipFill>
        <p:spPr>
          <a:xfrm>
            <a:off x="6516720" y="4581360"/>
            <a:ext cx="2376360" cy="20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Нежные фоны. Обсуждение на LiveInternet - Российский Сервис Онлайн-Дневников"/>
          <p:cNvPicPr/>
          <p:nvPr/>
        </p:nvPicPr>
        <p:blipFill>
          <a:blip r:embed="rId1"/>
          <a:stretch/>
        </p:blipFill>
        <p:spPr>
          <a:xfrm>
            <a:off x="395280" y="189000"/>
            <a:ext cx="8548560" cy="64101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11280" y="260280"/>
            <a:ext cx="85341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 ...м… д     В…л…д..  В…д…к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Шл…п..     ст…л      д…в…н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…хн      к…мн…т… 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…рз…н…     к..т..н..к  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..рт..шк..    Н…с…в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Нежные фоны. Обсуждение на LiveInternet - Российский Сервис Онлайн-Дневнико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395280" y="549360"/>
            <a:ext cx="9031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..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тёнок Васька с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..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дел на п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..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лу возле к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..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мода и л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..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вил мух. А на к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..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моде, на самом кр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..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ю, л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..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жала шляпа…..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Нежные фоны. Обсуждение на LiveInternet - Российский Сервис Онлайн-Дневнико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826920" y="1341360"/>
            <a:ext cx="7777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К</a:t>
            </a:r>
            <a:r>
              <a:rPr b="1" lang="ru-RU" sz="4400" spc="-1" strike="noStrike">
                <a:solidFill>
                  <a:srgbClr val="ff3300"/>
                </a:solidFill>
                <a:latin typeface="Georgia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тёнок Васька с</a:t>
            </a:r>
            <a:r>
              <a:rPr b="1" lang="ru-RU" sz="4400" spc="-1" strike="noStrike">
                <a:solidFill>
                  <a:srgbClr val="ff3300"/>
                </a:solidFill>
                <a:latin typeface="Georgia"/>
              </a:rPr>
              <a:t>и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дел на п</a:t>
            </a:r>
            <a:r>
              <a:rPr b="1" lang="ru-RU" sz="4400" spc="-1" strike="noStrike">
                <a:solidFill>
                  <a:srgbClr val="ff3300"/>
                </a:solidFill>
                <a:latin typeface="Georgia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лу возле к</a:t>
            </a:r>
            <a:r>
              <a:rPr b="1" lang="ru-RU" sz="4400" spc="-1" strike="noStrike">
                <a:solidFill>
                  <a:srgbClr val="ff3300"/>
                </a:solidFill>
                <a:latin typeface="Georgia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мода и л</a:t>
            </a:r>
            <a:r>
              <a:rPr b="1" lang="ru-RU" sz="4400" spc="-1" strike="noStrike">
                <a:solidFill>
                  <a:srgbClr val="ff3300"/>
                </a:solidFill>
                <a:latin typeface="Georgia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вил мух. А на к</a:t>
            </a:r>
            <a:r>
              <a:rPr b="1" lang="ru-RU" sz="4400" spc="-1" strike="noStrike">
                <a:solidFill>
                  <a:srgbClr val="ff3300"/>
                </a:solidFill>
                <a:latin typeface="Georgia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моде, на самом кр</a:t>
            </a:r>
            <a:r>
              <a:rPr b="1" lang="ru-RU" sz="4400" spc="-1" strike="noStrike">
                <a:solidFill>
                  <a:srgbClr val="ff3300"/>
                </a:solidFill>
                <a:latin typeface="Georgia"/>
              </a:rPr>
              <a:t>а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ю, л</a:t>
            </a:r>
            <a:r>
              <a:rPr b="1" lang="ru-RU" sz="4400" spc="-1" strike="noStrike">
                <a:solidFill>
                  <a:srgbClr val="ff3300"/>
                </a:solidFill>
                <a:latin typeface="Georgia"/>
              </a:rPr>
              <a:t>е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жала шляпа…..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Нежные фоны. Обсуждение на LiveInternet - Российский Сервис Онлайн-Дневнико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3"/>
          <p:cNvSpPr/>
          <p:nvPr/>
        </p:nvSpPr>
        <p:spPr>
          <a:xfrm>
            <a:off x="684360" y="765000"/>
            <a:ext cx="720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 что вы похвалили бы себя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Что у вас особенно получилос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4T17:11:54Z</dcterms:created>
  <dc:creator>МАМУЛЯ</dc:creator>
  <dc:description/>
  <dc:language>en-US</dc:language>
  <cp:lastModifiedBy>uzer</cp:lastModifiedBy>
  <dcterms:modified xsi:type="dcterms:W3CDTF">2015-02-08T12:32:33Z</dcterms:modified>
  <cp:revision>17</cp:revision>
  <dc:subject/>
  <dc:title>Слайд 1</dc:title>
</cp:coreProperties>
</file>