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2312-5CAD-4D68-860B-F3E7CD5D6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321B-A9D0-4BBE-8271-C42C8959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2651-85C8-45B3-800E-F9E2E996B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58FF-975E-47E8-B2E4-668A91812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5B35-EE5D-462B-A50D-06675A186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E34E-B0CD-4588-BF50-7E7D592B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C388-9A1B-4C65-814A-7B66AEEF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9D94-7A15-4013-BB29-5EB1CF09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8D4B-F2D1-47E8-8670-E44849A8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B70E-93E6-4968-995C-7BEBF54E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C095-94A3-46F4-BEEF-A7FE64D2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CAF8-38FF-4FD6-A46B-7B48AA7E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065E-AC97-4555-AB6D-6F27C7DC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AA21-36E5-42DF-9CA8-EF3F4664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BCB0-F6C1-4FA7-9746-BFA08625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4328-F0C4-4CBF-B365-3C16D6386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30B3-4CFC-4D5E-B4F5-1390B302E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A5F9-E0C8-4A1D-BB11-D4FA845E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1DC4-DC9C-43E4-98C5-720E8615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C36D-7197-483F-9D55-F8012A39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FCFB-C291-435A-91DB-6D7C2CA2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4D18-DCDC-4E9C-B3A5-95D455AB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47D3-7DAE-4EEB-8F25-B4E79411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9C45-212D-446F-954B-2BC983E6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EAAB-7CAB-4F77-A6A6-B9BA2D93A56A}" type="slidenum"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FA00-7DAA-4446-8F80-66BA8BF6377C}" type="slidenum"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261080" y="1629360"/>
            <a:ext cx="7482240" cy="700560"/>
          </a:xfrm>
          <a:prstGeom prst="rect">
            <a:avLst/>
          </a:prstGeom>
          <a:noFill/>
          <a:ln w="9360">
            <a:solidFill>
              <a:srgbClr val="99cc00"/>
            </a:solidFill>
            <a:round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Comic Sans MS"/>
              </a:rPr>
              <a:t>Буквы  о и а на конце наречий </a:t>
            </a:r>
            <a:br>
              <a:rPr sz="3200"/>
            </a:br>
            <a:r>
              <a:rPr b="1" lang="ru-RU" sz="3200" spc="-1" strike="noStrike">
                <a:solidFill>
                  <a:srgbClr val="336600"/>
                </a:solidFill>
                <a:latin typeface="Comic Sans MS"/>
              </a:rPr>
              <a:t>с приставками из-, до-, с-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3E5D-8DB0-4C1F-BC7E-26D992D523A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ru-RU" sz="6600" spc="-1" strike="noStrike">
                <a:solidFill>
                  <a:srgbClr val="f49100"/>
                </a:solidFill>
                <a:latin typeface="Comic Sans MS"/>
              </a:rPr>
              <a:t>Правило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71280" y="2361960"/>
            <a:ext cx="799308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В наречиях  с приставками  </a:t>
            </a:r>
            <a:r>
              <a:rPr b="1" lang="ru-RU" sz="2000" spc="-1" strike="noStrike">
                <a:solidFill>
                  <a:srgbClr val="f49100"/>
                </a:solidFill>
                <a:latin typeface="Arial"/>
              </a:rPr>
              <a:t>из-,  до-,  с-</a:t>
            </a: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  на конце пиш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буква </a:t>
            </a:r>
            <a:r>
              <a:rPr b="1" lang="ru-RU" sz="2000" spc="-1" strike="noStrike">
                <a:solidFill>
                  <a:srgbClr val="f491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, если эти наречия образованы от бесприставоч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прилагательн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Arial"/>
              </a:rPr>
              <a:t>Пример:</a:t>
            </a: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49100"/>
                </a:solidFill>
                <a:latin typeface="Arial"/>
              </a:rPr>
              <a:t>до</a:t>
            </a:r>
            <a:r>
              <a:rPr b="1" i="1" lang="ru-RU" sz="2000" spc="-1" strike="noStrike">
                <a:solidFill>
                  <a:srgbClr val="382dc7"/>
                </a:solidFill>
                <a:latin typeface="Arial"/>
              </a:rPr>
              <a:t>сух</a:t>
            </a:r>
            <a:r>
              <a:rPr b="1" i="1" lang="ru-RU" sz="2000" spc="-1" strike="noStrike">
                <a:solidFill>
                  <a:srgbClr val="f49100"/>
                </a:solidFill>
                <a:latin typeface="Arial"/>
              </a:rPr>
              <a:t>а  </a:t>
            </a:r>
            <a:r>
              <a:rPr b="1" lang="ru-RU" sz="2000" spc="-1" strike="noStrike">
                <a:solidFill>
                  <a:srgbClr val="99cc00"/>
                </a:solidFill>
                <a:latin typeface="Arial"/>
              </a:rPr>
              <a:t>(от</a:t>
            </a:r>
            <a:r>
              <a:rPr b="1" lang="ru-RU" sz="2000" spc="-1" strike="noStrike">
                <a:solidFill>
                  <a:srgbClr val="382dc7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82dc7"/>
                </a:solidFill>
                <a:latin typeface="Arial"/>
              </a:rPr>
              <a:t>сухой</a:t>
            </a:r>
            <a:r>
              <a:rPr b="1" lang="ru-RU" sz="2000" spc="-1" strike="noStrike">
                <a:solidFill>
                  <a:srgbClr val="382dc7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cc00"/>
                </a:solidFill>
                <a:latin typeface="Arial"/>
              </a:rPr>
              <a:t>без пристав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В наречиях  с приставками  </a:t>
            </a:r>
            <a:r>
              <a:rPr b="1" lang="ru-RU" sz="2000" spc="-1" strike="noStrike">
                <a:solidFill>
                  <a:srgbClr val="382dc7"/>
                </a:solidFill>
                <a:latin typeface="Arial"/>
              </a:rPr>
              <a:t>из-,  до-,  с-</a:t>
            </a: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  на конце пишетс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буква </a:t>
            </a:r>
            <a:r>
              <a:rPr b="1" lang="ru-RU" sz="2000" spc="-1" strike="noStrike">
                <a:solidFill>
                  <a:srgbClr val="f491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, если они образованы  от прилагательных,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которых уже были пристав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Arial"/>
              </a:rPr>
              <a:t>Пример:</a:t>
            </a: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82dc7"/>
                </a:solidFill>
                <a:latin typeface="Arial"/>
              </a:rPr>
              <a:t>досрочн</a:t>
            </a:r>
            <a:r>
              <a:rPr b="1" i="1" lang="ru-RU" sz="2000" spc="-1" strike="noStrike">
                <a:solidFill>
                  <a:srgbClr val="f491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382dc7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cc00"/>
                </a:solidFill>
                <a:latin typeface="Arial"/>
              </a:rPr>
              <a:t>(от</a:t>
            </a:r>
            <a:r>
              <a:rPr b="1" lang="ru-RU" sz="2000" spc="-1" strike="noStrike">
                <a:solidFill>
                  <a:srgbClr val="382dc7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82dc7"/>
                </a:solidFill>
                <a:latin typeface="Arial"/>
              </a:rPr>
              <a:t>досрочный</a:t>
            </a:r>
            <a:r>
              <a:rPr b="1" lang="ru-RU" sz="2000" spc="-1" strike="noStrike">
                <a:solidFill>
                  <a:srgbClr val="382dc7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cc00"/>
                </a:solidFill>
                <a:latin typeface="Arial"/>
              </a:rPr>
              <a:t>с приставко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В наречиях с приставками  </a:t>
            </a:r>
            <a:r>
              <a:rPr b="1" lang="ru-RU" sz="2000" spc="-1" strike="noStrike">
                <a:solidFill>
                  <a:srgbClr val="f49100"/>
                </a:solidFill>
                <a:latin typeface="Arial"/>
              </a:rPr>
              <a:t>в-,  на-,  за- </a:t>
            </a: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 всегда пиш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буква </a:t>
            </a:r>
            <a:r>
              <a:rPr b="1" lang="ru-RU" sz="2000" spc="-1" strike="noStrike">
                <a:solidFill>
                  <a:srgbClr val="f491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Arial"/>
              </a:rPr>
              <a:t>Пример: </a:t>
            </a:r>
            <a:r>
              <a:rPr b="1" lang="ru-RU" sz="2000" spc="-1" strike="noStrike">
                <a:solidFill>
                  <a:srgbClr val="f49100"/>
                </a:solidFill>
                <a:latin typeface="Arial"/>
              </a:rPr>
              <a:t>на</a:t>
            </a:r>
            <a:r>
              <a:rPr b="1" lang="ru-RU" sz="2000" spc="-1" strike="noStrike">
                <a:solidFill>
                  <a:srgbClr val="382dc7"/>
                </a:solidFill>
                <a:latin typeface="Arial"/>
              </a:rPr>
              <a:t>сух</a:t>
            </a:r>
            <a:r>
              <a:rPr b="1" lang="ru-RU" sz="2000" spc="-1" strike="noStrike">
                <a:solidFill>
                  <a:srgbClr val="f491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99cc00"/>
                </a:solidFill>
                <a:latin typeface="Arial"/>
              </a:rPr>
              <a:t> (с приставкой н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">
            <a:hlinkClick r:id="rId1" action="ppaction://hlinksldjump"/>
          </p:cNvPr>
          <p:cNvSpPr/>
          <p:nvPr/>
        </p:nvSpPr>
        <p:spPr>
          <a:xfrm>
            <a:off x="179280" y="18900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10839" y="3837"/>
                </a:moveTo>
                <a:lnTo>
                  <a:pt x="13415" y="6448"/>
                </a:lnTo>
                <a:lnTo>
                  <a:pt x="13415" y="4707"/>
                </a:lnTo>
                <a:lnTo>
                  <a:pt x="15190" y="4707"/>
                </a:lnTo>
                <a:lnTo>
                  <a:pt x="15190" y="8224"/>
                </a:lnTo>
                <a:lnTo>
                  <a:pt x="17802" y="10800"/>
                </a:lnTo>
                <a:lnTo>
                  <a:pt x="16148" y="10800"/>
                </a:lnTo>
                <a:lnTo>
                  <a:pt x="16148" y="17989"/>
                </a:lnTo>
                <a:lnTo>
                  <a:pt x="5529" y="17989"/>
                </a:lnTo>
                <a:lnTo>
                  <a:pt x="5529" y="10800"/>
                </a:lnTo>
                <a:lnTo>
                  <a:pt x="3876" y="10800"/>
                </a:lnTo>
                <a:close/>
              </a:path>
              <a:path fill="darkenLess" w="21677" h="21600">
                <a:moveTo>
                  <a:pt x="13415" y="6448"/>
                </a:moveTo>
                <a:lnTo>
                  <a:pt x="13415" y="4707"/>
                </a:lnTo>
                <a:lnTo>
                  <a:pt x="15190" y="4707"/>
                </a:lnTo>
                <a:lnTo>
                  <a:pt x="15190" y="8224"/>
                </a:lnTo>
                <a:close/>
              </a:path>
              <a:path fill="darkenLess" w="21677" h="21600">
                <a:moveTo>
                  <a:pt x="9916" y="14299"/>
                </a:moveTo>
                <a:lnTo>
                  <a:pt x="11761" y="14299"/>
                </a:lnTo>
                <a:lnTo>
                  <a:pt x="11761" y="17989"/>
                </a:lnTo>
                <a:lnTo>
                  <a:pt x="16148" y="17989"/>
                </a:lnTo>
                <a:lnTo>
                  <a:pt x="16148" y="10800"/>
                </a:lnTo>
                <a:lnTo>
                  <a:pt x="5529" y="10800"/>
                </a:lnTo>
                <a:lnTo>
                  <a:pt x="5529" y="17989"/>
                </a:lnTo>
                <a:lnTo>
                  <a:pt x="9916" y="17989"/>
                </a:lnTo>
                <a:close/>
              </a:path>
            </a:pathLst>
          </a:cu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2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2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20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A3D2-84AD-44B1-AEA8-17C17238B02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49100"/>
                </a:solidFill>
                <a:latin typeface="Comic Sans MS"/>
              </a:rPr>
              <a:t>Рассуждение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71280" y="2492280"/>
            <a:ext cx="7993080" cy="380376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82dc7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382dc7"/>
                </a:solidFill>
                <a:latin typeface="Arial"/>
              </a:rPr>
              <a:t>Доверительн</a:t>
            </a:r>
            <a:r>
              <a:rPr b="0" lang="ru-RU" sz="2400" spc="-1" strike="noStrike">
                <a:solidFill>
                  <a:srgbClr val="382dc7"/>
                </a:solidFill>
                <a:latin typeface="Arial"/>
              </a:rPr>
              <a:t> 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 в этом наречии есть пристав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49100"/>
                </a:solidFill>
                <a:latin typeface="Arial"/>
              </a:rPr>
              <a:t>до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о она уж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ы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прилагательн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49100"/>
                </a:solidFill>
                <a:latin typeface="Arial"/>
              </a:rPr>
              <a:t>доверитель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значит, наречие образовано 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щью суффикса </a:t>
            </a:r>
            <a:r>
              <a:rPr b="1" i="1" lang="ru-RU" sz="2400" spc="-1" strike="noStrike">
                <a:solidFill>
                  <a:srgbClr val="f49100"/>
                </a:solidFill>
                <a:latin typeface="Arial"/>
              </a:rPr>
              <a:t>-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пишу на конце букву </a:t>
            </a:r>
            <a:r>
              <a:rPr b="1" i="1" lang="ru-RU" sz="2400" spc="-1" strike="noStrike">
                <a:solidFill>
                  <a:srgbClr val="f49100"/>
                </a:solidFill>
                <a:latin typeface="Arial"/>
              </a:rPr>
              <a:t>-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82dc7"/>
                </a:solidFill>
                <a:latin typeface="Arial"/>
              </a:rPr>
              <a:t>Довери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82dc7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382dc7"/>
                </a:solidFill>
                <a:latin typeface="Arial"/>
              </a:rPr>
              <a:t>Досух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- в этом наречии есть приставка </a:t>
            </a:r>
            <a:r>
              <a:rPr b="1" i="1" lang="ru-RU" sz="2400" spc="-1" strike="noStrike">
                <a:solidFill>
                  <a:srgbClr val="f49100"/>
                </a:solidFill>
                <a:latin typeface="Arial"/>
              </a:rPr>
              <a:t>до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е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прилагательном </a:t>
            </a:r>
            <a:r>
              <a:rPr b="1" i="1" lang="ru-RU" sz="2400" spc="-1" strike="noStrike">
                <a:solidFill>
                  <a:srgbClr val="f49100"/>
                </a:solidFill>
                <a:latin typeface="Arial"/>
              </a:rPr>
              <a:t>сух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значит, нареч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овано с помощью  приставки </a:t>
            </a:r>
            <a:r>
              <a:rPr b="1" lang="ru-RU" sz="2400" spc="-1" strike="noStrike">
                <a:solidFill>
                  <a:srgbClr val="f49100"/>
                </a:solidFill>
                <a:latin typeface="Arial"/>
              </a:rPr>
              <a:t>до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суффикса </a:t>
            </a:r>
            <a:r>
              <a:rPr b="1" i="1" lang="ru-RU" sz="2400" spc="-1" strike="noStrike">
                <a:solidFill>
                  <a:srgbClr val="f49100"/>
                </a:solidFill>
                <a:latin typeface="Arial"/>
              </a:rPr>
              <a:t>-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шу на конце букву </a:t>
            </a:r>
            <a:r>
              <a:rPr b="1" i="1" lang="ru-RU" sz="2400" spc="-1" strike="noStrike">
                <a:solidFill>
                  <a:srgbClr val="f491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82dc7"/>
                </a:solidFill>
                <a:latin typeface="Arial"/>
              </a:rPr>
              <a:t>Досух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4">
            <a:hlinkClick r:id="rId1" action="ppaction://hlinksldjump"/>
          </p:cNvPr>
          <p:cNvSpPr/>
          <p:nvPr/>
        </p:nvSpPr>
        <p:spPr>
          <a:xfrm>
            <a:off x="179280" y="18900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10839" y="3837"/>
                </a:moveTo>
                <a:lnTo>
                  <a:pt x="13415" y="6448"/>
                </a:lnTo>
                <a:lnTo>
                  <a:pt x="13415" y="4707"/>
                </a:lnTo>
                <a:lnTo>
                  <a:pt x="15190" y="4707"/>
                </a:lnTo>
                <a:lnTo>
                  <a:pt x="15190" y="8224"/>
                </a:lnTo>
                <a:lnTo>
                  <a:pt x="17802" y="10800"/>
                </a:lnTo>
                <a:lnTo>
                  <a:pt x="16148" y="10800"/>
                </a:lnTo>
                <a:lnTo>
                  <a:pt x="16148" y="17989"/>
                </a:lnTo>
                <a:lnTo>
                  <a:pt x="5529" y="17989"/>
                </a:lnTo>
                <a:lnTo>
                  <a:pt x="5529" y="10800"/>
                </a:lnTo>
                <a:lnTo>
                  <a:pt x="3876" y="10800"/>
                </a:lnTo>
                <a:close/>
              </a:path>
              <a:path fill="darkenLess" w="21677" h="21600">
                <a:moveTo>
                  <a:pt x="13415" y="6448"/>
                </a:moveTo>
                <a:lnTo>
                  <a:pt x="13415" y="4707"/>
                </a:lnTo>
                <a:lnTo>
                  <a:pt x="15190" y="4707"/>
                </a:lnTo>
                <a:lnTo>
                  <a:pt x="15190" y="8224"/>
                </a:lnTo>
                <a:close/>
              </a:path>
              <a:path fill="darkenLess" w="21677" h="21600">
                <a:moveTo>
                  <a:pt x="9916" y="14299"/>
                </a:moveTo>
                <a:lnTo>
                  <a:pt x="11761" y="14299"/>
                </a:lnTo>
                <a:lnTo>
                  <a:pt x="11761" y="17989"/>
                </a:lnTo>
                <a:lnTo>
                  <a:pt x="16148" y="17989"/>
                </a:lnTo>
                <a:lnTo>
                  <a:pt x="16148" y="10800"/>
                </a:lnTo>
                <a:lnTo>
                  <a:pt x="5529" y="10800"/>
                </a:lnTo>
                <a:lnTo>
                  <a:pt x="5529" y="17989"/>
                </a:lnTo>
                <a:lnTo>
                  <a:pt x="9916" y="17989"/>
                </a:lnTo>
                <a:close/>
              </a:path>
            </a:pathLst>
          </a:cu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3A60-54A0-4A6A-98FB-369C9A24EEE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49100"/>
                </a:solidFill>
                <a:latin typeface="Comic Sans MS"/>
              </a:rPr>
              <a:t>Конструирование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42920" y="2565360"/>
            <a:ext cx="76932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Times New Roman"/>
              </a:rPr>
              <a:t>Задание:</a:t>
            </a:r>
            <a:r>
              <a:rPr b="0" lang="ru-RU" sz="2800" spc="-1" strike="noStrike">
                <a:solidFill>
                  <a:srgbClr val="33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  <a:ea typeface="Times New Roman"/>
              </a:rPr>
              <a:t>К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  <a:ea typeface="Times New Roman"/>
              </a:rPr>
              <a:t>наречиям добавьте нужные пристав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  <a:ea typeface="Times New Roman"/>
              </a:rPr>
              <a:t>допишите суффиксы </a:t>
            </a:r>
            <a:r>
              <a:rPr b="1" i="1" lang="ru-RU" sz="2800" spc="-1" strike="noStrike">
                <a:solidFill>
                  <a:srgbClr val="f49100"/>
                </a:solidFill>
                <a:latin typeface="Arial"/>
                <a:ea typeface="Times New Roman"/>
              </a:rPr>
              <a:t>-а -о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  <a:ea typeface="Times New Roman"/>
              </a:rPr>
              <a:t>. Составь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  <a:ea typeface="Times New Roman"/>
              </a:rPr>
              <a:t>наречиями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82dc7"/>
                </a:solidFill>
                <a:latin typeface="Arial"/>
                <a:ea typeface="Times New Roman"/>
              </a:rPr>
              <a:t>...давн...,  ...глух...,  ...полн...,  ...легк..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82dc7"/>
                </a:solidFill>
                <a:latin typeface="Arial"/>
                <a:ea typeface="Times New Roman"/>
              </a:rPr>
              <a:t>...далек...,  ...высок..., ...редк...</a:t>
            </a:r>
            <a:r>
              <a:rPr b="1" lang="ru-RU" sz="2800" spc="-1" strike="noStrike">
                <a:solidFill>
                  <a:srgbClr val="382dc7"/>
                </a:solidFill>
                <a:latin typeface="Arial"/>
                <a:ea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179280" y="18900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1083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77" h="21600">
                <a:moveTo>
                  <a:pt x="11944" y="14281"/>
                </a:moveTo>
                <a:lnTo>
                  <a:pt x="11944" y="12323"/>
                </a:lnTo>
                <a:cubicBezTo>
                  <a:pt x="11944" y="11496"/>
                  <a:pt x="12275" y="10800"/>
                  <a:pt x="12875" y="10800"/>
                </a:cubicBezTo>
                <a:cubicBezTo>
                  <a:pt x="14007" y="10800"/>
                  <a:pt x="14903" y="9434"/>
                  <a:pt x="14903" y="7849"/>
                </a:cubicBezTo>
                <a:cubicBezTo>
                  <a:pt x="14903" y="5534"/>
                  <a:pt x="13049" y="3794"/>
                  <a:pt x="10839" y="3794"/>
                </a:cubicBezTo>
                <a:cubicBezTo>
                  <a:pt x="8628" y="3794"/>
                  <a:pt x="6957" y="5534"/>
                  <a:pt x="6957" y="7849"/>
                </a:cubicBezTo>
                <a:lnTo>
                  <a:pt x="8811" y="7849"/>
                </a:lnTo>
                <a:cubicBezTo>
                  <a:pt x="8811" y="6709"/>
                  <a:pt x="9733" y="5821"/>
                  <a:pt x="10839" y="5821"/>
                </a:cubicBezTo>
                <a:cubicBezTo>
                  <a:pt x="11944" y="5821"/>
                  <a:pt x="12875" y="6709"/>
                  <a:pt x="12875" y="7849"/>
                </a:cubicBezTo>
                <a:cubicBezTo>
                  <a:pt x="12875" y="8589"/>
                  <a:pt x="12405" y="9320"/>
                  <a:pt x="11944" y="9320"/>
                </a:cubicBezTo>
                <a:cubicBezTo>
                  <a:pt x="10839" y="9320"/>
                  <a:pt x="9733" y="10800"/>
                  <a:pt x="9733" y="12323"/>
                </a:cubicBezTo>
                <a:lnTo>
                  <a:pt x="9733" y="14281"/>
                </a:lnTo>
                <a:close/>
              </a:path>
            </a:pathLst>
          </a:cu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971640" y="18900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10831" y="3837"/>
                </a:moveTo>
                <a:lnTo>
                  <a:pt x="13407" y="6448"/>
                </a:ln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lnTo>
                  <a:pt x="17794" y="10800"/>
                </a:lnTo>
                <a:lnTo>
                  <a:pt x="16140" y="10800"/>
                </a:lnTo>
                <a:lnTo>
                  <a:pt x="16140" y="17989"/>
                </a:lnTo>
                <a:lnTo>
                  <a:pt x="5522" y="17989"/>
                </a:lnTo>
                <a:lnTo>
                  <a:pt x="5522" y="10800"/>
                </a:lnTo>
                <a:lnTo>
                  <a:pt x="3868" y="10800"/>
                </a:lnTo>
                <a:close/>
              </a:path>
              <a:path fill="darkenLess" w="21662" h="21600">
                <a:moveTo>
                  <a:pt x="13407" y="6448"/>
                </a:move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close/>
              </a:path>
              <a:path fill="darkenLess" w="21662" h="21600">
                <a:moveTo>
                  <a:pt x="9908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40" y="17989"/>
                </a:lnTo>
                <a:lnTo>
                  <a:pt x="16140" y="10800"/>
                </a:lnTo>
                <a:lnTo>
                  <a:pt x="5522" y="10800"/>
                </a:lnTo>
                <a:lnTo>
                  <a:pt x="5522" y="17989"/>
                </a:lnTo>
                <a:lnTo>
                  <a:pt x="9908" y="17989"/>
                </a:lnTo>
                <a:close/>
              </a:path>
            </a:pathLst>
          </a:cu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омер слайда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CD8D-872B-43BE-B2F8-CC6989048FC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49100"/>
                </a:solidFill>
                <a:latin typeface="Comic Sans MS"/>
              </a:rPr>
              <a:t>Проверка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cc00"/>
                </a:solidFill>
                <a:latin typeface="Arial"/>
              </a:rPr>
              <a:t>Из</a:t>
            </a:r>
            <a:r>
              <a:rPr b="1" i="1" lang="ru-RU" sz="2800" spc="-1" strike="noStrike">
                <a:solidFill>
                  <a:srgbClr val="382dc7"/>
                </a:solidFill>
                <a:latin typeface="Arial"/>
                <a:ea typeface="Times New Roman"/>
              </a:rPr>
              <a:t>давн</a:t>
            </a:r>
            <a:r>
              <a:rPr b="1" i="1" lang="ru-RU" sz="2800" spc="-1" strike="noStrike">
                <a:solidFill>
                  <a:srgbClr val="f49100"/>
                </a:solidFill>
                <a:latin typeface="Arial"/>
              </a:rPr>
              <a:t>а</a:t>
            </a:r>
            <a:r>
              <a:rPr b="1" i="1" lang="ru-RU" sz="2800" spc="-1" strike="noStrike">
                <a:solidFill>
                  <a:srgbClr val="382dc7"/>
                </a:solidFill>
                <a:latin typeface="Arial"/>
                <a:ea typeface="Times New Roman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cc00"/>
                </a:solidFill>
                <a:latin typeface="Arial"/>
              </a:rPr>
              <a:t>с</a:t>
            </a:r>
            <a:r>
              <a:rPr b="1" i="1" lang="ru-RU" sz="2800" spc="-1" strike="noStrike">
                <a:solidFill>
                  <a:srgbClr val="382dc7"/>
                </a:solidFill>
                <a:latin typeface="Arial"/>
                <a:ea typeface="Times New Roman"/>
              </a:rPr>
              <a:t>полн</a:t>
            </a:r>
            <a:r>
              <a:rPr b="1" i="1" lang="ru-RU" sz="2800" spc="-1" strike="noStrike">
                <a:solidFill>
                  <a:srgbClr val="f49100"/>
                </a:solidFill>
                <a:latin typeface="Arial"/>
              </a:rPr>
              <a:t>а,</a:t>
            </a:r>
            <a:r>
              <a:rPr b="1" i="1" lang="ru-RU" sz="2800" spc="-1" strike="noStrike">
                <a:solidFill>
                  <a:srgbClr val="382dc7"/>
                </a:solidFill>
                <a:latin typeface="Arial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cc00"/>
                </a:solidFill>
                <a:latin typeface="Arial"/>
              </a:rPr>
              <a:t>с</a:t>
            </a:r>
            <a:r>
              <a:rPr b="1" i="1" lang="ru-RU" sz="2800" spc="-1" strike="noStrike">
                <a:solidFill>
                  <a:srgbClr val="382dc7"/>
                </a:solidFill>
                <a:latin typeface="Arial"/>
                <a:ea typeface="Times New Roman"/>
              </a:rPr>
              <a:t>легк</a:t>
            </a:r>
            <a:r>
              <a:rPr b="1" i="1" lang="ru-RU" sz="2800" spc="-1" strike="noStrike">
                <a:solidFill>
                  <a:srgbClr val="f49100"/>
                </a:solidFill>
                <a:latin typeface="Arial"/>
              </a:rPr>
              <a:t>а</a:t>
            </a:r>
            <a:r>
              <a:rPr b="1" i="1" lang="ru-RU" sz="2800" spc="-1" strike="noStrike">
                <a:solidFill>
                  <a:srgbClr val="382dc7"/>
                </a:solidFill>
                <a:latin typeface="Arial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cc00"/>
                </a:solidFill>
                <a:latin typeface="Arial"/>
              </a:rPr>
              <a:t>из</a:t>
            </a:r>
            <a:r>
              <a:rPr b="1" i="1" lang="ru-RU" sz="2800" spc="-1" strike="noStrike">
                <a:solidFill>
                  <a:srgbClr val="382dc7"/>
                </a:solidFill>
                <a:latin typeface="Arial"/>
                <a:ea typeface="Times New Roman"/>
              </a:rPr>
              <a:t>далек</a:t>
            </a:r>
            <a:r>
              <a:rPr b="1" i="1" lang="ru-RU" sz="2800" spc="-1" strike="noStrike">
                <a:solidFill>
                  <a:srgbClr val="f49100"/>
                </a:solidFill>
                <a:latin typeface="Arial"/>
              </a:rPr>
              <a:t>а</a:t>
            </a:r>
            <a:r>
              <a:rPr b="1" i="1" lang="ru-RU" sz="2800" spc="-1" strike="noStrike">
                <a:solidFill>
                  <a:srgbClr val="382dc7"/>
                </a:solidFill>
                <a:latin typeface="Arial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cc00"/>
                </a:solidFill>
                <a:latin typeface="Arial"/>
              </a:rPr>
              <a:t>с</a:t>
            </a:r>
            <a:r>
              <a:rPr b="1" i="1" lang="ru-RU" sz="2800" spc="-1" strike="noStrike">
                <a:solidFill>
                  <a:srgbClr val="382dc7"/>
                </a:solidFill>
                <a:latin typeface="Arial"/>
                <a:ea typeface="Times New Roman"/>
              </a:rPr>
              <a:t>высок</a:t>
            </a:r>
            <a:r>
              <a:rPr b="1" i="1" lang="ru-RU" sz="2800" spc="-1" strike="noStrike">
                <a:solidFill>
                  <a:srgbClr val="f49100"/>
                </a:solidFill>
                <a:latin typeface="Arial"/>
              </a:rPr>
              <a:t>а</a:t>
            </a:r>
            <a:r>
              <a:rPr b="1" i="1" lang="ru-RU" sz="2800" spc="-1" strike="noStrike">
                <a:solidFill>
                  <a:srgbClr val="382dc7"/>
                </a:solidFill>
                <a:latin typeface="Arial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cc00"/>
                </a:solidFill>
                <a:latin typeface="Arial"/>
              </a:rPr>
              <a:t>из</a:t>
            </a:r>
            <a:r>
              <a:rPr b="1" i="1" lang="ru-RU" sz="2800" spc="-1" strike="noStrike">
                <a:solidFill>
                  <a:srgbClr val="382dc7"/>
                </a:solidFill>
                <a:latin typeface="Arial"/>
                <a:ea typeface="Times New Roman"/>
              </a:rPr>
              <a:t>ре</a:t>
            </a:r>
            <a:r>
              <a:rPr b="1" i="1" lang="ru-RU" sz="2800" spc="-1" strike="noStrike">
                <a:solidFill>
                  <a:srgbClr val="382dc7"/>
                </a:solidFill>
                <a:latin typeface="Arial"/>
              </a:rPr>
              <a:t>дк</a:t>
            </a:r>
            <a:r>
              <a:rPr b="1" i="1" lang="ru-RU" sz="2800" spc="-1" strike="noStrike">
                <a:solidFill>
                  <a:srgbClr val="f49100"/>
                </a:solidFill>
                <a:latin typeface="Arial"/>
              </a:rPr>
              <a:t>а</a:t>
            </a:r>
            <a:r>
              <a:rPr b="1" i="1" lang="ru-RU" sz="2800" spc="-1" strike="noStrike">
                <a:solidFill>
                  <a:srgbClr val="382dc7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cc00"/>
                </a:solidFill>
                <a:latin typeface="Arial"/>
              </a:rPr>
              <a:t>На</a:t>
            </a:r>
            <a:r>
              <a:rPr b="1" i="1" lang="ru-RU" sz="2800" spc="-1" strike="noStrike">
                <a:solidFill>
                  <a:srgbClr val="382dc7"/>
                </a:solidFill>
                <a:latin typeface="Arial"/>
                <a:ea typeface="Times New Roman"/>
              </a:rPr>
              <a:t>глух</a:t>
            </a:r>
            <a:r>
              <a:rPr b="1" i="1" lang="ru-RU" sz="2800" spc="-1" strike="noStrike">
                <a:solidFill>
                  <a:srgbClr val="f49100"/>
                </a:solidFill>
                <a:latin typeface="Arial"/>
              </a:rPr>
              <a:t>о</a:t>
            </a:r>
            <a:r>
              <a:rPr b="1" i="1" lang="ru-RU" sz="2800" spc="-1" strike="noStrike">
                <a:solidFill>
                  <a:srgbClr val="382dc7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8061480" y="4075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179280" y="18900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10839" y="3837"/>
                </a:moveTo>
                <a:lnTo>
                  <a:pt x="13415" y="6448"/>
                </a:lnTo>
                <a:lnTo>
                  <a:pt x="13415" y="4707"/>
                </a:lnTo>
                <a:lnTo>
                  <a:pt x="15190" y="4707"/>
                </a:lnTo>
                <a:lnTo>
                  <a:pt x="15190" y="8224"/>
                </a:lnTo>
                <a:lnTo>
                  <a:pt x="17802" y="10800"/>
                </a:lnTo>
                <a:lnTo>
                  <a:pt x="16148" y="10800"/>
                </a:lnTo>
                <a:lnTo>
                  <a:pt x="16148" y="17989"/>
                </a:lnTo>
                <a:lnTo>
                  <a:pt x="5529" y="17989"/>
                </a:lnTo>
                <a:lnTo>
                  <a:pt x="5529" y="10800"/>
                </a:lnTo>
                <a:lnTo>
                  <a:pt x="3876" y="10800"/>
                </a:lnTo>
                <a:close/>
              </a:path>
              <a:path fill="darkenLess" w="21677" h="21600">
                <a:moveTo>
                  <a:pt x="13415" y="6448"/>
                </a:moveTo>
                <a:lnTo>
                  <a:pt x="13415" y="4707"/>
                </a:lnTo>
                <a:lnTo>
                  <a:pt x="15190" y="4707"/>
                </a:lnTo>
                <a:lnTo>
                  <a:pt x="15190" y="8224"/>
                </a:lnTo>
                <a:close/>
              </a:path>
              <a:path fill="darkenLess" w="21677" h="21600">
                <a:moveTo>
                  <a:pt x="9916" y="14299"/>
                </a:moveTo>
                <a:lnTo>
                  <a:pt x="11761" y="14299"/>
                </a:lnTo>
                <a:lnTo>
                  <a:pt x="11761" y="17989"/>
                </a:lnTo>
                <a:lnTo>
                  <a:pt x="16148" y="17989"/>
                </a:lnTo>
                <a:lnTo>
                  <a:pt x="16148" y="10800"/>
                </a:lnTo>
                <a:lnTo>
                  <a:pt x="5529" y="10800"/>
                </a:lnTo>
                <a:lnTo>
                  <a:pt x="5529" y="17989"/>
                </a:lnTo>
                <a:lnTo>
                  <a:pt x="9916" y="17989"/>
                </a:lnTo>
                <a:close/>
              </a:path>
            </a:pathLst>
          </a:cu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0A08-5D6E-4A56-8ED5-F7AF533B482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9360">
            <a:solidFill>
              <a:srgbClr val="99cc00"/>
            </a:solidFill>
            <a:round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49100"/>
                </a:solidFill>
                <a:latin typeface="Comic Sans MS"/>
              </a:rPr>
              <a:t>Комментированное</a:t>
            </a:r>
            <a:r>
              <a:rPr b="1" lang="ru-RU" sz="4400" spc="-1" strike="noStrike">
                <a:solidFill>
                  <a:srgbClr val="3366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49100"/>
                </a:solidFill>
                <a:latin typeface="Comic Sans MS"/>
              </a:rPr>
              <a:t>письмо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42560" y="2565360"/>
            <a:ext cx="7777080" cy="367200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txBody>
          <a:bodyPr anchor="t">
            <a:normAutofit fontScale="85000"/>
          </a:bodyPr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Распределите наречия в 2 колонки, дописа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суффиксы  </a:t>
            </a:r>
            <a:r>
              <a:rPr b="1" lang="ru-RU" sz="2400" spc="-1" strike="noStrike">
                <a:solidFill>
                  <a:srgbClr val="f49100"/>
                </a:solidFill>
                <a:latin typeface="Arial"/>
                <a:ea typeface="Times New Roman"/>
              </a:rPr>
              <a:t>-о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  или  </a:t>
            </a:r>
            <a:r>
              <a:rPr b="1" lang="ru-RU" sz="2400" spc="-1" strike="noStrike">
                <a:solidFill>
                  <a:srgbClr val="f49100"/>
                </a:solidFill>
                <a:latin typeface="Arial"/>
                <a:ea typeface="Times New Roman"/>
              </a:rPr>
              <a:t>-</a:t>
            </a:r>
            <a:r>
              <a:rPr b="1" lang="ru-RU" sz="2400" spc="-1" strike="noStrike">
                <a:solidFill>
                  <a:srgbClr val="f491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f49100"/>
                </a:solidFill>
                <a:latin typeface="Arial"/>
                <a:ea typeface="Times New Roman"/>
              </a:rPr>
              <a:t>.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 С четырьмя наречи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составьте 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82dc7"/>
                </a:solidFill>
                <a:latin typeface="Arial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382dc7"/>
                </a:solidFill>
                <a:latin typeface="Arial"/>
                <a:ea typeface="Times New Roman"/>
              </a:rPr>
              <a:t>Снов..., занов..., запрост..., спрост..., исподтишк..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82dc7"/>
                </a:solidFill>
                <a:latin typeface="Arial"/>
                <a:ea typeface="Times New Roman"/>
              </a:rPr>
              <a:t>изредк..., справ..., издавн..., досыт..., направ..., слев..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82dc7"/>
                </a:solidFill>
                <a:latin typeface="Arial"/>
                <a:ea typeface="Times New Roman"/>
              </a:rPr>
              <a:t>сызнов..., влев..., досух..., вправ..., налев..., дочист..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82dc7"/>
                </a:solidFill>
                <a:latin typeface="Arial"/>
                <a:ea typeface="Times New Roman"/>
              </a:rPr>
              <a:t>накрепк..., начерн..., надолг..., нанов..., засветл..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82dc7"/>
                </a:solidFill>
                <a:latin typeface="Arial"/>
                <a:ea typeface="Times New Roman"/>
              </a:rPr>
              <a:t>замертв..., зажив..., заведом..., наглух..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164360" y="6021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179280" y="18900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10839" y="3837"/>
                </a:moveTo>
                <a:lnTo>
                  <a:pt x="13415" y="6448"/>
                </a:lnTo>
                <a:lnTo>
                  <a:pt x="13415" y="4707"/>
                </a:lnTo>
                <a:lnTo>
                  <a:pt x="15190" y="4707"/>
                </a:lnTo>
                <a:lnTo>
                  <a:pt x="15190" y="8224"/>
                </a:lnTo>
                <a:lnTo>
                  <a:pt x="17802" y="10800"/>
                </a:lnTo>
                <a:lnTo>
                  <a:pt x="16148" y="10800"/>
                </a:lnTo>
                <a:lnTo>
                  <a:pt x="16148" y="17989"/>
                </a:lnTo>
                <a:lnTo>
                  <a:pt x="5529" y="17989"/>
                </a:lnTo>
                <a:lnTo>
                  <a:pt x="5529" y="10800"/>
                </a:lnTo>
                <a:lnTo>
                  <a:pt x="3876" y="10800"/>
                </a:lnTo>
                <a:close/>
              </a:path>
              <a:path fill="darkenLess" w="21677" h="21600">
                <a:moveTo>
                  <a:pt x="13415" y="6448"/>
                </a:moveTo>
                <a:lnTo>
                  <a:pt x="13415" y="4707"/>
                </a:lnTo>
                <a:lnTo>
                  <a:pt x="15190" y="4707"/>
                </a:lnTo>
                <a:lnTo>
                  <a:pt x="15190" y="8224"/>
                </a:lnTo>
                <a:close/>
              </a:path>
              <a:path fill="darkenLess" w="21677" h="21600">
                <a:moveTo>
                  <a:pt x="9916" y="14299"/>
                </a:moveTo>
                <a:lnTo>
                  <a:pt x="11761" y="14299"/>
                </a:lnTo>
                <a:lnTo>
                  <a:pt x="11761" y="17989"/>
                </a:lnTo>
                <a:lnTo>
                  <a:pt x="16148" y="17989"/>
                </a:lnTo>
                <a:lnTo>
                  <a:pt x="16148" y="10800"/>
                </a:lnTo>
                <a:lnTo>
                  <a:pt x="5529" y="10800"/>
                </a:lnTo>
                <a:lnTo>
                  <a:pt x="5529" y="17989"/>
                </a:lnTo>
                <a:lnTo>
                  <a:pt x="9916" y="17989"/>
                </a:lnTo>
                <a:close/>
              </a:path>
            </a:pathLst>
          </a:cu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6E5A-B316-4F6C-8616-30C6B32DBF5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4120" y="834120"/>
            <a:ext cx="8057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49100"/>
                </a:solidFill>
                <a:latin typeface="Comic Sans MS"/>
              </a:rPr>
              <a:t>Распределительный диктан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87280" y="2637000"/>
            <a:ext cx="7693200" cy="2736720"/>
          </a:xfrm>
          <a:prstGeom prst="rect">
            <a:avLst/>
          </a:prstGeom>
          <a:noFill/>
          <a:ln w="9360">
            <a:solidFill>
              <a:srgbClr val="3366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82dc7"/>
                </a:solidFill>
                <a:latin typeface="Arial"/>
              </a:rPr>
              <a:t>Слев…,  досрочн..,  созвучн..,  досин.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82dc7"/>
                </a:solidFill>
                <a:latin typeface="Arial"/>
              </a:rPr>
              <a:t>изобильн..,  доходчив..,  издавн.., досух.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82dc7"/>
                </a:solidFill>
                <a:latin typeface="Arial"/>
              </a:rPr>
              <a:t>справ…,  стеснительн..,  дословн..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82dc7"/>
                </a:solidFill>
                <a:latin typeface="Arial"/>
              </a:rPr>
              <a:t>достаточн..,  извилист.., исправн.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82dc7"/>
                </a:solidFill>
                <a:latin typeface="Arial"/>
              </a:rPr>
              <a:t>досыт..,  доверительн.., сначал.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179280" y="18900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10839" y="3837"/>
                </a:moveTo>
                <a:lnTo>
                  <a:pt x="13415" y="6448"/>
                </a:lnTo>
                <a:lnTo>
                  <a:pt x="13415" y="4707"/>
                </a:lnTo>
                <a:lnTo>
                  <a:pt x="15190" y="4707"/>
                </a:lnTo>
                <a:lnTo>
                  <a:pt x="15190" y="8224"/>
                </a:lnTo>
                <a:lnTo>
                  <a:pt x="17802" y="10800"/>
                </a:lnTo>
                <a:lnTo>
                  <a:pt x="16148" y="10800"/>
                </a:lnTo>
                <a:lnTo>
                  <a:pt x="16148" y="17989"/>
                </a:lnTo>
                <a:lnTo>
                  <a:pt x="5529" y="17989"/>
                </a:lnTo>
                <a:lnTo>
                  <a:pt x="5529" y="10800"/>
                </a:lnTo>
                <a:lnTo>
                  <a:pt x="3876" y="10800"/>
                </a:lnTo>
                <a:close/>
              </a:path>
              <a:path fill="darkenLess" w="21677" h="21600">
                <a:moveTo>
                  <a:pt x="13415" y="6448"/>
                </a:moveTo>
                <a:lnTo>
                  <a:pt x="13415" y="4707"/>
                </a:lnTo>
                <a:lnTo>
                  <a:pt x="15190" y="4707"/>
                </a:lnTo>
                <a:lnTo>
                  <a:pt x="15190" y="8224"/>
                </a:lnTo>
                <a:close/>
              </a:path>
              <a:path fill="darkenLess" w="21677" h="21600">
                <a:moveTo>
                  <a:pt x="9916" y="14299"/>
                </a:moveTo>
                <a:lnTo>
                  <a:pt x="11761" y="14299"/>
                </a:lnTo>
                <a:lnTo>
                  <a:pt x="11761" y="17989"/>
                </a:lnTo>
                <a:lnTo>
                  <a:pt x="16148" y="17989"/>
                </a:lnTo>
                <a:lnTo>
                  <a:pt x="16148" y="10800"/>
                </a:lnTo>
                <a:lnTo>
                  <a:pt x="5529" y="10800"/>
                </a:lnTo>
                <a:lnTo>
                  <a:pt x="5529" y="17989"/>
                </a:lnTo>
                <a:lnTo>
                  <a:pt x="9916" y="17989"/>
                </a:lnTo>
                <a:close/>
              </a:path>
            </a:pathLst>
          </a:cu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900000" y="18900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989B-4957-49E7-BA75-F2E9F13467F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9360">
            <a:solidFill>
              <a:srgbClr val="99cc00"/>
            </a:solidFill>
            <a:round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49100"/>
                </a:solidFill>
                <a:latin typeface="Comic Sans MS"/>
              </a:rPr>
              <a:t>Проверк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91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382dc7"/>
                </a:solidFill>
                <a:latin typeface="Arial"/>
              </a:rPr>
              <a:t>лев</a:t>
            </a:r>
            <a:r>
              <a:rPr b="1" lang="ru-RU" sz="2400" spc="-1" strike="noStrike">
                <a:solidFill>
                  <a:srgbClr val="f491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382dc7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9100"/>
                </a:solidFill>
                <a:latin typeface="Arial"/>
              </a:rPr>
              <a:t>из</a:t>
            </a:r>
            <a:r>
              <a:rPr b="1" lang="ru-RU" sz="2400" spc="-1" strike="noStrike">
                <a:solidFill>
                  <a:srgbClr val="382dc7"/>
                </a:solidFill>
                <a:latin typeface="Arial"/>
              </a:rPr>
              <a:t>давн</a:t>
            </a:r>
            <a:r>
              <a:rPr b="1" lang="ru-RU" sz="2400" spc="-1" strike="noStrike">
                <a:solidFill>
                  <a:srgbClr val="f491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382dc7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9100"/>
                </a:solidFill>
                <a:latin typeface="Arial"/>
              </a:rPr>
              <a:t>до</a:t>
            </a:r>
            <a:r>
              <a:rPr b="1" lang="ru-RU" sz="2400" spc="-1" strike="noStrike">
                <a:solidFill>
                  <a:srgbClr val="382dc7"/>
                </a:solidFill>
                <a:latin typeface="Arial"/>
              </a:rPr>
              <a:t>сух</a:t>
            </a:r>
            <a:r>
              <a:rPr b="1" lang="ru-RU" sz="2400" spc="-1" strike="noStrike">
                <a:solidFill>
                  <a:srgbClr val="f491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382dc7"/>
                </a:solidFill>
                <a:latin typeface="Arial"/>
              </a:rPr>
              <a:t>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91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382dc7"/>
                </a:solidFill>
                <a:latin typeface="Arial"/>
              </a:rPr>
              <a:t>прав</a:t>
            </a:r>
            <a:r>
              <a:rPr b="1" lang="ru-RU" sz="2400" spc="-1" strike="noStrike">
                <a:solidFill>
                  <a:srgbClr val="f491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382dc7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9100"/>
                </a:solidFill>
                <a:latin typeface="Arial"/>
              </a:rPr>
              <a:t>до</a:t>
            </a:r>
            <a:r>
              <a:rPr b="1" lang="ru-RU" sz="2400" spc="-1" strike="noStrike">
                <a:solidFill>
                  <a:srgbClr val="382dc7"/>
                </a:solidFill>
                <a:latin typeface="Arial"/>
              </a:rPr>
              <a:t>сыт</a:t>
            </a:r>
            <a:r>
              <a:rPr b="1" lang="ru-RU" sz="2400" spc="-1" strike="noStrike">
                <a:solidFill>
                  <a:srgbClr val="f491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382dc7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91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382dc7"/>
                </a:solidFill>
                <a:latin typeface="Arial"/>
              </a:rPr>
              <a:t>начал</a:t>
            </a:r>
            <a:r>
              <a:rPr b="1" lang="ru-RU" sz="2400" spc="-1" strike="noStrike">
                <a:solidFill>
                  <a:srgbClr val="f491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382dc7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8002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До</a:t>
            </a:r>
            <a:r>
              <a:rPr b="1" lang="ru-RU" sz="2400" spc="-1" strike="noStrike">
                <a:solidFill>
                  <a:srgbClr val="864300"/>
                </a:solidFill>
                <a:latin typeface="Arial"/>
              </a:rPr>
              <a:t>срочн</a:t>
            </a: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8643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864300"/>
                </a:solidFill>
                <a:latin typeface="Arial"/>
              </a:rPr>
              <a:t>озвучн</a:t>
            </a: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8643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из</a:t>
            </a:r>
            <a:r>
              <a:rPr b="1" lang="ru-RU" sz="2400" spc="-1" strike="noStrike">
                <a:solidFill>
                  <a:srgbClr val="864300"/>
                </a:solidFill>
                <a:latin typeface="Arial"/>
              </a:rPr>
              <a:t>обильн</a:t>
            </a: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8643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до</a:t>
            </a:r>
            <a:r>
              <a:rPr b="1" lang="ru-RU" sz="2400" spc="-1" strike="noStrike">
                <a:solidFill>
                  <a:srgbClr val="864300"/>
                </a:solidFill>
                <a:latin typeface="Arial"/>
              </a:rPr>
              <a:t>ходчив</a:t>
            </a: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8643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864300"/>
                </a:solidFill>
                <a:latin typeface="Arial"/>
              </a:rPr>
              <a:t>теснительн</a:t>
            </a: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8643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до</a:t>
            </a:r>
            <a:r>
              <a:rPr b="1" lang="ru-RU" sz="2400" spc="-1" strike="noStrike">
                <a:solidFill>
                  <a:srgbClr val="864300"/>
                </a:solidFill>
                <a:latin typeface="Arial"/>
              </a:rPr>
              <a:t>словн</a:t>
            </a: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864300"/>
                </a:solidFill>
                <a:latin typeface="Arial"/>
              </a:rPr>
              <a:t>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до</a:t>
            </a:r>
            <a:r>
              <a:rPr b="1" lang="ru-RU" sz="2400" spc="-1" strike="noStrike">
                <a:solidFill>
                  <a:srgbClr val="864300"/>
                </a:solidFill>
                <a:latin typeface="Arial"/>
              </a:rPr>
              <a:t>статочн</a:t>
            </a: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8643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из</a:t>
            </a:r>
            <a:r>
              <a:rPr b="1" lang="ru-RU" sz="2400" spc="-1" strike="noStrike">
                <a:solidFill>
                  <a:srgbClr val="864300"/>
                </a:solidFill>
                <a:latin typeface="Arial"/>
              </a:rPr>
              <a:t>вилист</a:t>
            </a: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864300"/>
                </a:solidFill>
                <a:latin typeface="Arial"/>
              </a:rPr>
              <a:t>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ис</a:t>
            </a:r>
            <a:r>
              <a:rPr b="1" lang="ru-RU" sz="2400" spc="-1" strike="noStrike">
                <a:solidFill>
                  <a:srgbClr val="864300"/>
                </a:solidFill>
                <a:latin typeface="Arial"/>
              </a:rPr>
              <a:t>правн</a:t>
            </a: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8643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до</a:t>
            </a:r>
            <a:r>
              <a:rPr b="1" lang="ru-RU" sz="2400" spc="-1" strike="noStrike">
                <a:solidFill>
                  <a:srgbClr val="864300"/>
                </a:solidFill>
                <a:latin typeface="Arial"/>
              </a:rPr>
              <a:t>верительн</a:t>
            </a: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8643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179280" y="18900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10839" y="3837"/>
                </a:moveTo>
                <a:lnTo>
                  <a:pt x="13415" y="6448"/>
                </a:lnTo>
                <a:lnTo>
                  <a:pt x="13415" y="4707"/>
                </a:lnTo>
                <a:lnTo>
                  <a:pt x="15190" y="4707"/>
                </a:lnTo>
                <a:lnTo>
                  <a:pt x="15190" y="8224"/>
                </a:lnTo>
                <a:lnTo>
                  <a:pt x="17802" y="10800"/>
                </a:lnTo>
                <a:lnTo>
                  <a:pt x="16148" y="10800"/>
                </a:lnTo>
                <a:lnTo>
                  <a:pt x="16148" y="17989"/>
                </a:lnTo>
                <a:lnTo>
                  <a:pt x="5529" y="17989"/>
                </a:lnTo>
                <a:lnTo>
                  <a:pt x="5529" y="10800"/>
                </a:lnTo>
                <a:lnTo>
                  <a:pt x="3876" y="10800"/>
                </a:lnTo>
                <a:close/>
              </a:path>
              <a:path fill="darkenLess" w="21677" h="21600">
                <a:moveTo>
                  <a:pt x="13415" y="6448"/>
                </a:moveTo>
                <a:lnTo>
                  <a:pt x="13415" y="4707"/>
                </a:lnTo>
                <a:lnTo>
                  <a:pt x="15190" y="4707"/>
                </a:lnTo>
                <a:lnTo>
                  <a:pt x="15190" y="8224"/>
                </a:lnTo>
                <a:close/>
              </a:path>
              <a:path fill="darkenLess" w="21677" h="21600">
                <a:moveTo>
                  <a:pt x="9916" y="14299"/>
                </a:moveTo>
                <a:lnTo>
                  <a:pt x="11761" y="14299"/>
                </a:lnTo>
                <a:lnTo>
                  <a:pt x="11761" y="17989"/>
                </a:lnTo>
                <a:lnTo>
                  <a:pt x="16148" y="17989"/>
                </a:lnTo>
                <a:lnTo>
                  <a:pt x="16148" y="10800"/>
                </a:lnTo>
                <a:lnTo>
                  <a:pt x="5529" y="10800"/>
                </a:lnTo>
                <a:lnTo>
                  <a:pt x="5529" y="17989"/>
                </a:lnTo>
                <a:lnTo>
                  <a:pt x="9916" y="17989"/>
                </a:lnTo>
                <a:close/>
              </a:path>
            </a:pathLst>
          </a:cu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D027-90DC-4981-B6CD-E58B381EDC2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cc00"/>
                </a:solidFill>
                <a:latin typeface="Comic Sans MS"/>
                <a:ea typeface="Times New Roman"/>
              </a:rPr>
              <a:t>Контрольное списывани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276640"/>
            <a:ext cx="79819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-496080">
              <a:lnSpc>
                <a:spcPct val="90000"/>
              </a:lnSpc>
              <a:spcBef>
                <a:spcPts val="451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Times New Roman"/>
              </a:rPr>
              <a:t>Мы вышли из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6600"/>
                </a:solidFill>
                <a:latin typeface="Times New Roman"/>
              </a:rPr>
              <a:t>д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Times New Roman"/>
              </a:rPr>
              <a:t>ому затемн..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451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Times New Roman"/>
              </a:rPr>
              <a:t>Все двери и окна были забиты наглух..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451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Times New Roman"/>
              </a:rPr>
              <a:t>Справ... от дороги лес, слев... дач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451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Times New Roman"/>
              </a:rPr>
              <a:t>Спешит   река   издалек... 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451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Times New Roman"/>
              </a:rPr>
              <a:t>Я   снов...   дома,   снов...   </a:t>
            </a:r>
            <a:r>
              <a:rPr b="1" lang="ru-RU" sz="1800" spc="-1" strike="noStrike">
                <a:solidFill>
                  <a:srgbClr val="336600"/>
                </a:solidFill>
                <a:latin typeface="Times New Roman"/>
              </a:rPr>
              <a:t>с</a:t>
            </a:r>
            <a:r>
              <a:rPr b="1" lang="ru-RU" sz="1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о</a:t>
            </a:r>
            <a:r>
              <a:rPr b="1" lang="ru-RU" sz="1800" spc="-1" strike="noStrike">
                <a:solidFill>
                  <a:srgbClr val="336600"/>
                </a:solidFill>
                <a:latin typeface="Times New Roman"/>
              </a:rPr>
              <a:t> с</a:t>
            </a:r>
            <a:r>
              <a:rPr b="1" lang="ru-RU" sz="1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воими родны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451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Times New Roman"/>
              </a:rPr>
              <a:t>Дорога повернула влев..., потом вправ..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451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Times New Roman"/>
              </a:rPr>
              <a:t>Не)зримый жаворонок сначал... поприветствует наступающее утро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451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Times New Roman"/>
              </a:rPr>
              <a:t>Справ... ягоды горят, слев... — две осин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451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Times New Roman"/>
              </a:rPr>
              <a:t>Здесь готов бродить я дотемн..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451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Times New Roman"/>
              </a:rPr>
              <a:t>Лишь изредк... олень пугливый пробежит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451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Times New Roman"/>
              </a:rPr>
              <a:t>Мы побеспокоились задолг... до начала пох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451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Times New Roman"/>
              </a:rPr>
              <a:t>Витенька вытер насух... лыж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451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Times New Roman"/>
              </a:rPr>
              <a:t>Сначал...  всё нравилос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451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Times New Roman"/>
              </a:rPr>
              <a:t>Откуда-то изредк... потягивало влаг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250920" y="18900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10831" y="3837"/>
                </a:moveTo>
                <a:lnTo>
                  <a:pt x="13407" y="6448"/>
                </a:ln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lnTo>
                  <a:pt x="17794" y="10800"/>
                </a:lnTo>
                <a:lnTo>
                  <a:pt x="16140" y="10800"/>
                </a:lnTo>
                <a:lnTo>
                  <a:pt x="16140" y="17989"/>
                </a:lnTo>
                <a:lnTo>
                  <a:pt x="5522" y="17989"/>
                </a:lnTo>
                <a:lnTo>
                  <a:pt x="5522" y="10800"/>
                </a:lnTo>
                <a:lnTo>
                  <a:pt x="3868" y="10800"/>
                </a:lnTo>
                <a:close/>
              </a:path>
              <a:path fill="darkenLess" w="21662" h="21600">
                <a:moveTo>
                  <a:pt x="13407" y="6448"/>
                </a:move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close/>
              </a:path>
              <a:path fill="darkenLess" w="21662" h="21600">
                <a:moveTo>
                  <a:pt x="9908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40" y="17989"/>
                </a:lnTo>
                <a:lnTo>
                  <a:pt x="16140" y="10800"/>
                </a:lnTo>
                <a:lnTo>
                  <a:pt x="5522" y="10800"/>
                </a:lnTo>
                <a:lnTo>
                  <a:pt x="5522" y="17989"/>
                </a:lnTo>
                <a:lnTo>
                  <a:pt x="9908" y="17989"/>
                </a:lnTo>
                <a:close/>
              </a:path>
            </a:pathLst>
          </a:cu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4T12:35:34Z</dcterms:created>
  <dc:creator>224</dc:creator>
  <dc:description/>
  <dc:language>en-US</dc:language>
  <cp:lastModifiedBy>admin</cp:lastModifiedBy>
  <dcterms:modified xsi:type="dcterms:W3CDTF">2015-01-28T17:22:39Z</dcterms:modified>
  <cp:revision>18</cp:revision>
  <dc:subject/>
  <dc:title>Буквы  о и а на конце  наречий с приставками из-, до-, с-</dc:title>
</cp:coreProperties>
</file>