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FD8-5738-4594-BBE6-0236198F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7FC-ED70-41C0-8234-693E481A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C0D-5F32-4746-B1EB-516F3CD3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584-3FCB-4577-ADE5-45094093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A6D3-B33C-40AE-B35A-39AE4281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54AB-F743-4EDF-ADF6-4D177F0F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DD7C-FFED-4280-BF15-C19AF55D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1E2B-360B-470C-AFCD-8F90DEF1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B613-05DE-441A-ADBB-9CAC4C5A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30D9-5A81-4B60-8B16-EBEE4ED4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241A-C2CF-4C92-9EE5-B1496084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2F6-CA8C-42BA-B01A-BF657013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1BB0-35A6-4A27-B769-9907ED1B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9303-1577-4048-A458-C7204033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09A5-C500-434F-8B47-5E76D898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1701-F176-4843-9C1D-B45E3B2C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3994-6F89-478E-9D96-E34B5CDD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ABA-D067-4B1E-ABE5-029715B1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D33-497E-43A0-9EDC-AF994771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FE7-DFCD-4F70-A1D3-2F47FE49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786-B8D4-4ABC-82DC-E92F34A7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C29-1828-4F37-9424-9EBA7FF3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3AA-9F05-467D-97CF-5B2E6AAC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8ED7-A245-4367-8D01-20A89C0A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453F-3DE3-4AEF-9C0B-C284DA61D4FC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36BD-956F-48D2-A526-30992B8ED78D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61080" y="1629360"/>
            <a:ext cx="7482240" cy="700560"/>
          </a:xfrm>
          <a:prstGeom prst="rect">
            <a:avLst/>
          </a:prstGeom>
          <a:noFill/>
          <a:ln w="9360">
            <a:solidFill>
              <a:srgbClr val="99cc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Comic Sans MS"/>
              </a:rPr>
              <a:t>Буквы  о и а на конце наречий </a:t>
            </a:r>
            <a:br>
              <a:rPr sz="3200"/>
            </a:br>
            <a:r>
              <a:rPr b="1" lang="ru-RU" sz="3200" spc="-1" strike="noStrike">
                <a:solidFill>
                  <a:srgbClr val="336600"/>
                </a:solidFill>
                <a:latin typeface="Comic Sans MS"/>
              </a:rPr>
              <a:t>с приставками из-, до-, с-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1DBF-CA59-453B-AA06-76275EDCDD4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f49100"/>
                </a:solidFill>
                <a:latin typeface="Comic Sans MS"/>
              </a:rPr>
              <a:t>Правило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71280" y="2361960"/>
            <a:ext cx="79930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В наречиях  с приставками  </a:t>
            </a:r>
            <a:r>
              <a:rPr b="1" lang="ru-RU" sz="2000" spc="-1" strike="noStrike">
                <a:solidFill>
                  <a:srgbClr val="f49100"/>
                </a:solidFill>
                <a:latin typeface="Arial"/>
              </a:rPr>
              <a:t>из-,  до-,  с-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 на конце пиш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буква </a:t>
            </a:r>
            <a:r>
              <a:rPr b="1" lang="ru-RU" sz="20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, если эти наречия образованы от бесприставоч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прилагатель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Пример: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49100"/>
                </a:solidFill>
                <a:latin typeface="Arial"/>
              </a:rPr>
              <a:t>до</a:t>
            </a:r>
            <a:r>
              <a:rPr b="1" i="1" lang="ru-RU" sz="2000" spc="-1" strike="noStrike">
                <a:solidFill>
                  <a:srgbClr val="382dc7"/>
                </a:solidFill>
                <a:latin typeface="Arial"/>
              </a:rPr>
              <a:t>сух</a:t>
            </a:r>
            <a:r>
              <a:rPr b="1" i="1" lang="ru-RU" sz="2000" spc="-1" strike="noStrike">
                <a:solidFill>
                  <a:srgbClr val="f49100"/>
                </a:solidFill>
                <a:latin typeface="Arial"/>
              </a:rPr>
              <a:t>а 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(от</a:t>
            </a:r>
            <a:r>
              <a:rPr b="1" lang="ru-RU" sz="2000" spc="-1" strike="noStrike">
                <a:solidFill>
                  <a:srgbClr val="382dc7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82dc7"/>
                </a:solidFill>
                <a:latin typeface="Arial"/>
              </a:rPr>
              <a:t>сухой</a:t>
            </a:r>
            <a:r>
              <a:rPr b="1" lang="ru-RU" sz="2000" spc="-1" strike="noStrike">
                <a:solidFill>
                  <a:srgbClr val="382dc7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без пристав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В наречиях  с приставками  </a:t>
            </a:r>
            <a:r>
              <a:rPr b="1" lang="ru-RU" sz="2000" spc="-1" strike="noStrike">
                <a:solidFill>
                  <a:srgbClr val="382dc7"/>
                </a:solidFill>
                <a:latin typeface="Arial"/>
              </a:rPr>
              <a:t>из-,  до-,  с-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 на конце пишетс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буква </a:t>
            </a:r>
            <a:r>
              <a:rPr b="1" lang="ru-RU" sz="2000" spc="-1" strike="noStrike">
                <a:solidFill>
                  <a:srgbClr val="f491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, если они образованы  от прилагательных,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которых уже были приста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Пример: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82dc7"/>
                </a:solidFill>
                <a:latin typeface="Arial"/>
              </a:rPr>
              <a:t>досрочн</a:t>
            </a:r>
            <a:r>
              <a:rPr b="1" i="1" lang="ru-RU" sz="2000" spc="-1" strike="noStrike">
                <a:solidFill>
                  <a:srgbClr val="f491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382dc7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(от</a:t>
            </a:r>
            <a:r>
              <a:rPr b="1" lang="ru-RU" sz="2000" spc="-1" strike="noStrike">
                <a:solidFill>
                  <a:srgbClr val="382dc7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82dc7"/>
                </a:solidFill>
                <a:latin typeface="Arial"/>
              </a:rPr>
              <a:t>досрочный</a:t>
            </a:r>
            <a:r>
              <a:rPr b="1" lang="ru-RU" sz="2000" spc="-1" strike="noStrike">
                <a:solidFill>
                  <a:srgbClr val="382dc7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с приставк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В наречиях с приставками  </a:t>
            </a:r>
            <a:r>
              <a:rPr b="1" lang="ru-RU" sz="2000" spc="-1" strike="noStrike">
                <a:solidFill>
                  <a:srgbClr val="f49100"/>
                </a:solidFill>
                <a:latin typeface="Arial"/>
              </a:rPr>
              <a:t>в-,  на-,  за- 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всегда пиш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буква </a:t>
            </a:r>
            <a:r>
              <a:rPr b="1" lang="ru-RU" sz="2000" spc="-1" strike="noStrike">
                <a:solidFill>
                  <a:srgbClr val="f491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Пример: </a:t>
            </a:r>
            <a:r>
              <a:rPr b="1" lang="ru-RU" sz="2000" spc="-1" strike="noStrike">
                <a:solidFill>
                  <a:srgbClr val="f49100"/>
                </a:solidFill>
                <a:latin typeface="Arial"/>
              </a:rPr>
              <a:t>на</a:t>
            </a:r>
            <a:r>
              <a:rPr b="1" lang="ru-RU" sz="2000" spc="-1" strike="noStrike">
                <a:solidFill>
                  <a:srgbClr val="382dc7"/>
                </a:solidFill>
                <a:latin typeface="Arial"/>
              </a:rPr>
              <a:t>сух</a:t>
            </a:r>
            <a:r>
              <a:rPr b="1" lang="ru-RU" sz="2000" spc="-1" strike="noStrike">
                <a:solidFill>
                  <a:srgbClr val="f491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 (с приставкой 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9467-9DCA-41C0-BEEC-DE5920D23E1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49100"/>
                </a:solidFill>
                <a:latin typeface="Comic Sans MS"/>
              </a:rPr>
              <a:t>Рассуждение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71280" y="2492280"/>
            <a:ext cx="7993080" cy="38037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382dc7"/>
                </a:solidFill>
                <a:latin typeface="Arial"/>
              </a:rPr>
              <a:t>Доверительн</a:t>
            </a:r>
            <a:r>
              <a:rPr b="0" lang="ru-RU" sz="2400" spc="-1" strike="noStrike">
                <a:solidFill>
                  <a:srgbClr val="382dc7"/>
                </a:solidFill>
                <a:latin typeface="Arial"/>
              </a:rPr>
              <a:t> 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 в этом наречии есть приста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49100"/>
                </a:solidFill>
                <a:latin typeface="Arial"/>
              </a:rPr>
              <a:t>до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она уж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ы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илагатель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49100"/>
                </a:solidFill>
                <a:latin typeface="Arial"/>
              </a:rPr>
              <a:t>доверите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чит, наречие образовано 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щью суффикса </a:t>
            </a:r>
            <a:r>
              <a:rPr b="1" i="1" lang="ru-RU" sz="2400" spc="-1" strike="noStrike">
                <a:solidFill>
                  <a:srgbClr val="f49100"/>
                </a:solidFill>
                <a:latin typeface="Arial"/>
              </a:rPr>
              <a:t>-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пишу на конце букву </a:t>
            </a:r>
            <a:r>
              <a:rPr b="1" i="1" lang="ru-RU" sz="2400" spc="-1" strike="noStrike">
                <a:solidFill>
                  <a:srgbClr val="f49100"/>
                </a:solidFill>
                <a:latin typeface="Arial"/>
              </a:rPr>
              <a:t>-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</a:rPr>
              <a:t>Довери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382dc7"/>
                </a:solidFill>
                <a:latin typeface="Arial"/>
              </a:rPr>
              <a:t>Досух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в этом наречии есть приставка </a:t>
            </a:r>
            <a:r>
              <a:rPr b="1" i="1" lang="ru-RU" sz="2400" spc="-1" strike="noStrike">
                <a:solidFill>
                  <a:srgbClr val="f49100"/>
                </a:solidFill>
                <a:latin typeface="Arial"/>
              </a:rPr>
              <a:t>до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е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илагательном </a:t>
            </a:r>
            <a:r>
              <a:rPr b="1" i="1" lang="ru-RU" sz="2400" spc="-1" strike="noStrike">
                <a:solidFill>
                  <a:srgbClr val="f49100"/>
                </a:solidFill>
                <a:latin typeface="Arial"/>
              </a:rPr>
              <a:t>сух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чит, нареч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о с помощью  приставки 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до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уффикса </a:t>
            </a:r>
            <a:r>
              <a:rPr b="1" i="1" lang="ru-RU" sz="2400" spc="-1" strike="noStrike">
                <a:solidFill>
                  <a:srgbClr val="f49100"/>
                </a:solidFill>
                <a:latin typeface="Arial"/>
              </a:rPr>
              <a:t>-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у на конце букву </a:t>
            </a:r>
            <a:r>
              <a:rPr b="1" i="1" lang="ru-RU" sz="24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</a:rPr>
              <a:t>Досух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F05B-A537-4B3A-BEFF-F7FE4FEA912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49100"/>
                </a:solidFill>
                <a:latin typeface="Comic Sans MS"/>
              </a:rPr>
              <a:t>Конструирование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42920" y="2565360"/>
            <a:ext cx="76932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Задание:</a:t>
            </a: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  <a:ea typeface="Times New Roman"/>
              </a:rPr>
              <a:t>К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  <a:ea typeface="Times New Roman"/>
              </a:rPr>
              <a:t>наречиям добавьте нужные пристав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  <a:ea typeface="Times New Roman"/>
              </a:rPr>
              <a:t>допишите суффиксы </a:t>
            </a:r>
            <a:r>
              <a:rPr b="1" i="1" lang="ru-RU" sz="2800" spc="-1" strike="noStrike">
                <a:solidFill>
                  <a:srgbClr val="f49100"/>
                </a:solidFill>
                <a:latin typeface="Arial"/>
                <a:ea typeface="Times New Roman"/>
              </a:rPr>
              <a:t>-а -о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  <a:ea typeface="Times New Roman"/>
              </a:rPr>
              <a:t>. Составь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  <a:ea typeface="Times New Roman"/>
              </a:rPr>
              <a:t>наречиями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...давн...,  ...глух...,  ...полн...,  ...легк..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...далек...,  ...высок..., ...редк...</a:t>
            </a:r>
            <a:r>
              <a:rPr b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77" h="21600">
                <a:moveTo>
                  <a:pt x="11944" y="14281"/>
                </a:moveTo>
                <a:lnTo>
                  <a:pt x="11944" y="12323"/>
                </a:lnTo>
                <a:cubicBezTo>
                  <a:pt x="11944" y="11496"/>
                  <a:pt x="12275" y="10800"/>
                  <a:pt x="12875" y="10800"/>
                </a:cubicBezTo>
                <a:cubicBezTo>
                  <a:pt x="14007" y="10800"/>
                  <a:pt x="14903" y="9434"/>
                  <a:pt x="14903" y="7849"/>
                </a:cubicBezTo>
                <a:cubicBezTo>
                  <a:pt x="14903" y="5534"/>
                  <a:pt x="13049" y="3794"/>
                  <a:pt x="10839" y="3794"/>
                </a:cubicBezTo>
                <a:cubicBezTo>
                  <a:pt x="8628" y="3794"/>
                  <a:pt x="6957" y="5534"/>
                  <a:pt x="6957" y="7849"/>
                </a:cubicBezTo>
                <a:lnTo>
                  <a:pt x="8811" y="7849"/>
                </a:lnTo>
                <a:cubicBezTo>
                  <a:pt x="8811" y="6709"/>
                  <a:pt x="9733" y="5821"/>
                  <a:pt x="10839" y="5821"/>
                </a:cubicBezTo>
                <a:cubicBezTo>
                  <a:pt x="11944" y="5821"/>
                  <a:pt x="12875" y="6709"/>
                  <a:pt x="12875" y="7849"/>
                </a:cubicBezTo>
                <a:cubicBezTo>
                  <a:pt x="12875" y="8589"/>
                  <a:pt x="12405" y="9320"/>
                  <a:pt x="11944" y="9320"/>
                </a:cubicBezTo>
                <a:cubicBezTo>
                  <a:pt x="10839" y="9320"/>
                  <a:pt x="9733" y="10800"/>
                  <a:pt x="9733" y="12323"/>
                </a:cubicBezTo>
                <a:lnTo>
                  <a:pt x="9733" y="14281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971640" y="18900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861A-EE20-4130-A145-F5BD78DCC42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49100"/>
                </a:solidFill>
                <a:latin typeface="Comic Sans MS"/>
              </a:rPr>
              <a:t>Проверка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Из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давн</a:t>
            </a:r>
            <a:r>
              <a:rPr b="1" i="1" lang="ru-RU" sz="28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с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полн</a:t>
            </a:r>
            <a:r>
              <a:rPr b="1" i="1" lang="ru-RU" sz="2800" spc="-1" strike="noStrike">
                <a:solidFill>
                  <a:srgbClr val="f49100"/>
                </a:solidFill>
                <a:latin typeface="Arial"/>
              </a:rPr>
              <a:t>а,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с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легк</a:t>
            </a:r>
            <a:r>
              <a:rPr b="1" i="1" lang="ru-RU" sz="28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из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далек</a:t>
            </a:r>
            <a:r>
              <a:rPr b="1" i="1" lang="ru-RU" sz="28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с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высок</a:t>
            </a:r>
            <a:r>
              <a:rPr b="1" i="1" lang="ru-RU" sz="28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из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ре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</a:rPr>
              <a:t>дк</a:t>
            </a:r>
            <a:r>
              <a:rPr b="1" i="1" lang="ru-RU" sz="28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На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  <a:ea typeface="Times New Roman"/>
              </a:rPr>
              <a:t>глух</a:t>
            </a:r>
            <a:r>
              <a:rPr b="1" i="1" lang="ru-RU" sz="2800" spc="-1" strike="noStrike">
                <a:solidFill>
                  <a:srgbClr val="f491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382dc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061480" y="4075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DFDE-BF26-487F-A21E-2B6188FA823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9360">
            <a:solidFill>
              <a:srgbClr val="99cc00"/>
            </a:solidFill>
            <a:round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9100"/>
                </a:solidFill>
                <a:latin typeface="Comic Sans MS"/>
              </a:rPr>
              <a:t>Комментированное</a:t>
            </a:r>
            <a:r>
              <a:rPr b="1" lang="ru-RU" sz="44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49100"/>
                </a:solidFill>
                <a:latin typeface="Comic Sans MS"/>
              </a:rPr>
              <a:t>письм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42560" y="2565360"/>
            <a:ext cx="7777080" cy="3672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Распределите наречия в 2 колонки, допис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суффиксы  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  <a:ea typeface="Times New Roman"/>
              </a:rPr>
              <a:t>-о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 или  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С четырьмя нареч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составьте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382dc7"/>
                </a:solidFill>
                <a:latin typeface="Arial"/>
                <a:ea typeface="Times New Roman"/>
              </a:rPr>
              <a:t>Снов..., занов..., запрост..., спрост..., исподтишк..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  <a:ea typeface="Times New Roman"/>
              </a:rPr>
              <a:t>изредк..., справ..., издавн..., досыт..., направ..., слев..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  <a:ea typeface="Times New Roman"/>
              </a:rPr>
              <a:t>сызнов..., влев..., досух..., вправ..., налев..., дочист..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  <a:ea typeface="Times New Roman"/>
              </a:rPr>
              <a:t>накрепк..., начерн..., надолг..., нанов..., засветл..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2dc7"/>
                </a:solidFill>
                <a:latin typeface="Arial"/>
                <a:ea typeface="Times New Roman"/>
              </a:rPr>
              <a:t>замертв..., зажив..., заведом..., наглух.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64360" y="602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E398-960F-4AD4-8284-6F78B30C41A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4120" y="83412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9100"/>
                </a:solidFill>
                <a:latin typeface="Comic Sans MS"/>
              </a:rPr>
              <a:t>Распределительный диктан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87280" y="2637000"/>
            <a:ext cx="7693200" cy="273672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2dc7"/>
                </a:solidFill>
                <a:latin typeface="Arial"/>
              </a:rPr>
              <a:t>Слев…,  досрочн..,  созвучн..,  досин.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2dc7"/>
                </a:solidFill>
                <a:latin typeface="Arial"/>
              </a:rPr>
              <a:t>изобильн..,  доходчив..,  издавн.., досух.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2dc7"/>
                </a:solidFill>
                <a:latin typeface="Arial"/>
              </a:rPr>
              <a:t>справ…,  стеснительн..,  дословн..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2dc7"/>
                </a:solidFill>
                <a:latin typeface="Arial"/>
              </a:rPr>
              <a:t>достаточн..,  извилист.., исправн.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2dc7"/>
                </a:solidFill>
                <a:latin typeface="Arial"/>
              </a:rPr>
              <a:t>досыт..,  доверительн.., сначал.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90000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3656-BDDD-497F-9048-E96259C1CB5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9360">
            <a:solidFill>
              <a:srgbClr val="99cc00"/>
            </a:solidFill>
            <a:round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9100"/>
                </a:solidFill>
                <a:latin typeface="Comic Sans MS"/>
              </a:rPr>
              <a:t>Проверк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лев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из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давн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сух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прав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сыт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начал</a:t>
            </a:r>
            <a:r>
              <a:rPr b="1" lang="ru-RU" sz="2400" spc="-1" strike="noStrike">
                <a:solidFill>
                  <a:srgbClr val="f491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82dc7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002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срочн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озвучн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из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обильн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ходчив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теснительн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словн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статочн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из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вилист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ис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правн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верительн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8643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7BAD-304C-44CD-9C0F-9A355D274DA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Comic Sans MS"/>
                <a:ea typeface="Times New Roman"/>
              </a:rPr>
              <a:t>Контрольное списыв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276640"/>
            <a:ext cx="79819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Мы вышли из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00"/>
                </a:solidFill>
                <a:latin typeface="Times New Roman"/>
              </a:rPr>
              <a:t>д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ому затемн..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Все двери и окна были забиты наглух..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Справ... от дороги лес, слев... дач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Спешит   река   издалек...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Я   снов...   дома,   снов...   </a:t>
            </a:r>
            <a:r>
              <a:rPr b="1" lang="ru-RU" sz="1800" spc="-1" strike="noStrike">
                <a:solidFill>
                  <a:srgbClr val="336600"/>
                </a:solidFill>
                <a:latin typeface="Times New Roman"/>
              </a:rPr>
              <a:t>с</a:t>
            </a:r>
            <a:r>
              <a:rPr b="1" lang="ru-RU" sz="1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о</a:t>
            </a:r>
            <a:r>
              <a:rPr b="1" lang="ru-RU" sz="1800" spc="-1" strike="noStrike">
                <a:solidFill>
                  <a:srgbClr val="336600"/>
                </a:solidFill>
                <a:latin typeface="Times New Roman"/>
              </a:rPr>
              <a:t> с</a:t>
            </a:r>
            <a:r>
              <a:rPr b="1" lang="ru-RU" sz="1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воими родн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Дорога повернула влев..., потом вправ..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Не)зримый жаворонок сначал... поприветствует наступающее утро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Справ... ягоды горят, слев... — две оси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Здесь готов бродить я дотемн..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Лишь изредк... олень пугливый пробежит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Мы побеспокоились задолг... до начала пох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Витенька вытер насух... лы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Сначал...  всё нравило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Times New Roman"/>
              </a:rPr>
              <a:t>Откуда-то изредк... потягивало вла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50920" y="18900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12:35:34Z</dcterms:created>
  <dc:creator>224</dc:creator>
  <dc:description/>
  <dc:language>en-US</dc:language>
  <cp:lastModifiedBy>admin</cp:lastModifiedBy>
  <dcterms:modified xsi:type="dcterms:W3CDTF">2015-01-28T17:22:39Z</dcterms:modified>
  <cp:revision>18</cp:revision>
  <dc:subject/>
  <dc:title>Буквы  о и а на конце  наречий с приставками из-, до-, с-</dc:title>
</cp:coreProperties>
</file>