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739-EB77-4985-B0B2-5D38111E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532-0255-49E0-9D85-4082258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BA6-EA77-4290-BD22-2E198589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211-DDCD-44A9-BAC6-DA24237F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D6B-2BC2-4AB7-8BBC-C8C9EF9F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D19-3966-4451-AFC2-6E43C6B0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992-66AA-4F04-97FE-ACCC7306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E72-85D0-4664-9B27-A5C0F60F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2C6-4C72-4890-BE58-97BDBA14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A70-D637-4187-A60B-51BD927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540-ED4E-4CCF-BC89-84EC6905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96B-393E-40FE-8CDA-7907F726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CB3E8C-A8E6-4ECE-BD28-AAE1A352A3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&#1055;&#1088;&#1077;&#1079;&#1077;&#1085;&#1090;&#1072;&#1094;&#1080;&#1103;1.pp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826920" y="1341360"/>
            <a:ext cx="794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8800" spc="-1" strike="noStrike">
                <a:solidFill>
                  <a:srgbClr val="006699"/>
                </a:solidFill>
                <a:latin typeface="Arial"/>
              </a:rPr>
              <a:t>Опыт Торричелл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763640" y="5445000"/>
            <a:ext cx="7201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онникова Д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 7 класса МОУ «СШ № 4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верской области г. КИм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847880" cy="155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1258920" y="1268280"/>
            <a:ext cx="291312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4140360" y="44280"/>
            <a:ext cx="1790640" cy="151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58588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140360" y="0"/>
            <a:ext cx="1790640" cy="177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284720" y="907920"/>
            <a:ext cx="1790640" cy="17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179064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427640" y="3860640"/>
            <a:ext cx="179064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435640" y="4437000"/>
            <a:ext cx="181908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2606400" cy="38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156360" y="5805360"/>
            <a:ext cx="64908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763640" y="765000"/>
            <a:ext cx="4915080" cy="47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763640" y="763560"/>
            <a:ext cx="4915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411280" y="-243000"/>
            <a:ext cx="2446560" cy="5661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4719960" y="1555920"/>
            <a:ext cx="40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Стеклянную труб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Длиной  около мет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запаянную с одного конца.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63640" y="763560"/>
            <a:ext cx="4915080" cy="4781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5792760" cy="34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405080" y="1411200"/>
            <a:ext cx="5792760" cy="34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405080" y="1413000"/>
            <a:ext cx="5792760" cy="34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62120" y="255600"/>
            <a:ext cx="3478320" cy="57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560680" y="255600"/>
            <a:ext cx="3478320" cy="579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8546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5940360" y="5013360"/>
            <a:ext cx="2664000" cy="151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311940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940360" y="443700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чаша с ртутью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5041800" y="720000"/>
            <a:ext cx="1440000" cy="18108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638440" cy="522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140360" y="5346720"/>
            <a:ext cx="2663640" cy="1511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"/>
          <p:cNvSpPr/>
          <p:nvPr/>
        </p:nvSpPr>
        <p:spPr>
          <a:xfrm rot="10800000">
            <a:off x="5221080" y="899640"/>
            <a:ext cx="1439640" cy="18108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2556000" y="0"/>
            <a:ext cx="3990960" cy="712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/>
          <p:cNvSpPr/>
          <p:nvPr/>
        </p:nvSpPr>
        <p:spPr>
          <a:xfrm rot="10800000">
            <a:off x="5221080" y="180720"/>
            <a:ext cx="1439640" cy="1807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45000 h 180720"/>
              <a:gd name="textAreaBottom" fmla="*/ 135720 h 18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268360" y="44280"/>
            <a:ext cx="2959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187280" y="-100080"/>
            <a:ext cx="7345440" cy="727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728820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879640" y="539640"/>
            <a:ext cx="1440000" cy="18108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7343640" cy="648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636560" cy="2392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714384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700360" y="539640"/>
            <a:ext cx="1440000" cy="18108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b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116000" y="44280"/>
            <a:ext cx="7343640" cy="6480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7143840" y="280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2384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79280" y="2708280"/>
            <a:ext cx="38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"столбик"  рту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6699"/>
                </a:solidFill>
                <a:latin typeface="Arial"/>
              </a:rPr>
              <a:t>примерно 76 см высотой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7">
            <a:hlinkClick r:id="rId2"/>
          </p:cNvPr>
          <p:cNvSpPr/>
          <p:nvPr/>
        </p:nvSpPr>
        <p:spPr>
          <a:xfrm>
            <a:off x="802800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3794"/>
                </a:moveTo>
                <a:lnTo>
                  <a:pt x="30825" y="10800"/>
                </a:lnTo>
                <a:lnTo>
                  <a:pt x="16812" y="17806"/>
                </a:lnTo>
                <a:close/>
              </a:path>
            </a:pathLst>
          </a:cu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268360" y="0"/>
            <a:ext cx="29592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867280" y="5345280"/>
            <a:ext cx="1349640" cy="1512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6227640" y="5013360"/>
            <a:ext cx="13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6699"/>
                </a:solidFill>
                <a:latin typeface="Arial"/>
              </a:rPr>
              <a:t>рту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268360" y="0"/>
            <a:ext cx="29592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19526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195264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050920" y="619200"/>
            <a:ext cx="201636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1952640" cy="18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1979640" y="692280"/>
            <a:ext cx="24480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979640" y="906480"/>
            <a:ext cx="2521080" cy="476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1952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1403280" y="5380200"/>
            <a:ext cx="23767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3995640" y="0"/>
            <a:ext cx="1952640" cy="1704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3022560" cy="39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116000" y="5084640"/>
            <a:ext cx="2376360" cy="147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У СШ 4</dc:creator>
  <dc:description/>
  <dc:language>en-US</dc:language>
  <cp:lastModifiedBy>hotel_13</cp:lastModifiedBy>
  <dcterms:modified xsi:type="dcterms:W3CDTF">2015-02-08T06:23:29Z</dcterms:modified>
  <cp:revision>6</cp:revision>
  <dc:subject/>
  <dc:title>Слайд 1</dc:title>
</cp:coreProperties>
</file>