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3C4-8BDF-4452-A7C6-5F495102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FF2-4D42-4EB3-8A79-4F330134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206-8B97-4B92-9626-148B74EC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8A1-B721-4718-90A2-BECE3683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438-15D4-4306-8A4C-DB188CC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100-2D35-4999-BBCE-1624D33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484-08FF-47A8-98B0-32FE5A8A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94B-BD86-4206-86BD-0931083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AE8-7B65-4D82-93B5-DAFAF325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92C-D52A-490D-9A5A-8E2A300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1E9-D5B1-4B93-93B9-11C9341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D08-D330-49A1-BC19-C0960A0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F11169-2C54-4C3A-9A80-65A2DDD89C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826920" y="1341360"/>
            <a:ext cx="794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8800" spc="-1" strike="noStrike">
                <a:solidFill>
                  <a:srgbClr val="006699"/>
                </a:solidFill>
                <a:latin typeface="Arial"/>
              </a:rPr>
              <a:t>Опыт Торричелл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63640" y="5445000"/>
            <a:ext cx="7201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онникова Д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МОУ «СШ № 4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верской области г. КИм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847880" cy="155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258920" y="1268280"/>
            <a:ext cx="291312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4140360" y="44280"/>
            <a:ext cx="1790640" cy="151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5858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140360" y="0"/>
            <a:ext cx="1790640" cy="177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1790640" cy="17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1790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179064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435640" y="4437000"/>
            <a:ext cx="181908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156360" y="5805360"/>
            <a:ext cx="64908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763640" y="765000"/>
            <a:ext cx="4915080" cy="47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763640" y="763560"/>
            <a:ext cx="4915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411280" y="-243000"/>
            <a:ext cx="2446560" cy="5661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4719960" y="1555920"/>
            <a:ext cx="40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Стеклянную труб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Длиной  около мет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запаянную с одного конца.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63640" y="763560"/>
            <a:ext cx="4915080" cy="4781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579276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405080" y="1411200"/>
            <a:ext cx="579276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05080" y="1413000"/>
            <a:ext cx="579276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62120" y="255600"/>
            <a:ext cx="3478320" cy="57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560680" y="255600"/>
            <a:ext cx="3478320" cy="579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8546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11940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940360" y="4437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чаша с ртутью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5041800" y="72000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38440" cy="522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140360" y="5346720"/>
            <a:ext cx="266364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/>
          <p:cNvSpPr/>
          <p:nvPr/>
        </p:nvSpPr>
        <p:spPr>
          <a:xfrm rot="10800000">
            <a:off x="5221080" y="899640"/>
            <a:ext cx="1439640" cy="18108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556000" y="0"/>
            <a:ext cx="3990960" cy="712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 rot="10800000">
            <a:off x="5221080" y="180720"/>
            <a:ext cx="1439640" cy="1807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45000 h 180720"/>
              <a:gd name="textAreaBottom" fmla="*/ 135720 h 18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268360" y="44280"/>
            <a:ext cx="2959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187280" y="-100080"/>
            <a:ext cx="7345440" cy="727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728820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879640" y="53964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7343640" cy="648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636560" cy="2392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7143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700360" y="53964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7343640" cy="648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7143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2384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9280" y="2708280"/>
            <a:ext cx="38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"столбик"  рт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примерно 76 см высотой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>
            <a:hlinkClick r:id="rId2"/>
          </p:cNvPr>
          <p:cNvSpPr/>
          <p:nvPr/>
        </p:nvSpPr>
        <p:spPr>
          <a:xfrm>
            <a:off x="802800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268360" y="0"/>
            <a:ext cx="29592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867280" y="5345280"/>
            <a:ext cx="1349640" cy="1512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6227640" y="5013360"/>
            <a:ext cx="13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6699"/>
                </a:solidFill>
                <a:latin typeface="Arial"/>
              </a:rPr>
              <a:t>рту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268360" y="0"/>
            <a:ext cx="29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1952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050920" y="619200"/>
            <a:ext cx="2016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195264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1979640" y="692280"/>
            <a:ext cx="24480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979640" y="906480"/>
            <a:ext cx="2521080" cy="476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3995640" y="0"/>
            <a:ext cx="1952640" cy="170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302256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У СШ 4</dc:creator>
  <dc:description/>
  <dc:language>en-US</dc:language>
  <cp:lastModifiedBy>hotel_13</cp:lastModifiedBy>
  <dcterms:modified xsi:type="dcterms:W3CDTF">2015-02-08T06:23:29Z</dcterms:modified>
  <cp:revision>6</cp:revision>
  <dc:subject/>
  <dc:title>Слайд 1</dc:title>
</cp:coreProperties>
</file>