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7C8-DEB5-4E0A-ADB5-B2C3DCD7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D23-B256-4C09-9491-2DF49EBD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750-C7CC-44C4-B7FE-AC336E7A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4DC-105C-49AA-9779-9FE4CEA4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B6D2-9296-4F70-9626-426D51D4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088C-81CE-482F-92E1-F48D5081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29E0-2A4C-4531-AF79-28851F24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27C8-39CC-43C7-92FE-DB4AC144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C49F-ED80-430D-837C-23845C08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0423-2498-4B09-91CB-C7141A44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5886-E756-415B-9D83-BEEFAE04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BB7-3DC6-4ECF-9B1B-6C7118F4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3F3D-4F3D-49FA-BB3F-FB556BA7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77F1-23E2-4070-B751-4C88F052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01AA-2754-4113-B375-DFB79B21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8256-D321-48DB-A21A-5DCEACCD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9F0D-B54D-4BF9-9218-4F688C04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46F-C42B-4AAD-969A-CE9BA726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9CB-FA3A-4626-8AE2-4C6FB995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14A-BE39-42C1-A5A5-B2CD796E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3AC-2FE9-4AA0-8EA4-6C4B35C9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1CF-5DB7-4518-8088-1ED51404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17E-CDAB-44C4-BB65-4DF24AD1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DDB-50F2-4B98-98AF-9E4275BD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C472-583A-408E-8FC9-46C341894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2715-FD5D-49E3-A784-EE75B7D27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ОСЕННИЙ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ПЕРЕПОЛОХ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038240"/>
            <a:ext cx="60962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7:14:41Z</dcterms:created>
  <dc:creator>User</dc:creator>
  <dc:description/>
  <dc:language>en-US</dc:language>
  <cp:lastModifiedBy>User</cp:lastModifiedBy>
  <dcterms:modified xsi:type="dcterms:W3CDTF">2012-10-26T19:14:30Z</dcterms:modified>
  <cp:revision>3</cp:revision>
  <dc:subject/>
  <dc:title>ОСЕННИЙ ПЕРЕПОЛОХ</dc:title>
</cp:coreProperties>
</file>