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4356-27BE-4134-9DD9-91F463339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C093-B8C3-443C-AEDE-5FB20575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631D-995A-4150-AAF0-099AA9CA6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9509-2FDC-4C37-9928-AFCECE669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B24A-9F67-40D1-BDDE-6962C56F6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5166-2D33-4333-A32D-D97B1031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39C7-2407-4B6F-AED8-2769E764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78FC-15DC-4BB0-846F-C95408FB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74F9F-99F8-42BD-AF33-26701307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B79E-F697-44B3-8484-7473F5D9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8CB8-2B57-4168-90F6-3BD3D1C2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E0AB-31A2-4EE5-956D-1B3E5B8C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9401F-D1E6-44B4-A31C-550EE703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4CC2-7D2A-4AED-ADE8-F37A5768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325B-9C2B-45E4-8C6C-A4E866B3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D2BF-5713-4783-BCED-849BAD1DE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E2DE-C194-406D-BDDA-E83559F27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CDB9-9195-49C2-96E6-B92EFB05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3855-4B33-4B64-894E-53C3BB8A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1652-E80F-4ADB-AA7D-F82A446B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B522-A298-4B4B-A9CA-0DF719E8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2619-9D56-406A-8E42-D8B2A566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66C1-CE69-48C2-A2E6-CA9E8F8F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EDEA-D6CE-437B-AA43-73697EF9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CD64-16C3-453E-A90F-0CE716D8AF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DEF5-3F64-4110-9EEE-AFB376172B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ОСЕННИЙ</a:t>
            </a:r>
            <a:br>
              <a:rPr sz="5400"/>
            </a:b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ПЕРЕПОЛОХ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8229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23880" y="1038240"/>
            <a:ext cx="609624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4T17:14:41Z</dcterms:created>
  <dc:creator>User</dc:creator>
  <dc:description/>
  <dc:language>en-US</dc:language>
  <cp:lastModifiedBy>User</cp:lastModifiedBy>
  <dcterms:modified xsi:type="dcterms:W3CDTF">2012-10-26T19:14:30Z</dcterms:modified>
  <cp:revision>3</cp:revision>
  <dc:subject/>
  <dc:title>ОСЕННИЙ ПЕРЕПОЛОХ</dc:title>
</cp:coreProperties>
</file>