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788F-D691-4868-9954-17AF9FF4D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A1EF-6EDC-431F-AEC6-28D80DDB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874E-16D1-40B5-BCF5-92D212B86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160A-CDAA-4507-83E8-3181C2617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27F10-FF62-4DBA-8155-4336D1BC3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AC98-2352-4898-AFAC-3CCB3528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5E72-7B02-4E24-BB68-A02E2B73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1DDC-D9B2-466A-A694-F932659D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C1401-8465-47EC-971A-873492EF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8284-837F-4E36-976C-68BD505A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A533-D504-4579-A446-82711751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DF75-1CB6-45B0-A899-2E717B3E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030C-95BD-487C-AA5E-EFF8E764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1C10-5746-44FE-A35B-08599424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C6730-0833-454E-BC2C-98D71EA7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692E-7DCF-41CD-907D-D80A1B3BD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3DD1-0006-4D8D-A0B5-2D24A9DD6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AF83-F5DB-4924-8CA2-AFCCEDEF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A1AC-060A-4015-8420-6A3ED8AD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4DC0-0E3E-4540-ACCB-06B642B9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67BB-B3D8-492A-80D8-52D2F0EC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0706-E928-458A-A196-F5A276D2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C17E-A05F-4EB9-84B1-C6FDE695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F94F-41DB-42FA-8EE3-0EEF2112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67FF-3274-4948-8E25-0EE73C9412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6357-8381-432A-B797-BF822B2BD2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Родительское собрание.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учение курс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Основы религиозных культур и светской этики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350532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4 класс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40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оссия - наша Роди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ультура и религ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ультура и религ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зникновение религ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зникновение религий. Религии мира и их основате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вященные книги религий мир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ранители предания в религиях мир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обро и зло. Понятие греха, раскаяния и воздая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еловек в религиозных традициях мир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вященные сооруж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скусство в религиозной культур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ворческие работы учащихс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ебное пособие знакомит учащихся с основами светской этики. Что такое добро и зло, добродетель и порок, альтруизм и эгоизм? Что значит быть моральным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Рисунок 4" descr="Описание: http://www.prosv.ru/Attachment.aspx?Id=9184"/>
          <p:cNvPicPr/>
          <p:nvPr/>
        </p:nvPicPr>
        <p:blipFill>
          <a:blip r:embed="rId1"/>
          <a:stretch/>
        </p:blipFill>
        <p:spPr>
          <a:xfrm>
            <a:off x="917640" y="3024360"/>
            <a:ext cx="2627280" cy="34527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сновы светской эти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4 класс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оссия - наша Роди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Что такое светская э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ультура и мора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собенности мора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обро и з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обродетель и пор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обродетель и пор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вобода и моральный выбор чело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вобода и ответств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оральный дол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праведлив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льтруизм и эго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ружб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Что значит быть моральны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дведение итог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сновы исламской культур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733560" y="1143000"/>
            <a:ext cx="511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ое пособие знакомит школьников с основами духовно-нравственной культуры ислама. Учащиеся узнают о жизни пророка Мухаммада, об истории появления, основах ислама и исламской этики, об обязанностях мусульман. Обращаясь к Корану и Сунне, авторы подчёркивают значение этих книг как источников нравственности. Особое место в пособии уделено жизни мусульман в современной Росс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Рисунок 11" descr="Описание: http://www.prosv.ru/Attachment.aspx?Id=9181"/>
          <p:cNvPicPr/>
          <p:nvPr/>
        </p:nvPicPr>
        <p:blipFill>
          <a:blip r:embed="rId1"/>
          <a:stretch/>
        </p:blipFill>
        <p:spPr>
          <a:xfrm>
            <a:off x="801720" y="3024360"/>
            <a:ext cx="274320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-228960"/>
            <a:ext cx="327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4 класс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406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ссия — наша Роди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лыбель исла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рок Мухаммад — основатель исла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чало пророче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удесное путешествие проро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Хидж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ран и Сун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ра в Аллах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жественные Писания. Посланники Бо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ра в Судный день и судьб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язанности мусульма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клонение Аллах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т в месяц рамада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жертвование во имя Всевышне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ломничество в Мек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ворческие работы учащих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сновы буддийской культур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505320" y="1904760"/>
            <a:ext cx="5340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ебное пособие в доступной для учащихся 4-5 классов форме знакомит с основами буддийской культуры: ее основателем, буддийским учением, нравственными ценностями, священными книгами, ритуалами, святынями, праздниками, искусств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Рисунок 17" descr="Описание: http://www.prosv.ru/Attachment.aspx?Id=9180"/>
          <p:cNvPicPr/>
          <p:nvPr/>
        </p:nvPicPr>
        <p:blipFill>
          <a:blip r:embed="rId1"/>
          <a:stretch/>
        </p:blipFill>
        <p:spPr>
          <a:xfrm>
            <a:off x="304920" y="2133720"/>
            <a:ext cx="274320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26668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4 класс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07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ссия — наша Роди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ультура и религия. Введение в буддийскую духовную традици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удда и его уч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уддийский священный канон «Трипитак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уддийская картина ми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бро и з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ненасил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юбовь к человеку и ценность жиз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страдание и милосерд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ношение к природ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уддийские учители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мья в буддийской культуре и её ценност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ворческие работы учащих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общающий ур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сновы иудейской культур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9880" y="1904760"/>
            <a:ext cx="5035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ебник знакомит с основами иудейской культуры и раскрывает её значение в формировании личности иудея и его поведении в повседневной жизни, а также её влияние на историю еврейского народа и мировые религии  - христианство и ислам, показывает жизнь евреев в Росс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Рисунок 15" descr="Описание: http://www.prosv.ru/Attachment.aspx?Id=9185"/>
          <p:cNvPicPr/>
          <p:nvPr/>
        </p:nvPicPr>
        <p:blipFill>
          <a:blip r:embed="rId1"/>
          <a:stretch/>
        </p:blipFill>
        <p:spPr>
          <a:xfrm>
            <a:off x="304920" y="1981080"/>
            <a:ext cx="2917800" cy="38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30481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4 класс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69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ссия — наша Род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ведение в иудейскую духовную традицию. Культура и рели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ра — главная книга иудаизма Сущность Торы.  «Золотое правило Гилел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енная и Устная Тора. Классические тексты иудаиз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триархи еврейского нар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вреи в Египте: от Йосефа до Мош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ход из Егип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рование Торы на горе Сина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роки и праведники в иудейской культу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роки и праведники в иудейской культу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рам в жизни иудее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значение синагоги и её устрой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ббота (Шабат) в иудейской традиции. Субботний ритуа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олитвы и благословения в иудаизм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бро и з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ворческие работы учащих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380520"/>
            <a:ext cx="8007480" cy="5715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ормативно-правовой основой разработки и введения в учебный процесс общеобразовательных школ комплексного учебного курса «Основы религиозных культур и светской этики»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далее – Учебный курс ОРКСЭ) является Поручение Президента Российской Федерации от 2 августа 2009 г. (Пр-2009 ВП-П44-4632) и Распоряжение Председателя Правительства Российской Федерации от 11 августа 2009 г. (ВП-П44-4632).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аименование модулей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новы православной культур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новы мировых религиозных культур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новы светской эти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новы исламской культур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новы буддийской культур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новы иудейской культур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Цель курса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40640" cy="46483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ормирование у младшего подростка мотиваций к осознанному нравственному поведению, основанному на знании и уважении культурных и религиозных традиций многонационального народа России, а также к диалогу с представителями других культур и мировоззрени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Задачи учебного курса ОРКСЭ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накомство обучающихся с основами православной, мусульманской, буддийской, иудейской культур, основами мировых религиозных культур и светской этик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тие представлений младшего подростка о значении нравственных норм и ценностей для достойной жизни личности, семьи, общест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общение знаний, понятий и представлений о духовной культуре и морали, полученных обучающимися в начальной школе, и формирование у них ценностно-смысловых мировоззренческих основ, обеспечивающих целостное восприятие отечественной истории и культуры при изучении гуманитарных предметов на ступени основной школ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тие способностей младших школьников к общению в полиэтнической и многоконфессиональной среде на основе взаимного уважения и диалога во имя общественного мира и соглас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труктура комплексного учебного курса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1981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 клас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етвертая четвер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7 часов)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7960" y="4267080"/>
            <a:ext cx="3927600" cy="18288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ервая четвер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7 часов)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сновы православной культур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62520" y="1828440"/>
            <a:ext cx="5029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ебное пособие знакомит с основами православной культуры, раскрывает её значение и роль в жизни людей – в формировании личности человека,  его отношения к миру и людям, поведения в повседневной жизн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Рисунок 7" descr="Описание: http://www.prosv.ru/Attachment.aspx?Id=9183"/>
          <p:cNvPicPr/>
          <p:nvPr/>
        </p:nvPicPr>
        <p:blipFill>
          <a:blip r:embed="rId1"/>
          <a:stretch/>
        </p:blipFill>
        <p:spPr>
          <a:xfrm>
            <a:off x="228600" y="1828800"/>
            <a:ext cx="3421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4 класс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133720" y="1219320"/>
            <a:ext cx="5943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оссия - наша Роди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ультура и религи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Человек и Бог в православ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авославная моли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иблия и Евангел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оповедь Хрис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Христос и Его кре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асх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авославное учение о человек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весть и раская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повед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илосердие и сострадани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олотое правило этик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Хра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к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ворческие работы учащих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дведение итог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1640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сновы мировых религиозных культу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9880" y="1904760"/>
            <a:ext cx="5035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учебном пособии с учётом возрастных особенностей учащихся 4-5 классов даются элементарные представления о возникновении, истории и особенностях религий мира, их влиянии на жизнь людей. Авторы не ставили задачи отражения в пособии дискуссионных вопросов религиозных учений и религиовед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Рисунок 1" descr="Описание: http://www.prosv.ru/Attachment.aspx?Id=9182"/>
          <p:cNvPicPr/>
          <p:nvPr/>
        </p:nvPicPr>
        <p:blipFill>
          <a:blip r:embed="rId1"/>
          <a:stretch/>
        </p:blipFill>
        <p:spPr>
          <a:xfrm>
            <a:off x="122400" y="2057400"/>
            <a:ext cx="34225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2-02T16:30:4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