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DE5-3F96-4D87-A077-71B83295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CFB-3019-43B3-BCF5-94B56B65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89D-D668-4065-A56F-8AB7C470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C55-6A47-4FC9-A53A-C38EBF62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9512-19F1-4763-8E8E-BDBCE75A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03DE-1571-4889-917F-38F787B5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CB74-4001-4C82-8927-3A64E24C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F077-C16F-4CAB-849B-4E945EF2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439A-29E9-48D5-A137-E6D17A1F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6A51-BF28-4FC3-9081-28EAB639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41B3-CE33-451C-929E-348E6BA4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1BE-E933-40EB-8504-6D3384C5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C10A-5A5C-4C93-85D9-20711139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DD23-8EA5-40B2-B8CB-1A2C2A23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C55A-CE28-4646-B79F-DF6542D0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91DD-1A8F-4E9F-877E-C0B59E87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06E9-C653-43E9-8DD7-F8610741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9AD-55F2-4169-8384-462AB211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BB7-72C0-4410-BDA8-E70728E6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6E8-EDCF-4CAB-B20D-DF4654A0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41A-C69A-4270-BF7F-C0C6A9EB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FAA-A34E-4F77-B4E4-22FB2BF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E3B-3802-4131-9374-B0849DC4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B89-943B-4922-98F0-CEAE0889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9C79-AD92-40F8-8CBB-982FA2F61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D4CD-4D72-4C99-B418-650B81099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Родительское собрание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кур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Основы религиозных культур и светской этик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053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сия - наша Род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льтура и рели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льтура и рели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зникновение религ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зникновение религий. Религии мира и их основате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ященные книги религий мир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ранители предания в религиях ми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бро и зло. Понятие греха, раскаяния и воздая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ловек в религиозных традициях мир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ященные соору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кусство в религиозной культу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ворческие работы учащих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ое пособие знакомит учащихся с основами светской этики. Что такое добро и зло, добродетель и порок, альтруизм и эгоизм? Что значит быть моральны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4" descr="Описание: http://www.prosv.ru/Attachment.aspx?Id=9184"/>
          <p:cNvPicPr/>
          <p:nvPr/>
        </p:nvPicPr>
        <p:blipFill>
          <a:blip r:embed="rId1"/>
          <a:stretch/>
        </p:blipFill>
        <p:spPr>
          <a:xfrm>
            <a:off x="917640" y="3024360"/>
            <a:ext cx="2627280" cy="34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светской э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ссия - наша Род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такое светская э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льтура и мор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обенности мор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бро и з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бродетель и по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бродетель и по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обода и моральный выбор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ральный дол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льтруизм и эго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руж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значит быть мораль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ислам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33560" y="1143000"/>
            <a:ext cx="511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ое пособие знакомит школьников с основами духовно-нравственной культуры ислама. Учащиеся узнают о жизни пророка Мухаммада, об истории появления, основах ислама и исламской этики, об обязанностях мусульман. Обращаясь к Корану и Сунне, авторы подчёркивают значение этих книг как источников нравственности. Особое место в пособии уделено жизни мусульман в современной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11" descr="Описание: http://www.prosv.ru/Attachment.aspx?Id=9181"/>
          <p:cNvPicPr/>
          <p:nvPr/>
        </p:nvPicPr>
        <p:blipFill>
          <a:blip r:embed="rId1"/>
          <a:stretch/>
        </p:blipFill>
        <p:spPr>
          <a:xfrm>
            <a:off x="801720" y="3024360"/>
            <a:ext cx="27432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-228960"/>
            <a:ext cx="32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— наша Род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ыбель исл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рок Мухаммад — основатель исл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 пророч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десное путешествие прор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дж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н и Сун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а в Алла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е Писания. Посланники Б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а в Судный день и судьб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язанности мусульм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клонение Алла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 в месяц рамад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жертвование во имя Всевышн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 в Мек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ческие работы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буддий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ое пособие в доступной для учащихся 4-5 классов форме знакомит с основами буддийской культуры: ее основателем, буддийским учением, нравственными ценностями, священными книгами, ритуалами, святынями, праздниками, искусств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Рисунок 17" descr="Описание: http://www.prosv.ru/Attachment.aspx?Id=9180"/>
          <p:cNvPicPr/>
          <p:nvPr/>
        </p:nvPicPr>
        <p:blipFill>
          <a:blip r:embed="rId1"/>
          <a:stretch/>
        </p:blipFill>
        <p:spPr>
          <a:xfrm>
            <a:off x="304920" y="2133720"/>
            <a:ext cx="27432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26668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— наша Род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и религия. Введение в буддийскую духовную традиц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да и его у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дийский священный канон «Трипита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дийская картина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 и з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ненаси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бовь к человеку и ценность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радание и милосерд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 к прир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дийские учител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мья в буддийской культуре и её цен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ческие работы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бщающий ур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иудей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ик знакомит с основами иудейской культуры и раскрывает её значение в формировании личности иудея и его поведении в повседневной жизни, а также её влияние на историю еврейского народа и мировые религии  - христианство и ислам, показывает жизнь евреев в Ро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15" descr="Описание: http://www.prosv.ru/Attachment.aspx?Id=9185"/>
          <p:cNvPicPr/>
          <p:nvPr/>
        </p:nvPicPr>
        <p:blipFill>
          <a:blip r:embed="rId1"/>
          <a:stretch/>
        </p:blipFill>
        <p:spPr>
          <a:xfrm>
            <a:off x="304920" y="1981080"/>
            <a:ext cx="29178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0481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6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ссия — наша Р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ведение в иудейскую духовную традицию. Культура и рели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ра — главная книга иудаизма Сущность Торы.  «Золотое правило Гилел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енная и Устная Тора. Классические тексты иуда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архи еврейского на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еи в Египте: от Йосефа до Мо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ход из Егип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рование Торы на горе Син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роки и праведники в иудейской 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роки и праведники в иудейской 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ам в жизни иуде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начение синагоги и её устро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бота (Шабат) в иудейской традиции. Субботний риту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литвы и благословения в иудаиз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бро и з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кие работы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рмативно-правовой основой разработки и введения в учебный процесс общеобразовательных школ комплексного учебного курса «Основы религиозных культур и светской этик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далее – Учебный курс ОРКСЭ) является Поручение Президента Российской Федерации от 2 августа 2009 г. (Пр-2009 ВП-П44-4632) и Распоряжение Председателя Правительства Российской Федерации от 11 августа 2009 г. (ВП-П44-4632)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именование модуле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православной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мировых религиозных культу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светской э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исламской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буддийской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ы иудейской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Цель курс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4648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е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Задачи учебного курса ОРКСЭ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представлений младшего подростка о значении нравственных норм и ценностей для достойной жизни личности, семьи, общ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уктура комплексного учебного курс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19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клас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твертая четвер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7 часов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7960" y="4267080"/>
            <a:ext cx="3927600" cy="1828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вая четвер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7 часов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православн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2520" y="182844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бное пособие знакомит с основами православной культуры, раскрывает её значение и роль в жизни людей – в формировании личности человека,  его отношения к миру и людям, поведения в повседневной жиз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7" descr="Описание: http://www.prosv.ru/Attachment.aspx?Id=9183"/>
          <p:cNvPicPr/>
          <p:nvPr/>
        </p:nvPicPr>
        <p:blipFill>
          <a:blip r:embed="rId1"/>
          <a:stretch/>
        </p:blipFill>
        <p:spPr>
          <a:xfrm>
            <a:off x="228600" y="1828800"/>
            <a:ext cx="3421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4 класс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3720" y="12193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ссия - наша Род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льтура и религ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еловек и Бог в православ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славная моли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иблия и Евангел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поведь Хри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ристос и Его кр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с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славное учение о челове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весть и раска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пове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лосердие и сострад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олотое правило эти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р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ворческие работы учащих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новы мировых религиозных культу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учебном пособии с учётом возрастных особенностей учащихся 4-5 классов даются элементарные представления о возникновении, истории и особенностях религий мира, их влиянии на жизнь людей. Авторы не ставили задачи отражения в пособии дискуссионных вопросов религиозных учений и религи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1" descr="Описание: http://www.prosv.ru/Attachment.aspx?Id=9182"/>
          <p:cNvPicPr/>
          <p:nvPr/>
        </p:nvPicPr>
        <p:blipFill>
          <a:blip r:embed="rId1"/>
          <a:stretch/>
        </p:blipFill>
        <p:spPr>
          <a:xfrm>
            <a:off x="122400" y="2057400"/>
            <a:ext cx="3422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2T16:30:4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