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3.wmf" ContentType="image/x-wmf"/>
  <Override PartName="/ppt/media/image26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8.jpeg" ContentType="image/jpeg"/>
  <Override PartName="/ppt/media/image20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31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17.png" ContentType="image/png"/>
  <Override PartName="/ppt/media/image9.png" ContentType="image/png"/>
  <Override PartName="/ppt/media/image34.png" ContentType="image/png"/>
  <Override PartName="/ppt/media/image33.jpeg" ContentType="image/jpeg"/>
  <Override PartName="/ppt/media/image5.wmf" ContentType="image/x-wmf"/>
  <Override PartName="/ppt/media/image27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36.png" ContentType="image/png"/>
  <Override PartName="/ppt/media/image32.png" ContentType="image/png"/>
  <Override PartName="/ppt/media/image2.png" ContentType="image/png"/>
  <Override PartName="/ppt/media/image15.png" ContentType="image/png"/>
  <Override PartName="/ppt/media/image22.gif" ContentType="image/gif"/>
  <Override PartName="/ppt/media/image4.wmf" ContentType="image/x-wmf"/>
  <Override PartName="/ppt/media/image10.png" ContentType="image/png"/>
  <Override PartName="/ppt/media/image1.jpeg" ContentType="image/jpeg"/>
  <Override PartName="/ppt/media/image35.jpeg" ContentType="image/jpeg"/>
  <Override PartName="/ppt/media/image16.png" ContentType="image/png"/>
  <Override PartName="/ppt/media/image18.png" ContentType="image/png"/>
  <Override PartName="/ppt/media/image21.gif" ContentType="image/gi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CDB-E2B5-4C89-9D95-1540C3F1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08E-029C-419A-BB75-6C2FB111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DA5-9D27-45DC-8533-EF862498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49C-4CD1-44C7-AC90-94C5A9B3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500-BD86-45AD-A1E9-CF2B9EE3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C05D-9826-42B3-A698-89772495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CDF-AF0C-4750-865C-69342B3D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6E0-0EEF-4087-851B-C6D3A5B6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A7C-58F5-4B41-8BB7-ADA2A5EB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A1A-9910-4611-AC8C-BB6F46E9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2287-2079-4797-B63F-9084F273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B55-5C06-4306-A661-E4722652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F844-FD28-4C54-80AA-ADC50EDE68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1.gif"/><Relationship Id="rId3" Type="http://schemas.openxmlformats.org/officeDocument/2006/relationships/image" Target="../media/image27.jpe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1.gif"/><Relationship Id="rId3" Type="http://schemas.openxmlformats.org/officeDocument/2006/relationships/image" Target="../media/image29.jpe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500040"/>
            <a:ext cx="8886600" cy="3638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1\Рабочий стол\РИСУНКИ\DD00117_.WMF"/>
          <p:cNvPicPr/>
          <p:nvPr/>
        </p:nvPicPr>
        <p:blipFill>
          <a:blip r:embed="rId2"/>
          <a:stretch/>
        </p:blipFill>
        <p:spPr>
          <a:xfrm>
            <a:off x="4286160" y="3929040"/>
            <a:ext cx="4581720" cy="2679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1\Рабочий стол\РИСУНКИ\FD01657_.WMF"/>
          <p:cNvPicPr/>
          <p:nvPr/>
        </p:nvPicPr>
        <p:blipFill>
          <a:blip r:embed="rId3"/>
          <a:stretch/>
        </p:blipFill>
        <p:spPr>
          <a:xfrm>
            <a:off x="285840" y="4786200"/>
            <a:ext cx="1003320" cy="177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1\Рабочий стол\РИСУНКИ\FD01659_.WMF"/>
          <p:cNvPicPr/>
          <p:nvPr/>
        </p:nvPicPr>
        <p:blipFill>
          <a:blip r:embed="rId4"/>
          <a:stretch/>
        </p:blipFill>
        <p:spPr>
          <a:xfrm>
            <a:off x="1071720" y="3857760"/>
            <a:ext cx="928440" cy="177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Documents and Settings\1\Рабочий стол\РИСУНКИ\FD01660_.WMF"/>
          <p:cNvPicPr/>
          <p:nvPr/>
        </p:nvPicPr>
        <p:blipFill>
          <a:blip r:embed="rId5"/>
          <a:stretch/>
        </p:blipFill>
        <p:spPr>
          <a:xfrm>
            <a:off x="1357200" y="5214960"/>
            <a:ext cx="1700280" cy="131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6286680" y="2000160"/>
            <a:ext cx="2579400" cy="442764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sp>
        <p:nvSpPr>
          <p:cNvPr id="85" name="TextBox 2"/>
          <p:cNvSpPr/>
          <p:nvPr/>
        </p:nvSpPr>
        <p:spPr>
          <a:xfrm>
            <a:off x="214200" y="2286000"/>
            <a:ext cx="5857920" cy="173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ьмем стакан с водой и бросим туда кусочек почвы. Что вы види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3" descr=""/>
          <p:cNvPicPr/>
          <p:nvPr/>
        </p:nvPicPr>
        <p:blipFill>
          <a:blip r:embed="rId2"/>
          <a:stretch/>
        </p:blipFill>
        <p:spPr>
          <a:xfrm>
            <a:off x="414360" y="450720"/>
            <a:ext cx="4803840" cy="161604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214200" y="4286160"/>
            <a:ext cx="5786640" cy="2043720"/>
          </a:xfrm>
          <a:prstGeom prst="rect">
            <a:avLst/>
          </a:prstGeom>
          <a:solidFill>
            <a:srgbClr val="ffffff"/>
          </a:solidFill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очве содержится воздух. Размешаем почву палочкой и отставим в сторо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Прямоугольник 1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4803840" cy="1616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214200" y="2428920"/>
            <a:ext cx="2357640" cy="40384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90" name="TextBox 3"/>
          <p:cNvSpPr/>
          <p:nvPr/>
        </p:nvSpPr>
        <p:spPr>
          <a:xfrm>
            <a:off x="2714760" y="2286000"/>
            <a:ext cx="621504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греем почву. Что види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2643120" y="3214800"/>
            <a:ext cx="6286680" cy="2531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ЫВОД: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сгорает перегной, который образовался из останков растений и живо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1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4803840" cy="1616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6143760" y="1571760"/>
            <a:ext cx="2560680" cy="491940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sp>
        <p:nvSpPr>
          <p:cNvPr id="94" name="TextBox 4"/>
          <p:cNvSpPr/>
          <p:nvPr/>
        </p:nvSpPr>
        <p:spPr>
          <a:xfrm>
            <a:off x="214200" y="2286000"/>
            <a:ext cx="5715000" cy="173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ьмите стакан с водой и почвой. Что мы            наблюда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214200" y="4286160"/>
            <a:ext cx="5643720" cy="173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ЫВОД: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очве содержатся  глина и пес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1" descr=""/>
          <p:cNvPicPr/>
          <p:nvPr/>
        </p:nvPicPr>
        <p:blipFill>
          <a:blip r:embed="rId1"/>
          <a:stretch/>
        </p:blipFill>
        <p:spPr>
          <a:xfrm>
            <a:off x="334800" y="549360"/>
            <a:ext cx="8541000" cy="288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1\Рабочий стол\РИСУНКИ\J0090089.WMF"/>
          <p:cNvPicPr/>
          <p:nvPr/>
        </p:nvPicPr>
        <p:blipFill>
          <a:blip r:embed="rId2"/>
          <a:stretch/>
        </p:blipFill>
        <p:spPr>
          <a:xfrm>
            <a:off x="214200" y="3429000"/>
            <a:ext cx="892980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42960" y="428760"/>
            <a:ext cx="7929720" cy="44809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Почва –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это верхний плодородный слой земли, образовавшийся в результате разрушения горных пород, останков растений и животны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Documents and Settings\1\Рабочий стол\РИСУНКИ\BL00526_.WMF"/>
          <p:cNvPicPr/>
          <p:nvPr/>
        </p:nvPicPr>
        <p:blipFill>
          <a:blip r:embed="rId1"/>
          <a:stretch/>
        </p:blipFill>
        <p:spPr>
          <a:xfrm>
            <a:off x="6215040" y="5072040"/>
            <a:ext cx="2716200" cy="178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420840" y="171360"/>
            <a:ext cx="8302320" cy="3218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1\Рабочий стол\РИСУНКИ\AG00090_.GIF"/>
          <p:cNvPicPr/>
          <p:nvPr/>
        </p:nvPicPr>
        <p:blipFill>
          <a:blip r:embed="rId2"/>
          <a:stretch/>
        </p:blipFill>
        <p:spPr>
          <a:xfrm>
            <a:off x="1274760" y="1706400"/>
            <a:ext cx="1212840" cy="1524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1\Рабочий стол\РИСУНКИ\AG00090_.GIF"/>
          <p:cNvPicPr/>
          <p:nvPr/>
        </p:nvPicPr>
        <p:blipFill>
          <a:blip r:embed="rId3"/>
          <a:stretch/>
        </p:blipFill>
        <p:spPr>
          <a:xfrm>
            <a:off x="3139920" y="1994040"/>
            <a:ext cx="67644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Documents and Settings\1\Рабочий стол\РИСУНКИ\AG00090_.GIF"/>
          <p:cNvPicPr/>
          <p:nvPr/>
        </p:nvPicPr>
        <p:blipFill>
          <a:blip r:embed="rId4"/>
          <a:stretch/>
        </p:blipFill>
        <p:spPr>
          <a:xfrm>
            <a:off x="5492880" y="1852560"/>
            <a:ext cx="682560" cy="182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1\Рабочий стол\РИСУНКИ\AG00090_.GIF"/>
          <p:cNvPicPr/>
          <p:nvPr/>
        </p:nvPicPr>
        <p:blipFill>
          <a:blip r:embed="rId5"/>
          <a:stretch/>
        </p:blipFill>
        <p:spPr>
          <a:xfrm>
            <a:off x="6638760" y="1566720"/>
            <a:ext cx="1382760" cy="141444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6" descr=""/>
          <p:cNvPicPr/>
          <p:nvPr/>
        </p:nvPicPr>
        <p:blipFill>
          <a:blip r:embed="rId6"/>
          <a:stretch/>
        </p:blipFill>
        <p:spPr>
          <a:xfrm>
            <a:off x="-103320" y="2908440"/>
            <a:ext cx="3157560" cy="98100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7" descr=""/>
          <p:cNvPicPr/>
          <p:nvPr/>
        </p:nvPicPr>
        <p:blipFill>
          <a:blip r:embed="rId7"/>
          <a:stretch/>
        </p:blipFill>
        <p:spPr>
          <a:xfrm>
            <a:off x="6540480" y="2481120"/>
            <a:ext cx="2732040" cy="98136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8" descr=""/>
          <p:cNvPicPr/>
          <p:nvPr/>
        </p:nvPicPr>
        <p:blipFill>
          <a:blip r:embed="rId8"/>
          <a:stretch/>
        </p:blipFill>
        <p:spPr>
          <a:xfrm>
            <a:off x="2109960" y="3554280"/>
            <a:ext cx="2608200" cy="98136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9" descr=""/>
          <p:cNvPicPr/>
          <p:nvPr/>
        </p:nvPicPr>
        <p:blipFill>
          <a:blip r:embed="rId9"/>
          <a:stretch/>
        </p:blipFill>
        <p:spPr>
          <a:xfrm>
            <a:off x="4614840" y="3408480"/>
            <a:ext cx="3035160" cy="981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1\Рабочий стол\РИСУНКИ\AG00090_.GIF"/>
          <p:cNvPicPr/>
          <p:nvPr/>
        </p:nvPicPr>
        <p:blipFill>
          <a:blip r:embed="rId10"/>
          <a:stretch/>
        </p:blipFill>
        <p:spPr>
          <a:xfrm>
            <a:off x="4280040" y="1920960"/>
            <a:ext cx="583920" cy="351612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11" descr=""/>
          <p:cNvPicPr/>
          <p:nvPr/>
        </p:nvPicPr>
        <p:blipFill>
          <a:blip r:embed="rId11"/>
          <a:stretch/>
        </p:blipFill>
        <p:spPr>
          <a:xfrm>
            <a:off x="2755800" y="5126040"/>
            <a:ext cx="3936960" cy="982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F:\Sounds\ДЖАН-0125Б.jpg"/>
          <p:cNvPicPr/>
          <p:nvPr/>
        </p:nvPicPr>
        <p:blipFill>
          <a:blip r:embed="rId1"/>
          <a:stretch/>
        </p:blipFill>
        <p:spPr>
          <a:xfrm>
            <a:off x="1643040" y="0"/>
            <a:ext cx="6143760" cy="687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:\Videos\Копия (6) ДЖАН-0125.jpg"/>
          <p:cNvPicPr/>
          <p:nvPr/>
        </p:nvPicPr>
        <p:blipFill>
          <a:blip r:embed="rId1"/>
          <a:stretch/>
        </p:blipFill>
        <p:spPr>
          <a:xfrm>
            <a:off x="285840" y="285840"/>
            <a:ext cx="2214360" cy="628632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sp>
        <p:nvSpPr>
          <p:cNvPr id="61" name="TextBox 2"/>
          <p:cNvSpPr/>
          <p:nvPr/>
        </p:nvSpPr>
        <p:spPr>
          <a:xfrm>
            <a:off x="3429000" y="428760"/>
            <a:ext cx="36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рноз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2714760" y="2000160"/>
            <a:ext cx="6215040" cy="44809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Азово-Кубанской равнине расположены черноземные почвы. Черноземные почвы активно пропускают воздух, необходимый растениям. На этих почвах хорошо растут пшеница, подсолнечник, сахарная свекла и другие раст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Documents and Settings\1\Рабочий стол\РИСУНКИ\AG00092_.GIF"/>
          <p:cNvPicPr/>
          <p:nvPr/>
        </p:nvPicPr>
        <p:blipFill>
          <a:blip r:embed="rId2"/>
          <a:stretch/>
        </p:blipFill>
        <p:spPr>
          <a:xfrm rot="10800000">
            <a:off x="2643120" y="428400"/>
            <a:ext cx="642960" cy="625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1\Рабочий стол\РИСУНКИ\AG00142_.GIF"/>
          <p:cNvPicPr/>
          <p:nvPr/>
        </p:nvPicPr>
        <p:blipFill>
          <a:blip r:embed="rId3"/>
          <a:stretch/>
        </p:blipFill>
        <p:spPr>
          <a:xfrm>
            <a:off x="7786800" y="4756320"/>
            <a:ext cx="1357200" cy="1697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Documents and Settings\1\Рабочий стол\РИСУНКИ\FD00096_.WMF"/>
          <p:cNvPicPr/>
          <p:nvPr/>
        </p:nvPicPr>
        <p:blipFill>
          <a:blip r:embed="rId4"/>
          <a:stretch/>
        </p:blipFill>
        <p:spPr>
          <a:xfrm>
            <a:off x="8215200" y="2571840"/>
            <a:ext cx="1125720" cy="167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Documents and Settings\1\Рабочий стол\РИСУНКИ\FD00419_.WMF"/>
          <p:cNvPicPr/>
          <p:nvPr/>
        </p:nvPicPr>
        <p:blipFill>
          <a:blip r:embed="rId5"/>
          <a:stretch/>
        </p:blipFill>
        <p:spPr>
          <a:xfrm>
            <a:off x="7269120" y="0"/>
            <a:ext cx="1874880" cy="193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Documents and Settings\1\Рабочий стол\РИСУНКИ\FD00455_.WMF"/>
          <p:cNvPicPr/>
          <p:nvPr/>
        </p:nvPicPr>
        <p:blipFill>
          <a:blip r:embed="rId6"/>
          <a:stretch/>
        </p:blipFill>
        <p:spPr>
          <a:xfrm>
            <a:off x="6643800" y="0"/>
            <a:ext cx="1322280" cy="1955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F:\Sounds\ДЖАН-0125Б.jpg"/>
          <p:cNvPicPr/>
          <p:nvPr/>
        </p:nvPicPr>
        <p:blipFill>
          <a:blip r:embed="rId1"/>
          <a:stretch/>
        </p:blipFill>
        <p:spPr>
          <a:xfrm>
            <a:off x="1643040" y="0"/>
            <a:ext cx="6143760" cy="687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1498680" cy="649944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pic>
        <p:nvPicPr>
          <p:cNvPr id="70" name="Picture 3" descr="C:\Documents and Settings\1\Рабочий стол\РИСУНКИ\AG00092_.GIF"/>
          <p:cNvPicPr/>
          <p:nvPr/>
        </p:nvPicPr>
        <p:blipFill>
          <a:blip r:embed="rId2"/>
          <a:stretch/>
        </p:blipFill>
        <p:spPr>
          <a:xfrm rot="10800000">
            <a:off x="1714320" y="214200"/>
            <a:ext cx="642600" cy="62568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428920" y="214200"/>
            <a:ext cx="50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золистая поч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1928880" y="1000080"/>
            <a:ext cx="1571400" cy="565308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pic>
        <p:nvPicPr>
          <p:cNvPr id="73" name="Picture 3" descr="C:\Documents and Settings\1\Рабочий стол\РИСУНКИ\AG00092_.GIF"/>
          <p:cNvPicPr/>
          <p:nvPr/>
        </p:nvPicPr>
        <p:blipFill>
          <a:blip r:embed="rId4"/>
          <a:stretch/>
        </p:blipFill>
        <p:spPr>
          <a:xfrm rot="10800000">
            <a:off x="3500280" y="1000080"/>
            <a:ext cx="642960" cy="625680"/>
          </a:xfrm>
          <a:prstGeom prst="rect">
            <a:avLst/>
          </a:prstGeom>
          <a:ln w="0">
            <a:noFill/>
          </a:ln>
        </p:spPr>
      </p:pic>
      <p:sp>
        <p:nvSpPr>
          <p:cNvPr id="74" name="TextBox 7"/>
          <p:cNvSpPr/>
          <p:nvPr/>
        </p:nvSpPr>
        <p:spPr>
          <a:xfrm>
            <a:off x="4143240" y="928800"/>
            <a:ext cx="52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рая лесная поч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3714840" y="2214720"/>
            <a:ext cx="5214960" cy="3934440"/>
          </a:xfrm>
          <a:prstGeom prst="rect">
            <a:avLst/>
          </a:prstGeom>
          <a:solidFill>
            <a:srgbClr val="ffffff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редгорьях, на северных склонах Главного Кавказского хребта, залегают щелочные черноземы, темно-серые лесные и подзолистые почв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F:\Sounds\ДЖАН-0125Б.jpg"/>
          <p:cNvPicPr/>
          <p:nvPr/>
        </p:nvPicPr>
        <p:blipFill>
          <a:blip r:embed="rId1"/>
          <a:stretch/>
        </p:blipFill>
        <p:spPr>
          <a:xfrm>
            <a:off x="1643040" y="0"/>
            <a:ext cx="6143760" cy="687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1643040" cy="642960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pic>
        <p:nvPicPr>
          <p:cNvPr id="78" name="Picture 3" descr="C:\Documents and Settings\1\Рабочий стол\РИСУНКИ\AG00092_.GIF"/>
          <p:cNvPicPr/>
          <p:nvPr/>
        </p:nvPicPr>
        <p:blipFill>
          <a:blip r:embed="rId2"/>
          <a:stretch/>
        </p:blipFill>
        <p:spPr>
          <a:xfrm rot="10800000">
            <a:off x="2000160" y="285480"/>
            <a:ext cx="642960" cy="62532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2643120" y="21420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уговая поч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2143080" y="1214280"/>
            <a:ext cx="1643040" cy="542628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pic>
        <p:nvPicPr>
          <p:cNvPr id="81" name="Picture 3" descr="C:\Documents and Settings\1\Рабочий стол\РИСУНКИ\AG00092_.GIF"/>
          <p:cNvPicPr/>
          <p:nvPr/>
        </p:nvPicPr>
        <p:blipFill>
          <a:blip r:embed="rId4"/>
          <a:stretch/>
        </p:blipFill>
        <p:spPr>
          <a:xfrm rot="10800000">
            <a:off x="3857760" y="1071360"/>
            <a:ext cx="642960" cy="62532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4643280" y="107172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лотная поч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3929040" y="1857240"/>
            <a:ext cx="5214960" cy="44809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олинах и низовьях рек встречаются луговые почвы. Плавнево-луговые и болотные почвы приобрели большое зна-чение, когда на Кубани стали возделывать рис. Эти почвы имеют ржаво-бурый ц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ued Acer Customer</cp:lastModifiedBy>
  <dcterms:modified xsi:type="dcterms:W3CDTF">2008-10-09T08:27:33Z</dcterms:modified>
  <cp:revision>17</cp:revision>
  <dc:subject/>
  <dc:title>Слайд 1</dc:title>
</cp:coreProperties>
</file>