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0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17.png" ContentType="image/png"/>
  <Override PartName="/ppt/media/image9.png" ContentType="image/png"/>
  <Override PartName="/ppt/media/image34.png" ContentType="image/png"/>
  <Override PartName="/ppt/media/image33.jpeg" ContentType="image/jpeg"/>
  <Override PartName="/ppt/media/image5.wmf" ContentType="image/x-wmf"/>
  <Override PartName="/ppt/media/image27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36.png" ContentType="image/png"/>
  <Override PartName="/ppt/media/image32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16.png" ContentType="image/png"/>
  <Override PartName="/ppt/media/image18.png" ContentType="image/png"/>
  <Override PartName="/ppt/media/image21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4B0-D914-4C74-9A11-3B3732ED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E4A-A561-49D5-B336-27C4428E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189-AEB5-4C51-83CE-F6D1717E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38F-04EA-427E-AA83-CFF1957E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A25-3BE5-41DC-BABF-0692D7BE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313-EF3F-442B-A09C-688C3CDB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929-846A-463C-AFF5-F5CAB3E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51A-BC0B-43F6-8E4A-A7502F8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29A-E13F-41C7-BB2E-1693FA13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C5B-2C4C-4F9A-AD13-DFFC2D5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8D9-97F5-4942-B961-D35A1B0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CF3-0338-4204-B8E6-A6F7BFDE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BDA-64CB-499B-BBA6-D84CB2905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gif"/><Relationship Id="rId3" Type="http://schemas.openxmlformats.org/officeDocument/2006/relationships/image" Target="../media/image27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1.gif"/><Relationship Id="rId3" Type="http://schemas.openxmlformats.org/officeDocument/2006/relationships/image" Target="../media/image29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500040"/>
            <a:ext cx="8886600" cy="3638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1\Рабочий стол\РИСУНКИ\DD00117_.WMF"/>
          <p:cNvPicPr/>
          <p:nvPr/>
        </p:nvPicPr>
        <p:blipFill>
          <a:blip r:embed="rId2"/>
          <a:stretch/>
        </p:blipFill>
        <p:spPr>
          <a:xfrm>
            <a:off x="4286160" y="3929040"/>
            <a:ext cx="4581720" cy="2679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1\Рабочий стол\РИСУНКИ\FD01657_.WMF"/>
          <p:cNvPicPr/>
          <p:nvPr/>
        </p:nvPicPr>
        <p:blipFill>
          <a:blip r:embed="rId3"/>
          <a:stretch/>
        </p:blipFill>
        <p:spPr>
          <a:xfrm>
            <a:off x="285840" y="4786200"/>
            <a:ext cx="1003320" cy="177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1\Рабочий стол\РИСУНКИ\FD01659_.WMF"/>
          <p:cNvPicPr/>
          <p:nvPr/>
        </p:nvPicPr>
        <p:blipFill>
          <a:blip r:embed="rId4"/>
          <a:stretch/>
        </p:blipFill>
        <p:spPr>
          <a:xfrm>
            <a:off x="1071720" y="3857760"/>
            <a:ext cx="928440" cy="177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1\Рабочий стол\РИСУНКИ\FD01660_.WMF"/>
          <p:cNvPicPr/>
          <p:nvPr/>
        </p:nvPicPr>
        <p:blipFill>
          <a:blip r:embed="rId5"/>
          <a:stretch/>
        </p:blipFill>
        <p:spPr>
          <a:xfrm>
            <a:off x="1357200" y="5214960"/>
            <a:ext cx="1700280" cy="131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286680" y="2000160"/>
            <a:ext cx="2579400" cy="44276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85" name="TextBox 2"/>
          <p:cNvSpPr/>
          <p:nvPr/>
        </p:nvSpPr>
        <p:spPr>
          <a:xfrm>
            <a:off x="214200" y="2286000"/>
            <a:ext cx="585792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ьмем стакан с водой и бросим туда кусочек почвы. Что вы вид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450720"/>
            <a:ext cx="4803840" cy="1616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14200" y="4286160"/>
            <a:ext cx="5786640" cy="204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очве содержится воздух. Размешаем почву палочкой и отставим в стор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4803840" cy="161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2357640" cy="40384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2714760" y="2286000"/>
            <a:ext cx="621504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греем почву. Что вид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643120" y="3214800"/>
            <a:ext cx="6286680" cy="2531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ЫВОД: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сгорает перегной, который образовался из останков растений и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4803840" cy="161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143760" y="1571760"/>
            <a:ext cx="2560680" cy="49194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94" name="TextBox 4"/>
          <p:cNvSpPr/>
          <p:nvPr/>
        </p:nvSpPr>
        <p:spPr>
          <a:xfrm>
            <a:off x="214200" y="2286000"/>
            <a:ext cx="57150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ьмите стакан с водой и почвой. Что мы            наблюда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14200" y="4286160"/>
            <a:ext cx="564372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ВОД: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чве содержатся  глина и пе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334800" y="549360"/>
            <a:ext cx="8541000" cy="288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1\Рабочий стол\РИСУНКИ\J0090089.WMF"/>
          <p:cNvPicPr/>
          <p:nvPr/>
        </p:nvPicPr>
        <p:blipFill>
          <a:blip r:embed="rId2"/>
          <a:stretch/>
        </p:blipFill>
        <p:spPr>
          <a:xfrm>
            <a:off x="214200" y="3429000"/>
            <a:ext cx="89298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42960" y="428760"/>
            <a:ext cx="7929720" cy="448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очва 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это верхний плодородный слой земли, образовавшийся в результате разрушения горных пород, останков растений и живот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1\Рабочий стол\РИСУНКИ\BL00526_.WMF"/>
          <p:cNvPicPr/>
          <p:nvPr/>
        </p:nvPicPr>
        <p:blipFill>
          <a:blip r:embed="rId1"/>
          <a:stretch/>
        </p:blipFill>
        <p:spPr>
          <a:xfrm>
            <a:off x="6215040" y="5072040"/>
            <a:ext cx="271620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171360"/>
            <a:ext cx="8302320" cy="321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1\Рабочий стол\РИСУНКИ\AG00090_.GIF"/>
          <p:cNvPicPr/>
          <p:nvPr/>
        </p:nvPicPr>
        <p:blipFill>
          <a:blip r:embed="rId2"/>
          <a:stretch/>
        </p:blipFill>
        <p:spPr>
          <a:xfrm>
            <a:off x="1274760" y="1706400"/>
            <a:ext cx="1212840" cy="152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1\Рабочий стол\РИСУНКИ\AG00090_.GIF"/>
          <p:cNvPicPr/>
          <p:nvPr/>
        </p:nvPicPr>
        <p:blipFill>
          <a:blip r:embed="rId3"/>
          <a:stretch/>
        </p:blipFill>
        <p:spPr>
          <a:xfrm>
            <a:off x="3139920" y="1994040"/>
            <a:ext cx="676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1\Рабочий стол\РИСУНКИ\AG00090_.GIF"/>
          <p:cNvPicPr/>
          <p:nvPr/>
        </p:nvPicPr>
        <p:blipFill>
          <a:blip r:embed="rId4"/>
          <a:stretch/>
        </p:blipFill>
        <p:spPr>
          <a:xfrm>
            <a:off x="5492880" y="1852560"/>
            <a:ext cx="682560" cy="18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1\Рабочий стол\РИСУНКИ\AG00090_.GIF"/>
          <p:cNvPicPr/>
          <p:nvPr/>
        </p:nvPicPr>
        <p:blipFill>
          <a:blip r:embed="rId5"/>
          <a:stretch/>
        </p:blipFill>
        <p:spPr>
          <a:xfrm>
            <a:off x="6638760" y="1566720"/>
            <a:ext cx="1382760" cy="141444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6"/>
          <a:stretch/>
        </p:blipFill>
        <p:spPr>
          <a:xfrm>
            <a:off x="-103320" y="2908440"/>
            <a:ext cx="315756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7" descr=""/>
          <p:cNvPicPr/>
          <p:nvPr/>
        </p:nvPicPr>
        <p:blipFill>
          <a:blip r:embed="rId7"/>
          <a:stretch/>
        </p:blipFill>
        <p:spPr>
          <a:xfrm>
            <a:off x="6540480" y="2481120"/>
            <a:ext cx="2732040" cy="98136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8" descr=""/>
          <p:cNvPicPr/>
          <p:nvPr/>
        </p:nvPicPr>
        <p:blipFill>
          <a:blip r:embed="rId8"/>
          <a:stretch/>
        </p:blipFill>
        <p:spPr>
          <a:xfrm>
            <a:off x="2109960" y="3554280"/>
            <a:ext cx="260820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9" descr=""/>
          <p:cNvPicPr/>
          <p:nvPr/>
        </p:nvPicPr>
        <p:blipFill>
          <a:blip r:embed="rId9"/>
          <a:stretch/>
        </p:blipFill>
        <p:spPr>
          <a:xfrm>
            <a:off x="4614840" y="3408480"/>
            <a:ext cx="3035160" cy="98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1\Рабочий стол\РИСУНКИ\AG00090_.GIF"/>
          <p:cNvPicPr/>
          <p:nvPr/>
        </p:nvPicPr>
        <p:blipFill>
          <a:blip r:embed="rId10"/>
          <a:stretch/>
        </p:blipFill>
        <p:spPr>
          <a:xfrm>
            <a:off x="4280040" y="1920960"/>
            <a:ext cx="583920" cy="351612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1" descr=""/>
          <p:cNvPicPr/>
          <p:nvPr/>
        </p:nvPicPr>
        <p:blipFill>
          <a:blip r:embed="rId11"/>
          <a:stretch/>
        </p:blipFill>
        <p:spPr>
          <a:xfrm>
            <a:off x="2755800" y="5126040"/>
            <a:ext cx="3936960" cy="98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F:\Sounds\ДЖАН-0125Б.jpg"/>
          <p:cNvPicPr/>
          <p:nvPr/>
        </p:nvPicPr>
        <p:blipFill>
          <a:blip r:embed="rId1"/>
          <a:stretch/>
        </p:blipFill>
        <p:spPr>
          <a:xfrm>
            <a:off x="1643040" y="0"/>
            <a:ext cx="6143760" cy="687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Videos\Копия (6) ДЖАН-0125.jpg"/>
          <p:cNvPicPr/>
          <p:nvPr/>
        </p:nvPicPr>
        <p:blipFill>
          <a:blip r:embed="rId1"/>
          <a:stretch/>
        </p:blipFill>
        <p:spPr>
          <a:xfrm>
            <a:off x="285840" y="285840"/>
            <a:ext cx="2214360" cy="62863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61" name="TextBox 2"/>
          <p:cNvSpPr/>
          <p:nvPr/>
        </p:nvSpPr>
        <p:spPr>
          <a:xfrm>
            <a:off x="3429000" y="428760"/>
            <a:ext cx="36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ноз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714760" y="2000160"/>
            <a:ext cx="6215040" cy="448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зово-Кубанской равнине расположены черноземные почвы. Черноземные почвы активно пропускают воздух, необходимый растениям. На этих почвах хорошо растут пшеница, подсолнечник, сахарная свекла и другие 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Documents and Settings\1\Рабочий стол\РИСУНКИ\AG00092_.GIF"/>
          <p:cNvPicPr/>
          <p:nvPr/>
        </p:nvPicPr>
        <p:blipFill>
          <a:blip r:embed="rId2"/>
          <a:stretch/>
        </p:blipFill>
        <p:spPr>
          <a:xfrm rot="10800000">
            <a:off x="2643120" y="428400"/>
            <a:ext cx="642960" cy="62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1\Рабочий стол\РИСУНКИ\AG00142_.GIF"/>
          <p:cNvPicPr/>
          <p:nvPr/>
        </p:nvPicPr>
        <p:blipFill>
          <a:blip r:embed="rId3"/>
          <a:stretch/>
        </p:blipFill>
        <p:spPr>
          <a:xfrm>
            <a:off x="7786800" y="4756320"/>
            <a:ext cx="1357200" cy="169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1\Рабочий стол\РИСУНКИ\FD00096_.WMF"/>
          <p:cNvPicPr/>
          <p:nvPr/>
        </p:nvPicPr>
        <p:blipFill>
          <a:blip r:embed="rId4"/>
          <a:stretch/>
        </p:blipFill>
        <p:spPr>
          <a:xfrm>
            <a:off x="8215200" y="2571840"/>
            <a:ext cx="1125720" cy="167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1\Рабочий стол\РИСУНКИ\FD00419_.WMF"/>
          <p:cNvPicPr/>
          <p:nvPr/>
        </p:nvPicPr>
        <p:blipFill>
          <a:blip r:embed="rId5"/>
          <a:stretch/>
        </p:blipFill>
        <p:spPr>
          <a:xfrm>
            <a:off x="7269120" y="0"/>
            <a:ext cx="1874880" cy="193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1\Рабочий стол\РИСУНКИ\FD00455_.WMF"/>
          <p:cNvPicPr/>
          <p:nvPr/>
        </p:nvPicPr>
        <p:blipFill>
          <a:blip r:embed="rId6"/>
          <a:stretch/>
        </p:blipFill>
        <p:spPr>
          <a:xfrm>
            <a:off x="6643800" y="0"/>
            <a:ext cx="1322280" cy="195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F:\Sounds\ДЖАН-0125Б.jpg"/>
          <p:cNvPicPr/>
          <p:nvPr/>
        </p:nvPicPr>
        <p:blipFill>
          <a:blip r:embed="rId1"/>
          <a:stretch/>
        </p:blipFill>
        <p:spPr>
          <a:xfrm>
            <a:off x="1643040" y="0"/>
            <a:ext cx="6143760" cy="687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1498680" cy="64994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70" name="Picture 3" descr="C:\Documents and Settings\1\Рабочий стол\РИСУНКИ\AG00092_.GIF"/>
          <p:cNvPicPr/>
          <p:nvPr/>
        </p:nvPicPr>
        <p:blipFill>
          <a:blip r:embed="rId2"/>
          <a:stretch/>
        </p:blipFill>
        <p:spPr>
          <a:xfrm rot="10800000">
            <a:off x="1714320" y="214200"/>
            <a:ext cx="642600" cy="625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428920" y="21420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золист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1928880" y="1000080"/>
            <a:ext cx="1571400" cy="56530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73" name="Picture 3" descr="C:\Documents and Settings\1\Рабочий стол\РИСУНКИ\AG00092_.GIF"/>
          <p:cNvPicPr/>
          <p:nvPr/>
        </p:nvPicPr>
        <p:blipFill>
          <a:blip r:embed="rId4"/>
          <a:stretch/>
        </p:blipFill>
        <p:spPr>
          <a:xfrm rot="10800000">
            <a:off x="3500280" y="1000080"/>
            <a:ext cx="642960" cy="625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4143240" y="92880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ая лесн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714840" y="2214720"/>
            <a:ext cx="5214960" cy="393444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редгорьях, на северных склонах Главного Кавказского хребта, залегают щелочные черноземы, темно-серые лесные и подзолистые поч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F:\Sounds\ДЖАН-0125Б.jpg"/>
          <p:cNvPicPr/>
          <p:nvPr/>
        </p:nvPicPr>
        <p:blipFill>
          <a:blip r:embed="rId1"/>
          <a:stretch/>
        </p:blipFill>
        <p:spPr>
          <a:xfrm>
            <a:off x="1643040" y="0"/>
            <a:ext cx="6143760" cy="687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643040" cy="64296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78" name="Picture 3" descr="C:\Documents and Settings\1\Рабочий стол\РИСУНКИ\AG00092_.GIF"/>
          <p:cNvPicPr/>
          <p:nvPr/>
        </p:nvPicPr>
        <p:blipFill>
          <a:blip r:embed="rId2"/>
          <a:stretch/>
        </p:blipFill>
        <p:spPr>
          <a:xfrm rot="10800000">
            <a:off x="2000160" y="285480"/>
            <a:ext cx="642960" cy="625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643120" y="2142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угов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2143080" y="1214280"/>
            <a:ext cx="1643040" cy="54262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81" name="Picture 3" descr="C:\Documents and Settings\1\Рабочий стол\РИСУНКИ\AG00092_.GIF"/>
          <p:cNvPicPr/>
          <p:nvPr/>
        </p:nvPicPr>
        <p:blipFill>
          <a:blip r:embed="rId4"/>
          <a:stretch/>
        </p:blipFill>
        <p:spPr>
          <a:xfrm rot="10800000">
            <a:off x="3857760" y="1071360"/>
            <a:ext cx="642960" cy="625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4643280" y="10717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отн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929040" y="1857240"/>
            <a:ext cx="5214960" cy="448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олинах и низовьях рек встречаются луговые почвы. Плавнево-луговые и болотные почвы приобрели большое зна-чение, когда на Кубани стали возделывать рис. Эти почвы имеют ржаво-бурый ц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08-10-09T08:27:33Z</dcterms:modified>
  <cp:revision>17</cp:revision>
  <dc:subject/>
  <dc:title>Слайд 1</dc:title>
</cp:coreProperties>
</file>