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33C-0A84-40AD-B609-9105354B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40A6-F143-45FB-865F-FF200773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CA4-6D9A-40FC-8786-058EC132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CE9-299A-4842-994D-1696CDCA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48EA-5764-41F6-93A7-D6AD000C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E1A-7168-4F72-A639-937FF29E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3AC6-5BF3-4607-B19C-92863A96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0903-EB8B-4FA1-BC4A-F89AD32F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1BC-B0B8-4966-84D9-C6EA13E2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E4C-B756-4C1E-8460-5993A54B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B7EB-4FA3-451E-8499-BBF40047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43FB-3293-4A5C-92C5-3F31EA69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7655-B168-4276-9DDD-CC4261A483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2920" y="2205000"/>
            <a:ext cx="6945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4f6228"/>
                </a:solidFill>
                <a:latin typeface="Franklin Gothic Heavy"/>
                <a:ea typeface="Aharoni"/>
              </a:rPr>
              <a:t>Подросток.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4f6228"/>
                </a:solidFill>
                <a:latin typeface="Franklin Gothic Heavy"/>
                <a:ea typeface="Aharoni"/>
              </a:rPr>
              <a:t>Особенности возраста.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468360" y="234936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46c0a"/>
                </a:solidFill>
                <a:latin typeface="Calibri"/>
              </a:rPr>
              <a:t>Отношения с родителями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3680" indent="-10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являются критика и противодействие ценностям, установкам и образу действий взрослых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3680" indent="-10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моциональные связи с семьей ослабеваю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3680" indent="-10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дители как образец для ориентации и идентификации отступают на второй пла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3680" indent="-10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меньшается влияние сем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3680" indent="-10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являются ростки нового позитивного отношения к родителям: развивается эмпатия, стремление помочь им, разделить с ними радость и го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Calibri"/>
                <a:ea typeface="Times New Roman"/>
              </a:rPr>
              <a:t>ПОВЕДЕНИЕ ПОДРОСТК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Некоторые детские формы поведения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уже не приемлемы, а взрослые ещё не разрешены  или не знакомы ем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н стремится поскорее стать взрослым, но решать сложные задачи, которые по плечу взрослым, он ещё не умее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Иногда поведение подростков по отношению к другим людям грубо и бесцеремонно, хотя сами они неимоверно рани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озданный ребенком идеал означает наличие у него постоянно действующего мотива.  (Л. И. Божович, 1968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79280" y="2637000"/>
            <a:ext cx="864072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по-разному чувствуют запах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идят цвета, ощущают остроту ситу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девочек характерна ранняя социализация, мальчики же – более инфантиль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проведении уроков девочкам можно давать большее количество заданий, чтобы они включали разные каналы связи (я слышу, я ощущаю, я чувствую…), мальчикам нужна  поддерж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всем ученикам  - создавать ситуацию успе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Особенности</a:t>
            </a: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девочек 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альчиков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274680"/>
            <a:ext cx="6480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ЗИС 13 ЛЕ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920" y="357336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довольством внешность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увством наступающей взросл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ормированием образа “Я”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дентификацией с образом по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ниженной  самооцен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http://www.childpsy.ru/images/im-6.jpg"/>
          <p:cNvPicPr/>
          <p:nvPr/>
        </p:nvPicPr>
        <p:blipFill>
          <a:blip r:embed="rId1"/>
          <a:stretch/>
        </p:blipFill>
        <p:spPr>
          <a:xfrm>
            <a:off x="468360" y="692280"/>
            <a:ext cx="4751280" cy="280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5"/>
          <p:cNvSpPr/>
          <p:nvPr/>
        </p:nvSpPr>
        <p:spPr>
          <a:xfrm>
            <a:off x="5148360" y="126828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одросток подвержен сильнейшим переживаниям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ажаемые родители,  если Ваш заметили, что ваш ребенок неуверен в себе. Он в первую очередь нуждается в вашей поддержке и помощи. Позвольте Вам дать некоторые советы, которыми вы можете руководствоваться при общении со своим ребен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забывайте хвалить своего ребенка за достижения, которые дались ему благодаря его труду и упорств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 в коем случае никогда не подчеркивайте такую черту характера у своего ребенка, как неувереннос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вьте перед своим ребенком только посильные для него задач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 в коем случае не демонстрируйте такую черту характера как неуверенность своего ребенка посторонним люд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можно чаще поощряйте общение ребенка с детьми младшими по возрасту, это придаст ему уверенность в своих сила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 в коем случае не оставляйте без внимания усилия ребенка по преодолению неуверенности в своих сила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овариваете со своим ребенком как можно чаще по душам, чтоб у него была возможность выговориться, поделиться наболевшим с в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рашивайте у своего ребенка о его проблемах, если он вам сам ничего не говорит; делайте это тактично и тепл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 в коем случае не вселяйте в ребенка страх по отношению к себ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 ставьте ребенка в неловкие для него ситуации, особенно при встрече с посторонними людьми или при большом скоплении нар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 сравниваете своего ребенка с другими детьми, он один такой неповторим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дуйтесь вместе с ним его победам, даже пусть самым малы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можно меньше критикуйте своего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щите любую возможность показать его положительные сторо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селяйте в своего ребенка уверенность в себе и в свои сил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место слов «Я так за тебя боюсь» пусть лучше звучат слова «Я в тебе уверен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Будьте рядом с ним, если он в этом нуждаетс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60480" y="12600"/>
            <a:ext cx="8881920" cy="1408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2920" indent="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ереходный», «трудный», «критический» возраст… Как протекает развитие личности в эти годы, насколько трудно бывает воспитателям – родителям и педагогам – найти правильную линию поведения по отношению к подрост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2920" indent="10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сегда ли мы осознаем грандиозность этого перехода, всегда ли понимаем, что он означает для самого ребёнка и для взрослых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2920" indent="10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42-15263589"/>
          <p:cNvPicPr/>
          <p:nvPr/>
        </p:nvPicPr>
        <p:blipFill>
          <a:blip r:embed="rId1"/>
          <a:stretch/>
        </p:blipFill>
        <p:spPr>
          <a:xfrm>
            <a:off x="250920" y="3573360"/>
            <a:ext cx="4284720" cy="2865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24000" y="475920"/>
            <a:ext cx="8820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аницы подростковог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иода пример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впадают с обучени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тей в средних класса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колы  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 10-11 до 14-15 лет</a:t>
            </a: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 10-12 – младш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ростковый возра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 13-15 – старш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ростковый возра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0" descr="C:\Users\днс\Pictures\2012-06-15 2012 дача\2012 дача 040.JPG"/>
          <p:cNvPicPr/>
          <p:nvPr/>
        </p:nvPicPr>
        <p:blipFill>
          <a:blip r:embed="rId2"/>
          <a:stretch/>
        </p:blipFill>
        <p:spPr>
          <a:xfrm>
            <a:off x="4284720" y="333360"/>
            <a:ext cx="4248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317520" y="347760"/>
            <a:ext cx="7521480" cy="18525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2484360" y="292428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 action="ppaction://hlinksldjump"/>
              </a:rPr>
              <a:t>Физиологиче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468360" y="422100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3" action="ppaction://hlinksldjump"/>
              </a:rPr>
              <a:t>Психологиче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4359960" y="4221000"/>
            <a:ext cx="38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4" action="ppaction://hlinksldjump"/>
              </a:rPr>
              <a:t>Мировоззренчески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5"/>
          <p:cNvSpPr/>
          <p:nvPr/>
        </p:nvSpPr>
        <p:spPr>
          <a:xfrm flipH="1">
            <a:off x="1692360" y="1773360"/>
            <a:ext cx="1079280" cy="244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5"/>
          <p:cNvSpPr/>
          <p:nvPr/>
        </p:nvSpPr>
        <p:spPr>
          <a:xfrm>
            <a:off x="4067280" y="198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5"/>
          <p:cNvSpPr/>
          <p:nvPr/>
        </p:nvSpPr>
        <p:spPr>
          <a:xfrm>
            <a:off x="5508720" y="177336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Arial"/>
                <a:ea typeface="Arial"/>
              </a:rPr>
              <a:t>Социальное созревание ли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-10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8000" indent="-108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является сильное  желание  стать взрослым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8000" indent="-108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ценка  и  переоценка ценностей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8000" indent="-108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исгармония отношений с окружающим миром.  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8000" indent="-10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“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зов взрослым — не столько посягательство на взрослые стандарты, сколько попытка установить границы, которые способствуют их самоопределению” (Ч. Шелтон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8000" indent="-10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ПСИХОЛОГИЧЕСКИЕ ОСОБЕННОСТИ ВОЗРАС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2600" indent="-102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лечение к другому по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еконструктивные отношения подростков с окружающим миром. Эгоцентриз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Личностная нестабиль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тремление к самостоятельности, к независим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Активное формирование самосознания и рефлек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ткрытие своего внутренне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ерестройка мотивационной сфе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ФИЗИОЛОГИЧЕСКИЕ  ОСОБЕННОСТИ  ПОДРОСТ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ардинально перестраиваются сразу три системы: гормональная, кровеносная и костно-мышечна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Меняется телосложение (рост, вес, пропорци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аступает половая зрел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ровоззренческие измене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ереоценка ценност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стойчивые “автономные” моральные взгляды, суждения и оценки, независимые от случайных влия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омн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Формирование самосознания, самооценки, возникновение потребности в самовоспит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Формирование убежд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ВЕДУЩ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ение (Л. И. Божович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щение (Д. Б. Эльконин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щественно-полезный тру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Д. И. Фельдштейн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Notebook</cp:lastModifiedBy>
  <dcterms:modified xsi:type="dcterms:W3CDTF">2015-02-03T12:46:02Z</dcterms:modified>
  <cp:revision>152</cp:revision>
  <dc:subject/>
  <dc:title>Презентация PowerPoint</dc:title>
</cp:coreProperties>
</file>