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23.png" ContentType="image/png"/>
  <Override PartName="/ppt/media/image11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.png" ContentType="image/png"/>
  <Override PartName="/ppt/media/image6.png" ContentType="image/png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0421-5700-4252-BCAC-9DA6C7C3F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619B-BC8C-48F1-A6D6-97553EFA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AA1B-F455-4996-A06E-E1EEB908A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BC19-8543-420C-AEAD-F4A4533B3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7529-D3E6-429F-976C-43B4828E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1CA1-0097-4A27-9599-CFFF3B22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ED9B-774E-4C38-BCE8-087753D2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3ECB-6510-4678-B66E-F563B74B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64F1-B723-49EC-8CB0-32C58B0F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FF48-9BBD-4FA5-8E76-2462D3FC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E6A7-DDB0-485B-8C11-95B54E3C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4F47-B4E6-41E6-B4B5-667FF0DA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DF10-9994-4697-9D59-171797D00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hyperlink" Target="file:///&#1057;&#1074;&#1086;&#1103;%20&#1080;&#1075;&#1088;&#1072;%20&#1076;&#1083;&#1103;%207%20&#1082;&#1083;&#1072;&#1089;&#1089;&#1072;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 Narrow"/>
              </a:rPr>
              <a:t>Построение графика квадратичной функц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8436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Georgia"/>
              </a:rPr>
              <a:t>Построение  графика  функции  у = ах</a:t>
            </a:r>
            <a:r>
              <a:rPr b="1" i="1" lang="ru-RU" sz="3600" spc="-1" strike="noStrike" baseline="30000">
                <a:solidFill>
                  <a:srgbClr val="cc0000"/>
                </a:solidFill>
                <a:latin typeface="Georgia"/>
              </a:rPr>
              <a:t>2</a:t>
            </a:r>
            <a:r>
              <a:rPr b="1" i="1" lang="ru-RU" sz="3600" spc="-1" strike="noStrike">
                <a:solidFill>
                  <a:srgbClr val="cc0000"/>
                </a:solidFill>
                <a:latin typeface="Georgia"/>
              </a:rPr>
              <a:t> +</a:t>
            </a:r>
            <a:r>
              <a:rPr b="1" i="1" lang="en-US" sz="3600" spc="-1" strike="noStrike">
                <a:solidFill>
                  <a:srgbClr val="cc0000"/>
                </a:solidFill>
                <a:latin typeface="Georgia"/>
              </a:rPr>
              <a:t> b</a:t>
            </a:r>
            <a:r>
              <a:rPr b="1" i="1" lang="ru-RU" sz="3600" spc="-1" strike="noStrike">
                <a:solidFill>
                  <a:srgbClr val="cc0000"/>
                </a:solidFill>
                <a:latin typeface="Georgia"/>
              </a:rPr>
              <a:t>х +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1935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74880" y="1628640"/>
            <a:ext cx="73573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Определить  точки  пересечения  график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функции  с  осью  О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х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,  т.е.  найти  нул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859280" y="2590920"/>
          <a:ext cx="321948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2590920"/>
                    <a:ext cx="32194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6588000" y="6021360"/>
            <a:ext cx="71640" cy="6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611280" y="3357720"/>
                <a:ext cx="14526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30280" y="4149720"/>
                <a:ext cx="41972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6012000" y="5084640"/>
            <a:ext cx="71280" cy="6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164360" y="5084640"/>
            <a:ext cx="71640" cy="6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587200" y="5229360"/>
            <a:ext cx="88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х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;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955560" y="5229360"/>
            <a:ext cx="88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х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;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99160" y="2590920"/>
            <a:ext cx="1800" cy="3962160"/>
          </a:xfrm>
          <a:custGeom>
            <a:avLst/>
            <a:gdLst/>
            <a:ahLst/>
            <a:rect l="l" t="t" r="r" b="b"/>
            <a:pathLst>
              <a:path w="1" h="2496">
                <a:moveTo>
                  <a:pt x="0" y="0"/>
                </a:moveTo>
                <a:lnTo>
                  <a:pt x="0" y="2496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Georgia"/>
              </a:rPr>
              <a:t>Построение  графика  функции  у = ах</a:t>
            </a:r>
            <a:r>
              <a:rPr b="1" i="1" lang="ru-RU" sz="3600" spc="-1" strike="noStrike" baseline="30000">
                <a:solidFill>
                  <a:srgbClr val="cc0000"/>
                </a:solidFill>
                <a:latin typeface="Georgia"/>
              </a:rPr>
              <a:t>2</a:t>
            </a:r>
            <a:r>
              <a:rPr b="1" i="1" lang="ru-RU" sz="3600" spc="-1" strike="noStrike">
                <a:solidFill>
                  <a:srgbClr val="cc0000"/>
                </a:solidFill>
                <a:latin typeface="Georgia"/>
              </a:rPr>
              <a:t> +</a:t>
            </a:r>
            <a:r>
              <a:rPr b="1" i="1" lang="en-US" sz="3600" spc="-1" strike="noStrike">
                <a:solidFill>
                  <a:srgbClr val="cc0000"/>
                </a:solidFill>
                <a:latin typeface="Georgia"/>
              </a:rPr>
              <a:t> b</a:t>
            </a:r>
            <a:r>
              <a:rPr b="1" i="1" lang="ru-RU" sz="3600" spc="-1" strike="noStrike">
                <a:solidFill>
                  <a:srgbClr val="cc0000"/>
                </a:solidFill>
                <a:latin typeface="Georgia"/>
              </a:rPr>
              <a:t>х +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7360" y="1935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05040" y="1773360"/>
            <a:ext cx="706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Составить  таблицу  значений 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с  учетом  оси  симметрии  параб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11280" y="2698920"/>
          <a:ext cx="3960720" cy="1426680"/>
        </p:xfrm>
        <a:graphic>
          <a:graphicData uri="http://schemas.openxmlformats.org/drawingml/2006/table">
            <a:tbl>
              <a:tblPr/>
              <a:tblGrid>
                <a:gridCol w="792360"/>
                <a:gridCol w="792360"/>
                <a:gridCol w="792360"/>
                <a:gridCol w="791280"/>
                <a:gridCol w="792360"/>
              </a:tblGrid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148360" y="2590920"/>
          <a:ext cx="321948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2590920"/>
                    <a:ext cx="32194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6877080" y="6021360"/>
            <a:ext cx="71280" cy="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27640" y="5157720"/>
            <a:ext cx="71640" cy="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24720" y="5084640"/>
            <a:ext cx="71640" cy="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77080" y="2637000"/>
            <a:ext cx="1440" cy="3825720"/>
          </a:xfrm>
          <a:custGeom>
            <a:avLst/>
            <a:gdLst/>
            <a:ahLst/>
            <a:rect l="l" t="t" r="r" b="b"/>
            <a:pathLst>
              <a:path w="1" h="2410">
                <a:moveTo>
                  <a:pt x="0" y="0"/>
                </a:moveTo>
                <a:lnTo>
                  <a:pt x="0" y="2410"/>
                </a:lnTo>
              </a:path>
            </a:pathLst>
          </a:custGeom>
          <a:noFill/>
          <a:ln w="1908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3400"/>
                            </p:stCondLst>
                            <p:childTnLst>
                              <p:par>
                                <p:cTn id="4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Алгоритм  построения  графика  функции  у = ах</a:t>
            </a:r>
            <a:r>
              <a:rPr b="1" i="1" lang="ru-RU" sz="3600" spc="-1" strike="noStrike" baseline="30000">
                <a:solidFill>
                  <a:srgbClr val="ff0000"/>
                </a:solidFill>
                <a:latin typeface="Georgia"/>
              </a:rPr>
              <a:t>2</a:t>
            </a: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 +</a:t>
            </a:r>
            <a:r>
              <a:rPr b="1" i="1" lang="en-US" sz="3600" spc="-1" strike="noStrike">
                <a:solidFill>
                  <a:srgbClr val="ff0000"/>
                </a:solidFill>
                <a:latin typeface="Georgia"/>
              </a:rPr>
              <a:t> b</a:t>
            </a: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х +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9880" y="177336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78120" y="1773360"/>
            <a:ext cx="77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Определить  направление  ветвей  параб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0400" y="227664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87120" y="2205000"/>
            <a:ext cx="7252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айти  координаты  вершины  параболы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в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;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y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в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0400" y="292428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00000" y="2997360"/>
            <a:ext cx="77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Провести  ось симме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4360" y="350028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74880" y="3429000"/>
            <a:ext cx="73573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Определить  точки  пересечения  график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функции  с  осью  О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х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,  т.е.  найти  нул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6440" y="458136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8120" y="4653000"/>
            <a:ext cx="706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Составить  таблицу  значений 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с  учетом  оси  симметрии  параб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rcRect l="18919" t="0" r="0" b="26299"/>
          <a:stretch/>
        </p:blipFill>
        <p:spPr>
          <a:xfrm>
            <a:off x="3814920" y="765000"/>
            <a:ext cx="5329080" cy="48452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084720" y="5157720"/>
            <a:ext cx="71640" cy="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1916280"/>
            <a:ext cx="0" cy="360036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659640" y="4005360"/>
            <a:ext cx="71280" cy="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580000" y="4005360"/>
            <a:ext cx="71640" cy="698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rcRect l="17001" t="0" r="0" b="26299"/>
          <a:stretch/>
        </p:blipFill>
        <p:spPr>
          <a:xfrm>
            <a:off x="2987640" y="360360"/>
            <a:ext cx="5977080" cy="53071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24000" y="476280"/>
            <a:ext cx="324000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Постройте график функ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2x - 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С помощью графика найдите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асть определения функц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асть значений функц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ли функц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межут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которых 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0, y&lt;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межутки возрастания и убывания функц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ьшее (наименьшее) значение фун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659640" y="5877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Те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334120" y="404640"/>
            <a:ext cx="3809880" cy="38102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rcRect l="17001" t="30249" r="0" b="0"/>
          <a:stretch/>
        </p:blipFill>
        <p:spPr>
          <a:xfrm>
            <a:off x="611280" y="1413000"/>
            <a:ext cx="5688000" cy="47797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492360" y="3716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-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4x -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258920" y="1773360"/>
            <a:ext cx="6676920" cy="2473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оверочная работа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187280" y="1700280"/>
            <a:ext cx="676944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пасибо за урок. 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Успехов!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940360" y="4581360"/>
            <a:ext cx="1517760" cy="14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056680" y="3573360"/>
            <a:ext cx="163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2x - 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rcRect l="17001" t="0" r="0" b="26299"/>
          <a:stretch/>
        </p:blipFill>
        <p:spPr>
          <a:xfrm>
            <a:off x="3995640" y="1773360"/>
            <a:ext cx="4386240" cy="38941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rcRect l="17001" t="0" r="0" b="26299"/>
          <a:stretch/>
        </p:blipFill>
        <p:spPr>
          <a:xfrm>
            <a:off x="3995640" y="1895400"/>
            <a:ext cx="4248360" cy="3772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233400" y="5229360"/>
            <a:ext cx="163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2x - 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643280" y="2060640"/>
            <a:ext cx="3810240" cy="38098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201400" y="4724280"/>
            <a:ext cx="163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2x - 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67200" y="1197000"/>
            <a:ext cx="5176800" cy="517680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468360" y="115920"/>
            <a:ext cx="3305160" cy="3529080"/>
            <a:chOff x="468360" y="115920"/>
            <a:chExt cx="3305160" cy="3529080"/>
          </a:xfrm>
        </p:grpSpPr>
        <p:pic>
          <p:nvPicPr>
            <p:cNvPr id="45" name="" descr=""/>
            <p:cNvPicPr/>
            <p:nvPr/>
          </p:nvPicPr>
          <p:blipFill>
            <a:blip r:embed="rId2"/>
            <a:srcRect l="13249" t="0" r="0" b="7371"/>
            <a:stretch/>
          </p:blipFill>
          <p:spPr>
            <a:xfrm>
              <a:off x="468360" y="115920"/>
              <a:ext cx="3305160" cy="352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539640" y="620640"/>
              <a:ext cx="9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 = x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468360" y="3716280"/>
            <a:ext cx="36720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 = 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= 3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= 0,3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= -0,5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259560"/>
            <a:ext cx="23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99"/>
                </a:solidFill>
                <a:latin typeface="Comic Sans MS"/>
                <a:ea typeface="+mj-ea"/>
              </a:rPr>
              <a:t>y=ax</a:t>
            </a:r>
            <a:r>
              <a:rPr b="1" i="1" lang="en-US" sz="6000" spc="-1" strike="noStrike" baseline="30000">
                <a:solidFill>
                  <a:srgbClr val="cc0099"/>
                </a:solidFill>
                <a:latin typeface="Comic Sans MS"/>
                <a:ea typeface="+mj-ea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 rot="5400000">
            <a:off x="1438560" y="4257000"/>
            <a:ext cx="3671640" cy="431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Парабола.</a:t>
            </a:r>
            <a:endParaRPr b="1" i="1" lang="en-US" sz="20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17690" t="0" r="0" b="18995"/>
          <a:stretch/>
        </p:blipFill>
        <p:spPr>
          <a:xfrm>
            <a:off x="1258920" y="765000"/>
            <a:ext cx="5251320" cy="5169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227640" y="1268280"/>
            <a:ext cx="1873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Y = x</a:t>
            </a:r>
            <a:r>
              <a:rPr b="1" lang="en-US" sz="1800" spc="-1" strike="noStrike" baseline="30000">
                <a:solidFill>
                  <a:srgbClr val="ff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Y = x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–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Y = x</a:t>
            </a:r>
            <a:r>
              <a:rPr b="1" lang="en-US" sz="1800" spc="-1" strike="noStrike" baseline="30000">
                <a:solidFill>
                  <a:srgbClr val="0066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+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09040" y="175680"/>
            <a:ext cx="261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99"/>
                </a:solidFill>
                <a:latin typeface="Comic Sans MS"/>
                <a:ea typeface="+mj-ea"/>
              </a:rPr>
              <a:t>y=ax</a:t>
            </a:r>
            <a:r>
              <a:rPr b="1" i="1" lang="en-US" sz="4800" spc="-1" strike="noStrike" baseline="30000">
                <a:solidFill>
                  <a:srgbClr val="cc0099"/>
                </a:solidFill>
                <a:latin typeface="Comic Sans MS"/>
                <a:ea typeface="+mj-ea"/>
              </a:rPr>
              <a:t>2</a:t>
            </a:r>
            <a:r>
              <a:rPr b="1" i="1" lang="en-US" sz="4800" spc="-1" strike="noStrike">
                <a:solidFill>
                  <a:srgbClr val="cc0099"/>
                </a:solidFill>
                <a:latin typeface="Comic Sans MS"/>
                <a:ea typeface="+mj-ea"/>
              </a:rPr>
              <a:t>+n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+mj-e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59280" y="4437000"/>
            <a:ext cx="36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получить графики функций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Y = x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–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Y = x</a:t>
            </a:r>
            <a:r>
              <a:rPr b="1" lang="en-US" sz="1800" spc="-1" strike="noStrike" baseline="30000">
                <a:solidFill>
                  <a:srgbClr val="0066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+ 3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из графика функции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Y = x</a:t>
            </a:r>
            <a:r>
              <a:rPr b="1" lang="en-US" sz="1800" spc="-1" strike="noStrike" baseline="30000">
                <a:solidFill>
                  <a:srgbClr val="ff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00"/>
                </a:solidFill>
                <a:latin typeface="Comic Sans MS"/>
                <a:ea typeface="+mj-ea"/>
              </a:rPr>
              <a:t>y=a(x-m)</a:t>
            </a:r>
            <a:r>
              <a:rPr b="0" i="1" lang="en-US" sz="6600" spc="-1" strike="noStrike" baseline="30000">
                <a:solidFill>
                  <a:srgbClr val="cc0000"/>
                </a:solidFill>
                <a:latin typeface="Comic Sans MS"/>
                <a:ea typeface="+mj-ea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+mj-e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15999" t="0" r="0" b="25421"/>
          <a:stretch/>
        </p:blipFill>
        <p:spPr>
          <a:xfrm>
            <a:off x="1187280" y="1266840"/>
            <a:ext cx="5761080" cy="5116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732720" y="1916280"/>
            <a:ext cx="187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Y = x</a:t>
            </a:r>
            <a:r>
              <a:rPr b="1" lang="en-US" sz="18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Y = ( x – 6 )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Y = (x + 3)</a:t>
            </a:r>
            <a:r>
              <a:rPr b="1" lang="en-US" sz="1800" spc="-1" strike="noStrike" baseline="30000">
                <a:solidFill>
                  <a:srgbClr val="0066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24720" y="2637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092720" y="306864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 rot="7817400">
            <a:off x="1146960" y="2389680"/>
            <a:ext cx="1158840" cy="2084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 rot="9187800">
            <a:off x="6011280" y="2637000"/>
            <a:ext cx="1006200" cy="21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c0000"/>
                </a:solidFill>
                <a:latin typeface="Comic Sans MS"/>
                <a:ea typeface="+mj-ea"/>
              </a:rPr>
              <a:t>y=a(x-m)</a:t>
            </a:r>
            <a:r>
              <a:rPr b="0" i="1" lang="en-US" sz="4800" spc="-1" strike="noStrike" baseline="30000">
                <a:solidFill>
                  <a:srgbClr val="cc0000"/>
                </a:solidFill>
                <a:latin typeface="Comic Sans MS"/>
                <a:ea typeface="+mj-ea"/>
              </a:rPr>
              <a:t>2</a:t>
            </a:r>
            <a:r>
              <a:rPr b="0" i="1" lang="ru-RU" sz="4800" spc="-1" strike="noStrike" baseline="30000">
                <a:solidFill>
                  <a:srgbClr val="cc0000"/>
                </a:solidFill>
                <a:latin typeface="Comic Sans MS"/>
                <a:ea typeface="+mj-ea"/>
              </a:rPr>
              <a:t> </a:t>
            </a:r>
            <a:r>
              <a:rPr b="0" i="1" lang="ru-RU" sz="4800" spc="-1" strike="noStrike">
                <a:solidFill>
                  <a:srgbClr val="cc0000"/>
                </a:solidFill>
                <a:latin typeface="Comic Sans MS"/>
                <a:ea typeface="+mj-ea"/>
              </a:rPr>
              <a:t>+ </a:t>
            </a:r>
            <a:r>
              <a:rPr b="0" i="1" lang="en-US" sz="4800" spc="-1" strike="noStrike">
                <a:solidFill>
                  <a:srgbClr val="cc0000"/>
                </a:solidFill>
                <a:latin typeface="Comic Sans MS"/>
                <a:ea typeface="+mj-ea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20790" t="0" r="0" b="26299"/>
          <a:stretch/>
        </p:blipFill>
        <p:spPr>
          <a:xfrm>
            <a:off x="1692360" y="1719360"/>
            <a:ext cx="5184720" cy="4824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635280" y="5013360"/>
            <a:ext cx="1657440" cy="0"/>
          </a:xfrm>
          <a:prstGeom prst="line">
            <a:avLst/>
          </a:prstGeom>
          <a:ln w="38160">
            <a:solidFill>
              <a:srgbClr val="a50021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292720" y="3860640"/>
            <a:ext cx="0" cy="1152720"/>
          </a:xfrm>
          <a:prstGeom prst="line">
            <a:avLst/>
          </a:prstGeom>
          <a:ln w="38160">
            <a:solidFill>
              <a:srgbClr val="a50021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43640" y="2565360"/>
            <a:ext cx="237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 = (x - 6)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+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8748720" y="2492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51640" y="306864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268280"/>
            <a:ext cx="84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получить график функции </a:t>
            </a:r>
            <a:r>
              <a:rPr b="0" i="1" lang="en-US" sz="2000" spc="-1" strike="noStrike">
                <a:solidFill>
                  <a:srgbClr val="cc0000"/>
                </a:solidFill>
                <a:latin typeface="Comic Sans MS"/>
                <a:ea typeface="+mj-ea"/>
              </a:rPr>
              <a:t>y=a(x-m)</a:t>
            </a:r>
            <a:r>
              <a:rPr b="0" i="1" lang="en-US" sz="2000" spc="-1" strike="noStrike" baseline="30000">
                <a:solidFill>
                  <a:srgbClr val="cc0000"/>
                </a:solidFill>
                <a:latin typeface="Comic Sans MS"/>
                <a:ea typeface="+mj-ea"/>
              </a:rPr>
              <a:t>2</a:t>
            </a:r>
            <a:r>
              <a:rPr b="0" i="1" lang="ru-RU" sz="2000" spc="-1" strike="noStrike" baseline="30000">
                <a:solidFill>
                  <a:srgbClr val="cc0000"/>
                </a:solidFill>
                <a:latin typeface="Comic Sans MS"/>
                <a:ea typeface="+mj-cs"/>
              </a:rPr>
              <a:t> </a:t>
            </a:r>
            <a:r>
              <a:rPr b="0" i="1" lang="ru-RU" sz="2000" spc="-1" strike="noStrike">
                <a:solidFill>
                  <a:srgbClr val="cc0000"/>
                </a:solidFill>
                <a:latin typeface="Comic Sans MS"/>
                <a:ea typeface="+mj-cs"/>
              </a:rPr>
              <a:t>+ </a:t>
            </a:r>
            <a:r>
              <a:rPr b="0" i="1" lang="en-US" sz="2000" spc="-1" strike="noStrike">
                <a:solidFill>
                  <a:srgbClr val="cc0000"/>
                </a:solidFill>
                <a:latin typeface="Comic Sans MS"/>
                <a:ea typeface="+mj-cs"/>
              </a:rPr>
              <a:t>n</a:t>
            </a:r>
            <a:r>
              <a:rPr b="0" i="1" lang="ru-RU" sz="2000" spc="-1" strike="noStrike">
                <a:solidFill>
                  <a:srgbClr val="cc0000"/>
                </a:solidFill>
                <a:latin typeface="Comic Sans MS"/>
                <a:ea typeface="+mj-c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+mj-cs"/>
              </a:rPr>
              <a:t>из графика функции</a:t>
            </a:r>
            <a:r>
              <a:rPr b="0" i="1" lang="ru-RU" sz="2000" spc="-1" strike="noStrike">
                <a:solidFill>
                  <a:srgbClr val="cc0000"/>
                </a:solidFill>
                <a:latin typeface="Comic Sans MS"/>
                <a:ea typeface="+mj-cs"/>
              </a:rPr>
              <a:t> </a:t>
            </a:r>
            <a:r>
              <a:rPr b="0" i="1" lang="en-US" sz="2000" spc="-1" strike="noStrike">
                <a:solidFill>
                  <a:srgbClr val="cc0000"/>
                </a:solidFill>
                <a:latin typeface="Comic Sans MS"/>
                <a:ea typeface="+mj-ea"/>
              </a:rPr>
              <a:t>y=ax</a:t>
            </a:r>
            <a:r>
              <a:rPr b="0" i="1" lang="en-US" sz="2000" spc="-1" strike="noStrike" baseline="30000">
                <a:solidFill>
                  <a:srgbClr val="cc0000"/>
                </a:solidFill>
                <a:latin typeface="Comic Sans MS"/>
                <a:ea typeface="+mj-e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79280" y="981000"/>
          <a:ext cx="5097600" cy="58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81000"/>
                    <a:ext cx="509760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1630080" y="404640"/>
            <a:ext cx="598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Найдите  соответств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292720" y="1515960"/>
                <a:ext cx="180828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292720" y="2492280"/>
                <a:ext cx="1727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0,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292720" y="3429000"/>
                <a:ext cx="24480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5148360" y="4365720"/>
                <a:ext cx="29160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8101080" y="1484280"/>
            <a:ext cx="790560" cy="79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101080" y="2421000"/>
            <a:ext cx="79056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101080" y="3357720"/>
            <a:ext cx="790560" cy="79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101080" y="4292640"/>
            <a:ext cx="790560" cy="792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450"/>
                            </p:stCondLst>
                            <p:childTnLst>
                              <p:par>
                                <p:cTn id="7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4000" y="404640"/>
            <a:ext cx="424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абол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5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инули на 3 единицы вниз и на 6 единиц вправо. Графиком какой функции является полученная парабола? Составьте уравнение параб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404640"/>
            <a:ext cx="42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абол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инули на 7 единицы вверх и на 4 единицы влево. Графиком какой функции является полученная парабол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26460" t="0" r="0" b="30089"/>
          <a:stretch/>
        </p:blipFill>
        <p:spPr>
          <a:xfrm>
            <a:off x="468360" y="2133720"/>
            <a:ext cx="4032360" cy="3833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rcRect l="0" t="0" r="26299" b="1710"/>
          <a:stretch/>
        </p:blipFill>
        <p:spPr>
          <a:xfrm>
            <a:off x="4788000" y="1773360"/>
            <a:ext cx="3617640" cy="4824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490480" y="5734080"/>
            <a:ext cx="165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5(x - 6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24680" y="2205000"/>
            <a:ext cx="19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-2(x + 4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Georgia"/>
              </a:rPr>
              <a:t>Построение  графика  функции  у = ах</a:t>
            </a:r>
            <a:r>
              <a:rPr b="1" i="1" lang="ru-RU" sz="3600" spc="-1" strike="noStrike" baseline="30000">
                <a:solidFill>
                  <a:srgbClr val="cc0000"/>
                </a:solidFill>
                <a:latin typeface="Georgia"/>
              </a:rPr>
              <a:t>2</a:t>
            </a:r>
            <a:r>
              <a:rPr b="1" i="1" lang="ru-RU" sz="3600" spc="-1" strike="noStrike">
                <a:solidFill>
                  <a:srgbClr val="cc0000"/>
                </a:solidFill>
                <a:latin typeface="Georgia"/>
              </a:rPr>
              <a:t> +</a:t>
            </a:r>
            <a:r>
              <a:rPr b="1" i="1" lang="en-US" sz="3600" spc="-1" strike="noStrike">
                <a:solidFill>
                  <a:srgbClr val="cc0000"/>
                </a:solidFill>
                <a:latin typeface="Georgia"/>
              </a:rPr>
              <a:t> b</a:t>
            </a:r>
            <a:r>
              <a:rPr b="1" i="1" lang="ru-RU" sz="3600" spc="-1" strike="noStrike">
                <a:solidFill>
                  <a:srgbClr val="cc0000"/>
                </a:solidFill>
                <a:latin typeface="Georgia"/>
              </a:rPr>
              <a:t>х +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0800" y="1935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8120" y="1916280"/>
            <a:ext cx="77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Определить  направление  ветвей  параб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58920" y="2590920"/>
          <a:ext cx="321948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590920"/>
                    <a:ext cx="32194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859280" y="2590920"/>
          <a:ext cx="3219480" cy="426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2590920"/>
                    <a:ext cx="32194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 txBox="1"/>
          <p:nvPr/>
        </p:nvSpPr>
        <p:spPr>
          <a:xfrm rot="5400000">
            <a:off x="-1296360" y="4257000"/>
            <a:ext cx="3671640" cy="431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Парабола.</a:t>
            </a:r>
            <a:endParaRPr b="1" i="1" lang="en-US" sz="20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Georgia"/>
              </a:rPr>
              <a:t>Построение  графика  функции  у = ах</a:t>
            </a:r>
            <a:r>
              <a:rPr b="1" i="1" lang="ru-RU" sz="3600" spc="-1" strike="noStrike" baseline="30000">
                <a:solidFill>
                  <a:srgbClr val="a50021"/>
                </a:solidFill>
                <a:latin typeface="Georgia"/>
              </a:rPr>
              <a:t>2</a:t>
            </a:r>
            <a:r>
              <a:rPr b="1" i="1" lang="ru-RU" sz="3600" spc="-1" strike="noStrike">
                <a:solidFill>
                  <a:srgbClr val="a50021"/>
                </a:solidFill>
                <a:latin typeface="Georgia"/>
              </a:rPr>
              <a:t> +</a:t>
            </a:r>
            <a:r>
              <a:rPr b="1" i="1" lang="en-US" sz="3600" spc="-1" strike="noStrike">
                <a:solidFill>
                  <a:srgbClr val="a50021"/>
                </a:solidFill>
                <a:latin typeface="Georgia"/>
              </a:rPr>
              <a:t> b</a:t>
            </a:r>
            <a:r>
              <a:rPr b="1" i="1" lang="ru-RU" sz="3600" spc="-1" strike="noStrike">
                <a:solidFill>
                  <a:srgbClr val="a50021"/>
                </a:solidFill>
                <a:latin typeface="Georgia"/>
              </a:rPr>
              <a:t>х +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1320" y="1935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66600" y="1863720"/>
            <a:ext cx="725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Найти  координаты  вершины  параболы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(т; п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042920" y="2565360"/>
                <a:ext cx="194472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т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042920" y="3860640"/>
                <a:ext cx="216072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284720" y="2492280"/>
          <a:ext cx="3166920" cy="40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2492280"/>
                    <a:ext cx="316692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6012000" y="5950080"/>
            <a:ext cx="71280" cy="7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3480" y="522936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50760" y="5175360"/>
            <a:ext cx="27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Провести  ос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симме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0" y="0"/>
                <a:ext cx="390600" cy="1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187280" y="6093000"/>
                <a:ext cx="151308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6012000" y="2276640"/>
            <a:ext cx="14040" cy="4098600"/>
          </a:xfrm>
          <a:custGeom>
            <a:avLst/>
            <a:gdLst/>
            <a:ahLst/>
            <a:rect l="l" t="t" r="r" b="b"/>
            <a:pathLst>
              <a:path w="9" h="2582">
                <a:moveTo>
                  <a:pt x="9" y="0"/>
                </a:moveTo>
                <a:lnTo>
                  <a:pt x="0" y="2582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09800" y="602136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 (т;п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950"/>
                            </p:stCondLst>
                            <p:childTnLst>
                              <p:par>
                                <p:cTn id="2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2:21:54Z</dcterms:created>
  <dc:creator>neznayka</dc:creator>
  <dc:description/>
  <dc:language>en-US</dc:language>
  <cp:lastModifiedBy>7</cp:lastModifiedBy>
  <dcterms:modified xsi:type="dcterms:W3CDTF">2015-02-08T19:50:39Z</dcterms:modified>
  <cp:revision>28</cp:revision>
  <dc:subject/>
  <dc:title>Слайд 1</dc:title>
</cp:coreProperties>
</file>