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png" ContentType="image/png"/>
  <Override PartName="/ppt/media/image11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22B7-29DD-4BBF-8A2E-B5B1A65B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A4F-74AA-4E5C-A253-DDE0DD15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88D-4DFF-4D10-B4EC-535A659E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2BC2-E7A2-4687-B62D-A87F69D2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A72D-07D9-48A1-8C01-B56BA8D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536-2F49-4EDA-9FF7-F1AADE0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8B49-3792-442C-AE58-DFACB72C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8C3F-94BE-4029-86BF-F6521458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0FC9-BD87-404C-AAEA-0F914035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2B32-E4FD-4441-A0AE-23B49828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5EE-9D0C-433C-9DAE-3BC3062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23C-71D7-4B96-9518-9E31F23F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F40-0AE4-44BA-A1DA-F7965BFAB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file:///&#1057;&#1074;&#1086;&#1103;%20&#1080;&#1075;&#1088;&#1072;%20&#1076;&#1083;&#1103;%207%20&#1082;&#1083;&#1072;&#1089;&#1089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Narrow"/>
              </a:rPr>
              <a:t>Построение графика квадратичной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2698920"/>
          <a:ext cx="3960720" cy="14266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0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лгоритм  построения  графика  функции  у = ах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880" y="17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8120" y="177336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400" y="2276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7120" y="2205000"/>
            <a:ext cx="725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400" y="2924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60" y="35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4880" y="342900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458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8120" y="465300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8919" t="0" r="0" b="26299"/>
          <a:stretch/>
        </p:blipFill>
        <p:spPr>
          <a:xfrm>
            <a:off x="3814920" y="765000"/>
            <a:ext cx="5329080" cy="484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472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916280"/>
            <a:ext cx="0" cy="360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005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005360"/>
            <a:ext cx="71640" cy="69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2987640" y="360360"/>
            <a:ext cx="5977080" cy="5307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476280"/>
            <a:ext cx="3240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тройте график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 помощью графика найдите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значений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торых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 y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 возрастания и убыва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(наименьшее)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404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7001" t="30249" r="0" b="0"/>
          <a:stretch/>
        </p:blipFill>
        <p:spPr>
          <a:xfrm>
            <a:off x="611280" y="1413000"/>
            <a:ext cx="5688000" cy="4779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9236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4x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1773360"/>
            <a:ext cx="6676920" cy="247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87280" y="1700280"/>
            <a:ext cx="67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урок.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спехов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5177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6680" y="3573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3995640" y="1773360"/>
            <a:ext cx="4386240" cy="389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17001" t="0" r="0" b="26299"/>
          <a:stretch/>
        </p:blipFill>
        <p:spPr>
          <a:xfrm>
            <a:off x="3995640" y="1895400"/>
            <a:ext cx="4248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233400" y="5229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1400" y="472428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0" y="1197000"/>
            <a:ext cx="5176800" cy="5176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68360" y="115920"/>
            <a:ext cx="3305160" cy="3529080"/>
            <a:chOff x="468360" y="115920"/>
            <a:chExt cx="3305160" cy="35290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13249" t="0" r="0" b="7371"/>
            <a:stretch/>
          </p:blipFill>
          <p:spPr>
            <a:xfrm>
              <a:off x="468360" y="115920"/>
              <a:ext cx="33051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620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68360" y="3716280"/>
            <a:ext cx="36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0,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-0,5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595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60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14385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690" t="0" r="0" b="18995"/>
          <a:stretch/>
        </p:blipFill>
        <p:spPr>
          <a:xfrm>
            <a:off x="1258920" y="765000"/>
            <a:ext cx="5251320" cy="516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27640" y="1268280"/>
            <a:ext cx="187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040" y="175680"/>
            <a:ext cx="26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48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+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437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лучить графики функций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из графика функци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66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999" t="0" r="0" b="25421"/>
          <a:stretch/>
        </p:blipFill>
        <p:spPr>
          <a:xfrm>
            <a:off x="1187280" y="1266840"/>
            <a:ext cx="5761080" cy="511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32720" y="1916280"/>
            <a:ext cx="187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( x – 6 )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(x + 3)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092720" y="306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817400">
            <a:off x="1146960" y="2389680"/>
            <a:ext cx="115884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9187800">
            <a:off x="6011280" y="2637000"/>
            <a:ext cx="10062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 </a:t>
            </a:r>
            <a:r>
              <a:rPr b="0" i="1" lang="ru-RU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+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790" t="0" r="0" b="26299"/>
          <a:stretch/>
        </p:blipFill>
        <p:spPr>
          <a:xfrm>
            <a:off x="1692360" y="1719360"/>
            <a:ext cx="518472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5013360"/>
            <a:ext cx="165744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92720" y="3860640"/>
            <a:ext cx="0" cy="1152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565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 = (x - 6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7487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лучить график функции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2000" spc="-1" strike="noStrike" baseline="30000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+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n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+mj-cs"/>
              </a:rPr>
              <a:t>из графика функции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x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50976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5097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30080" y="40464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айдите  соответ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92720" y="1515960"/>
                <a:ext cx="1808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292720" y="249228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92720" y="342900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48360" y="4365720"/>
                <a:ext cx="29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01080" y="1484280"/>
            <a:ext cx="79056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421000"/>
            <a:ext cx="790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357720"/>
            <a:ext cx="7905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4292640"/>
            <a:ext cx="7905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04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3 единицы вниз и на 6 единиц вправо. Графиком какой функции является полученная парабола? Составьте уравнение параб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0464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7 единицы вверх и на 4 единицы влево. Графиком какой функции является полученная параб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460" t="0" r="0" b="30089"/>
          <a:stretch/>
        </p:blipFill>
        <p:spPr>
          <a:xfrm>
            <a:off x="468360" y="2133720"/>
            <a:ext cx="4032360" cy="38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26299" b="1710"/>
          <a:stretch/>
        </p:blipFill>
        <p:spPr>
          <a:xfrm>
            <a:off x="4788000" y="177336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90480" y="57340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5(x -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24680" y="2205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(x + 4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a50021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a50021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48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0" y="0"/>
                <a:ext cx="3906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9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21:54Z</dcterms:created>
  <dc:creator>neznayka</dc:creator>
  <dc:description/>
  <dc:language>en-US</dc:language>
  <cp:lastModifiedBy>7</cp:lastModifiedBy>
  <dcterms:modified xsi:type="dcterms:W3CDTF">2015-02-08T19:50:39Z</dcterms:modified>
  <cp:revision>28</cp:revision>
  <dc:subject/>
  <dc:title>Слайд 1</dc:title>
</cp:coreProperties>
</file>