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865-39B2-4F70-90E8-C8E9DB1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9B9-6F6C-4DBF-B33F-9E592D9C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F88-6804-4EAB-8EA8-28B1ADF4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CF0-1D0B-47FF-8E9A-CFF7DC79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C67-0427-4309-86DC-BE8AFDB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2FDD-942C-42EF-ACC7-07003D58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D16-AD5A-40AF-8606-5CCCDFA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E366-E3BC-455C-A548-993BA6DF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29C-9124-4CBB-9F7C-48D0617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88E1-E5CE-4C5D-AFB6-34279BE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C2B-0C8E-4792-ABE3-BB6EDAF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E90-6061-4CBB-9615-F743CC2B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895-59F7-47E4-9ECC-E7FECB8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901-9254-4498-8C76-873B6C6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D2E-266B-4873-AA5A-942A92DC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387-D128-4886-A710-158CD48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22C-1A73-411A-AC44-AB054D3B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3D9-EA9C-4B10-B70F-C7C0D2E7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1B4-4C54-4C17-90B7-6191872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A7C-3ED5-4D4A-A1BA-30E89BC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E5F-FED6-4D4A-854C-ECCC09C4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1C6-62EB-4833-AC93-0F0636F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D60-8300-4169-BA63-18D9423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D4B-C1BF-4CBE-8BED-2A6E71B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EDC-0AF3-4D6B-AEC7-5D7817A52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4E5-284D-422B-B761-34766EBC34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839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00"/>
                </a:solidFill>
                <a:latin typeface="Times New Roman"/>
              </a:rPr>
              <a:t>Право на имя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219320"/>
            <a:ext cx="6248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00"/>
                </a:solidFill>
                <a:latin typeface="Arial Black"/>
              </a:rPr>
              <a:t>Право на семью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Генеалогическое дере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94360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Arial Black"/>
              </a:rPr>
              <a:t>7Я</a:t>
            </a:r>
            <a:r>
              <a:rPr b="1" i="1" lang="en-US" sz="9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361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b7"/>
                </a:solidFill>
                <a:latin typeface="Arial Black"/>
              </a:rPr>
              <a:t>Право на жилище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05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Arial Black"/>
              </a:rPr>
              <a:t>Право свободного передвижения по стране и выбора места жительств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им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семью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жилищ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образо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медицинское обслужи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Право на свободное передвижение по стране и выбора места жительст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5:15:38Z</dcterms:created>
  <dc:creator>Аня</dc:creator>
  <dc:description/>
  <dc:language>en-US</dc:language>
  <cp:lastModifiedBy>Аня</cp:lastModifiedBy>
  <dcterms:modified xsi:type="dcterms:W3CDTF">2014-11-24T06:05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