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C15B-70FF-47E7-BC32-EE15266D8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50FC-4B43-49DB-B028-4175BBAC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8E67-0F95-415E-AB42-9908E573C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FC85-519C-4707-8332-233EB7F28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983C-59A9-4954-BA96-BBA1F870C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EE8D-B75B-4A79-8E1C-B81569A9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E209-3984-41B5-926A-8EB12678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5C09-A8BC-4C2E-A5AE-1B5A254B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8AB6-BD1F-43E3-B25D-B7D8C4B4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71C3-9CBD-40E8-B1CD-3C2479D1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8493-498E-4353-8312-EB3C86DD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7AC2-3EF7-4E7C-8679-7BA16193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C0F0-9CF4-41BD-AD54-72795E18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F660-83B6-4E77-9C22-195BF238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7C69-1A47-4985-8F0A-E9D867D9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B80E-7C9B-410F-9427-0BB93D309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2D20-459E-400D-9611-FAC78B943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2DBC-FD2E-431E-B196-6B3C67B2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7BBA-7645-4E6C-8906-FDBCA297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2C99-F903-436C-8387-C2DD2C96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369F-A652-4C3A-81DD-017A7154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B753-0450-4DB6-A710-14731865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1A66-CBA6-4000-A144-25AD91E9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2DC5-8FED-492D-BD78-600CA5D6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029F-96ED-4749-A935-EC60DA0A85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BBEE-05F5-423F-8301-239E3C5746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371240"/>
            <a:ext cx="88390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ffff00"/>
                </a:solidFill>
                <a:latin typeface="Times New Roman"/>
              </a:rPr>
              <a:t>Право на имя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1219320"/>
            <a:ext cx="624852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ffff00"/>
                </a:solidFill>
                <a:latin typeface="Arial Black"/>
              </a:rPr>
              <a:t>Право на семью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Black"/>
              </a:rPr>
              <a:t>Генеалогическое дерев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52480" y="838080"/>
            <a:ext cx="5943600" cy="601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ff00"/>
                </a:solidFill>
                <a:latin typeface="Arial Black"/>
              </a:rPr>
              <a:t>7Я</a:t>
            </a:r>
            <a:r>
              <a:rPr b="1" i="1" lang="en-US" sz="96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8880" y="23619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ffffb7"/>
                </a:solidFill>
                <a:latin typeface="Arial Black"/>
              </a:rPr>
              <a:t>Право на жилище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cover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80572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00"/>
                </a:solidFill>
                <a:latin typeface="Arial Black"/>
              </a:rPr>
              <a:t>Право свободного передвижения по стране и выбора места жительства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Право на имя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Право на семью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Право на жилищ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Право на образовани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Право на медицинское обслуживани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Право на свободное передвижение по стране и выбора места жительств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98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98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98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98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98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98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4T05:15:38Z</dcterms:created>
  <dc:creator>Аня</dc:creator>
  <dc:description/>
  <dc:language>en-US</dc:language>
  <cp:lastModifiedBy>Аня</cp:lastModifiedBy>
  <dcterms:modified xsi:type="dcterms:W3CDTF">2014-11-24T06:05:2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