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1983-A887-4017-94DC-8175BB8D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6308-54A3-4C8F-89F2-A4587B14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DA07-896C-4F02-8108-85A8AFBA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20D7-2247-4EDB-AC26-2921988F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7BFB-9457-4AE1-9B84-479BF956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E12E-3495-41B0-A9F3-FCC2867A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3128-C99C-432F-B9DB-D877D034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5122-E669-4D16-ADE9-5B1985CE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38C2-FE0F-4B35-A025-4DC81E4A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D359-7521-4BBC-9563-10BA65A5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7324-D3E9-4B50-B38C-FEF002BA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AC59-E4B1-49FA-94BE-64DAD60E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046B-6588-49D4-B994-8189FEC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7AE8-FF95-445F-BD91-39E132F1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B792-30F9-46C9-8273-4DE293E1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EB08-5A1A-4E0C-8560-19937A2E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DA8F-CF47-4BBF-851F-E374A189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1F63-EA96-40E3-8998-0DB77409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3810-52C9-4E5B-96AF-9F25EC19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48E4-47D2-4D1C-A70B-752B04D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D35F-DB3E-44F8-968F-F2BFEEE8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D4E2-D841-48D2-B951-D76DF22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C308-8BC5-46AF-830F-83284E2C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C7C1-051E-4F28-9E47-680D54AD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C243-A60C-4EF0-98B1-9D138BE36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C375-3E8F-4214-BDDF-DCFA03FFB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"/>
              </a:rPr>
              <a:t>ПРАВИЛА ПОВЕДЕНИЯ УЧАЩИХС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 школы учащиес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едут себ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ак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тобы не уронить свою ч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достоинство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запятнать доброе им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дение на занят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ичие дневника, тетрадей, учебников и других школьных принадлежностей – обяз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ходе педагога в клас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тают в знак приветств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садятся после того, как педагог ответит на приветствие и разрешит сесть. Подобным образом учащиеся приветствуют любого взрослого, вошедшего в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ремя урока нельзя шуметь, отвлекаться самому и отвлекать товарища от занятий посторонними разговорами, играми и другими, не относящимися к уроку делами. Урочное время должно использовать учащимися только для учебных целей, успешного освоения школьной программы. Ученик не может пользоваться на уроке плеером и жевать жевательную резинку. Мобильный телефон на уроке должен быть отключ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учащийс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очет задать 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ителю или ответить на вопрос учителя, он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нимает р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время занятий учащийся может по уважительной причине выйти из класса, попросив разрешения у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случае пропуска занят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о уважительной причине или нет) ученик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 изучить материал пропущенного у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тсутствие на уроке не освобождает от контроля знаний. Одноклассники не забывают про больных товарищей, звонят, интересуются их здоровьем, помогают с выполнением домашн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едение до начала, в перерывах и после окончания за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 время перерывов (перемен), обяз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брать свое рабочее мес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йти из класса, чтобы была возможность проветрить помещ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чиниться дисциплинарным требованиям дежурных, педагогов и других работников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ащимся запреща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рить в здании школы и на ее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осить, передавать или использовать оружие (в т.ч. холодное), спиртные напитки, табачные изделия, токсичные или наркотические вещества, которые могут привести к взрывам и пожар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ять физическую силу для выяснения отношений, запугивания или вымогатель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дить любые действия, влекущие за собой опасные последствия для окружающих: бегать по лестницам и коридорам, бросаться любыми предметами, громко кричать и толкать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ь без разрешения чужую собственность. Найдя утерянные вещи, следует сдавать их дежурному администратору или на пост ох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журный по класс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ивает порядок в кабине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ает педагогу подготовить кабинет к следующему уро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окончания занятий производит посильную уборку в кла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. Учащиеся, находясь в столов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иняются требованию дежурных по столовой и работников столов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блюдают график питания и правила поведения в столовой (не входят в столовую верхней одежде, соблюдают очередь в буфете, полученные еду и напитки употребляют только в столовой, убирают за собой посуду, разговаривают спокойно и организованно, заходят и выходят в сопровождении педаго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щие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 первого урока 8.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приходит в школ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 15–20 минут до начала занят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чистые и опрятные, снимают в гардеробе верхнюю одежду, надевают сменную обувь, занимают свое рабочее место и готовят все необходимые учебные принадлежности к предстоящему у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аздывать на урок без уважительной причины запрещ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ольные трад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щиеся шк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Участвуют в классных и общественных делах и мероприят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Уважают и оказывают всяческую помощь Ученическому комитету шко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Соблюдают положения школьного уст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ая одежда должна соответствовать стандартом школьной фор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ьтрамодная, подчеркнутая неряшливая прическа, яркий макияж, броская бижутерия – это пренебрежение общепринятыми нормами внешнего вида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тфели, мобильные телефоны, деньги и другие ценные вещи не оставлять без присмотра (в т.ч. в гардероб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мся во время занятий в школ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льзя без разрешения педагогов уходить из школы и с ее терри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ждевременный ух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 школы возможен: в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учае болезни по решению школьного врача (классного руководителя и учителя – предметника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 просьбе род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в письменном виде) с подтверждением (подписью) классного руководителя и дежурного администра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 случае пропу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нятий учащийся должен предъявить классному руководителю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правку от врача или записку от родителей (лиц, их заменяющих) о причине отсутствия на занятия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пуски занятий без уважительной причины являются грубым нарушением Устава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оброжелательно относятся друг к дру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не повышают голос и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крича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ежливо разговаривают со взрослыми и между собой, не говорят друг другу оскорбительные слова 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употребляя непристойные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ерегут имущество школ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 т. ч. цветы и зеленые наса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учае порчи школьного имущества ученик и его семь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ы возместить нанесенный ущер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поддерживают чистоту в школе, в классе, на рабочем месте, пользуясь ур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Чисто не там, где убрано, а там, где не сор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школы проявляют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важение к старш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дороваются со всеми взрослыми независимо от того, учат они их или н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ботятся о младш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и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ступают дорогу взрослым, старшие школьники – младшим, мальчики – девочка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ры решают только на принципах уважения чужого мнения, взглядов и убе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8:20:32Z</dcterms:created>
  <dc:creator>Admin</dc:creator>
  <dc:description/>
  <dc:language>en-US</dc:language>
  <cp:lastModifiedBy>Admin</cp:lastModifiedBy>
  <dcterms:modified xsi:type="dcterms:W3CDTF">2011-09-04T18:55:30Z</dcterms:modified>
  <cp:revision>17</cp:revision>
  <dc:subject/>
  <dc:title>ПРАВИЛА ПОВЕДЕНИЯ УЧАЩИХСЯ</dc:title>
</cp:coreProperties>
</file>