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1C6D-5988-41E0-8A0C-D6414ECF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0D1E-1308-44DD-9993-B14F8ED1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22F5-1D76-4494-9F87-D9C91DF9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1056-F675-42EE-B3AA-2B738EF1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9743-B3BD-4155-85E9-FB9CE47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3890-E19E-4C7C-A31A-179A9D39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9F4-742D-4E9B-BC38-AA3C1963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5CE-3053-41BB-8BA0-3567A5F6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1363-0430-4F93-AC50-B60A0FFD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9B42-0833-4410-85FC-1EA9489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030A-943C-41FC-A7B6-2C448EF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2F9A-0105-40E0-845E-CDAC3945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3E2-74AA-4359-A94B-EE7851F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0800-6D95-4CE3-82AB-E097D799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D7F3-1706-4395-A022-E0CD6BDC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F94-A2F7-4D59-8BA2-13103206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70DE-05D3-4E62-AC6B-CCC283CC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B797-2095-4FFB-AE51-06499B4A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78C7-C8B5-4AAB-9E9E-A2B2E809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EF1E-6827-4FFB-A18F-594B2E44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6784-0021-4269-B2A1-35A0801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AFE9-7283-4C67-830F-40550FE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F678-5F51-4CD4-89A4-285B344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6157-B229-4A32-9CFF-4D04C86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593-C9A0-4E9F-B46C-5811E6E38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9E98-E421-46A6-8FB1-AEFB17DC3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 u="sng">
                <a:solidFill>
                  <a:srgbClr val="ffffff"/>
                </a:solidFill>
                <a:uFillTx/>
                <a:latin typeface="Arial"/>
              </a:rPr>
              <a:t>ПРАВИЛА ПОВЕДЕНИЯ УЧАЩИХС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 школы учащие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дут себ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ак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тобы не уронить свою че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достоинство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запятнать доброе им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дение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ичие дневника, тетрадей, учебников и других школьных принадлежностей – обяз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ходе педагога в кла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тают в знак привет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садятся после того, как педагог ответит на приветствие и разрешит сесть. Подобным образом учащиеся приветствуют любого взрослого, вошедшего в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ремя урока нельзя шуметь, отвлекаться самому и отвлекать товарища от занятий посторонними разговорами, играми и другими, не относящимися к уроку делами. Урочное время должно использовать учащимися только для учебных целей, успешного освоения школьной программы. Ученик не может пользоваться на уроке плеером и жевать жевательную резинку. Мобильный телефон на уроке должен быть отключ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чащийс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очет задать 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чителю или ответить на вопрос учителя, он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днимает р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время занятий учащийся может по уважительной причине выйти из класса, попросив разрешения у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 занят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 уважительной причине или нет) ученик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 изучить материал пропущенного 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тсутствие на уроке не освобождает от контроля знаний. Одноклассники не забывают про больных товарищей, звонят, интересуются их здоровьем, помогают с выполнением домашн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едение до начала, в перерывах и после окончания за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 время перерывов (перемен), обяз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брать свое рабочее ме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йти из класса, чтобы была возможность проветрить помещ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иться дисциплинарным требованиям дежурных, педагогов и других работников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ащимся запрещ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рить в здании школы и на ее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осить, передавать или использовать оружие (в т.ч. холодное), спиртные напитки, табачные изделия, токсичные или наркотические вещества, которые могут привести к взрывам и пожар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ять физическую силу для выяснения отношений, запугивания или вымогатель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ь любые действия, влекущие за собой опасные последствия для окружающих: бегать по лестницам и коридорам, бросаться любыми предметами, громко кричать и толкать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ть без разрешения чужую собственность. Найдя утерянные вещи, следует сдавать их дежурному администратору или на пост ох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журный по класс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ивает порядок в кабине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ает педагогу подготовить кабинет к следующему у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окончания занятий производит посильную уборку в кл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. Учащиеся, находясь в столов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иняются требованию дежурных по столовой и работников столов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блюдают график питания и правила поведения в столовой (не входят в столовую верхней одежде, соблюдают очередь в буфете, полученные еду и напитки употребляют только в столовой, убирают за собой посуду, разговаривают спокойно и организованно, заходят и выходят в сопровождении педаго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щи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первого урока 8.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приходит в школ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 15–20 минут до начала занят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истые и опрятные, снимают в гардеробе верхнюю одежду, надевают сменную обувь, занимают свое рабочее место и готовят все необходимые учебные принадлежности к предстоящему у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здывать на урок без уважительной причины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е тради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щиеся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Участвуют в классных и общественных делах и меропри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Уважают и оказывают всяческую помощь Ученическому комитету шко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Соблюдают положения школьного у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ая одежда должна соответствовать стандартом школьной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ьтрамодная, подчеркнутая неряшливая прическа, яркий макияж, броская бижутерия – это пренебрежение общепринятыми нормами внешнего вида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тфели, мобильные телефоны, деньги и другие ценные вещи не оставлять без присмотра (в т.ч. в гардероб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мся во время занятий в школ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льзя без разрешения педагогов уходить из школы и с ее терри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ждевременный у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 школы возможен: 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учае болезни по решению школьного врача (классного руководителя и учителя – предметника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 просьбе род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 письменном виде) с подтверждением (подписью) классного руководителя и дежурного админист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случае пропу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нятий учащийся должен предъявить классному руководител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правку от врача или записку от родителей (лиц, их заменяющих) о причине отсутствия на занятия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пуски занятий без уважительной причины являются грубым нарушением Устава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брожелательно относятся друг к др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не повышают голос и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крич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ежливо разговаривают со взрослыми и между собой, не говорят друг другу оскорбительные слова 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 употребляя непристойные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ерегут имущество школ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т. ч. цветы и зеленые наса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порчи школьного имущества ученик и его семь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ы возместить нанесенный ущер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поддерживают чистоту в школе, в классе, на рабочем месте, пользуясь ур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Чисто не там, где убрано, а там, где не сор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 школы проявляют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важение к старш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дороваются со всеми взрослыми независимо от того, учат они их или 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ботятся о младш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тупают дорогу взрослым, старшие школьники – младшим, мальчики – девочк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ры решают только на принципах уважения чужого мнения, взглядов и уб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0:32Z</dcterms:created>
  <dc:creator>Admin</dc:creator>
  <dc:description/>
  <dc:language>en-US</dc:language>
  <cp:lastModifiedBy>Admin</cp:lastModifiedBy>
  <dcterms:modified xsi:type="dcterms:W3CDTF">2011-09-04T18:55:30Z</dcterms:modified>
  <cp:revision>17</cp:revision>
  <dc:subject/>
  <dc:title>ПРАВИЛА ПОВЕДЕНИЯ УЧАЩИХСЯ</dc:title>
</cp:coreProperties>
</file>