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wmf" ContentType="image/x-wmf"/>
  <Override PartName="/ppt/media/image3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214-0573-4E46-99C8-C81BE3FE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31B-9B03-460E-AD4B-BEAD0C78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A72-8449-409C-822D-D2D653D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2CE-731E-48D9-B026-8DB28EF5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5C8F-22CB-4FBB-B95B-BE701FCC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740-DECA-4BB8-BDDE-72E4F05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A47-5FC5-411D-9174-7ED0846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F23B-5BC6-408F-8190-A86537B4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A27-619D-4714-B82F-757C1888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F198-34E4-4162-A56B-7759745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2871-553D-4FA4-BF0B-CF24798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9A6-7315-4857-95D0-29D21112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D1EB-F516-4DF9-A3D8-57A8DAF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059-9218-4200-AD69-BB5E18F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B61-B68D-493E-8175-EA240FF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CD2-44A2-45E5-9124-4A43C667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E36-FE23-427F-A05D-2DCEAEEB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AE1-71D0-4DD5-9876-D0A0B96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CAB-315C-4AC7-8ECB-42884E9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B99-B605-49BD-BB3E-7AA39CDA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C0C-0E95-4199-A35A-769149D1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861-070E-4DA4-BE1A-2FBE210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DE1-B2CE-4BF4-85B0-00AADC6D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34C-A13C-4BFD-A8D5-E850CCD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55F-B0E2-47DC-9FBC-26A435B303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AAA3-A332-44AB-B90A-063AB10A2B5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6913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чите детей пе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789360"/>
            <a:ext cx="5640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ихина Светлана Алексее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узыкальный руководител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АОУ  СПО МО «ГУБЕРНСКИЙ ПРОФЕССИОНАЛЬНЫЙ КОЛЛЕДЖ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школьное образовательное учрежде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. Серпух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Music"/>
          <p:cNvSpPr/>
          <p:nvPr/>
        </p:nvSpPr>
        <p:spPr>
          <a:xfrm>
            <a:off x="179280" y="404640"/>
            <a:ext cx="1152720" cy="1079640"/>
          </a:xfrm>
          <a:custGeom>
            <a:avLst/>
            <a:gdLst>
              <a:gd name="textAreaLeft" fmla="*/ 425520 w 1152720"/>
              <a:gd name="textAreaRight" fmla="*/ 1117440 w 1152720"/>
              <a:gd name="textAreaTop" fmla="*/ 46080 h 1079640"/>
              <a:gd name="textAreaBottom" fmla="*/ 267480 h 1079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Music"/>
          <p:cNvSpPr/>
          <p:nvPr/>
        </p:nvSpPr>
        <p:spPr>
          <a:xfrm>
            <a:off x="611280" y="765000"/>
            <a:ext cx="1152360" cy="1079640"/>
          </a:xfrm>
          <a:custGeom>
            <a:avLst/>
            <a:gdLst>
              <a:gd name="textAreaLeft" fmla="*/ 425520 w 1152360"/>
              <a:gd name="textAreaRight" fmla="*/ 1117080 w 1152360"/>
              <a:gd name="textAreaTop" fmla="*/ 46080 h 1079640"/>
              <a:gd name="textAreaBottom" fmla="*/ 267480 h 107964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П.И. Чайковский" descr=""/>
          <p:cNvPicPr/>
          <p:nvPr/>
        </p:nvPicPr>
        <p:blipFill>
          <a:blip r:embed="rId1"/>
          <a:stretch/>
        </p:blipFill>
        <p:spPr>
          <a:xfrm>
            <a:off x="6300720" y="654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узыкальное воспит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628280"/>
            <a:ext cx="7188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общать учеников к музыкальной  культу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спитывать сознательное отношение к музыкальному наследию и современной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вершенствовать  ритмический, тембровый и динамический слух.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должать обогащать музыкальные впечатл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13080" y="1598760"/>
          <a:ext cx="325440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1598760"/>
                    <a:ext cx="325440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6402240" y="3921120"/>
          <a:ext cx="1094040" cy="21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2240" y="3921120"/>
                    <a:ext cx="109404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озможности певческого голос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сота голоса зависит от толщины связок, данных при рождени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бсолютный слух зависит на 99% от строения внутреннего уха, 1%- генетичес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10" descr="MMj03034500000[1]"/>
          <p:cNvPicPr/>
          <p:nvPr/>
        </p:nvPicPr>
        <p:blipFill>
          <a:blip r:embed="rId1"/>
          <a:stretch/>
        </p:blipFill>
        <p:spPr>
          <a:xfrm>
            <a:off x="324000" y="2276640"/>
            <a:ext cx="208908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ндивидуальность исполнения песен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7" name="Organization Chart 14"/>
          <p:cNvGrpSpPr/>
          <p:nvPr/>
        </p:nvGrpSpPr>
        <p:grpSpPr>
          <a:xfrm>
            <a:off x="250920" y="1484280"/>
            <a:ext cx="4752360" cy="4753080"/>
            <a:chOff x="250920" y="1484280"/>
            <a:chExt cx="4752360" cy="4753080"/>
          </a:xfrm>
        </p:grpSpPr>
        <p:cxnSp>
          <p:nvCxnSpPr>
            <p:cNvPr id="208" name="_s1028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982960" y="3028320"/>
              <a:ext cx="951120" cy="1663920"/>
            </a:xfrm>
            <a:prstGeom prst="bentConnector3">
              <a:avLst>
                <a:gd name="adj1" fmla="val 12003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1" name="_s1029"/>
            <p:cNvCxnSpPr>
              <a:stCxn id="212" idx="0"/>
              <a:endCxn id="210" idx="2"/>
            </p:cNvCxnSpPr>
            <p:nvPr/>
          </p:nvCxnSpPr>
          <p:spPr>
            <a:xfrm flipV="1">
              <a:off x="2626560" y="3385080"/>
              <a:ext cx="2520" cy="9511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3" name="_s1030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320480" y="3029400"/>
              <a:ext cx="951120" cy="1662120"/>
            </a:xfrm>
            <a:prstGeom prst="bentConnector3">
              <a:avLst>
                <a:gd name="adj1" fmla="val 12003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0" name="_s1031"/>
            <p:cNvSpPr/>
            <p:nvPr/>
          </p:nvSpPr>
          <p:spPr>
            <a:xfrm>
              <a:off x="1914120" y="148428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Манера пе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32"/>
            <p:cNvSpPr/>
            <p:nvPr/>
          </p:nvSpPr>
          <p:spPr>
            <a:xfrm>
              <a:off x="250920" y="433620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Народн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33"/>
            <p:cNvSpPr/>
            <p:nvPr/>
          </p:nvSpPr>
          <p:spPr>
            <a:xfrm>
              <a:off x="1914120" y="433620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Эстрадн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3577680" y="4336200"/>
              <a:ext cx="1425600" cy="19011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901160"/>
                <a:gd name="textAreaBottom" fmla="*/ 1831680 h 1901160"/>
              </a:gdLst>
              <a:ahLst/>
              <a:rect l="textAreaLeft" t="textAreaTop" r="textAreaRight" b="textAreaBottom"/>
              <a:pathLst>
                <a:path w="21600" h="28804">
                  <a:moveTo>
                    <a:pt x="3600" y="0"/>
                  </a:moveTo>
                  <a:arcTo wR="3600" hR="3600" stAng="16200000" swAng="-5400000"/>
                  <a:lnTo>
                    <a:pt x="0" y="25204"/>
                  </a:lnTo>
                  <a:arcTo wR="3600" hR="3600" stAng="10800000" swAng="-5400000"/>
                  <a:lnTo>
                    <a:pt x="18000" y="288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Академическа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5" name="Picture 31" descr="MCj02956710000[1]"/>
          <p:cNvPicPr/>
          <p:nvPr/>
        </p:nvPicPr>
        <p:blipFill>
          <a:blip r:embed="rId1"/>
          <a:stretch/>
        </p:blipFill>
        <p:spPr>
          <a:xfrm>
            <a:off x="5076720" y="2444760"/>
            <a:ext cx="244800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ые инструменты народов мир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8" descr="MCj04413020000[1]"/>
          <p:cNvPicPr/>
          <p:nvPr/>
        </p:nvPicPr>
        <p:blipFill>
          <a:blip r:embed="rId1"/>
          <a:stretch/>
        </p:blipFill>
        <p:spPr>
          <a:xfrm rot="2050800">
            <a:off x="985320" y="159876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MCj04353380000[1]"/>
          <p:cNvPicPr/>
          <p:nvPr/>
        </p:nvPicPr>
        <p:blipFill>
          <a:blip r:embed="rId2"/>
          <a:stretch/>
        </p:blipFill>
        <p:spPr>
          <a:xfrm rot="21179400">
            <a:off x="1150920" y="4141800"/>
            <a:ext cx="1981080" cy="173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9" descr="MCj04362680000[1]"/>
          <p:cNvPicPr/>
          <p:nvPr/>
        </p:nvPicPr>
        <p:blipFill>
          <a:blip r:embed="rId3"/>
          <a:stretch/>
        </p:blipFill>
        <p:spPr>
          <a:xfrm rot="20845200">
            <a:off x="4925880" y="17697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MCj04353420000[1]"/>
          <p:cNvPicPr/>
          <p:nvPr/>
        </p:nvPicPr>
        <p:blipFill>
          <a:blip r:embed="rId4"/>
          <a:stretch/>
        </p:blipFill>
        <p:spPr>
          <a:xfrm rot="1162200">
            <a:off x="4454640" y="3962520"/>
            <a:ext cx="213048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472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узыка – это…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000" y="2060280"/>
            <a:ext cx="6899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узыка для детей – мир радостных переживаний. Чтобы открыть перед ними дверь в этот мир, надо развивать способности, и прежде всего музыкальный слух и эмоциональную отзывчиво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03640" y="5373720"/>
            <a:ext cx="1143000" cy="102852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еликие композитор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9" descr="MPj04313260000[1]"/>
          <p:cNvPicPr/>
          <p:nvPr/>
        </p:nvPicPr>
        <p:blipFill>
          <a:blip r:embed="rId1"/>
          <a:stretch/>
        </p:blipFill>
        <p:spPr>
          <a:xfrm rot="21105600">
            <a:off x="537840" y="2203560"/>
            <a:ext cx="2735280" cy="331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MCj02337260000[1]"/>
          <p:cNvPicPr/>
          <p:nvPr/>
        </p:nvPicPr>
        <p:blipFill>
          <a:blip r:embed="rId2"/>
          <a:stretch/>
        </p:blipFill>
        <p:spPr>
          <a:xfrm rot="504000">
            <a:off x="4648320" y="1773360"/>
            <a:ext cx="2384280" cy="1573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MCj04149380000[1]"/>
          <p:cNvPicPr/>
          <p:nvPr/>
        </p:nvPicPr>
        <p:blipFill>
          <a:blip r:embed="rId3"/>
          <a:stretch/>
        </p:blipFill>
        <p:spPr>
          <a:xfrm rot="190200">
            <a:off x="4128840" y="3922560"/>
            <a:ext cx="342252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И в заключении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36162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Красота музыки имеет своим источником красоту окружающего мир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.А. Сухомлинский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10" descr="MPj04313360000[1]"/>
          <p:cNvPicPr/>
          <p:nvPr/>
        </p:nvPicPr>
        <p:blipFill>
          <a:blip r:embed="rId1"/>
          <a:stretch/>
        </p:blipFill>
        <p:spPr>
          <a:xfrm>
            <a:off x="4067280" y="3357720"/>
            <a:ext cx="338436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Учите детей петь» С.Беки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тернет – ресурс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7:50:47Z</dcterms:created>
  <dc:creator>Владелец</dc:creator>
  <dc:description/>
  <dc:language>en-US</dc:language>
  <cp:lastModifiedBy>Елена Михина</cp:lastModifiedBy>
  <dcterms:modified xsi:type="dcterms:W3CDTF">2015-02-08T14:01:40Z</dcterms:modified>
  <cp:revision>10</cp:revision>
  <dc:subject/>
  <dc:title>           Учите детей петь</dc:title>
</cp:coreProperties>
</file>