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.wmf" ContentType="image/x-wmf"/>
  <Override PartName="/ppt/media/image3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E261-C84A-4875-A0A2-1EC5FC40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AA03-9C95-40B8-8730-C3C13D20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FFAA-7AEF-4160-B7AC-6CF0F4BA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829C-D892-476E-8D90-D3E47682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BC72-F8CC-4D3C-876C-9DDB889C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69F6-A01F-437F-AC9B-C0D6116B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B967-32EC-4E39-A42E-799FA9AC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AF47-A8A0-4550-BAE2-8F18B8A3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C583-A81E-442C-B810-DB29C11F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08A0-C950-4DFE-AB81-B2BD6750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0496-5236-46FB-B601-F8F53941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9F6C-2226-4513-9D6F-53CAD3EE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2DC2-7ACF-42E2-8972-5C6E5B46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4654-6B25-48E9-A70E-3BF3125D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5838-AE34-47B7-858A-71CEF7F4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4032-29FE-4D2F-BF2F-DDB1ACD0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B6E5-8306-4A1E-A1A3-80A781B2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D61A-0AE0-4724-9361-D828896F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F66A-7ADE-48AD-B0B7-15F24FD6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E764-57A9-4060-A873-CA31858F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63DE-B76F-4208-9056-4AB345BD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792F-9CE6-48B9-9114-24933722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A4FE-4AB7-4740-8869-4203F5C2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FB02-2337-4237-9A61-BA7635D4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E606-D996-4640-BD18-8249302E0E1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0DB1-E2AD-4E66-AB31-0990F4FDD009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691344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Учите детей пет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789360"/>
            <a:ext cx="56404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ихина Светлана Алексеев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узыкальный руководител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АОУ  СПО МО «ГУБЕРНСКИЙ ПРОФЕССИОНАЛЬНЫЙ КОЛЛЕДЖ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ошкольное образовательное учреждение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. Серпухов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Music"/>
          <p:cNvSpPr/>
          <p:nvPr/>
        </p:nvSpPr>
        <p:spPr>
          <a:xfrm>
            <a:off x="179280" y="404640"/>
            <a:ext cx="1152720" cy="1079640"/>
          </a:xfrm>
          <a:custGeom>
            <a:avLst/>
            <a:gdLst>
              <a:gd name="textAreaLeft" fmla="*/ 425520 w 1152720"/>
              <a:gd name="textAreaRight" fmla="*/ 1117440 w 1152720"/>
              <a:gd name="textAreaTop" fmla="*/ 46080 h 1079640"/>
              <a:gd name="textAreaBottom" fmla="*/ 267480 h 107964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Music"/>
          <p:cNvSpPr/>
          <p:nvPr/>
        </p:nvSpPr>
        <p:spPr>
          <a:xfrm>
            <a:off x="611280" y="765000"/>
            <a:ext cx="1152360" cy="1079640"/>
          </a:xfrm>
          <a:custGeom>
            <a:avLst/>
            <a:gdLst>
              <a:gd name="textAreaLeft" fmla="*/ 425520 w 1152360"/>
              <a:gd name="textAreaRight" fmla="*/ 1117080 w 1152360"/>
              <a:gd name="textAreaTop" fmla="*/ 46080 h 1079640"/>
              <a:gd name="textAreaBottom" fmla="*/ 267480 h 107964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П.И. Чайковский" descr=""/>
          <p:cNvPicPr/>
          <p:nvPr/>
        </p:nvPicPr>
        <p:blipFill>
          <a:blip r:embed="rId1"/>
          <a:stretch/>
        </p:blipFill>
        <p:spPr>
          <a:xfrm>
            <a:off x="6300720" y="6541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Музыкальное воспит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160" y="1628280"/>
            <a:ext cx="71881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Цель: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иобщать учеников к музыкальной  культур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оспитывать сознательное отношение к музыкальному наследию и современной музык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Задачи: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овершенствовать  ритмический, тембровый и динамический слух.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одолжать обогащать музыкальные впечатле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213080" y="1598760"/>
          <a:ext cx="3254400" cy="217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3080" y="1598760"/>
                    <a:ext cx="325440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6"/>
          <p:cNvGraphicFramePr/>
          <p:nvPr/>
        </p:nvGraphicFramePr>
        <p:xfrm>
          <a:off x="6402240" y="3921120"/>
          <a:ext cx="1094040" cy="21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2240" y="3921120"/>
                    <a:ext cx="1094040" cy="21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Возможности певческого голос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987640" y="1773360"/>
            <a:ext cx="4392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ысота голоса зависит от толщины связок, данных при рождени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бсолютный слух зависит на 99% от строения внутреннего уха, 1%- генетическ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Picture 10" descr="MMj03034500000[1]"/>
          <p:cNvPicPr/>
          <p:nvPr/>
        </p:nvPicPr>
        <p:blipFill>
          <a:blip r:embed="rId1"/>
          <a:stretch/>
        </p:blipFill>
        <p:spPr>
          <a:xfrm>
            <a:off x="324000" y="2276640"/>
            <a:ext cx="2089080" cy="24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ндивидуальность исполнения песен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07" name="Organization Chart 14"/>
          <p:cNvGrpSpPr/>
          <p:nvPr/>
        </p:nvGrpSpPr>
        <p:grpSpPr>
          <a:xfrm>
            <a:off x="250920" y="1484280"/>
            <a:ext cx="4752360" cy="4753080"/>
            <a:chOff x="250920" y="1484280"/>
            <a:chExt cx="4752360" cy="4753080"/>
          </a:xfrm>
        </p:grpSpPr>
        <p:cxnSp>
          <p:nvCxnSpPr>
            <p:cNvPr id="208" name="_s1028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982960" y="3028320"/>
              <a:ext cx="951120" cy="1663920"/>
            </a:xfrm>
            <a:prstGeom prst="bentConnector3">
              <a:avLst>
                <a:gd name="adj1" fmla="val 12003"/>
              </a:avLst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11" name="_s1029"/>
            <p:cNvCxnSpPr>
              <a:stCxn id="212" idx="0"/>
              <a:endCxn id="210" idx="2"/>
            </p:cNvCxnSpPr>
            <p:nvPr/>
          </p:nvCxnSpPr>
          <p:spPr>
            <a:xfrm flipV="1">
              <a:off x="2626560" y="3385080"/>
              <a:ext cx="2520" cy="95112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13" name="_s1030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320480" y="3029400"/>
              <a:ext cx="951120" cy="1662120"/>
            </a:xfrm>
            <a:prstGeom prst="bentConnector3">
              <a:avLst>
                <a:gd name="adj1" fmla="val 12003"/>
              </a:avLst>
            </a:prstGeom>
            <a:ln w="28440">
              <a:solidFill>
                <a:srgbClr val="2f1311"/>
              </a:solidFill>
              <a:miter/>
            </a:ln>
          </p:spPr>
        </p:cxnSp>
        <p:sp>
          <p:nvSpPr>
            <p:cNvPr id="210" name="_s1031"/>
            <p:cNvSpPr/>
            <p:nvPr/>
          </p:nvSpPr>
          <p:spPr>
            <a:xfrm>
              <a:off x="1914120" y="1484280"/>
              <a:ext cx="1425600" cy="1901160"/>
            </a:xfrm>
            <a:custGeom>
              <a:avLst/>
              <a:gdLst>
                <a:gd name="textAreaLeft" fmla="*/ 69480 w 1425600"/>
                <a:gd name="textAreaRight" fmla="*/ 1356120 w 1425600"/>
                <a:gd name="textAreaTop" fmla="*/ 69480 h 1901160"/>
                <a:gd name="textAreaBottom" fmla="*/ 1831680 h 1901160"/>
              </a:gdLst>
              <a:ahLst/>
              <a:rect l="textAreaLeft" t="textAreaTop" r="textAreaRight" b="textAreaBottom"/>
              <a:pathLst>
                <a:path w="21600" h="28804">
                  <a:moveTo>
                    <a:pt x="3600" y="0"/>
                  </a:moveTo>
                  <a:arcTo wR="3600" hR="3600" stAng="16200000" swAng="-5400000"/>
                  <a:lnTo>
                    <a:pt x="0" y="25204"/>
                  </a:lnTo>
                  <a:arcTo wR="3600" hR="3600" stAng="10800000" swAng="-5400000"/>
                  <a:lnTo>
                    <a:pt x="18000" y="288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f1311"/>
                  </a:solidFill>
                  <a:latin typeface="Arial"/>
                </a:rPr>
                <a:t>Манера пения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4" name="_s1032"/>
            <p:cNvSpPr/>
            <p:nvPr/>
          </p:nvSpPr>
          <p:spPr>
            <a:xfrm>
              <a:off x="250920" y="4336200"/>
              <a:ext cx="1425600" cy="1901160"/>
            </a:xfrm>
            <a:custGeom>
              <a:avLst/>
              <a:gdLst>
                <a:gd name="textAreaLeft" fmla="*/ 69480 w 1425600"/>
                <a:gd name="textAreaRight" fmla="*/ 1356120 w 1425600"/>
                <a:gd name="textAreaTop" fmla="*/ 69480 h 1901160"/>
                <a:gd name="textAreaBottom" fmla="*/ 1831680 h 1901160"/>
              </a:gdLst>
              <a:ahLst/>
              <a:rect l="textAreaLeft" t="textAreaTop" r="textAreaRight" b="textAreaBottom"/>
              <a:pathLst>
                <a:path w="21600" h="28804">
                  <a:moveTo>
                    <a:pt x="3600" y="0"/>
                  </a:moveTo>
                  <a:arcTo wR="3600" hR="3600" stAng="16200000" swAng="-5400000"/>
                  <a:lnTo>
                    <a:pt x="0" y="25204"/>
                  </a:lnTo>
                  <a:arcTo wR="3600" hR="3600" stAng="10800000" swAng="-5400000"/>
                  <a:lnTo>
                    <a:pt x="18000" y="288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f1311"/>
                  </a:solidFill>
                  <a:latin typeface="Arial"/>
                </a:rPr>
                <a:t>Народная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2" name="_s1033"/>
            <p:cNvSpPr/>
            <p:nvPr/>
          </p:nvSpPr>
          <p:spPr>
            <a:xfrm>
              <a:off x="1914120" y="4336200"/>
              <a:ext cx="1425600" cy="1901160"/>
            </a:xfrm>
            <a:custGeom>
              <a:avLst/>
              <a:gdLst>
                <a:gd name="textAreaLeft" fmla="*/ 69480 w 1425600"/>
                <a:gd name="textAreaRight" fmla="*/ 1356120 w 1425600"/>
                <a:gd name="textAreaTop" fmla="*/ 69480 h 1901160"/>
                <a:gd name="textAreaBottom" fmla="*/ 1831680 h 1901160"/>
              </a:gdLst>
              <a:ahLst/>
              <a:rect l="textAreaLeft" t="textAreaTop" r="textAreaRight" b="textAreaBottom"/>
              <a:pathLst>
                <a:path w="21600" h="28804">
                  <a:moveTo>
                    <a:pt x="3600" y="0"/>
                  </a:moveTo>
                  <a:arcTo wR="3600" hR="3600" stAng="16200000" swAng="-5400000"/>
                  <a:lnTo>
                    <a:pt x="0" y="25204"/>
                  </a:lnTo>
                  <a:arcTo wR="3600" hR="3600" stAng="10800000" swAng="-5400000"/>
                  <a:lnTo>
                    <a:pt x="18000" y="288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f1311"/>
                  </a:solidFill>
                  <a:latin typeface="Arial"/>
                </a:rPr>
                <a:t>Эстрадная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9" name="_s1034"/>
            <p:cNvSpPr/>
            <p:nvPr/>
          </p:nvSpPr>
          <p:spPr>
            <a:xfrm>
              <a:off x="3577680" y="4336200"/>
              <a:ext cx="1425600" cy="1901160"/>
            </a:xfrm>
            <a:custGeom>
              <a:avLst/>
              <a:gdLst>
                <a:gd name="textAreaLeft" fmla="*/ 69480 w 1425600"/>
                <a:gd name="textAreaRight" fmla="*/ 1356120 w 1425600"/>
                <a:gd name="textAreaTop" fmla="*/ 69480 h 1901160"/>
                <a:gd name="textAreaBottom" fmla="*/ 1831680 h 1901160"/>
              </a:gdLst>
              <a:ahLst/>
              <a:rect l="textAreaLeft" t="textAreaTop" r="textAreaRight" b="textAreaBottom"/>
              <a:pathLst>
                <a:path w="21600" h="28804">
                  <a:moveTo>
                    <a:pt x="3600" y="0"/>
                  </a:moveTo>
                  <a:arcTo wR="3600" hR="3600" stAng="16200000" swAng="-5400000"/>
                  <a:lnTo>
                    <a:pt x="0" y="25204"/>
                  </a:lnTo>
                  <a:arcTo wR="3600" hR="3600" stAng="10800000" swAng="-5400000"/>
                  <a:lnTo>
                    <a:pt x="18000" y="288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f1311"/>
                  </a:solidFill>
                  <a:latin typeface="Arial"/>
                </a:rPr>
                <a:t>Академическая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pic>
        <p:nvPicPr>
          <p:cNvPr id="215" name="Picture 31" descr="MCj02956710000[1]"/>
          <p:cNvPicPr/>
          <p:nvPr/>
        </p:nvPicPr>
        <p:blipFill>
          <a:blip r:embed="rId1"/>
          <a:stretch/>
        </p:blipFill>
        <p:spPr>
          <a:xfrm>
            <a:off x="5076720" y="2444760"/>
            <a:ext cx="2448000" cy="23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узыкальные инструменты народов мир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7" name="Picture 8" descr="MCj04413020000[1]"/>
          <p:cNvPicPr/>
          <p:nvPr/>
        </p:nvPicPr>
        <p:blipFill>
          <a:blip r:embed="rId1"/>
          <a:stretch/>
        </p:blipFill>
        <p:spPr>
          <a:xfrm rot="2050800">
            <a:off x="985320" y="1598760"/>
            <a:ext cx="2171880" cy="2171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8" descr="MCj04353380000[1]"/>
          <p:cNvPicPr/>
          <p:nvPr/>
        </p:nvPicPr>
        <p:blipFill>
          <a:blip r:embed="rId2"/>
          <a:stretch/>
        </p:blipFill>
        <p:spPr>
          <a:xfrm rot="21179400">
            <a:off x="1150920" y="4141800"/>
            <a:ext cx="1981080" cy="1733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9" descr="MCj04362680000[1]"/>
          <p:cNvPicPr/>
          <p:nvPr/>
        </p:nvPicPr>
        <p:blipFill>
          <a:blip r:embed="rId3"/>
          <a:stretch/>
        </p:blipFill>
        <p:spPr>
          <a:xfrm rot="20845200">
            <a:off x="4925880" y="17697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0" descr="MCj04353420000[1]"/>
          <p:cNvPicPr/>
          <p:nvPr/>
        </p:nvPicPr>
        <p:blipFill>
          <a:blip r:embed="rId4"/>
          <a:stretch/>
        </p:blipFill>
        <p:spPr>
          <a:xfrm rot="1162200">
            <a:off x="4454640" y="3962520"/>
            <a:ext cx="2130480" cy="17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747252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Музыка – это…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000" y="2060280"/>
            <a:ext cx="6899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узыка для детей – мир радостных переживаний. Чтобы открыть перед ними дверь в этот мир, надо развивать способности, и прежде всего музыкальный слух и эмоциональную отзывчивость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AutoShape 19"/>
          <p:cNvSpPr/>
          <p:nvPr/>
        </p:nvSpPr>
        <p:spPr>
          <a:xfrm>
            <a:off x="3203640" y="5373720"/>
            <a:ext cx="1143000" cy="1028520"/>
          </a:xfrm>
          <a:prstGeom prst="verticalScrol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еликие композиторы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5" name="Picture 9" descr="MPj04313260000[1]"/>
          <p:cNvPicPr/>
          <p:nvPr/>
        </p:nvPicPr>
        <p:blipFill>
          <a:blip r:embed="rId1"/>
          <a:stretch/>
        </p:blipFill>
        <p:spPr>
          <a:xfrm rot="21105600">
            <a:off x="537840" y="2203560"/>
            <a:ext cx="2735280" cy="3311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MCj02337260000[1]"/>
          <p:cNvPicPr/>
          <p:nvPr/>
        </p:nvPicPr>
        <p:blipFill>
          <a:blip r:embed="rId2"/>
          <a:stretch/>
        </p:blipFill>
        <p:spPr>
          <a:xfrm rot="504000">
            <a:off x="4648320" y="1773360"/>
            <a:ext cx="2384280" cy="1573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9" descr="MCj04149380000[1]"/>
          <p:cNvPicPr/>
          <p:nvPr/>
        </p:nvPicPr>
        <p:blipFill>
          <a:blip r:embed="rId3"/>
          <a:stretch/>
        </p:blipFill>
        <p:spPr>
          <a:xfrm rot="190200">
            <a:off x="4128840" y="3922560"/>
            <a:ext cx="3422520" cy="21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0" i="1" lang="ru-RU" sz="4000" spc="-1" strike="noStrike">
                <a:solidFill>
                  <a:srgbClr val="f7d47d"/>
                </a:solidFill>
                <a:latin typeface="Arial"/>
              </a:rPr>
              <a:t>И в заключении…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36162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Красота музыки имеет своим источником красоту окружающего мир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В.А. Сухомлинский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Picture 10" descr="MPj04313360000[1]"/>
          <p:cNvPicPr/>
          <p:nvPr/>
        </p:nvPicPr>
        <p:blipFill>
          <a:blip r:embed="rId1"/>
          <a:stretch/>
        </p:blipFill>
        <p:spPr>
          <a:xfrm>
            <a:off x="4067280" y="3357720"/>
            <a:ext cx="3384360" cy="27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Учите детей петь» С.Бекин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нтернет – ресурс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7:50:47Z</dcterms:created>
  <dc:creator>Владелец</dc:creator>
  <dc:description/>
  <dc:language>en-US</dc:language>
  <cp:lastModifiedBy>Елена Михина</cp:lastModifiedBy>
  <dcterms:modified xsi:type="dcterms:W3CDTF">2015-02-08T14:01:40Z</dcterms:modified>
  <cp:revision>10</cp:revision>
  <dc:subject/>
  <dc:title>           Учите детей петь</dc:title>
</cp:coreProperties>
</file>