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A5AA-2CD2-4143-9F26-6987A288C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EC8E-B6D2-4D31-81AB-96069A15D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4DCCED-7278-4001-BFA0-AFF30869C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19FBF9-76D8-446D-A032-43BAD0BC9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F6BEA9-A922-4343-89E0-F5B6C576A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D23055-3B5B-4FD5-9EB7-D3B26B6B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DC0F49-C170-478E-ABBF-8AC048C1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92DA33-A3D5-44CE-AAC1-7A8B57059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6A2169-41E5-42CB-B8E7-1945445F0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E703CE-F402-4ED9-8F85-E8DE2A3CB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FE3581-545C-4FB4-AC2E-2A5B9DAB9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E13255-A3A0-44F2-8D48-736301B67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E073-14E5-4E8B-9AC9-828DB4842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BE0BEE-01DB-4DC9-A4D0-430984237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3821BE-6316-4A37-B3AB-AC108622A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EF056D-82A5-48C9-907D-2C1EDFB37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5AB192-41F3-469E-B5BA-1C28E83D7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0C01FB-C2D8-447E-AC83-525080F68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06092F-1FC9-46F8-8366-49D0A0B8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130AA6-24C1-4DAB-A1E5-5F706984D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5E87FD-92C2-4989-BA06-07770B4E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259402-4A61-4355-990A-9C6F23650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C5AD5E-E82D-464A-B21D-2B25B860A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8EBB-5AB5-44BA-8A00-D6FB65AC1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5EDAE7-15CA-4864-8E8F-951CB2377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DF839-6751-4CD6-AE83-5257A867C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18F52-A639-409B-86AC-A9AD78C5C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3A58C-4254-4EB4-8B5E-944976208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D7356-0B7F-4E03-B7DB-528A5203F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DBFA2-D68D-4B65-A5D5-9DD8C210E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459CB-9251-49A6-968E-955917273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7F31D-6759-4A2E-A996-389FDE93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1CD8-81BE-42AB-986A-BF1E505DF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0D9D8-9F89-4298-AD8B-62DA6834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0B50E-AE57-4B71-A87D-44A81866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0423D-BAE5-426D-B8EA-C8465872B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E53A3-C7E4-4A5F-B73E-788C90972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7E627-5C19-47D9-9E03-950D9D4CC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C1B82-20F3-47A0-AE57-8607A129B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589A7-0129-4DDF-A630-20052E08C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76FA1-877D-4BFA-9E7C-51CAB1B60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2704E-2A30-456A-83A5-31C064E76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AAE34-FF05-41D7-AAA0-148CF194F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7437-344C-4CD6-8975-2B6DB608C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8C44E-77AD-450B-AC1A-548952D96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75427-D271-4709-883A-C3FCB1C5B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4E876-66AA-4EE0-A3EC-44230E3F5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799AB-B099-4E0E-ABC2-D1CFD7FF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7DFAF-9FC7-4B0E-A152-E55BBE52C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101AB-8AB6-41E2-B46B-B2AEA9257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49808-01B5-4138-9194-2304FC771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6AAD6-9CAA-499E-816A-95B6BD60D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F833A-3EA1-47C4-98B0-8E5B202E6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6F7C7-1065-4997-A45A-C4D0B9DDB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CA41-0CDD-4DFF-8E38-790FD80B6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87CFB-7C8F-4E54-9BAC-E05A0005A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DAE63-7391-4FF7-9E88-0CC54AE25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03E17-113B-4787-BD33-E805E38DA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193B4-0FDC-40F4-A2D2-4DAEC172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32A07-7D21-4582-AE8E-CB800D796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1985A-DAD1-4DA9-B68D-903346A00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8540C-5EFE-4C5D-BD41-D7D1A03DC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653AD-5D2F-43F7-867E-D46CAA7C2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39E44-09CE-4DC9-8132-900060D82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96F865-B693-48B5-A962-929B581E2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90C8-E3C1-4C17-A3E5-9D4C7215C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795E51-63D8-4E2E-AAFD-34577698E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FFD05C-ACEB-4C8C-9046-A659D7B38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F4EA9-1102-4B0C-9989-9DC522C0E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D9EA9-115C-4972-B783-5DC5C9824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2FF41F-29D7-412D-AFBC-751627537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88337-17CC-4994-8F8A-CE4771D3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10457C-BF51-4DD2-8868-472768F3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C95800-6FDB-45BD-A43A-52A4D745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957A0-618C-45E9-B29E-5140F3AFE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A6704C-AB42-41F5-AE86-4C6D70AD8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AB03-4003-4BA2-8210-7DD1F86F8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D026FC-033F-4A5B-B481-FEFF44613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4A4636-B6CF-413A-9E09-6FBF8820B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76E218-D491-46F7-8893-BE240B712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567FA-1817-4A2B-99CB-84BE4DA15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8B84CB-B7E8-4F38-8C62-1C7AC8C17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5E6138-B0FE-48CC-AFD6-5968EE7E7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C33AE-06E6-40CB-A74B-B44477F2F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0D9B21-91A0-4F82-BA6F-7B4F8C3DB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F8C3D8-8564-4E5A-92D9-2A6DA735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36D51B-DDF4-4194-A412-3E18AD092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E874-4A4E-45EC-B4B3-0B28B2B4A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D20165-DEBC-41AB-92C0-280ADC0C1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32F090-3E00-4F75-A66C-DD2BAFC8D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1D4FB6-E02B-4535-999F-99A69F371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B96A0D-1E49-4518-AD47-DFAC4957B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9FF53E-C51E-4098-86BA-C3A54AB55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24BEAA-6F8F-4C71-B8BC-95772D0E1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31DE6D-BE36-4E17-B0AF-4340FB390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B42803-BB9E-4BFE-A2BC-0C4D9DFE7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7737BF-B7CB-4C5A-A398-19FA8437B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7E329E-96CF-4E2D-9FD2-995B87DF1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7CB0-BEC2-4829-A458-E4A1B0402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B89216-338A-4A85-B98C-8FD41BF7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0B9584-47AD-4610-890D-87523B22A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59656F-313B-465E-8FC0-E47FA8E6A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16B815-C723-47B9-8C11-F8304E2E1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8AD96F-A857-4629-8753-34288A265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F2A6F5-4899-40AF-BA58-93E794674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FD7C0E-1C75-49BC-95B8-62302C9B2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B4822C-08A0-4CED-9B77-627F91F73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0BBA43-444D-4FF3-B0CF-6B45B4CA7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C52CF7-AD39-4C4E-B46E-2DA86BCC0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8ADC-A9F4-448C-A233-782390E58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FA158A-B809-4091-95CB-177D74B39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850B9C-C738-4879-89F1-C8505594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A4DC46-5AE0-4BC6-A234-852FEAB38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BBF02B-FE16-4196-B7EA-4DE8A97D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6E53B6-2C1D-40CE-8880-498DE0B2A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11A810-ECF9-4AE0-9B5F-1D840E6AB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1C46E2-22CA-49CC-BE66-9DEE00202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0729DC-F7D0-434E-8F29-B06DF5228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15F9D7-A759-4986-AB5B-936C2CEAC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AA16DD-E90A-4CD8-BB15-75308EF2C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F76DE-A42C-4ECD-B737-03B9C42F34C7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grpSp>
        <p:nvGrpSpPr>
          <p:cNvPr id="424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425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ll MT"/>
              </a:endParaRPr>
            </a:p>
          </p:txBody>
        </p:sp>
        <p:sp>
          <p:nvSpPr>
            <p:cNvPr id="426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ll MT"/>
              </a:endParaRPr>
            </a:p>
          </p:txBody>
        </p:sp>
        <p:sp>
          <p:nvSpPr>
            <p:cNvPr id="427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ll MT"/>
              </a:endParaRPr>
            </a:p>
          </p:txBody>
        </p:sp>
        <p:sp>
          <p:nvSpPr>
            <p:cNvPr id="428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ll MT"/>
              </a:endParaRPr>
            </a:p>
          </p:txBody>
        </p:sp>
        <p:sp>
          <p:nvSpPr>
            <p:cNvPr id="429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ll MT"/>
              </a:endParaRPr>
            </a:p>
          </p:txBody>
        </p:sp>
      </p:grp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28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29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30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4CFF9-868A-4E40-BD76-9639F2C57E4F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grpSp>
        <p:nvGrpSpPr>
          <p:cNvPr id="42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43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ll MT"/>
              </a:endParaRPr>
            </a:p>
          </p:txBody>
        </p:sp>
        <p:sp>
          <p:nvSpPr>
            <p:cNvPr id="44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ll MT"/>
              </a:endParaRPr>
            </a:p>
          </p:txBody>
        </p:sp>
        <p:sp>
          <p:nvSpPr>
            <p:cNvPr id="45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ll MT"/>
              </a:endParaRPr>
            </a:p>
          </p:txBody>
        </p:sp>
        <p:sp>
          <p:nvSpPr>
            <p:cNvPr id="46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ll MT"/>
              </a:endParaRPr>
            </a:p>
          </p:txBody>
        </p:sp>
        <p:sp>
          <p:nvSpPr>
            <p:cNvPr id="47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ll MT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278B5-C32E-40B7-9603-87A615EEEFF6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90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grpSp>
        <p:nvGrpSpPr>
          <p:cNvPr id="91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2" name="Полилиния 9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3" name="Полилиния 9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Bell MT"/>
                </a:endParaRPr>
              </a:p>
            </p:txBody>
          </p:sp>
        </p:grpSp>
        <p:grpSp>
          <p:nvGrpSpPr>
            <p:cNvPr id="95" name="Полилиния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6" name="Полилиния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Bell MT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09E29-BBCC-46F5-8758-3E0534FD0B67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рямоугольник с одним вырезанным скругленным углом 6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140" name="Прямоугольный треугольник 7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141" name="Полилиния 8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142" name="Полилиния 9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E6C0D-209E-4A7A-9A6F-067F56283A69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grpSp>
        <p:nvGrpSpPr>
          <p:cNvPr id="185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186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ll MT"/>
              </a:endParaRPr>
            </a:p>
          </p:txBody>
        </p:sp>
        <p:sp>
          <p:nvSpPr>
            <p:cNvPr id="187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ll MT"/>
              </a:endParaRPr>
            </a:p>
          </p:txBody>
        </p:sp>
        <p:sp>
          <p:nvSpPr>
            <p:cNvPr id="188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ll MT"/>
              </a:endParaRPr>
            </a:p>
          </p:txBody>
        </p:sp>
        <p:sp>
          <p:nvSpPr>
            <p:cNvPr id="189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ll MT"/>
              </a:endParaRPr>
            </a:p>
          </p:txBody>
        </p:sp>
        <p:sp>
          <p:nvSpPr>
            <p:cNvPr id="190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ll MT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C39AC-B508-4751-AE55-6C9260F656C1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233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234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235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236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237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C548E-C77C-42DD-8EE8-927C0D7E598A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grpSp>
        <p:nvGrpSpPr>
          <p:cNvPr id="280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281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ll MT"/>
              </a:endParaRPr>
            </a:p>
          </p:txBody>
        </p:sp>
        <p:sp>
          <p:nvSpPr>
            <p:cNvPr id="282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ll MT"/>
              </a:endParaRPr>
            </a:p>
          </p:txBody>
        </p:sp>
        <p:sp>
          <p:nvSpPr>
            <p:cNvPr id="283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ll MT"/>
              </a:endParaRPr>
            </a:p>
          </p:txBody>
        </p:sp>
        <p:sp>
          <p:nvSpPr>
            <p:cNvPr id="284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ll MT"/>
              </a:endParaRPr>
            </a:p>
          </p:txBody>
        </p:sp>
        <p:sp>
          <p:nvSpPr>
            <p:cNvPr id="285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ll MT"/>
              </a:endParaRPr>
            </a:p>
          </p:txBody>
        </p:sp>
      </p:grp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123D8-BBDB-4D55-BCB4-9A499EAF238E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grpSp>
        <p:nvGrpSpPr>
          <p:cNvPr id="328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32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ll MT"/>
              </a:endParaRPr>
            </a:p>
          </p:txBody>
        </p:sp>
        <p:sp>
          <p:nvSpPr>
            <p:cNvPr id="33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ll MT"/>
              </a:endParaRPr>
            </a:p>
          </p:txBody>
        </p:sp>
        <p:sp>
          <p:nvSpPr>
            <p:cNvPr id="33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ll MT"/>
              </a:endParaRPr>
            </a:p>
          </p:txBody>
        </p:sp>
        <p:sp>
          <p:nvSpPr>
            <p:cNvPr id="33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ll MT"/>
              </a:endParaRPr>
            </a:p>
          </p:txBody>
        </p:sp>
        <p:sp>
          <p:nvSpPr>
            <p:cNvPr id="333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ll MT"/>
              </a:endParaRPr>
            </a:p>
          </p:txBody>
        </p:sp>
      </p:grp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2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3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4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04D8A-815D-4D58-9511-3B3B27EE4B9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grpSp>
        <p:nvGrpSpPr>
          <p:cNvPr id="376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377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ll MT"/>
              </a:endParaRPr>
            </a:p>
          </p:txBody>
        </p:sp>
        <p:sp>
          <p:nvSpPr>
            <p:cNvPr id="378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ll MT"/>
              </a:endParaRPr>
            </a:p>
          </p:txBody>
        </p:sp>
        <p:sp>
          <p:nvSpPr>
            <p:cNvPr id="379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ll MT"/>
              </a:endParaRPr>
            </a:p>
          </p:txBody>
        </p:sp>
        <p:sp>
          <p:nvSpPr>
            <p:cNvPr id="380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ll MT"/>
              </a:endParaRPr>
            </a:p>
          </p:txBody>
        </p:sp>
        <p:sp>
          <p:nvSpPr>
            <p:cNvPr id="381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ll MT"/>
              </a:endParaRPr>
            </a:p>
          </p:txBody>
        </p:sp>
      </p:grp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5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6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27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CE1AC-C129-4716-B89F-149F24600A9F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42960" y="1000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  <a:ea typeface="Arial"/>
              </a:rPr>
              <a:t>«Не» с существительными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урок русского языка в 6 классе)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785880" y="3785760"/>
            <a:ext cx="74721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Разработала учитель русского языка и литературы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Бузанова  Татьяна  Владимировн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ext Box 8"/>
          <p:cNvSpPr/>
          <p:nvPr/>
        </p:nvSpPr>
        <p:spPr>
          <a:xfrm>
            <a:off x="1332000" y="2492280"/>
            <a:ext cx="597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  <a:ea typeface="Arial"/>
              </a:rPr>
              <a:t>Удачи в учёбе!</a:t>
            </a:r>
            <a:endParaRPr b="0" lang="en-US" sz="4400" spc="-1" strike="noStrike">
              <a:solidFill>
                <a:srgbClr val="000000"/>
              </a:solidFill>
              <a:latin typeface="Bell M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 txBox="1"/>
          <p:nvPr/>
        </p:nvSpPr>
        <p:spPr>
          <a:xfrm>
            <a:off x="357120" y="21427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Arial"/>
                <a:ea typeface="Arial"/>
              </a:rPr>
              <a:t>1. А. Гин. «Приёмы педагогической техники» «Вита-Пресс» М.,2009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Arial"/>
                <a:ea typeface="Arial"/>
              </a:rPr>
              <a:t>2. В. В. Бабайцева и др. «Русский язык. Сборник заданий. 5 класс. Пособие для школ и классов с углублённым изучением русского языка к учебнику В. В. Бабайцевой «Русский язык. Теория. 5 – 11 классы»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Используемая литератур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"/>
                <a:ea typeface="Arial"/>
              </a:rPr>
              <a:t>Устный распределительный диктант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914400" y="169992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73e87"/>
                </a:solidFill>
                <a:latin typeface="Arial"/>
                <a:ea typeface="Arial"/>
              </a:rPr>
              <a:t>Не</a:t>
            </a:r>
            <a:r>
              <a:rPr b="0" lang="ru-RU" sz="4400" spc="-1" strike="noStrike">
                <a:solidFill>
                  <a:srgbClr val="073e87"/>
                </a:solidFill>
                <a:latin typeface="Arial"/>
                <a:ea typeface="Arial"/>
              </a:rPr>
              <a:t>  годовать,</a:t>
            </a:r>
            <a:r>
              <a:rPr b="0" lang="ru-RU" sz="4400" spc="-1" strike="noStrike">
                <a:solidFill>
                  <a:srgbClr val="073e87"/>
                </a:solidFill>
                <a:latin typeface="Arial"/>
                <a:ea typeface="Arial"/>
              </a:rPr>
              <a:t>	</a:t>
            </a:r>
            <a:r>
              <a:rPr b="1" lang="ru-RU" sz="4400" spc="-1" strike="noStrike">
                <a:solidFill>
                  <a:srgbClr val="073e87"/>
                </a:solidFill>
                <a:latin typeface="Arial"/>
                <a:ea typeface="Arial"/>
              </a:rPr>
              <a:t>не</a:t>
            </a:r>
            <a:r>
              <a:rPr b="0" lang="ru-RU" sz="4400" spc="-1" strike="noStrike">
                <a:solidFill>
                  <a:srgbClr val="073e87"/>
                </a:solidFill>
                <a:latin typeface="Arial"/>
                <a:ea typeface="Arial"/>
              </a:rPr>
              <a:t>вежа, </a:t>
            </a:r>
            <a:r>
              <a:rPr b="1" lang="ru-RU" sz="4400" spc="-1" strike="noStrike">
                <a:solidFill>
                  <a:srgbClr val="073e87"/>
                </a:solidFill>
                <a:latin typeface="Arial"/>
                <a:ea typeface="Arial"/>
              </a:rPr>
              <a:t>не</a:t>
            </a:r>
            <a:r>
              <a:rPr b="0" lang="ru-RU" sz="4400" spc="-1" strike="noStrike">
                <a:solidFill>
                  <a:srgbClr val="073e87"/>
                </a:solidFill>
                <a:latin typeface="Arial"/>
                <a:ea typeface="Arial"/>
              </a:rPr>
              <a:t>вежда, </a:t>
            </a:r>
            <a:r>
              <a:rPr b="1" lang="ru-RU" sz="4400" spc="-1" strike="noStrike">
                <a:solidFill>
                  <a:srgbClr val="073e87"/>
                </a:solidFill>
                <a:latin typeface="Arial"/>
                <a:ea typeface="Arial"/>
              </a:rPr>
              <a:t>не</a:t>
            </a:r>
            <a:r>
              <a:rPr b="0" lang="ru-RU" sz="4400" spc="-1" strike="noStrike">
                <a:solidFill>
                  <a:srgbClr val="073e87"/>
                </a:solidFill>
                <a:latin typeface="Arial"/>
                <a:ea typeface="Arial"/>
              </a:rPr>
              <a:t>правда, </a:t>
            </a:r>
            <a:r>
              <a:rPr b="1" lang="ru-RU" sz="4400" spc="-1" strike="noStrike">
                <a:solidFill>
                  <a:srgbClr val="073e87"/>
                </a:solidFill>
                <a:latin typeface="Arial"/>
                <a:ea typeface="Arial"/>
              </a:rPr>
              <a:t>не</a:t>
            </a:r>
            <a:r>
              <a:rPr b="0" lang="ru-RU" sz="4400" spc="-1" strike="noStrike">
                <a:solidFill>
                  <a:srgbClr val="073e87"/>
                </a:solidFill>
                <a:latin typeface="Arial"/>
                <a:ea typeface="Arial"/>
              </a:rPr>
              <a:t>внимание, </a:t>
            </a:r>
            <a:r>
              <a:rPr b="1" lang="ru-RU" sz="4400" spc="-1" strike="noStrike">
                <a:solidFill>
                  <a:srgbClr val="073e87"/>
                </a:solidFill>
                <a:latin typeface="Arial"/>
                <a:ea typeface="Arial"/>
              </a:rPr>
              <a:t>не</a:t>
            </a:r>
            <a:r>
              <a:rPr b="0" lang="ru-RU" sz="4400" spc="-1" strike="noStrike">
                <a:solidFill>
                  <a:srgbClr val="073e87"/>
                </a:solidFill>
                <a:latin typeface="Arial"/>
                <a:ea typeface="Arial"/>
              </a:rPr>
              <a:t>  выучить,  </a:t>
            </a:r>
            <a:r>
              <a:rPr b="1" lang="ru-RU" sz="4400" spc="-1" strike="noStrike">
                <a:solidFill>
                  <a:srgbClr val="073e87"/>
                </a:solidFill>
                <a:latin typeface="Arial"/>
                <a:ea typeface="Arial"/>
              </a:rPr>
              <a:t>не</a:t>
            </a:r>
            <a:r>
              <a:rPr b="0" lang="ru-RU" sz="4400" spc="-1" strike="noStrike">
                <a:solidFill>
                  <a:srgbClr val="073e87"/>
                </a:solidFill>
                <a:latin typeface="Arial"/>
                <a:ea typeface="Arial"/>
              </a:rPr>
              <a:t>  расслышать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  <a:ea typeface="Arial"/>
              </a:rPr>
              <a:t>ЛОВИ ОШИБКУ!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5" name="Text Box 6"/>
          <p:cNvSpPr/>
          <p:nvPr/>
        </p:nvSpPr>
        <p:spPr>
          <a:xfrm>
            <a:off x="1187280" y="2276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476" name="Text Box 8"/>
          <p:cNvSpPr/>
          <p:nvPr/>
        </p:nvSpPr>
        <p:spPr>
          <a:xfrm>
            <a:off x="2843280" y="5589720"/>
            <a:ext cx="376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НЕГОДОВАТЬ</a:t>
            </a:r>
            <a:endParaRPr b="0" lang="en-US" sz="4000" spc="-1" strike="noStrike">
              <a:solidFill>
                <a:srgbClr val="000000"/>
              </a:solidFill>
              <a:latin typeface="Bell M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0" fill="hold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1" repeatCount="5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" dur="1000" fill="hold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1440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"/>
                <a:ea typeface="Arial"/>
              </a:rPr>
              <a:t>Устный распределительный диктант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914400" y="2214720"/>
          <a:ext cx="8229600" cy="3382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лагол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уществительны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годова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веж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 выучи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вежд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 расслыша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правд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внимани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Мыслительный лист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480" name=""/>
          <p:cNvGraphicFramePr/>
          <p:nvPr/>
        </p:nvGraphicFramePr>
        <p:xfrm>
          <a:off x="642960" y="2214720"/>
          <a:ext cx="7929720" cy="3714480"/>
        </p:xfrm>
        <a:graphic>
          <a:graphicData uri="http://schemas.openxmlformats.org/drawingml/2006/table">
            <a:tbl>
              <a:tblPr/>
              <a:tblGrid>
                <a:gridCol w="2052720"/>
                <a:gridCol w="3539880"/>
                <a:gridCol w="2337120"/>
              </a:tblGrid>
              <a:tr h="16286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Знаю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Хочу узна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Узнал     (узнала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  <a:tr h="20858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авило о написании 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 с глаголо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ыяснить,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гда не с существительным пишется слитно, а когда - раздельн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  <a:ea typeface="Arial"/>
              </a:rPr>
              <a:t>Словарная работ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914400" y="128592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Arial"/>
                <a:ea typeface="Arial"/>
              </a:rPr>
              <a:t>Невежа, невежда</a:t>
            </a:r>
            <a:r>
              <a:rPr b="0" lang="en-US" sz="2800" spc="-1" strike="noStrike">
                <a:solidFill>
                  <a:srgbClr val="073e87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73e87"/>
                </a:solidFill>
                <a:latin typeface="Wingdings"/>
                <a:ea typeface="Wingdings"/>
              </a:rPr>
              <a:t></a:t>
            </a:r>
            <a:r>
              <a:rPr b="1" lang="ru-RU" sz="2800" spc="-1" strike="noStrike">
                <a:solidFill>
                  <a:srgbClr val="073e87"/>
                </a:solidFill>
                <a:latin typeface="Arial"/>
                <a:ea typeface="Arial"/>
              </a:rPr>
              <a:t>вед</a:t>
            </a:r>
            <a:r>
              <a:rPr b="0" lang="ru-RU" sz="2800" spc="-1" strike="noStrike">
                <a:solidFill>
                  <a:srgbClr val="073e87"/>
                </a:solidFill>
                <a:latin typeface="Arial"/>
                <a:ea typeface="Arial"/>
              </a:rPr>
              <a:t> – «ведать», «знать»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Arial"/>
                <a:ea typeface="Arial"/>
              </a:rPr>
              <a:t>           </a:t>
            </a:r>
            <a:r>
              <a:rPr b="0" lang="ru-RU" sz="2800" spc="-1" strike="noStrike">
                <a:solidFill>
                  <a:srgbClr val="073e87"/>
                </a:solidFill>
                <a:latin typeface="Arial"/>
                <a:ea typeface="Arial"/>
              </a:rPr>
              <a:t>В современном русском языке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«невежа» </a:t>
            </a:r>
            <a:r>
              <a:rPr b="0" lang="ru-RU" sz="2800" spc="-1" strike="noStrike">
                <a:solidFill>
                  <a:srgbClr val="073e87"/>
                </a:solidFill>
                <a:latin typeface="Arial"/>
                <a:ea typeface="Arial"/>
              </a:rPr>
              <a:t>значит «грубиян»,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«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невежда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»</a:t>
            </a:r>
            <a:r>
              <a:rPr b="0" lang="ru-RU" sz="2800" spc="-1" strike="noStrike">
                <a:solidFill>
                  <a:srgbClr val="073e87"/>
                </a:solidFill>
                <a:latin typeface="Arial"/>
                <a:ea typeface="Arial"/>
              </a:rPr>
              <a:t>- «несведущий», «необразованный человек»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3" name="Freeform 11"/>
          <p:cNvSpPr/>
          <p:nvPr/>
        </p:nvSpPr>
        <p:spPr>
          <a:xfrm>
            <a:off x="4000680" y="1857240"/>
            <a:ext cx="571320" cy="71640"/>
          </a:xfrm>
          <a:custGeom>
            <a:avLst/>
            <a:gdLst>
              <a:gd name="textAreaLeft" fmla="*/ 0 w 571320"/>
              <a:gd name="textAreaRight" fmla="*/ 571680 w 57132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1143" h="505">
                <a:moveTo>
                  <a:pt x="0" y="505"/>
                </a:moveTo>
                <a:cubicBezTo>
                  <a:pt x="12" y="373"/>
                  <a:pt x="24" y="386"/>
                  <a:pt x="83" y="276"/>
                </a:cubicBezTo>
                <a:cubicBezTo>
                  <a:pt x="136" y="176"/>
                  <a:pt x="171" y="90"/>
                  <a:pt x="293" y="66"/>
                </a:cubicBezTo>
                <a:cubicBezTo>
                  <a:pt x="353" y="36"/>
                  <a:pt x="419" y="36"/>
                  <a:pt x="485" y="29"/>
                </a:cubicBezTo>
                <a:cubicBezTo>
                  <a:pt x="709" y="35"/>
                  <a:pt x="871" y="0"/>
                  <a:pt x="1043" y="130"/>
                </a:cubicBezTo>
                <a:cubicBezTo>
                  <a:pt x="1073" y="182"/>
                  <a:pt x="1098" y="232"/>
                  <a:pt x="1125" y="285"/>
                </a:cubicBezTo>
                <a:cubicBezTo>
                  <a:pt x="1140" y="364"/>
                  <a:pt x="1143" y="381"/>
                  <a:pt x="1143" y="477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pic>
        <p:nvPicPr>
          <p:cNvPr id="484" name="Picture 6" descr=""/>
          <p:cNvPicPr/>
          <p:nvPr/>
        </p:nvPicPr>
        <p:blipFill>
          <a:blip r:embed="rId1"/>
          <a:stretch/>
        </p:blipFill>
        <p:spPr>
          <a:xfrm>
            <a:off x="6732720" y="5157720"/>
            <a:ext cx="914400" cy="91440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pic>
        <p:nvPicPr>
          <p:cNvPr id="485" name="Picture 10" descr=""/>
          <p:cNvPicPr/>
          <p:nvPr/>
        </p:nvPicPr>
        <p:blipFill>
          <a:blip r:embed="rId2"/>
          <a:stretch/>
        </p:blipFill>
        <p:spPr>
          <a:xfrm>
            <a:off x="6877080" y="3429000"/>
            <a:ext cx="91440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40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Candara"/>
              </a:rPr>
              <a:t>Исследовательская работа </a:t>
            </a:r>
            <a:br>
              <a:rPr sz="4400"/>
            </a:br>
            <a:r>
              <a:rPr b="1" lang="ru-RU" sz="4400" spc="-1" strike="noStrike">
                <a:solidFill>
                  <a:srgbClr val="006600"/>
                </a:solidFill>
                <a:latin typeface="Candara"/>
              </a:rPr>
              <a:t>Алгоритм работы в группах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0" y="2071440"/>
            <a:ext cx="8229600" cy="360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Arial"/>
                <a:ea typeface="Arial"/>
              </a:rPr>
              <a:t>Внимательно прочитайте задания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Arial"/>
                <a:ea typeface="Arial"/>
              </a:rPr>
              <a:t>Поделитесь с товарищами по группе своими мыслями по вопросу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Arial"/>
                <a:ea typeface="Arial"/>
              </a:rPr>
              <a:t>Запишите ответ в «Лист контроля» (оформитель)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Arial"/>
                <a:ea typeface="Arial"/>
              </a:rPr>
              <a:t>Озвучьте ответ группы (спикер)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Arial"/>
                <a:ea typeface="Arial"/>
              </a:rPr>
              <a:t>Оцените работу группы по данным критериям (эксперт)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609480" indent="-6094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Удачи!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Arial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8" name=""/>
          <p:cNvGraphicFramePr/>
          <p:nvPr/>
        </p:nvGraphicFramePr>
        <p:xfrm>
          <a:off x="0" y="0"/>
          <a:ext cx="8607600" cy="6924600"/>
        </p:xfrm>
        <a:graphic>
          <a:graphicData uri="http://schemas.openxmlformats.org/drawingml/2006/table">
            <a:tbl>
              <a:tblPr/>
              <a:tblGrid>
                <a:gridCol w="2293920"/>
                <a:gridCol w="2338560"/>
                <a:gridCol w="1346040"/>
                <a:gridCol w="2629080"/>
              </a:tblGrid>
              <a:tr h="1006560"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Не с существительными</a:t>
                      </a:r>
                      <a:r>
                        <a:rPr b="1" i="1" lang="ru-RU" sz="20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Алгоритм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смотри, есть ли в предложении противопоставление с союзом </a:t>
                      </a: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0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79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9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7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(не правда, а лож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2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0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 gridSpan="2"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(невежд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0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9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(говорить неправду (лож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8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89" name=""/>
          <p:cNvGraphicFramePr/>
          <p:nvPr/>
        </p:nvGraphicFramePr>
        <p:xfrm>
          <a:off x="539640" y="1413000"/>
          <a:ext cx="1578240" cy="365040"/>
        </p:xfrm>
        <a:graphic>
          <a:graphicData uri="http://schemas.openxmlformats.org/drawingml/2006/table">
            <a:tbl>
              <a:tblPr/>
              <a:tblGrid>
                <a:gridCol w="157824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2985f"/>
                          </a:solidFill>
                          <a:latin typeface="Arial"/>
                          <a:ea typeface="Arial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0" name=""/>
          <p:cNvGraphicFramePr/>
          <p:nvPr/>
        </p:nvGraphicFramePr>
        <p:xfrm>
          <a:off x="2843280" y="1413000"/>
          <a:ext cx="5799240" cy="365040"/>
        </p:xfrm>
        <a:graphic>
          <a:graphicData uri="http://schemas.openxmlformats.org/drawingml/2006/table">
            <a:tbl>
              <a:tblPr/>
              <a:tblGrid>
                <a:gridCol w="579924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1" name=""/>
          <p:cNvGraphicFramePr/>
          <p:nvPr/>
        </p:nvGraphicFramePr>
        <p:xfrm>
          <a:off x="179280" y="2133720"/>
          <a:ext cx="2221200" cy="365040"/>
        </p:xfrm>
        <a:graphic>
          <a:graphicData uri="http://schemas.openxmlformats.org/drawingml/2006/table">
            <a:tbl>
              <a:tblPr/>
              <a:tblGrid>
                <a:gridCol w="22212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иши раздель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2" name=""/>
          <p:cNvGraphicFramePr/>
          <p:nvPr/>
        </p:nvGraphicFramePr>
        <p:xfrm>
          <a:off x="2843280" y="2133720"/>
          <a:ext cx="5799240" cy="365040"/>
        </p:xfrm>
        <a:graphic>
          <a:graphicData uri="http://schemas.openxmlformats.org/drawingml/2006/table">
            <a:tbl>
              <a:tblPr/>
              <a:tblGrid>
                <a:gridCol w="579924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потребляется ли без 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ell MT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493" name="Прямая со стрелкой 9"/>
          <p:cNvCxnSpPr/>
          <p:nvPr/>
        </p:nvCxnSpPr>
        <p:spPr>
          <a:xfrm>
            <a:off x="1332000" y="1052640"/>
            <a:ext cx="10080" cy="381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94" name="Прямая со стрелкой 11"/>
          <p:cNvCxnSpPr/>
          <p:nvPr/>
        </p:nvCxnSpPr>
        <p:spPr>
          <a:xfrm flipH="1">
            <a:off x="5651280" y="1052640"/>
            <a:ext cx="2160" cy="357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95" name="Прямая со стрелкой 13"/>
          <p:cNvCxnSpPr/>
          <p:nvPr/>
        </p:nvCxnSpPr>
        <p:spPr>
          <a:xfrm flipH="1">
            <a:off x="1331640" y="1773360"/>
            <a:ext cx="2160" cy="357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96" name="Прямая со стрелкой 17"/>
          <p:cNvCxnSpPr/>
          <p:nvPr/>
        </p:nvCxnSpPr>
        <p:spPr>
          <a:xfrm flipH="1">
            <a:off x="3707640" y="2492280"/>
            <a:ext cx="2520" cy="357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97" name="Прямая со стрелкой 19"/>
          <p:cNvCxnSpPr/>
          <p:nvPr/>
        </p:nvCxnSpPr>
        <p:spPr>
          <a:xfrm flipH="1">
            <a:off x="6947640" y="2492280"/>
            <a:ext cx="2520" cy="357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98" name="Прямая со стрелкой 21"/>
          <p:cNvCxnSpPr>
            <a:stCxn id="499" idx="2"/>
          </p:cNvCxnSpPr>
          <p:nvPr/>
        </p:nvCxnSpPr>
        <p:spPr>
          <a:xfrm>
            <a:off x="3701880" y="3276720"/>
            <a:ext cx="7200" cy="367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00" name="Прямая со стрелкой 25"/>
          <p:cNvCxnSpPr/>
          <p:nvPr/>
        </p:nvCxnSpPr>
        <p:spPr>
          <a:xfrm flipH="1">
            <a:off x="6947640" y="4292640"/>
            <a:ext cx="252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01" name="Прямая со стрелкой 27"/>
          <p:cNvCxnSpPr/>
          <p:nvPr/>
        </p:nvCxnSpPr>
        <p:spPr>
          <a:xfrm flipH="1">
            <a:off x="6947640" y="5084280"/>
            <a:ext cx="2520" cy="358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99" name="TextBox 30"/>
          <p:cNvSpPr/>
          <p:nvPr/>
        </p:nvSpPr>
        <p:spPr>
          <a:xfrm>
            <a:off x="3059280" y="2852640"/>
            <a:ext cx="128556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502" name="TextBox 31"/>
          <p:cNvSpPr/>
          <p:nvPr/>
        </p:nvSpPr>
        <p:spPr>
          <a:xfrm>
            <a:off x="6300720" y="2852640"/>
            <a:ext cx="142884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985f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503" name="TextBox 32"/>
          <p:cNvSpPr/>
          <p:nvPr/>
        </p:nvSpPr>
        <p:spPr>
          <a:xfrm>
            <a:off x="6443640" y="4653000"/>
            <a:ext cx="114300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985f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504" name="TextBox 36"/>
          <p:cNvSpPr/>
          <p:nvPr/>
        </p:nvSpPr>
        <p:spPr>
          <a:xfrm>
            <a:off x="2627280" y="3645000"/>
            <a:ext cx="207180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иши слитно</a:t>
            </a: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505" name="TextBox 39"/>
          <p:cNvSpPr/>
          <p:nvPr/>
        </p:nvSpPr>
        <p:spPr>
          <a:xfrm>
            <a:off x="4859280" y="3645000"/>
            <a:ext cx="400068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ожно заменить синонимом или</a:t>
            </a: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лизким по значению выражением</a:t>
            </a: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506" name="TextBox 41"/>
          <p:cNvSpPr/>
          <p:nvPr/>
        </p:nvSpPr>
        <p:spPr>
          <a:xfrm>
            <a:off x="5940360" y="5445000"/>
            <a:ext cx="192888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иши слитно</a:t>
            </a:r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sp>
        <p:nvSpPr>
          <p:cNvPr id="507" name="Прямая соединительная линия 43"/>
          <p:cNvSpPr/>
          <p:nvPr/>
        </p:nvSpPr>
        <p:spPr>
          <a:xfrm>
            <a:off x="1332000" y="1052640"/>
            <a:ext cx="43574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ll MT"/>
            </a:endParaRPr>
          </a:p>
        </p:txBody>
      </p:sp>
      <p:cxnSp>
        <p:nvCxnSpPr>
          <p:cNvPr id="508" name="Прямая со стрелкой 13"/>
          <p:cNvCxnSpPr/>
          <p:nvPr/>
        </p:nvCxnSpPr>
        <p:spPr>
          <a:xfrm flipH="1">
            <a:off x="5651280" y="1773360"/>
            <a:ext cx="2160" cy="357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09" name="Прямая со стрелкой 21"/>
          <p:cNvCxnSpPr/>
          <p:nvPr/>
        </p:nvCxnSpPr>
        <p:spPr>
          <a:xfrm>
            <a:off x="6948360" y="3284640"/>
            <a:ext cx="7200" cy="367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  <a:ea typeface="Arial"/>
              </a:rPr>
              <a:t>Ответы к тесту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914400" y="2357280"/>
            <a:ext cx="8229600" cy="37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3600" spc="-1" strike="noStrike">
                <a:solidFill>
                  <a:srgbClr val="073e87"/>
                </a:solidFill>
                <a:latin typeface="Arial"/>
                <a:ea typeface="Arial"/>
              </a:rPr>
              <a:t>А</a:t>
            </a: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1 -   </a:t>
            </a:r>
            <a:r>
              <a:rPr b="1" lang="ru-RU" sz="3600" spc="-1" strike="noStrike">
                <a:solidFill>
                  <a:srgbClr val="073e87"/>
                </a:solidFill>
                <a:latin typeface="Arial"/>
                <a:ea typeface="Arial"/>
              </a:rPr>
              <a:t>2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3600" spc="-1" strike="noStrike">
                <a:solidFill>
                  <a:srgbClr val="073e87"/>
                </a:solidFill>
                <a:latin typeface="Arial"/>
                <a:ea typeface="Arial"/>
              </a:rPr>
              <a:t>А</a:t>
            </a: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2 -  </a:t>
            </a:r>
            <a:r>
              <a:rPr b="1" lang="ru-RU" sz="3600" spc="-1" strike="noStrike">
                <a:solidFill>
                  <a:srgbClr val="073e87"/>
                </a:solidFill>
                <a:latin typeface="Arial"/>
                <a:ea typeface="Arial"/>
              </a:rPr>
              <a:t>2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3600" spc="-1" strike="noStrike">
                <a:solidFill>
                  <a:srgbClr val="073e87"/>
                </a:solidFill>
                <a:latin typeface="Arial"/>
                <a:ea typeface="Arial"/>
              </a:rPr>
              <a:t>А</a:t>
            </a: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3 -  </a:t>
            </a:r>
            <a:r>
              <a:rPr b="1" lang="ru-RU" sz="3600" spc="-1" strike="noStrike">
                <a:solidFill>
                  <a:srgbClr val="073e87"/>
                </a:solidFill>
                <a:latin typeface="Arial"/>
                <a:ea typeface="Arial"/>
              </a:rPr>
              <a:t>3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3600" spc="-1" strike="noStrike">
                <a:solidFill>
                  <a:srgbClr val="073e87"/>
                </a:solidFill>
                <a:latin typeface="Arial"/>
                <a:ea typeface="Arial"/>
              </a:rPr>
              <a:t>Б  </a:t>
            </a: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-</a:t>
            </a:r>
            <a:r>
              <a:rPr b="1" lang="ru-RU" sz="36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1" lang="ru-RU" sz="3600" spc="-1" strike="noStrike">
                <a:solidFill>
                  <a:srgbClr val="073e87"/>
                </a:solidFill>
                <a:latin typeface="Arial"/>
                <a:ea typeface="Arial"/>
              </a:rPr>
              <a:t>2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73e87"/>
                </a:solidFill>
                <a:latin typeface="Arial"/>
                <a:ea typeface="Arial"/>
              </a:rPr>
              <a:t>	</a:t>
            </a:r>
            <a:r>
              <a:rPr b="0" lang="ru-RU" sz="3600" spc="-1" strike="noStrike">
                <a:solidFill>
                  <a:srgbClr val="073e87"/>
                </a:solidFill>
                <a:latin typeface="Arial"/>
                <a:ea typeface="Arial"/>
              </a:rPr>
              <a:t>	</a:t>
            </a:r>
            <a:r>
              <a:rPr b="0" lang="ru-RU" sz="3600" spc="-1" strike="noStrike">
                <a:solidFill>
                  <a:srgbClr val="073e87"/>
                </a:solidFill>
                <a:latin typeface="Arial"/>
                <a:ea typeface="Arial"/>
              </a:rPr>
              <a:t>	</a:t>
            </a:r>
            <a:r>
              <a:rPr b="0" lang="ru-RU" sz="3600" spc="-1" strike="noStrike">
                <a:solidFill>
                  <a:srgbClr val="073e87"/>
                </a:solidFill>
                <a:latin typeface="Arial"/>
                <a:ea typeface="Arial"/>
              </a:rPr>
              <a:t>	</a:t>
            </a:r>
            <a:r>
              <a:rPr b="0" lang="ru-RU" sz="3600" spc="-1" strike="noStrike">
                <a:solidFill>
                  <a:srgbClr val="073e87"/>
                </a:solidFill>
                <a:latin typeface="Arial"/>
                <a:ea typeface="Arial"/>
              </a:rPr>
              <a:t>	</a:t>
            </a:r>
            <a:r>
              <a:rPr b="0" lang="ru-RU" sz="3600" spc="-1" strike="noStrike">
                <a:solidFill>
                  <a:srgbClr val="073e87"/>
                </a:solidFill>
                <a:latin typeface="Arial"/>
                <a:ea typeface="Arial"/>
              </a:rPr>
              <a:t>В  -   </a:t>
            </a:r>
            <a:r>
              <a:rPr b="1" lang="ru-RU" sz="3600" spc="-1" strike="noStrike">
                <a:solidFill>
                  <a:srgbClr val="073e87"/>
                </a:solidFill>
                <a:latin typeface="Arial"/>
                <a:ea typeface="Arial"/>
              </a:rPr>
              <a:t>3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2985f"/>
                </a:solidFill>
                <a:latin typeface="Arial"/>
              </a:rPr>
              <a:t>Творческое задание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513" name="Picture 5" descr=""/>
          <p:cNvPicPr/>
          <p:nvPr/>
        </p:nvPicPr>
        <p:blipFill>
          <a:blip r:embed="rId1"/>
          <a:stretch/>
        </p:blipFill>
        <p:spPr>
          <a:xfrm>
            <a:off x="2484360" y="2349360"/>
            <a:ext cx="4392720" cy="3095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9T17:39:55Z</dcterms:created>
  <dc:creator>Portable</dc:creator>
  <dc:description/>
  <dc:language>en-US</dc:language>
  <cp:lastModifiedBy>школа</cp:lastModifiedBy>
  <dcterms:modified xsi:type="dcterms:W3CDTF">2015-01-26T21:06:31Z</dcterms:modified>
  <cp:revision>35</cp:revision>
  <dc:subject/>
  <dc:title>Слайд 1</dc:title>
</cp:coreProperties>
</file>