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4D4E-9E43-4755-9942-2B9E9408E9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880C-CB35-42FA-86AA-42BEA9D41F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41B-19C4-409E-8C0D-C3E1E608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D3B-438D-4FE2-9A48-887489F1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C80-2BD1-4A12-9D48-43D78009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6D6-B48D-4C01-93F0-A7EC812E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E19-2C5F-46AE-8F1D-6477ED3C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E9A-0FED-4FB0-982F-3A5DFE72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3FD-E572-444A-BABA-797986A9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433-416D-4C5F-AAB8-4DDEC5FF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C3C-49A0-4231-BC65-0F6832AA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EFE-49F9-4EEC-A22B-6487C69B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6C6-6C79-4756-831E-94B842B5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205-EDC9-4FF3-BDA9-7470C03D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9BEB-349E-4B22-9A0F-52655734AA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2"/>
          <a:stretch/>
        </p:blipFill>
        <p:spPr>
          <a:xfrm>
            <a:off x="298440" y="-6480"/>
            <a:ext cx="9667800" cy="4127760"/>
          </a:xfrm>
          <a:prstGeom prst="rect">
            <a:avLst/>
          </a:prstGeom>
          <a:ln w="0">
            <a:noFill/>
          </a:ln>
        </p:spPr>
      </p:pic>
      <p:pic>
        <p:nvPicPr>
          <p:cNvPr id="49" name="Подзаголовок 2" descr=""/>
          <p:cNvPicPr/>
          <p:nvPr/>
        </p:nvPicPr>
        <p:blipFill>
          <a:blip r:embed="rId3"/>
          <a:stretch/>
        </p:blipFill>
        <p:spPr>
          <a:xfrm>
            <a:off x="1773360" y="4059360"/>
            <a:ext cx="6065640" cy="15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66320" y="990720"/>
            <a:ext cx="7620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явление особенностей статуса каждого ученика (диагностирова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уществление системы поддержки чер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оздание санитарно-гигиенических услов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оздание комфортных психологических услов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оздание условий для развития коммуникативной сферы ребенк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истема поддержки дезадаптированных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вышение уровня компетентности род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Технология опы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2" descr=""/>
          <p:cNvPicPr/>
          <p:nvPr/>
        </p:nvPicPr>
        <p:blipFill>
          <a:blip r:embed="rId1"/>
          <a:stretch/>
        </p:blipFill>
        <p:spPr>
          <a:xfrm>
            <a:off x="622440" y="1292400"/>
            <a:ext cx="8302320" cy="48402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рганизация санитарно- гигиенических услов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47920" y="182880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экологические усло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ветовая гамма кл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школьная меб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свещ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здушно- тепловой режи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рганизация 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жим занят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рганизация учеб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18960" y="2438280"/>
            <a:ext cx="7467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нетрадиционных уро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собенности организации традиционного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ила оценочной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оциально- психологическая адап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47920" y="1980720"/>
            <a:ext cx="7696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бота по программе «Введение в школьную жизн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аузы специального воздейств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пражнения на релакс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Дезадаптация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негативных механизмов приспособ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к шко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ризнаки дез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18960" y="1523880"/>
            <a:ext cx="7467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личие беспокойства, повышенной возбудимости, трево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неадекватного пове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лабое овладение навыками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Работа с родителями в адаптационный пери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71600" y="1752120"/>
            <a:ext cx="73152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дительское собрание на базе подготовительных групп детских садов «Готовность ребенка к школьному обучению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дительское собрание  и тренинг с психологом по вопросам адапт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амятки, анкеты, рекоменд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80773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бобщающе-аналитический 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9492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остудные заболевани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(сентябрь – октябрь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одготовительная группа детского сада – 28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ервый класс – 17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нижение на 11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Уровень адап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тандарты определяют здоровье как совокупность нескольких  составляющих, среди котор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3047760"/>
            <a:ext cx="8381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физичес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психическо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духовно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3232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социальное здоровь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Уровень тревож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79502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оциальная адап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1371600"/>
          <a:ext cx="8077320" cy="4983120"/>
        </p:xfrm>
        <a:graphic>
          <a:graphicData uri="http://schemas.openxmlformats.org/drawingml/2006/table">
            <a:tbl>
              <a:tblPr/>
              <a:tblGrid>
                <a:gridCol w="5597640"/>
                <a:gridCol w="24796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зиция рядом с учителем                (принятие статуса ученик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4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иция рядом  с детьми                  (благополучная социальная позиция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4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иция один вдали от всех (неблагополучная социальная позиция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ая позиция (не соответствует учебно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Результаты областной комплекс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Входная диагностика (сентябрь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изкий уровень – 6 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редний уровень – 12 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сокий уровень – 6 ч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ластной мониторинг пилотных школ (ма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же базового уровня  - н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зовый уровень – 2 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ные уровень –   22 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тоги реализации проек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95280" y="1447560"/>
            <a:ext cx="7391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е учащиеся успешно адаптировались к школьному обучени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нутренняя позиция школьника сформирова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циальная роль ученика усвое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рахов перед школой не наблюда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ПАСИБО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ЗА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ВНИМ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929664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Актуальность опы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057400"/>
            <a:ext cx="84582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Стандарты по-новому обращают учителя к организации обучения первоклассников, особое внимание уделяя адаптационному перио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едущая педагогическая иде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1760" y="2285640"/>
            <a:ext cx="83818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2e2e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2e2e"/>
                </a:solidFill>
                <a:latin typeface="Times New Roman"/>
              </a:rPr>
              <a:t>Нет плохих учеников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2e2e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2e2e"/>
                </a:solidFill>
                <a:latin typeface="Times New Roman"/>
              </a:rPr>
              <a:t>есть неудачная ситу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2e2e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2e2e"/>
                </a:solidFill>
                <a:latin typeface="Times New Roman"/>
              </a:rPr>
              <a:t>для развития ребен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Теоретическая база опы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2e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Исследования Л.С.Выготского о « кризисе семи лет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22e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Этапы адаптации первоклассников физиолога Безруких М.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22e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Исследования Гуткина Н.И. о психологической готовности к школ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22e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2e2e"/>
                </a:solidFill>
                <a:latin typeface="Times New Roman"/>
              </a:rPr>
              <a:t>Методики Венгер Л.А., Цукерман Г.А., Поливановой К.Н., Овчаровой Р.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22e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Адаптация-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3160" y="251424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приспособление организма к изменившимся условия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                         </a:t>
            </a:r>
            <a:r>
              <a:rPr b="1" i="1" lang="ru-RU" sz="4000" spc="-1" strike="noStrike">
                <a:solidFill>
                  <a:srgbClr val="0d0d0d"/>
                </a:solidFill>
                <a:latin typeface="Times New Roman"/>
              </a:rPr>
              <a:t>С.И.Ожег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.И.Ожег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Адаптация первокласс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1295280"/>
            <a:ext cx="373392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Физиолог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Физиологическая бур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устойчивое приспосо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носительно устойчивое приспосо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Социально –психолог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заимодействие между учителем и ученик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лимат на уро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заимодействие между деть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Новизна опы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одиктована следующими фактора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зменениями ценностей в условиях модернизации российского 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зменениями подходов к организации работы с первоклассниками в адаптационный пери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Цел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здание психолого-педагогических условий, обеспечивающ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лагоприятное те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даптации первокласс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 школьному обучен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16:19Z</dcterms:created>
  <dc:creator>Татьяна; опыт</dc:creator>
  <dc:description/>
  <dc:language>en-US</dc:language>
  <cp:lastModifiedBy>Наталья</cp:lastModifiedBy>
  <dcterms:modified xsi:type="dcterms:W3CDTF">2015-02-08T08:17:55Z</dcterms:modified>
  <cp:revision>76</cp:revision>
  <dc:subject/>
  <dc:title>Интерактивные  методы обучения</dc:title>
</cp:coreProperties>
</file>