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9B30-A01B-40D4-A149-86AFCACB7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C91-D51C-4D51-88D7-5586BF794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3BA-10A4-4462-8154-81E664B8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DF5-7EB4-43FF-BD63-A7D0685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280-1D5F-40FB-A083-B0AD3D10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1FF-6F26-41FF-8444-8BC9AAB1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210-D428-47FE-94F1-E66323E8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7C7-AB4A-4393-A17F-0337628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69B-F8F4-4178-9D28-610C2BA9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A8F-1096-4E3C-A35F-64BBEDD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B55-4C3D-4075-8D70-703DD2B9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F23-FCA0-47A6-9FB1-B92EA14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04E-D240-4C1F-90A2-FDB74B6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A0B-DA18-4F83-B8FD-72D0E3C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E3B-46E0-42B1-92F9-9860D1F40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9667800" cy="412776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3"/>
          <a:stretch/>
        </p:blipFill>
        <p:spPr>
          <a:xfrm>
            <a:off x="1773360" y="4059360"/>
            <a:ext cx="606564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6320" y="9907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явление особенностей статуса каждого ученика (диагностиров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уществление системы поддержки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санитарно-гигиенических услов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комфортных психологических услов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коммуникативной сферы ребен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стема поддержки дезадаптированных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компетентно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хнология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622440" y="1292400"/>
            <a:ext cx="8302320" cy="4840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санитарно- гигиенических услов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47920" y="18288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кологически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ветовая гамма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школьная меб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вещ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ушно- тепловой реж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жим зан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учеб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18960" y="24382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нетрадиционных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организации традиционного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ила оценоч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циально- психологическая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19807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бота по программе «Введение в школьную жиз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узы специального воздейств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пражнения на релакс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Дезадаптация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негативных механизмов приспособ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к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изнаки дез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8960" y="15238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личие беспокойства, повышенной возбудимости, трев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неадекватного п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лабое овладение навыкам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бота с родителями в адаптационный пери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71600" y="1752120"/>
            <a:ext cx="7315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 на базе подготовительных групп детских садов «Готовность ребенка к школьному обуче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  и тренинг с психологом по вопросам адап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мятки, анкеты, рекоменд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бобщающе-аналитическ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492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студные заболев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сентябрь – октябрь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дготовительная группа детского сада – 2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ервый класс – 17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нижение на 1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ровень адап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андарты определяют здоровье как совокупность нескольких  составляющих, среди котор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3047760"/>
            <a:ext cx="8381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психическ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духов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социальное здоровь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ровень трево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95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циальная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371600"/>
          <a:ext cx="8077320" cy="4983120"/>
        </p:xfrm>
        <a:graphic>
          <a:graphicData uri="http://schemas.openxmlformats.org/drawingml/2006/table">
            <a:tbl>
              <a:tblPr/>
              <a:tblGrid>
                <a:gridCol w="5597640"/>
                <a:gridCol w="2479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иция рядом с учителем                (принятие статуса ученик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я рядом  с детьми                  (благополучная социальная пози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я один вдали от всех (неблагополучная социальная пози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позиция (не соответствует учебно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езультаты областной комплекс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Входная диагностика (сентябрь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зкий уровень – 6 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редний уровень – 12 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– 6 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ластной мониторинг пилотных школ (ма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же базового уровня  -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ый уровень – 2 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ные уровень –   22 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тоги реализации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952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учащиеся успешно адаптировались к школьному обучен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утренняя позиция школьника сформиров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циальная роль ученика усво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ахов перед школой не наблюда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929664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ктуальность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0574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Стандарты по-новому обращают учителя к организации обучения первоклассников, особое внимание уделяя адаптационному пери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дущая педагогическ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8564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Нет плохих ученик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есть неудачная ситу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для развития ребен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оретическая база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Исследования Л.С.Выготского о « кризисе семи лет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Этапы адаптации первоклассников физиолога Безруких М.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Исследования Гуткина Н.И. о психологической готовности к шко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Методики Венгер Л.А., Цукерман Г.А., Поливановой К.Н., Овчаровой Р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даптация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160" y="25142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риспособление организма к изменившимся услов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                        </a:t>
            </a: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С.И.Ожег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И.Оже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даптация 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95280"/>
            <a:ext cx="3733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Физиолог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Физиологическая бу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устойчивое приспосо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носительно устойчивое приспосо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Социально –психолог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между учителем и учени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лимат на ур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между деть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овизна опы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диктована следующими факто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ями ценностей в условиях модернизации российско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ями подходов к организации работы с первоклассниками в адаптационн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здание психолого-педагогических условий, обеспечив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приятное те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даптации первокласс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 школьному обуч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; опыт</dc:creator>
  <dc:description/>
  <dc:language>en-US</dc:language>
  <cp:lastModifiedBy>Наталья</cp:lastModifiedBy>
  <dcterms:modified xsi:type="dcterms:W3CDTF">2015-02-08T08:17:55Z</dcterms:modified>
  <cp:revision>76</cp:revision>
  <dc:subject/>
  <dc:title>Интерактивные  методы обучения</dc:title>
</cp:coreProperties>
</file>