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A83-C0E1-47C7-86AD-C41E72D4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4C6-2C6D-4AE9-A484-35C7FA65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1EA23-4CFB-4D49-95A7-475CB72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9EBF9-92EE-4CE6-9C5B-937697E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F576F-9E97-4952-BEDA-CD9325AC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15734-FA4C-470A-AF0C-5220F21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7A64F-7EF6-4B85-95F1-B731C1B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5A68-7137-4A1D-807F-B53AC7E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53C9B-EEF3-4F18-9476-C3C35D0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4285-78F0-4759-BAA9-9B422639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4BC42-5FA0-4E80-A381-0A8B6692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45D33-C691-4FA0-9E01-EB3434D6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38A-78A7-434F-8267-F4CEA2BA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7917E-44A9-4FAB-B9A0-5A2FDF8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3B50-693D-478C-A0E8-B8B6A935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52C57-0219-4841-80C7-0EF617F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96BB0-35F5-4717-BA84-7D9583D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F5C5-586A-48EB-89B8-ED56CDA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0ACB3-3159-449A-A387-B1D1C69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083B3-F386-44EE-85B0-DA5A80D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5BBE2-643E-4AD2-AC5D-987D63D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25AFA-0F69-4F0A-82E7-A25E7CB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409BB-2D29-4096-A45B-672E376E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05C-E759-4E7A-AF93-9517BE2C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A6816-183D-4227-83DF-50EDC323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3795A-BD42-4E64-B199-164640E1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EC8C5-BD4D-498F-9B69-4E7941AA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338E-3BFD-4079-AC0F-678D9AA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09562-EC94-4B6C-9FA7-3321B84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2A380-CE3A-44B7-BFF7-4E65336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5255-B019-49B8-A396-4B7C2E51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692FB-3F8C-4348-BF89-CA1AC36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3A07C-D249-46B9-A0D4-9EEF988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C70D-76BE-45C2-936A-29CB4A8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7F2-3650-43FC-919D-87C01CA9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5CE84-A3BD-435C-B7AF-DA9856B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B42D7-A119-4CA7-91AE-9429A42C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EFA39-8EB1-4EB1-ADF0-D67E222D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D94E-C871-49E5-B4BC-A6F04735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4BD-523E-4DA6-8889-731E15B1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2A10-951D-48D8-A9B7-5C687E1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0D1-189B-4D13-A30D-51725F7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47B-AF31-4CFF-908B-6E27AE76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D62-771F-4CA9-BEE5-E0BD0D1C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6EA-69E1-47FE-A425-48885D4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94F0-AFDE-4385-A8C4-9DBFCC75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1AA1-CB3D-4D04-9242-010BF7F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A5A4-0D13-4ECE-9187-C25FFBE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E5F3-8515-4BFA-85F6-288153EC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5FAA-821A-4348-9F84-247B1D6F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8B1D-63EE-428B-A332-25B6224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83231-E1D7-4982-8468-14AB97F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57F2-0FE9-4090-B629-268A5958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B89F-095C-4C3E-BBBE-1A6B7EFC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A2E4-1EBE-46A4-B524-D3AA99E3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38E-D15A-478D-88E8-FFA4F3A8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E8CE-356B-4709-8021-53A8C503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6502-5769-48DF-82AF-41D4512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6A68-CB14-44F8-856B-631278C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0E3B-D86B-492B-9C95-CC2C9526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DFAC-CD31-46BD-B227-003EBC7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F68C-2C94-4A20-95D4-683F1D1A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EF6A-C630-42AC-83AD-0F334377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CE52-E06B-445B-9733-71F9DC50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2507-B770-46EE-B735-A5899B8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2017-A958-4AA1-96AE-9B18427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45F-A38F-4A8C-BD76-3D622F8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11CC-0B74-45D3-ADC7-62ABAA5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AD5E-F54F-46D5-AFBD-3996662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4EAD-8F7E-43B4-8808-8FFC36B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5BAF-2770-4BFF-8010-C51EB29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6B27-1D2E-4DBE-A9F9-2A43086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3198-334C-46BF-9E4E-A55AFA3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847A-2134-4DF4-B274-51B3C015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77BA-C697-493A-9785-11C65032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E570-A104-47D9-82A5-475A4EB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0F78-6307-4AA2-9626-E86D2F8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BFE-E14E-4B90-8E33-633C0399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90ACA-8E92-417F-8A8A-126E5C41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BB7F-74CE-4CD9-9C14-152018C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B79C-C108-4942-876F-8A00CD5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12FA-E7B4-42B0-ABA2-0C7F52E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412F9-6CBE-41CB-95C7-E72706F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CBB6-BEE9-44ED-A861-3FCAD4E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F1A6-D32F-48EB-B556-6D8C6F0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30E9-32DF-43E9-B6F1-51029D1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5609-E640-4933-9F2E-D8D86922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AFB0-A356-42AF-A405-19D8D7EC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8EF-B9B3-46D7-93D8-2BFCC4F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452D-8B07-4BF5-A3FC-D6E38D04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0210-0F8A-4BC6-9FD0-9262ACE4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8A90-3033-4C48-BD4B-040AD80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087F-2B71-489E-97A6-59404E9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2D22-E5BE-4F3E-A368-2CBD95C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75D9-6900-4373-BAB9-7784CA0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D4D9E-BD2F-4954-B4DC-61A5F5B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12D9-02D0-4D48-A174-A895F8B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E91D-EE8B-4A3B-B8E3-EFF58E7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A57C-FB41-45B5-B51B-F751CAB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DF5-378A-4883-9F04-E4AE387C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6721-DFBE-427D-A2EF-9779824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B068-C046-4C57-9DF6-3A00F2AA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644C-6B21-4EC0-9D9E-EF196C1F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1A21F-0513-4735-BD82-5DD10B4B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9C324-4E83-4350-85B2-226080D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4A988-C925-4815-8C2A-AA824DE1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685E6-6383-470A-97FE-30FAEA7D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A33E1-5408-4940-8B7F-5F4A9EC8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12B4B-F641-4882-9348-ED8C946D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3F0BB-8B68-4A32-82BD-DD86134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BB5-CC57-4496-928D-668CCF7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95FB8-2602-4AC7-AB4B-28F92BDD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55E8C-EF9A-4475-A76A-CB8BCF6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EF38D-EFB1-46C0-8BFA-8728CD4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D62E5-57C9-46AF-AD7B-0A2A3428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8D20F-66B5-4B8D-96D8-01FDCD6A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77D77-D2C9-439F-A0B6-02653688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A072-819B-42DC-9151-E5DF0CD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5BF6-1BD6-4564-8D11-AC769E9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30E7-602E-448D-93BD-04AE3DF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1A87-AD94-468B-BF82-0B12F05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20B-24D3-4A7F-B830-46A80F4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D422-9F81-4F07-AF05-3D40B00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919F-B400-4E3F-86FA-B96D371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57B3-D02F-4963-A766-244F54E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62881-A5E9-4442-82B4-8603E16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45DE7-9B7E-4D34-89B6-45DD640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F1ED-3E48-4D93-A859-54DFD2F8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1B9D0-4D5D-4BFD-94F2-3C3ED7BA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3F86C-A359-41A0-BC3D-7748369E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EE1A-B092-40F9-9943-FABD41CB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48F2-84F3-41BB-ABBC-0551BB79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742-E124-40FB-B0FE-19A455DA62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4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93BF-C075-46E4-8780-9907CD1A5A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9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9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0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0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29E0-3AFC-4011-BC43-5230FF99AE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DC98-987C-4E0F-8A39-0E58FD507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627-4912-4276-B312-1C85132269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0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5BDA-8D01-4477-B68E-3CDFA535DE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493-AB9D-4B24-890C-24E58A2447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B5B-ECC4-4D75-BAD4-184DAFE7C7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3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4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6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6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6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570-AE88-44D7-8744-1DEAC28D2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40F-F5F7-423A-9183-0E62CB6795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0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007C-140A-496B-9BA3-23B52FF167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c00000"/>
                </a:solidFill>
                <a:latin typeface="Mistral"/>
                <a:ea typeface="Arial"/>
              </a:rPr>
              <a:t>СВОЯ ИГРА</a:t>
            </a:r>
            <a:endParaRPr b="0" lang="en-US" sz="10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58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 flipH="1" rot="10800000">
            <a:off x="3786120" y="2071440"/>
            <a:ext cx="2697120" cy="731880"/>
          </a:xfrm>
          <a:prstGeom prst="rect">
            <a:avLst/>
          </a:prstGeom>
          <a:ln w="0">
            <a:noFill/>
          </a:ln>
        </p:spPr>
      </p:pic>
      <p:pic>
        <p:nvPicPr>
          <p:cNvPr id="560" name="Прямоугольник 5" descr=""/>
          <p:cNvPicPr/>
          <p:nvPr/>
        </p:nvPicPr>
        <p:blipFill>
          <a:blip r:embed="rId3"/>
          <a:stretch/>
        </p:blipFill>
        <p:spPr>
          <a:xfrm>
            <a:off x="-49320" y="3913200"/>
            <a:ext cx="87296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1025280" y="33120"/>
            <a:ext cx="705384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3.Остановка «Угадайка»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черкните верный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Гармоника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музыкальный инстру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 некоторая фун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узыкальный тер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Центроид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инструмент для нахождения центра кр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центр тяжести  треуголь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некоторая центрально-симметричная фиг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Геликоид-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летательный аппар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плоская геометрическая фиг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)крив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Чьи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математике есть своя красота, как в живописи и поэз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Реп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Жуков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Ломон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ьи 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реди равных умов при одинаковости проч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осходит тот, кто знает геометр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Евкл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б)Паска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Эйл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6"/>
          <p:cNvSpPr/>
          <p:nvPr/>
        </p:nvSpPr>
        <p:spPr>
          <a:xfrm>
            <a:off x="2424960" y="214920"/>
            <a:ext cx="5695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4.Остановка «Геометрическая»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"/>
          <p:cNvGrpSpPr/>
          <p:nvPr/>
        </p:nvGrpSpPr>
        <p:grpSpPr>
          <a:xfrm>
            <a:off x="3908520" y="2505240"/>
            <a:ext cx="1371600" cy="1485720"/>
            <a:chOff x="3908520" y="2505240"/>
            <a:chExt cx="1371600" cy="1485720"/>
          </a:xfrm>
        </p:grpSpPr>
        <p:grpSp>
          <p:nvGrpSpPr>
            <p:cNvPr id="578" name="Group 6"/>
            <p:cNvGrpSpPr/>
            <p:nvPr/>
          </p:nvGrpSpPr>
          <p:grpSpPr>
            <a:xfrm>
              <a:off x="3908520" y="2505240"/>
              <a:ext cx="1371600" cy="1485720"/>
              <a:chOff x="3908520" y="2505240"/>
              <a:chExt cx="1371600" cy="1485720"/>
            </a:xfrm>
          </p:grpSpPr>
          <p:grpSp>
            <p:nvGrpSpPr>
              <p:cNvPr id="579" name="Group 10"/>
              <p:cNvGrpSpPr/>
              <p:nvPr/>
            </p:nvGrpSpPr>
            <p:grpSpPr>
              <a:xfrm>
                <a:off x="3908520" y="2505240"/>
                <a:ext cx="1371600" cy="1485720"/>
                <a:chOff x="3908520" y="2505240"/>
                <a:chExt cx="1371600" cy="1485720"/>
              </a:xfrm>
            </p:grpSpPr>
            <p:grpSp>
              <p:nvGrpSpPr>
                <p:cNvPr id="580" name="Group 12"/>
                <p:cNvGrpSpPr/>
                <p:nvPr/>
              </p:nvGrpSpPr>
              <p:grpSpPr>
                <a:xfrm>
                  <a:off x="3908520" y="2505240"/>
                  <a:ext cx="1371600" cy="1485720"/>
                  <a:chOff x="3908520" y="2505240"/>
                  <a:chExt cx="1371600" cy="1485720"/>
                </a:xfrm>
              </p:grpSpPr>
              <p:sp>
                <p:nvSpPr>
                  <p:cNvPr id="581" name="Line 15"/>
                  <p:cNvSpPr/>
                  <p:nvPr/>
                </p:nvSpPr>
                <p:spPr>
                  <a:xfrm>
                    <a:off x="3908520" y="2962440"/>
                    <a:ext cx="685800" cy="10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4"/>
                  <p:cNvSpPr/>
                  <p:nvPr/>
                </p:nvSpPr>
                <p:spPr>
                  <a:xfrm>
                    <a:off x="3908520" y="2505240"/>
                    <a:ext cx="1371600" cy="1142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13"/>
                  <p:cNvSpPr/>
                  <p:nvPr/>
                </p:nvSpPr>
                <p:spPr>
                  <a:xfrm flipV="1">
                    <a:off x="4594320" y="2962080"/>
                    <a:ext cx="685800" cy="102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Line 11"/>
                <p:cNvSpPr/>
                <p:nvPr/>
              </p:nvSpPr>
              <p:spPr>
                <a:xfrm>
                  <a:off x="3908520" y="2962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9"/>
              <p:cNvSpPr/>
              <p:nvPr/>
            </p:nvSpPr>
            <p:spPr>
              <a:xfrm>
                <a:off x="4365720" y="2962440"/>
                <a:ext cx="45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8"/>
              <p:cNvSpPr/>
              <p:nvPr/>
            </p:nvSpPr>
            <p:spPr>
              <a:xfrm flipH="1">
                <a:off x="4365720" y="2962440"/>
                <a:ext cx="45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7"/>
              <p:cNvSpPr/>
              <p:nvPr/>
            </p:nvSpPr>
            <p:spPr>
              <a:xfrm>
                <a:off x="4137120" y="3305160"/>
                <a:ext cx="2282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Line 5"/>
            <p:cNvSpPr/>
            <p:nvPr/>
          </p:nvSpPr>
          <p:spPr>
            <a:xfrm>
              <a:off x="4137120" y="3305160"/>
              <a:ext cx="91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7"/>
          <p:cNvSpPr/>
          <p:nvPr/>
        </p:nvSpPr>
        <p:spPr>
          <a:xfrm>
            <a:off x="611280" y="1843200"/>
            <a:ext cx="815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знает и до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уж вам-то как не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овсем другое дело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стро, точно и ум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и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в фигуре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разных? Рассмо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внимательно исследу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краю и вну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971640" y="551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8"/>
          <p:cNvSpPr/>
          <p:nvPr/>
        </p:nvSpPr>
        <p:spPr>
          <a:xfrm>
            <a:off x="3071880" y="564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ый ответ 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6"/>
          <p:cNvSpPr/>
          <p:nvPr/>
        </p:nvSpPr>
        <p:spPr>
          <a:xfrm>
            <a:off x="2351880" y="35424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4.Остановка «Геометрическая»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4"/>
          <p:cNvGrpSpPr/>
          <p:nvPr/>
        </p:nvGrpSpPr>
        <p:grpSpPr>
          <a:xfrm>
            <a:off x="4365720" y="2454120"/>
            <a:ext cx="1371600" cy="1486080"/>
            <a:chOff x="4365720" y="2454120"/>
            <a:chExt cx="1371600" cy="1486080"/>
          </a:xfrm>
        </p:grpSpPr>
        <p:grpSp>
          <p:nvGrpSpPr>
            <p:cNvPr id="595" name="Group 6"/>
            <p:cNvGrpSpPr/>
            <p:nvPr/>
          </p:nvGrpSpPr>
          <p:grpSpPr>
            <a:xfrm>
              <a:off x="4365720" y="2454120"/>
              <a:ext cx="1371600" cy="1486080"/>
              <a:chOff x="4365720" y="2454120"/>
              <a:chExt cx="1371600" cy="1486080"/>
            </a:xfrm>
          </p:grpSpPr>
          <p:grpSp>
            <p:nvGrpSpPr>
              <p:cNvPr id="596" name="Group 10"/>
              <p:cNvGrpSpPr/>
              <p:nvPr/>
            </p:nvGrpSpPr>
            <p:grpSpPr>
              <a:xfrm>
                <a:off x="4365720" y="2454120"/>
                <a:ext cx="1371600" cy="1486080"/>
                <a:chOff x="4365720" y="2454120"/>
                <a:chExt cx="1371600" cy="1486080"/>
              </a:xfrm>
            </p:grpSpPr>
            <p:grpSp>
              <p:nvGrpSpPr>
                <p:cNvPr id="597" name="Group 12"/>
                <p:cNvGrpSpPr/>
                <p:nvPr/>
              </p:nvGrpSpPr>
              <p:grpSpPr>
                <a:xfrm>
                  <a:off x="4365720" y="2454120"/>
                  <a:ext cx="1371600" cy="1486080"/>
                  <a:chOff x="4365720" y="2454120"/>
                  <a:chExt cx="1371600" cy="1486080"/>
                </a:xfrm>
              </p:grpSpPr>
              <p:sp>
                <p:nvSpPr>
                  <p:cNvPr id="598" name="Line 15"/>
                  <p:cNvSpPr/>
                  <p:nvPr/>
                </p:nvSpPr>
                <p:spPr>
                  <a:xfrm>
                    <a:off x="4365720" y="2911320"/>
                    <a:ext cx="685800" cy="102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4"/>
                  <p:cNvSpPr/>
                  <p:nvPr/>
                </p:nvSpPr>
                <p:spPr>
                  <a:xfrm>
                    <a:off x="4365720" y="2454120"/>
                    <a:ext cx="1371600" cy="114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13"/>
                  <p:cNvSpPr/>
                  <p:nvPr/>
                </p:nvSpPr>
                <p:spPr>
                  <a:xfrm flipV="1">
                    <a:off x="5051520" y="2911320"/>
                    <a:ext cx="685800" cy="102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Line 11"/>
                <p:cNvSpPr/>
                <p:nvPr/>
              </p:nvSpPr>
              <p:spPr>
                <a:xfrm>
                  <a:off x="4365720" y="2911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Line 9"/>
              <p:cNvSpPr/>
              <p:nvPr/>
            </p:nvSpPr>
            <p:spPr>
              <a:xfrm>
                <a:off x="4822920" y="291132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8"/>
              <p:cNvSpPr/>
              <p:nvPr/>
            </p:nvSpPr>
            <p:spPr>
              <a:xfrm flipH="1">
                <a:off x="4822920" y="291132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7"/>
              <p:cNvSpPr/>
              <p:nvPr/>
            </p:nvSpPr>
            <p:spPr>
              <a:xfrm>
                <a:off x="4594320" y="3254040"/>
                <a:ext cx="2282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Line 5"/>
            <p:cNvSpPr/>
            <p:nvPr/>
          </p:nvSpPr>
          <p:spPr>
            <a:xfrm>
              <a:off x="4594320" y="3254040"/>
              <a:ext cx="91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17"/>
          <p:cNvSpPr/>
          <p:nvPr/>
        </p:nvSpPr>
        <p:spPr>
          <a:xfrm>
            <a:off x="685800" y="1411200"/>
            <a:ext cx="749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знает и дошк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уж вам-то как не зн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овсем другое дело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стро, точно и ум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и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в фигуре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разных? Рассмо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внимательно исследу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краю и внутр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4859280" y="5589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20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4"/>
          <p:cNvSpPr/>
          <p:nvPr/>
        </p:nvSpPr>
        <p:spPr>
          <a:xfrm>
            <a:off x="571680" y="180720"/>
            <a:ext cx="7080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5.Остановка «Литератур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Страна, за свободу которой боролся Бай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7236000" y="620640"/>
          <a:ext cx="12492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Rectangle 40"/>
          <p:cNvSpPr/>
          <p:nvPr/>
        </p:nvSpPr>
        <p:spPr>
          <a:xfrm>
            <a:off x="546840" y="119628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Имя автора «Приключения Чиполл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651640" y="1413000"/>
          <a:ext cx="124920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Rectangle 76"/>
          <p:cNvSpPr/>
          <p:nvPr/>
        </p:nvSpPr>
        <p:spPr>
          <a:xfrm>
            <a:off x="546120" y="205992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офессия  отца Мая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5572080" y="2286000"/>
          <a:ext cx="166680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22"/>
          <p:cNvSpPr/>
          <p:nvPr/>
        </p:nvSpPr>
        <p:spPr>
          <a:xfrm>
            <a:off x="387720" y="285228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Фамилия ученика в рассказе Чехова «Репети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7286760" y="3071880"/>
          <a:ext cx="124920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Rectangle 158"/>
          <p:cNvSpPr/>
          <p:nvPr/>
        </p:nvSpPr>
        <p:spPr>
          <a:xfrm>
            <a:off x="412560" y="3715920"/>
            <a:ext cx="56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Министр, с которым боролись три мушкет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715080" y="4000680"/>
          <a:ext cx="1457280" cy="517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Rectangle 199"/>
          <p:cNvSpPr/>
          <p:nvPr/>
        </p:nvSpPr>
        <p:spPr>
          <a:xfrm>
            <a:off x="432720" y="458100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Единица площади в стране, в которой жил Оливер Тв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8072280" y="4786200"/>
          <a:ext cx="6256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Rectangle 220"/>
          <p:cNvSpPr/>
          <p:nvPr/>
        </p:nvSpPr>
        <p:spPr>
          <a:xfrm>
            <a:off x="448560" y="5285880"/>
            <a:ext cx="66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Автор изобретения, память о котором отмечают 7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7500960" y="5429160"/>
          <a:ext cx="10414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Rectangle 251"/>
          <p:cNvSpPr/>
          <p:nvPr/>
        </p:nvSpPr>
        <p:spPr>
          <a:xfrm>
            <a:off x="0" y="748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21"/>
          <p:cNvSpPr/>
          <p:nvPr/>
        </p:nvSpPr>
        <p:spPr>
          <a:xfrm>
            <a:off x="785880" y="62866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1143000" y="132840"/>
            <a:ext cx="532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5.Остановка «Литературная»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   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Страна, за свободу которой боролся Бай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164360" y="476280"/>
          <a:ext cx="1619280" cy="701640"/>
        </p:xfrm>
        <a:graphic>
          <a:graphicData uri="http://schemas.openxmlformats.org/drawingml/2006/table">
            <a:tbl>
              <a:tblPr/>
              <a:tblGrid>
                <a:gridCol w="257040"/>
                <a:gridCol w="273240"/>
                <a:gridCol w="263520"/>
                <a:gridCol w="279360"/>
                <a:gridCol w="279360"/>
                <a:gridCol w="266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Rectangle 39"/>
          <p:cNvSpPr/>
          <p:nvPr/>
        </p:nvSpPr>
        <p:spPr>
          <a:xfrm>
            <a:off x="1226520" y="1643400"/>
            <a:ext cx="438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Имя автора «Приключения Чиполли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948360" y="1413000"/>
          <a:ext cx="1683000" cy="517320"/>
        </p:xfrm>
        <a:graphic>
          <a:graphicData uri="http://schemas.openxmlformats.org/drawingml/2006/table">
            <a:tbl>
              <a:tblPr/>
              <a:tblGrid>
                <a:gridCol w="274680"/>
                <a:gridCol w="306360"/>
                <a:gridCol w="263520"/>
                <a:gridCol w="279360"/>
                <a:gridCol w="279720"/>
                <a:gridCol w="2793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Rectangle 74"/>
          <p:cNvSpPr/>
          <p:nvPr/>
        </p:nvSpPr>
        <p:spPr>
          <a:xfrm>
            <a:off x="1026000" y="2071080"/>
            <a:ext cx="342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офессия  отца Маяков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659640" y="2205000"/>
          <a:ext cx="2190600" cy="701640"/>
        </p:xfrm>
        <a:graphic>
          <a:graphicData uri="http://schemas.openxmlformats.org/drawingml/2006/table">
            <a:tbl>
              <a:tblPr/>
              <a:tblGrid>
                <a:gridCol w="272880"/>
                <a:gridCol w="263520"/>
                <a:gridCol w="263520"/>
                <a:gridCol w="279360"/>
                <a:gridCol w="279720"/>
                <a:gridCol w="272880"/>
                <a:gridCol w="279360"/>
                <a:gridCol w="279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Rectangle 119"/>
          <p:cNvSpPr/>
          <p:nvPr/>
        </p:nvSpPr>
        <p:spPr>
          <a:xfrm>
            <a:off x="778320" y="2997000"/>
            <a:ext cx="55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Фамилия ученика в рассказе Чехова «Репетит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659640" y="2997360"/>
          <a:ext cx="1636560" cy="517320"/>
        </p:xfrm>
        <a:graphic>
          <a:graphicData uri="http://schemas.openxmlformats.org/drawingml/2006/table">
            <a:tbl>
              <a:tblPr/>
              <a:tblGrid>
                <a:gridCol w="272880"/>
                <a:gridCol w="274680"/>
                <a:gridCol w="273240"/>
                <a:gridCol w="274320"/>
                <a:gridCol w="273240"/>
                <a:gridCol w="268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Rectangle 154"/>
          <p:cNvSpPr/>
          <p:nvPr/>
        </p:nvSpPr>
        <p:spPr>
          <a:xfrm>
            <a:off x="950040" y="3499920"/>
            <a:ext cx="499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.Министр, с которым боролись три мушкетё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6659640" y="3645000"/>
          <a:ext cx="1938240" cy="701640"/>
        </p:xfrm>
        <a:graphic>
          <a:graphicData uri="http://schemas.openxmlformats.org/drawingml/2006/table">
            <a:tbl>
              <a:tblPr/>
              <a:tblGrid>
                <a:gridCol w="272880"/>
                <a:gridCol w="279360"/>
                <a:gridCol w="320760"/>
                <a:gridCol w="263520"/>
                <a:gridCol w="273240"/>
                <a:gridCol w="264960"/>
                <a:gridCol w="263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Rectangle 194"/>
          <p:cNvSpPr/>
          <p:nvPr/>
        </p:nvSpPr>
        <p:spPr>
          <a:xfrm>
            <a:off x="832680" y="4436640"/>
            <a:ext cx="61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Единица площади в стране, в которой жил Оливер Тв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236000" y="4437000"/>
          <a:ext cx="806400" cy="701640"/>
        </p:xfrm>
        <a:graphic>
          <a:graphicData uri="http://schemas.openxmlformats.org/drawingml/2006/table">
            <a:tbl>
              <a:tblPr/>
              <a:tblGrid>
                <a:gridCol w="263520"/>
                <a:gridCol w="269640"/>
                <a:gridCol w="273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Rectangle 214"/>
          <p:cNvSpPr/>
          <p:nvPr/>
        </p:nvSpPr>
        <p:spPr>
          <a:xfrm>
            <a:off x="747720" y="5157360"/>
            <a:ext cx="58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.Автор изобретения, память о котором отмечают 7 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6732720" y="5229360"/>
          <a:ext cx="1373040" cy="517320"/>
        </p:xfrm>
        <a:graphic>
          <a:graphicData uri="http://schemas.openxmlformats.org/drawingml/2006/table">
            <a:tbl>
              <a:tblPr/>
              <a:tblGrid>
                <a:gridCol w="279360"/>
                <a:gridCol w="272880"/>
                <a:gridCol w="279360"/>
                <a:gridCol w="273240"/>
                <a:gridCol w="2682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Rectangle 244"/>
          <p:cNvSpPr/>
          <p:nvPr/>
        </p:nvSpPr>
        <p:spPr>
          <a:xfrm>
            <a:off x="2211120" y="6366960"/>
            <a:ext cx="11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49480" y="57960"/>
            <a:ext cx="875016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Остановка «Смек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о точек вставьте сл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мера угла( . . . . . . )мера темп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четырёхугольник( . . . . . . . ) вторая степен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подземная часть растений(  . . . . . )решени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еувеличение( . . . . . . . . . )график функции у=к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мера угла( . . . . . .)ме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заряд( . . . . .)запись отноше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4"/>
          <p:cNvSpPr/>
          <p:nvPr/>
        </p:nvSpPr>
        <p:spPr>
          <a:xfrm>
            <a:off x="928800" y="57862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4"/>
          <p:cNvSpPr/>
          <p:nvPr/>
        </p:nvSpPr>
        <p:spPr>
          <a:xfrm>
            <a:off x="98280" y="351720"/>
            <a:ext cx="896184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6.Остановка «Смекайка»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о точек вставьт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ера угла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д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мера темп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четырёхугольник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вадр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вторая степень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подземная часть растений(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р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решение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еувеличение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ербо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график функции у=к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мера угла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ну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мера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заряд(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роб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запись отношения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"/>
          <p:cNvSpPr/>
          <p:nvPr/>
        </p:nvSpPr>
        <p:spPr>
          <a:xfrm>
            <a:off x="2071800" y="621504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594000" y="769320"/>
            <a:ext cx="7997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становка     «Ошиб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ошибки в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ядом с ошибочным результатом постав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+12=15            15-2=13            16-5=11            14+6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+3=10            15+5=10           7+7=23              15-8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-9=7               5+17=22           114-8=6             16+9=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6=6               4+18=22           18-4=12             15+9=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1071720" y="557208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ую  исправленную«ошибку» 0,5 б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4"/>
          <p:cNvSpPr/>
          <p:nvPr/>
        </p:nvSpPr>
        <p:spPr>
          <a:xfrm>
            <a:off x="998640" y="79200"/>
            <a:ext cx="7495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.Остановка «Эру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автора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«Вдохновение нужно в геометрии не меньш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 поэ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         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.«Мы любим всё - и жар холодных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ар божественных вид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 внятно всё – и острый галльски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рачный германский г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«Математика – это язык, на котором говор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очные науки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815400" y="-6120"/>
            <a:ext cx="749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7.Остановка «Эрудит»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автора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«Вдохновение нужно в геометрии не меньше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 поэз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.С.Пуш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.«Мы любим всё - и жар холодных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ар божественных вид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 внятно всё – и острый галльски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рачный германский г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.Б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«Математика – это язык, на котором гово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очные нау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.И.Лобач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4"/>
          <p:cNvSpPr/>
          <p:nvPr/>
        </p:nvSpPr>
        <p:spPr>
          <a:xfrm>
            <a:off x="4082400" y="326052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-342360" y="254880"/>
            <a:ext cx="957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8.Остановка «Предмет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 помощью какого металла можно заморозить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 называется самое большое озеро на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Назовите эпиграф к «Капитанской дочке» А.С.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Автор книги «Хождение за три мор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Температура воды у основания водоп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у его вершины неодина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 Где температура вы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5"/>
          <p:cNvSpPr/>
          <p:nvPr/>
        </p:nvSpPr>
        <p:spPr>
          <a:xfrm>
            <a:off x="500040" y="592920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4"/>
          <p:cNvSpPr/>
          <p:nvPr/>
        </p:nvSpPr>
        <p:spPr>
          <a:xfrm>
            <a:off x="404280" y="64440"/>
            <a:ext cx="831924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8.Остановка «Предметная»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 помощью какого металла можно заморозить в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туть, т.к. температура плавлен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=-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Как называется самое большое озеро на зем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спийск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азовите эпиграф к «Капитанской дочке» А.С.Пуш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Береги честь смоло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Автор книги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Хождение за три моря»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амятник литературы в фор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евых записей,  сделанных купцом из Т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фанасием Никити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 время его путе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дийское государство Бахмани в 1468—1474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 воды у основания водоп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 его вершины неодин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? Где температура вы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 основания, т.к. энер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дающей воды идёт на её нагр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-301320" y="-2160"/>
            <a:ext cx="9281880" cy="59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9.Остановка «Учёные -мате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  честь какой женщины-математика назван цвето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Какой великий русский математик не получил диплом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я дважды успешно выдержал выпускные эк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университете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Назовите фамилию ученого, который написал самый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по геометрии. Он однофамилец изве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ого медика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акой ученый создал руководство по математике п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м «Начал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На могиле этого великого математика был установлен пам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зображением шара и описанного  около него цилин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устя почти 200 лет по этому чертежу  нашли его мог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9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этот математи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4"/>
          <p:cNvSpPr/>
          <p:nvPr/>
        </p:nvSpPr>
        <p:spPr>
          <a:xfrm>
            <a:off x="1857240" y="6211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250920" y="189000"/>
            <a:ext cx="8424720" cy="66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9.Остановка «Учёные -математики»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  честь какой женщины-математика назван цвет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ем известной вычислительницы француженк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артенз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Лекот 1723-1788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зван цвето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ОРТЕНЗ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везенный ею из Индии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великий русский математик не получил диплом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тя дважды успешно выдержал выпускные экза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университете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.В. Остроградский (1801-1873)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он не согласился слушать лекции по богослови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Назовите фамилию ученого, который написал самый пер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 по геометрии. Он однофамилец изв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ческого медик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Какой ученый создал руководство по математике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м «Начал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вкл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На могиле этого великого математика был установлен пам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зображением шара и описанного  около него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я почти 200 лет по этому чертежу  нашли его мог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этот математик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619280" y="141300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Arial"/>
              </a:rPr>
              <a:t>Подводим итог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414000" y="1100880"/>
            <a:ext cx="831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  Остановка     «Ошиб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ошибки в прим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ядом с ошибочным результатом постав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+12=15           15-2=13           16-5=11           14+6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+3=10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+5=10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7+7=2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-8=23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-9=7               5+17=22           114-8=6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16+9=28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6=6               4+18=22           18-4=12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15+9=25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шибок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4"/>
          <p:cNvSpPr/>
          <p:nvPr/>
        </p:nvSpPr>
        <p:spPr>
          <a:xfrm>
            <a:off x="712440" y="20304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2.Остановка «Счит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ы чисел по стро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уммы чисел 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бц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51040" y="1814400"/>
          <a:ext cx="2476440" cy="3232440"/>
        </p:xfrm>
        <a:graphic>
          <a:graphicData uri="http://schemas.openxmlformats.org/drawingml/2006/table">
            <a:tbl>
              <a:tblPr/>
              <a:tblGrid>
                <a:gridCol w="412560"/>
                <a:gridCol w="412920"/>
                <a:gridCol w="412560"/>
                <a:gridCol w="412920"/>
                <a:gridCol w="412560"/>
                <a:gridCol w="41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240"/>
          <p:cNvSpPr/>
          <p:nvPr/>
        </p:nvSpPr>
        <p:spPr>
          <a:xfrm>
            <a:off x="706680" y="504288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ответы записать в пустых клеточ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6"/>
          <p:cNvSpPr/>
          <p:nvPr/>
        </p:nvSpPr>
        <p:spPr>
          <a:xfrm>
            <a:off x="1000080" y="6072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 каждый правильный ответ 0,5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1504080" y="139320"/>
            <a:ext cx="50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2.Остановка «Счит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ы чисел по стро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уммы чисел п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лбц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655640" y="2408400"/>
          <a:ext cx="4140360" cy="2468520"/>
        </p:xfrm>
        <a:graphic>
          <a:graphicData uri="http://schemas.openxmlformats.org/drawingml/2006/table">
            <a:tbl>
              <a:tblPr/>
              <a:tblGrid>
                <a:gridCol w="612720"/>
                <a:gridCol w="503280"/>
                <a:gridCol w="720720"/>
                <a:gridCol w="719280"/>
                <a:gridCol w="792000"/>
                <a:gridCol w="79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2" name="Rectangle 240"/>
          <p:cNvSpPr/>
          <p:nvPr/>
        </p:nvSpPr>
        <p:spPr>
          <a:xfrm>
            <a:off x="1611360" y="541440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записать в пустых клет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1423080" y="286920"/>
            <a:ext cx="703584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3.Остановка «Угадайка»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черкните верный ответ.)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За каждый правильный ответ 0,5 б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армо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музыкальный инструмен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некоторая функ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музыкальный тер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нтроид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инструмент для нахождения центра кру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центр тяжести  треуголь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некоторая центрально-симметричная фиг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еликои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летательный аппар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плоская геометрическая фиг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кривая поверх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Чьи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В математике есть своя красота, как в живописи и поэз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Реп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Жуков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Ломон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Чьи 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Среди равных умов при одинаковости прочих услов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евосходит тот, кто знает геометр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Евкли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Паскаль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Эйлер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70028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Осталось 10 секун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2:31:41Z</dcterms:created>
  <dc:creator>teach221</dc:creator>
  <dc:description/>
  <dc:language>en-US</dc:language>
  <cp:lastModifiedBy>User</cp:lastModifiedBy>
  <dcterms:modified xsi:type="dcterms:W3CDTF">2012-10-24T14:26:01Z</dcterms:modified>
  <cp:revision>11</cp:revision>
  <dc:subject/>
  <dc:title>Слайд 1</dc:title>
</cp:coreProperties>
</file>