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593-3F29-464E-B54F-AF78C992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9F2-286A-46CA-B03D-25DC1AE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13E26-BB1C-4C66-A63F-4029DB0D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B62A-7C1E-4762-8959-E2EEF176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E6DFD-827C-4AE5-B687-44F7F64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2A43E-23AD-48FD-9F31-09CDAAB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C0D42-5359-49A7-9994-D26C9FEB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32512-40A5-47FB-8F76-1FDE742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01F89-4684-4994-ACCE-363C0DC6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FA628-D340-4D5C-8CBD-701CEC1F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2E46-9611-4B8F-A197-113F649B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298C2-D249-4ED9-A614-6C3687CF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CCA-A99D-4905-A408-4101E3D8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16DE-5A6E-4F4F-AEB7-24849254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58324-E9F3-4F5B-B72A-57663D2A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65CE3-AAD0-43BC-991C-063607D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6B28F-889D-4D90-929B-27521317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8A929-87F7-4F2D-8D68-7CF54E03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9760D-C0BD-48AB-9D48-1C5110F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D5903-C1EE-490C-B2F0-D6CD081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E6B9B-367C-4C25-9914-D42A6D9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A46B0-72A0-4C1E-AE04-33BCF1BF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57CD9-0930-4543-A085-F46AAFA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A74-38C5-40EF-8129-F0078B65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805A-3873-42EA-BFE6-8FD96A71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FCFCE-085F-4B2B-91D1-F1F71A2F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E67EB-B14E-4C11-AA89-87CFA1C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7E18-FE86-4B4E-8BE8-F5DAE4AB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433C-5508-4D1B-867B-3A487AC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A2B60-9C0D-4EAA-B579-C87CF970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ED023-47F0-41FB-B89D-87D74513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BB4BB-B17F-46E2-89CD-F9ACF80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FE291-10EF-4439-B8E8-590F7CB5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7260-B184-4F5B-BD99-8E48BB97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2E48-CF5B-4AA4-B08B-6F61642D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5BD4A-548D-4B41-9845-1020A4B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BFE75-D476-4D08-AE7E-B8BD425D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1BF91-EA7A-4FE6-88CD-7B7B3B76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AAF-7DB1-42BC-B282-AA3E4E4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322D-6786-4910-A3B3-2C857F6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6161-0076-44A7-BD1E-E658541A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EC5-5510-4718-8FE9-9773F51F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4C14-059A-4F3C-8121-D1046FB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D717-B43D-4B5A-9936-CAD64207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BB5-198E-4EDF-A9D3-0412180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06A-E708-45DB-8EFA-BE03B21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ED8F-2A0A-43D4-AE16-039C05E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04EC-907F-41C2-BC20-742B5DF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9ECE-5CEF-4816-A2FF-D1A9ECCF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C61-69C5-41AB-A211-AEBA002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A706-E8D4-4803-BFBF-7F56E21A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E785-8035-43D8-9792-5EE3C9CD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7800-06E7-43F9-B8E2-85114DB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E76D-1A6C-42E7-BAE7-9ACC7295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4C10-682A-45A2-B694-01170B6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F01-BE19-404A-8091-DCF3974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65A1-352F-4732-8CD7-F3AD4995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B90B-15E1-453B-A832-1D35A077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3848-A4C9-431B-A61F-8C1FF9E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A4B2-7AAC-4151-8F85-419704E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20AE-5834-4A3C-ABB6-401EED97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AD8D-979D-4BEF-8557-B34338EF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C337-5BE1-4B39-B029-71C86C1A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09A4-CE98-40DD-BE5D-4B62C24A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DD19-74F9-40E3-B00E-FC8F140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0E48-F037-4E13-8783-43D764D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067-AB04-4E34-A3D7-1E93AFBF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9A44-5084-4773-8D54-7ED9161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4949-A540-423C-B8CA-3055AAE3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4371-D4A5-46B5-A9E1-F0604093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DD01-657B-49AF-80CB-498CE12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063B-757A-4900-9205-F819E84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1CF5-109E-473A-A12C-BC166C7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8D63E-2AE5-43C7-BC4A-F9507813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6F31-5E18-4E39-A8A3-8CB0983D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4DA5-313A-491E-924A-9EA4C343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B427-76A7-4641-9C66-591B93EF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6C5-8A53-4E79-B4C5-2AC481BC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0886-995D-4F6C-8149-3A45ABD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E950-9336-43B4-BD8E-840E874B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4981-3A09-4DE5-B120-AE360B9C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3F121-6BA5-4785-A942-7066B97C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C920-A226-4CB3-AA6A-412BFF02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0BF47-72C7-444F-B818-91281A6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B35B-FB20-4884-A081-0C02D3F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047C-CB00-4F99-9EF3-2AD96D3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4B51-E8D0-42C2-9812-2527870F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A127-4715-4E56-8C5D-AE057A60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4DF-5453-408A-B81A-B326D7A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A99E-28D1-44FC-A7FA-6560CB63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F8EB-A531-4677-A76D-6A7F7CED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9E0D-B74A-42DB-8336-F8BAF97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D37F-6C68-4D35-84DA-5BBC9EEE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B53D-C0AD-4CF0-BBF8-17B33623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318D-26F6-44AF-94EC-08D111E6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BFA8-13C9-435D-96E6-4C48DBED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4315-B22A-4004-AA70-8CDAF4A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227A4-9344-48E6-8F48-58864FE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22826-F047-41AA-B5CE-EF0321A0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F2D-184E-404A-A552-4A77DF3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D57BF-EBAB-4C56-B372-BC86E55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4A067-1ABB-459A-B6E0-638E5483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08BC-684A-4CB8-A7CD-8236B291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EA6CA-047E-4B29-8433-5C42DCB4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F404E-493D-4FE1-92BB-FE8EEB9F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E2110-FC65-491B-8FE3-CB220AE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ECFCA-2FFD-48F4-AB58-E94279A1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600E4-2F16-4FFF-ACB7-DF0170EA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8984E-F065-4D18-BB79-42A4A84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68886-968D-49F1-BFEF-CD4DA53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042-6271-4459-9CAC-FE97810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AE151-616C-4C92-A0AF-49A96259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DE749-358A-42F2-8910-381209A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D228CE-1FB6-4CCF-A9C4-33C3F675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BAD8B-8332-45E6-8CB6-D328F168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8924D-8A8D-494E-A915-9F15CA59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FDE07-93FE-480D-A63A-4083ADF7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AF13-836E-4AAF-808B-1C9050CE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B969E-04E1-4456-B0A7-5553CC6A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C4E44-90F1-49F6-A7BD-E86E4A69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F2904-7D1F-40CB-9C7B-068D84C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410-F8FB-402D-9819-C7A89D77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E328-168C-4362-AE85-5118521A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E065-85D1-4267-BEDD-2C21D27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BBAE6-B54A-4568-B11A-C912192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759D-BC91-4E00-9666-96CAC19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F39DA-F3AE-4842-8DC7-E9B36953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97B3-AF57-4151-A323-ED07D861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47D4C-8BA2-413E-A88A-C6CE3608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D4A92-4257-45E0-B09B-D74B4C49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72660-3E2A-40E8-BD30-9CC9419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D835C-2DD8-4279-8CED-543B9C55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46A8-4E9C-40F1-A037-9F9235B2B8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4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9D7-70F8-4635-9C95-47BF225AFE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9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9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0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0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4D4-06AC-45B5-A61D-DA2D92369D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00AA-E118-4CE8-B8F7-36232D0083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4F3C-0A83-495E-A172-C5939C6A7B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0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53C8-C958-496A-B5AA-B98BC3F4DB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D14-704E-47F7-85CA-D589878AC6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B405-5453-49BD-9A15-A6FF787B2A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3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4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6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6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6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7B8E-CF46-4D49-B446-DD6639CD8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5B63-0083-4E69-89A5-9C90497B21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0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771-7798-4E24-AA93-50BCED3DFA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c00000"/>
                </a:solidFill>
                <a:latin typeface="Mistral"/>
                <a:ea typeface="Arial"/>
              </a:rPr>
              <a:t>СВОЯ ИГРА</a:t>
            </a:r>
            <a:endParaRPr b="0" lang="en-US" sz="10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58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 flipH="1" rot="10800000">
            <a:off x="3786120" y="2071440"/>
            <a:ext cx="2697120" cy="731880"/>
          </a:xfrm>
          <a:prstGeom prst="rect">
            <a:avLst/>
          </a:prstGeom>
          <a:ln w="0">
            <a:noFill/>
          </a:ln>
        </p:spPr>
      </p:pic>
      <p:pic>
        <p:nvPicPr>
          <p:cNvPr id="560" name="Прямоугольник 5" descr=""/>
          <p:cNvPicPr/>
          <p:nvPr/>
        </p:nvPicPr>
        <p:blipFill>
          <a:blip r:embed="rId3"/>
          <a:stretch/>
        </p:blipFill>
        <p:spPr>
          <a:xfrm>
            <a:off x="-49320" y="3913200"/>
            <a:ext cx="87296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1025280" y="33120"/>
            <a:ext cx="705384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3.Остановка «Угадайка»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черкните верный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Гармоника-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музыкальный инстру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 некоторая фун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узыкальный тер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Центроид-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инструмент для нахождения центра кр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центр тяжести  треуголь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некоторая центрально-симметричная фиг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Геликоид-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летательный аппар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плоская геометрическая фиг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)крив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Чьи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математике есть своя красота, как в живописи и поэз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Реп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Жуков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Ломон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ьи 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еди равных умов при одинаковости проч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осходит тот, кто знает геометр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Евкл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Паска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Эйл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6"/>
          <p:cNvSpPr/>
          <p:nvPr/>
        </p:nvSpPr>
        <p:spPr>
          <a:xfrm>
            <a:off x="2424960" y="214920"/>
            <a:ext cx="5695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4.Остановка «Геометрическая»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"/>
          <p:cNvGrpSpPr/>
          <p:nvPr/>
        </p:nvGrpSpPr>
        <p:grpSpPr>
          <a:xfrm>
            <a:off x="3908520" y="2505240"/>
            <a:ext cx="1371600" cy="1485720"/>
            <a:chOff x="3908520" y="2505240"/>
            <a:chExt cx="1371600" cy="1485720"/>
          </a:xfrm>
        </p:grpSpPr>
        <p:grpSp>
          <p:nvGrpSpPr>
            <p:cNvPr id="578" name="Group 6"/>
            <p:cNvGrpSpPr/>
            <p:nvPr/>
          </p:nvGrpSpPr>
          <p:grpSpPr>
            <a:xfrm>
              <a:off x="3908520" y="2505240"/>
              <a:ext cx="1371600" cy="1485720"/>
              <a:chOff x="3908520" y="2505240"/>
              <a:chExt cx="1371600" cy="1485720"/>
            </a:xfrm>
          </p:grpSpPr>
          <p:grpSp>
            <p:nvGrpSpPr>
              <p:cNvPr id="579" name="Group 10"/>
              <p:cNvGrpSpPr/>
              <p:nvPr/>
            </p:nvGrpSpPr>
            <p:grpSpPr>
              <a:xfrm>
                <a:off x="3908520" y="2505240"/>
                <a:ext cx="1371600" cy="1485720"/>
                <a:chOff x="3908520" y="2505240"/>
                <a:chExt cx="1371600" cy="1485720"/>
              </a:xfrm>
            </p:grpSpPr>
            <p:grpSp>
              <p:nvGrpSpPr>
                <p:cNvPr id="580" name="Group 12"/>
                <p:cNvGrpSpPr/>
                <p:nvPr/>
              </p:nvGrpSpPr>
              <p:grpSpPr>
                <a:xfrm>
                  <a:off x="3908520" y="2505240"/>
                  <a:ext cx="1371600" cy="1485720"/>
                  <a:chOff x="3908520" y="2505240"/>
                  <a:chExt cx="1371600" cy="1485720"/>
                </a:xfrm>
              </p:grpSpPr>
              <p:sp>
                <p:nvSpPr>
                  <p:cNvPr id="581" name="Line 15"/>
                  <p:cNvSpPr/>
                  <p:nvPr/>
                </p:nvSpPr>
                <p:spPr>
                  <a:xfrm>
                    <a:off x="3908520" y="2962440"/>
                    <a:ext cx="685800" cy="10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4"/>
                  <p:cNvSpPr/>
                  <p:nvPr/>
                </p:nvSpPr>
                <p:spPr>
                  <a:xfrm>
                    <a:off x="3908520" y="2505240"/>
                    <a:ext cx="1371600" cy="114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3"/>
                  <p:cNvSpPr/>
                  <p:nvPr/>
                </p:nvSpPr>
                <p:spPr>
                  <a:xfrm flipV="1">
                    <a:off x="4594320" y="2962080"/>
                    <a:ext cx="685800" cy="10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Line 11"/>
                <p:cNvSpPr/>
                <p:nvPr/>
              </p:nvSpPr>
              <p:spPr>
                <a:xfrm>
                  <a:off x="3908520" y="29624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9"/>
              <p:cNvSpPr/>
              <p:nvPr/>
            </p:nvSpPr>
            <p:spPr>
              <a:xfrm>
                <a:off x="4365720" y="2962440"/>
                <a:ext cx="4572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8"/>
              <p:cNvSpPr/>
              <p:nvPr/>
            </p:nvSpPr>
            <p:spPr>
              <a:xfrm flipH="1">
                <a:off x="4365720" y="2962440"/>
                <a:ext cx="4572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7"/>
              <p:cNvSpPr/>
              <p:nvPr/>
            </p:nvSpPr>
            <p:spPr>
              <a:xfrm>
                <a:off x="4137120" y="3305160"/>
                <a:ext cx="2282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Line 5"/>
            <p:cNvSpPr/>
            <p:nvPr/>
          </p:nvSpPr>
          <p:spPr>
            <a:xfrm>
              <a:off x="4137120" y="3305160"/>
              <a:ext cx="91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7"/>
          <p:cNvSpPr/>
          <p:nvPr/>
        </p:nvSpPr>
        <p:spPr>
          <a:xfrm>
            <a:off x="611280" y="1843200"/>
            <a:ext cx="815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знает и дошк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уж вам-то как не з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овсем другое дело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стро, точно и ум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и с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, в фигуре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разных? Рассмо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внимательно исследу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 краю и вну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971640" y="551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8"/>
          <p:cNvSpPr/>
          <p:nvPr/>
        </p:nvSpPr>
        <p:spPr>
          <a:xfrm>
            <a:off x="3071880" y="564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ый ответ 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6"/>
          <p:cNvSpPr/>
          <p:nvPr/>
        </p:nvSpPr>
        <p:spPr>
          <a:xfrm>
            <a:off x="2351880" y="35424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4.Остановка «Геометрическая»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4"/>
          <p:cNvGrpSpPr/>
          <p:nvPr/>
        </p:nvGrpSpPr>
        <p:grpSpPr>
          <a:xfrm>
            <a:off x="4365720" y="2454120"/>
            <a:ext cx="1371600" cy="1486080"/>
            <a:chOff x="4365720" y="2454120"/>
            <a:chExt cx="1371600" cy="1486080"/>
          </a:xfrm>
        </p:grpSpPr>
        <p:grpSp>
          <p:nvGrpSpPr>
            <p:cNvPr id="595" name="Group 6"/>
            <p:cNvGrpSpPr/>
            <p:nvPr/>
          </p:nvGrpSpPr>
          <p:grpSpPr>
            <a:xfrm>
              <a:off x="4365720" y="2454120"/>
              <a:ext cx="1371600" cy="1486080"/>
              <a:chOff x="4365720" y="2454120"/>
              <a:chExt cx="1371600" cy="1486080"/>
            </a:xfrm>
          </p:grpSpPr>
          <p:grpSp>
            <p:nvGrpSpPr>
              <p:cNvPr id="596" name="Group 10"/>
              <p:cNvGrpSpPr/>
              <p:nvPr/>
            </p:nvGrpSpPr>
            <p:grpSpPr>
              <a:xfrm>
                <a:off x="4365720" y="2454120"/>
                <a:ext cx="1371600" cy="1486080"/>
                <a:chOff x="4365720" y="2454120"/>
                <a:chExt cx="1371600" cy="1486080"/>
              </a:xfrm>
            </p:grpSpPr>
            <p:grpSp>
              <p:nvGrpSpPr>
                <p:cNvPr id="597" name="Group 12"/>
                <p:cNvGrpSpPr/>
                <p:nvPr/>
              </p:nvGrpSpPr>
              <p:grpSpPr>
                <a:xfrm>
                  <a:off x="4365720" y="2454120"/>
                  <a:ext cx="1371600" cy="1486080"/>
                  <a:chOff x="4365720" y="2454120"/>
                  <a:chExt cx="1371600" cy="1486080"/>
                </a:xfrm>
              </p:grpSpPr>
              <p:sp>
                <p:nvSpPr>
                  <p:cNvPr id="598" name="Line 15"/>
                  <p:cNvSpPr/>
                  <p:nvPr/>
                </p:nvSpPr>
                <p:spPr>
                  <a:xfrm>
                    <a:off x="4365720" y="2911320"/>
                    <a:ext cx="685800" cy="102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utoShape 14"/>
                  <p:cNvSpPr/>
                  <p:nvPr/>
                </p:nvSpPr>
                <p:spPr>
                  <a:xfrm>
                    <a:off x="4365720" y="2454120"/>
                    <a:ext cx="1371600" cy="114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13"/>
                  <p:cNvSpPr/>
                  <p:nvPr/>
                </p:nvSpPr>
                <p:spPr>
                  <a:xfrm flipV="1">
                    <a:off x="5051520" y="2911320"/>
                    <a:ext cx="685800" cy="102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Line 11"/>
                <p:cNvSpPr/>
                <p:nvPr/>
              </p:nvSpPr>
              <p:spPr>
                <a:xfrm>
                  <a:off x="4365720" y="2911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Line 9"/>
              <p:cNvSpPr/>
              <p:nvPr/>
            </p:nvSpPr>
            <p:spPr>
              <a:xfrm>
                <a:off x="4822920" y="291132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8"/>
              <p:cNvSpPr/>
              <p:nvPr/>
            </p:nvSpPr>
            <p:spPr>
              <a:xfrm flipH="1">
                <a:off x="4822920" y="291132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7"/>
              <p:cNvSpPr/>
              <p:nvPr/>
            </p:nvSpPr>
            <p:spPr>
              <a:xfrm>
                <a:off x="4594320" y="3254040"/>
                <a:ext cx="2282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Line 5"/>
            <p:cNvSpPr/>
            <p:nvPr/>
          </p:nvSpPr>
          <p:spPr>
            <a:xfrm>
              <a:off x="4594320" y="3254040"/>
              <a:ext cx="91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17"/>
          <p:cNvSpPr/>
          <p:nvPr/>
        </p:nvSpPr>
        <p:spPr>
          <a:xfrm>
            <a:off x="685800" y="141120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знает и дошк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уж вам-то как не з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овсем другое дело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стро, точно и ум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и с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, в фигуре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разных? Рассмо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внимательно исследу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 краю и вну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8"/>
          <p:cNvSpPr/>
          <p:nvPr/>
        </p:nvSpPr>
        <p:spPr>
          <a:xfrm>
            <a:off x="4859280" y="5589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20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4"/>
          <p:cNvSpPr/>
          <p:nvPr/>
        </p:nvSpPr>
        <p:spPr>
          <a:xfrm>
            <a:off x="571680" y="180720"/>
            <a:ext cx="7080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5.Остановка «Литератур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Страна, за свободу которой боролся Бай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7236000" y="620640"/>
          <a:ext cx="12492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Rectangle 40"/>
          <p:cNvSpPr/>
          <p:nvPr/>
        </p:nvSpPr>
        <p:spPr>
          <a:xfrm>
            <a:off x="546840" y="119628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Имя автора «Приключения Чиполл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651640" y="1413000"/>
          <a:ext cx="124920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Rectangle 76"/>
          <p:cNvSpPr/>
          <p:nvPr/>
        </p:nvSpPr>
        <p:spPr>
          <a:xfrm>
            <a:off x="546120" y="205992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офессия  отца Мая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5572080" y="2286000"/>
          <a:ext cx="16668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22"/>
          <p:cNvSpPr/>
          <p:nvPr/>
        </p:nvSpPr>
        <p:spPr>
          <a:xfrm>
            <a:off x="387720" y="285228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Фамилия ученика в рассказе Чехова «Репети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7286760" y="3071880"/>
          <a:ext cx="124920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Rectangle 158"/>
          <p:cNvSpPr/>
          <p:nvPr/>
        </p:nvSpPr>
        <p:spPr>
          <a:xfrm>
            <a:off x="412560" y="3715920"/>
            <a:ext cx="56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Министр, с которым боролись три мушкет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715080" y="4000680"/>
          <a:ext cx="145728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Rectangle 199"/>
          <p:cNvSpPr/>
          <p:nvPr/>
        </p:nvSpPr>
        <p:spPr>
          <a:xfrm>
            <a:off x="432720" y="458100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Единица площади в стране, в которой жил Оливер Тв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8072280" y="4786200"/>
          <a:ext cx="6256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Rectangle 220"/>
          <p:cNvSpPr/>
          <p:nvPr/>
        </p:nvSpPr>
        <p:spPr>
          <a:xfrm>
            <a:off x="448560" y="5285880"/>
            <a:ext cx="66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.Автор изобретения, память о котором отмечают 7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500960" y="5429160"/>
          <a:ext cx="10414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Rectangle 251"/>
          <p:cNvSpPr/>
          <p:nvPr/>
        </p:nvSpPr>
        <p:spPr>
          <a:xfrm>
            <a:off x="0" y="748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121"/>
          <p:cNvSpPr/>
          <p:nvPr/>
        </p:nvSpPr>
        <p:spPr>
          <a:xfrm>
            <a:off x="785880" y="62866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1143000" y="132840"/>
            <a:ext cx="532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5.Остановка «Литературная»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   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Страна, за свободу которой боролся Бай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164360" y="476280"/>
          <a:ext cx="1619280" cy="701640"/>
        </p:xfrm>
        <a:graphic>
          <a:graphicData uri="http://schemas.openxmlformats.org/drawingml/2006/table">
            <a:tbl>
              <a:tblPr/>
              <a:tblGrid>
                <a:gridCol w="257040"/>
                <a:gridCol w="273240"/>
                <a:gridCol w="263520"/>
                <a:gridCol w="279360"/>
                <a:gridCol w="279360"/>
                <a:gridCol w="266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Rectangle 39"/>
          <p:cNvSpPr/>
          <p:nvPr/>
        </p:nvSpPr>
        <p:spPr>
          <a:xfrm>
            <a:off x="1226520" y="1643400"/>
            <a:ext cx="438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Имя автора «Приключения Чиполли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948360" y="1413000"/>
          <a:ext cx="1683000" cy="517320"/>
        </p:xfrm>
        <a:graphic>
          <a:graphicData uri="http://schemas.openxmlformats.org/drawingml/2006/table">
            <a:tbl>
              <a:tblPr/>
              <a:tblGrid>
                <a:gridCol w="274680"/>
                <a:gridCol w="306360"/>
                <a:gridCol w="263520"/>
                <a:gridCol w="279360"/>
                <a:gridCol w="279720"/>
                <a:gridCol w="2793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Rectangle 74"/>
          <p:cNvSpPr/>
          <p:nvPr/>
        </p:nvSpPr>
        <p:spPr>
          <a:xfrm>
            <a:off x="1026000" y="2071080"/>
            <a:ext cx="342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офессия  отца Маяков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659640" y="2205000"/>
          <a:ext cx="2190600" cy="701640"/>
        </p:xfrm>
        <a:graphic>
          <a:graphicData uri="http://schemas.openxmlformats.org/drawingml/2006/table">
            <a:tbl>
              <a:tblPr/>
              <a:tblGrid>
                <a:gridCol w="272880"/>
                <a:gridCol w="263520"/>
                <a:gridCol w="263520"/>
                <a:gridCol w="279360"/>
                <a:gridCol w="279720"/>
                <a:gridCol w="272880"/>
                <a:gridCol w="279360"/>
                <a:gridCol w="279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Rectangle 119"/>
          <p:cNvSpPr/>
          <p:nvPr/>
        </p:nvSpPr>
        <p:spPr>
          <a:xfrm>
            <a:off x="778320" y="2997000"/>
            <a:ext cx="55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Фамилия ученика в рассказе Чехова «Репетит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659640" y="2997360"/>
          <a:ext cx="1636560" cy="5173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3240"/>
                <a:gridCol w="274320"/>
                <a:gridCol w="273240"/>
                <a:gridCol w="268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Rectangle 154"/>
          <p:cNvSpPr/>
          <p:nvPr/>
        </p:nvSpPr>
        <p:spPr>
          <a:xfrm>
            <a:off x="950040" y="3499920"/>
            <a:ext cx="499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Министр, с которым боролись три мушкетё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6659640" y="3645000"/>
          <a:ext cx="1938240" cy="701640"/>
        </p:xfrm>
        <a:graphic>
          <a:graphicData uri="http://schemas.openxmlformats.org/drawingml/2006/table">
            <a:tbl>
              <a:tblPr/>
              <a:tblGrid>
                <a:gridCol w="272880"/>
                <a:gridCol w="279360"/>
                <a:gridCol w="320760"/>
                <a:gridCol w="263520"/>
                <a:gridCol w="273240"/>
                <a:gridCol w="264960"/>
                <a:gridCol w="263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Rectangle 194"/>
          <p:cNvSpPr/>
          <p:nvPr/>
        </p:nvSpPr>
        <p:spPr>
          <a:xfrm>
            <a:off x="832680" y="4436640"/>
            <a:ext cx="61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Единица площади в стране, в которой жил Оливер Тв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236000" y="4437000"/>
          <a:ext cx="806400" cy="701640"/>
        </p:xfrm>
        <a:graphic>
          <a:graphicData uri="http://schemas.openxmlformats.org/drawingml/2006/table">
            <a:tbl>
              <a:tblPr/>
              <a:tblGrid>
                <a:gridCol w="263520"/>
                <a:gridCol w="269640"/>
                <a:gridCol w="273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Rectangle 214"/>
          <p:cNvSpPr/>
          <p:nvPr/>
        </p:nvSpPr>
        <p:spPr>
          <a:xfrm>
            <a:off x="747720" y="5157360"/>
            <a:ext cx="58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.Автор изобретения, память о котором отмечают 7 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6732720" y="5229360"/>
          <a:ext cx="1373040" cy="517320"/>
        </p:xfrm>
        <a:graphic>
          <a:graphicData uri="http://schemas.openxmlformats.org/drawingml/2006/table">
            <a:tbl>
              <a:tblPr/>
              <a:tblGrid>
                <a:gridCol w="279360"/>
                <a:gridCol w="272880"/>
                <a:gridCol w="279360"/>
                <a:gridCol w="273240"/>
                <a:gridCol w="268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Rectangle 244"/>
          <p:cNvSpPr/>
          <p:nvPr/>
        </p:nvSpPr>
        <p:spPr>
          <a:xfrm>
            <a:off x="2211120" y="636696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49480" y="57960"/>
            <a:ext cx="875016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6.Остановка «Смек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о точек вставьте сло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мера угла( . . . . . . )мера темп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четырёхугольник( . . . . . . . ) вторая степен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подземная часть растений(  . . . . . )решени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еувеличение( . . . . . . . . . )график функции у=к/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мера угла( . . . . . .)мера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заряд( . . . . .)запись отноше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4"/>
          <p:cNvSpPr/>
          <p:nvPr/>
        </p:nvSpPr>
        <p:spPr>
          <a:xfrm>
            <a:off x="928800" y="57862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4"/>
          <p:cNvSpPr/>
          <p:nvPr/>
        </p:nvSpPr>
        <p:spPr>
          <a:xfrm>
            <a:off x="98280" y="351720"/>
            <a:ext cx="896184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6.Остановка «Смекайка»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о точек вставьт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ера угла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д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мера темп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четырёхугольник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вадр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вторая степен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подземная часть растений(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р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решени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еувеличение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ербо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график функции у=к/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мера угла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ну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мера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заряд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запись отноше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"/>
          <p:cNvSpPr/>
          <p:nvPr/>
        </p:nvSpPr>
        <p:spPr>
          <a:xfrm>
            <a:off x="2071800" y="62150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594000" y="769320"/>
            <a:ext cx="7997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становка     «Ошиб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ошибки в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ядом с ошибочным результатом постав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+12=15            15-2=13            16-5=11            14+6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+3=10            15+5=10           7+7=23              15-8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-9=7               5+17=22           114-8=6             16+9=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-6=6               4+18=22           18-4=12             15+9=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1071720" y="557208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ую  исправленную«ошибку» 0,5 б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4"/>
          <p:cNvSpPr/>
          <p:nvPr/>
        </p:nvSpPr>
        <p:spPr>
          <a:xfrm>
            <a:off x="998640" y="79200"/>
            <a:ext cx="74959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7.Остановка «Эру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автора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«Вдохновение нужно в геометрии не меньш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 поэ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         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.«Мы любим всё - и жар холодных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ар божественных вид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 внятно всё – и острый галльски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рачный германский г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«Математика – это язык, на котором говор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очные науки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815400" y="-6120"/>
            <a:ext cx="749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7.Остановка «Эрудит»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автора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«Вдохновение нужно в геометрии не меньше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 поэ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.С.Пуш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.«Мы любим всё - и жар холодных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ар божественных вид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 внятно всё – и острый галльски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рачный германский г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.Б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«Математика – это язык, на котором говор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очные нау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.И.Лобач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4"/>
          <p:cNvSpPr/>
          <p:nvPr/>
        </p:nvSpPr>
        <p:spPr>
          <a:xfrm>
            <a:off x="4082400" y="326052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-342360" y="254880"/>
            <a:ext cx="957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8.Остановка «Предмет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 помощью какого металла можно заморозить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Как называется самое большое озеро на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Назовите эпиграф к «Капитанской дочке» А.С.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Автор книги «Хождение за три мор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Температура воды у основания водоп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у его вершины неодина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 Где температура вы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5"/>
          <p:cNvSpPr/>
          <p:nvPr/>
        </p:nvSpPr>
        <p:spPr>
          <a:xfrm>
            <a:off x="500040" y="592920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4"/>
          <p:cNvSpPr/>
          <p:nvPr/>
        </p:nvSpPr>
        <p:spPr>
          <a:xfrm>
            <a:off x="404280" y="64440"/>
            <a:ext cx="831924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8.Остановка «Предметная»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 помощью какого металла можно заморозить в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туть, т.к. температура плавлен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=-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Как называется самое большое озеро на зем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спий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Назовите эпиграф к «Капитанской дочке» А.С.Пуш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Береги честь смоло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Автор книги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Хождение за три моря»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амятник литературы в фор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евых записей,  сделанных купцом из Т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фанасием Никити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 время его путеше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дийское государство Бахмани в 1468—1474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 воды у основания водоп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 его вершины неодин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? Где температура вы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 основания, т.к. энер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дающей воды идёт на её нагр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-301320" y="-2160"/>
            <a:ext cx="928188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9.Остановка «Учёные -мате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  честь какой женщины-математика назван цвето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Какой великий русский математик не получил диплом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я дважды успешно выдержал выпускные экза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университете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Назовите фамилию ученого, который написал самый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по геометрии. Он однофамилец изве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еского медика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акой ученый создал руководство по математике п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м «Начал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На могиле этого великого математика был установлен пам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зображением шара и описанного  около него цилин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устя почти 200 лет по этому чертежу  нашли его мог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этот математи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4"/>
          <p:cNvSpPr/>
          <p:nvPr/>
        </p:nvSpPr>
        <p:spPr>
          <a:xfrm>
            <a:off x="1857240" y="6211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250920" y="189000"/>
            <a:ext cx="8424720" cy="66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9.Остановка «Учёные -математики»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  честь какой женщины-математика назван цвето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ем известной вычислительницы француженк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артенз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Лекот 1723-1788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зван цвето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ОРТЕНЗ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везенный ею из Индии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кой великий русский математик не получил диплом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я дважды успешно выдержал выпускные экза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университете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.В. Остроградский (1801-1873)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он не согласился слушать лекции по богослови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Назовите фамилию ученого, который написал самый пер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 по геометрии. Он однофамилец изве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ческого медик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Какой ученый создал руководство по математике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м «Начал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вкл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На могиле этого великого математика был установлен пам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зображением шара и описанного  около него цилин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устя почти 200 лет по этому чертежу  нашли его мог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этот математи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хим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619280" y="141300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Arial"/>
              </a:rPr>
              <a:t>Подводим итог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414000" y="1100880"/>
            <a:ext cx="831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   Остановка     «Ошиб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ни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ошибки в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ядом с ошибочным результатом постав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+12=15           15-2=13           16-5=11           14+6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+3=10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15+5=10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7+7=2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15-8=23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-9=7               5+17=22           114-8=6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16+9=28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-6=6               4+18=22           18-4=12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15+9=25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шибок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712440" y="20304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2.Остановка «Счит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ы чисел по стро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уммы чисел п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бц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851040" y="1814400"/>
          <a:ext cx="2476440" cy="3232440"/>
        </p:xfrm>
        <a:graphic>
          <a:graphicData uri="http://schemas.openxmlformats.org/drawingml/2006/table">
            <a:tbl>
              <a:tblPr/>
              <a:tblGrid>
                <a:gridCol w="412560"/>
                <a:gridCol w="412920"/>
                <a:gridCol w="412560"/>
                <a:gridCol w="412920"/>
                <a:gridCol w="412560"/>
                <a:gridCol w="41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240"/>
          <p:cNvSpPr/>
          <p:nvPr/>
        </p:nvSpPr>
        <p:spPr>
          <a:xfrm>
            <a:off x="706680" y="504288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ответы записать в пустых клеточ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6"/>
          <p:cNvSpPr/>
          <p:nvPr/>
        </p:nvSpPr>
        <p:spPr>
          <a:xfrm>
            <a:off x="1000080" y="6072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1504080" y="139320"/>
            <a:ext cx="50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2.Остановка «Счит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ы чисел по стро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уммы чисел п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бц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655640" y="2408400"/>
          <a:ext cx="4140360" cy="2468520"/>
        </p:xfrm>
        <a:graphic>
          <a:graphicData uri="http://schemas.openxmlformats.org/drawingml/2006/table">
            <a:tbl>
              <a:tblPr/>
              <a:tblGrid>
                <a:gridCol w="612720"/>
                <a:gridCol w="503280"/>
                <a:gridCol w="720720"/>
                <a:gridCol w="719280"/>
                <a:gridCol w="792000"/>
                <a:gridCol w="792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Rectangle 240"/>
          <p:cNvSpPr/>
          <p:nvPr/>
        </p:nvSpPr>
        <p:spPr>
          <a:xfrm>
            <a:off x="1611360" y="541440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записать в пустых клет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1423080" y="286920"/>
            <a:ext cx="703584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3.Остановка «Угадайка»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черкните верный ответ.)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За каждый правильный ответ 0,5 б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армо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музыкальный инструмен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некоторая функ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музыкальный терм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оид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инструмент для нахождения центра кру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центр тяжести  треуголь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некоторая центрально-симметричная фиг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еликои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летательный аппар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плоская геометрическая фиг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кривая поверх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Чьи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В математике есть своя красота, как в живописи и поэз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Реп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Жуков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Ломон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Чьи 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Среди равных умов при одинаковости прочих услов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восходит тот, кто знает геометри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Евкли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Паскаль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Эйлер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2:31:41Z</dcterms:created>
  <dc:creator>teach221</dc:creator>
  <dc:description/>
  <dc:language>en-US</dc:language>
  <cp:lastModifiedBy>User</cp:lastModifiedBy>
  <dcterms:modified xsi:type="dcterms:W3CDTF">2012-10-24T14:26:01Z</dcterms:modified>
  <cp:revision>11</cp:revision>
  <dc:subject/>
  <dc:title>Слайд 1</dc:title>
</cp:coreProperties>
</file>