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80F-33F7-43DF-B55A-314FE8EF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08A-4934-4267-AB66-5A63E592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220-42C4-4901-81B7-913183DD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679-CB99-402C-8115-1CCF6C95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71CB-4B04-4CA7-B028-430F40C9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75C3-58AF-48C1-B57C-DEA63646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8E01-421C-4251-8278-C1A30D4A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B874-EF29-41C5-B2C5-80088F7D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F1AA-D370-4602-AD99-4DA265AF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7BEA-0D28-413C-AFF4-2788A1E3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F7B6-FF92-4DA8-9112-93FF9F3E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A17-B523-4130-BF51-E2C34605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7EF9-66CB-4859-AD16-53425DB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25A8-FF11-4E1C-AE01-62F39349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8EBC-3944-4599-8E0C-91001615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93B6-7F3A-4ABC-BBC7-AC7350E2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2539-71E1-4413-9E06-3694B9B7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C32B-84AF-4D52-B0DB-25B7E46F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84E1-C825-4CE7-ACEF-BFCF2071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2804-A8C0-46F2-8E06-FEC3F7A8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C370-215C-4861-88D0-2AEC0113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C14A-2758-4465-8A1E-03235F1D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53F-75E0-4592-9AEC-12F3CB05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C813-D9BB-4B81-ACD1-0B02BF4A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7EA7-A30A-45D5-89D6-42D25EC4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E9B6-4610-4F61-8625-6017AFBD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D4E2-61E4-4D53-9AEB-F02CEFFF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912B1-910C-4C9F-8C51-54D2D800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22EB-BE57-4C54-8790-AAC2A32A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5D86-375C-4CAE-A9E8-F58E4DAF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BC3D-125A-4695-8EC9-1C60E9C4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1A4B-6140-4C82-8715-2D1AAD42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15AC-AC54-49D3-9860-2D3632E4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78C-83E5-4F1E-9E21-76105E02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57DE-2E57-4758-B549-7AFB203B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EFE3-2089-41D7-B6FC-4766CC5A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CC74D-E6A2-4EBE-B2AA-B2F90F41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F3CD-54C5-4FCB-A021-452242A7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2FAFD-E0C9-4C4E-9880-FA4411B1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9943-7ECC-4511-B5A8-EB7A0057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D4F35-A572-4CFD-B31D-FC905F53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E352-7B41-4AE8-9A78-A2C2EDB1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CF60-C706-48A3-8EF1-8B3316DD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0E540-B51C-44E8-81A9-A9A1E223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C1A-0156-4C13-BE16-76085AE0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C3C6A-38B9-471B-B0D6-ABA92B5A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9414D-C310-4A39-991E-E1D89048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A963-1468-43B6-8D98-D66C90C9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D92A4-87A8-478D-9FDF-CAA5D960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9DDE0-ABD3-4E60-BE63-2B17A7C8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36BF-837D-4983-A357-78543CBF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A5624-FEF0-4ADD-AC7A-01511F8B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ABD19-54A9-4999-A592-383AB500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58A8B-3B06-48CA-BCEF-36DAC5FD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95946-8B72-409F-BEDD-11BB1685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792-881D-4553-B305-4BC6E597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1517F-7DB9-4503-9791-6E0DFDDC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A2CC-390A-460C-98EC-720CFD16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0CB82-CC53-4045-9276-8F6A6A8E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E710F-4877-4400-8BB9-32FE54D2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E49B-3195-4B0C-8C54-CE055566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049AD-3922-4A0A-BE2E-C458D535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2E504-184E-4D96-9B2D-1830003A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FC061-F9CB-4A2E-A6C0-25843897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ED9A8-A001-4CDE-8E23-74FAE983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C8375-5569-438F-93D6-B9899508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96B-746B-4E0F-904B-2C0478F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AF29A-3B3F-4164-AE08-E86228D0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D17B-16E1-4C50-9625-FC325022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5D2C6-A0E7-4D63-9DA5-65B37E2D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55CDC-1EFC-4673-9F52-27A9C3B1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23852-0583-40C7-A05E-B9324ECB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E5C73-C8FC-4B48-8292-D6ABF4ED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2124B-0AF8-49D8-B3F6-F0692F1A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AE924-A163-4667-94E5-E3F4AA68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0F4F3-D345-4658-9539-324A9925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61D59-8123-4040-81C4-0027C7C3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23C-38E7-48C4-BA5C-6B39E4EC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871AD-DEF9-4DC1-8B18-60A3500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25295-C3E3-4F20-9AFD-688471F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D4550-5924-44F7-890C-E9311963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19A84-4E80-449A-86E2-BE78A80E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556BE-E2E3-4AFD-872D-B3F8E320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EB2-A093-4F2D-9FEE-FA1A6C59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A734-531A-4630-AC44-D3DB685378C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3964-21D5-4324-B647-AEDF3A2830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4A29-D708-40A5-BCEA-0A91E3AFB3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73C4-9A17-49FB-B89F-67451B622A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02C8-5284-4285-87D8-4B890618AF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0FE9-F0CF-4A1C-921A-1E09D529D04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A250-50BD-4851-A62A-9F7B6FE076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928800" y="1214280"/>
            <a:ext cx="7000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Задания к уроку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«Решение показательных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уравнений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"/>
              <p:cNvSpPr txBox="1"/>
              <p:nvPr/>
            </p:nvSpPr>
            <p:spPr>
              <a:xfrm>
                <a:off x="1428840" y="1143000"/>
                <a:ext cx="1981080" cy="25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4857840" y="1500120"/>
                <a:ext cx="219528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0,7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0,7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1465200" y="4143240"/>
                <a:ext cx="2500200" cy="21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TextBox 10"/>
          <p:cNvSpPr/>
          <p:nvPr/>
        </p:nvSpPr>
        <p:spPr>
          <a:xfrm>
            <a:off x="888840" y="428760"/>
            <a:ext cx="736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.Устная работа «Найди ошибку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"/>
              <p:cNvSpPr txBox="1"/>
              <p:nvPr/>
            </p:nvSpPr>
            <p:spPr>
              <a:xfrm>
                <a:off x="714240" y="1214280"/>
                <a:ext cx="3386160" cy="530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Решить уравнение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0,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4857840" y="1143000"/>
                <a:ext cx="383544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Решить неравенств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0" name="TextBox 5"/>
          <p:cNvSpPr/>
          <p:nvPr/>
        </p:nvSpPr>
        <p:spPr>
          <a:xfrm>
            <a:off x="1285920" y="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бота в пара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1"/>
              <p:cNvSpPr txBox="1"/>
              <p:nvPr/>
            </p:nvSpPr>
            <p:spPr>
              <a:xfrm>
                <a:off x="500040" y="1214280"/>
                <a:ext cx="3281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285840" y="2500200"/>
                <a:ext cx="40845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214200" y="3714840"/>
                <a:ext cx="4337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57120" y="4714920"/>
                <a:ext cx="28497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4929120" y="1285920"/>
                <a:ext cx="38577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5143680" y="2643120"/>
                <a:ext cx="3000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3"/>
              <p:cNvSpPr txBox="1"/>
              <p:nvPr/>
            </p:nvSpPr>
            <p:spPr>
              <a:xfrm>
                <a:off x="5000760" y="4071960"/>
                <a:ext cx="285732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5"/>
              <p:cNvSpPr txBox="1"/>
              <p:nvPr/>
            </p:nvSpPr>
            <p:spPr>
              <a:xfrm>
                <a:off x="1857240" y="5643720"/>
                <a:ext cx="58467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8</m:t>
                                    </m:r>
                                  </m:e>
                                </m:rad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8</m:t>
                                    </m:r>
                                  </m:e>
                                </m:rad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TextBox 17"/>
          <p:cNvSpPr/>
          <p:nvPr/>
        </p:nvSpPr>
        <p:spPr>
          <a:xfrm>
            <a:off x="1643040" y="28584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лиц-опрос(работа в группах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"/>
              <p:cNvSpPr txBox="1"/>
              <p:nvPr/>
            </p:nvSpPr>
            <p:spPr>
              <a:xfrm>
                <a:off x="500040" y="1571760"/>
                <a:ext cx="7858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TextBox 3"/>
          <p:cNvSpPr/>
          <p:nvPr/>
        </p:nvSpPr>
        <p:spPr>
          <a:xfrm>
            <a:off x="1000080" y="28584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716040" y="10717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.Решить уравн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5"/>
              <p:cNvSpPr txBox="1"/>
              <p:nvPr/>
            </p:nvSpPr>
            <p:spPr>
              <a:xfrm>
                <a:off x="857160" y="3429000"/>
                <a:ext cx="421488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TextBox 31"/>
          <p:cNvSpPr/>
          <p:nvPr/>
        </p:nvSpPr>
        <p:spPr>
          <a:xfrm>
            <a:off x="858960" y="26431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2.Решить уравн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1254240" y="2130480"/>
                <a:ext cx="33890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1189080" y="3422520"/>
                <a:ext cx="64832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TextBox 5"/>
          <p:cNvSpPr/>
          <p:nvPr/>
        </p:nvSpPr>
        <p:spPr>
          <a:xfrm>
            <a:off x="714240" y="571680"/>
            <a:ext cx="77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ренировочные упражнения в группа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585000" y="150012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шить уравн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642960" y="2214720"/>
                <a:ext cx="42148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857160" y="1214280"/>
                <a:ext cx="4160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"/>
              <p:cNvSpPr txBox="1"/>
              <p:nvPr/>
            </p:nvSpPr>
            <p:spPr>
              <a:xfrm>
                <a:off x="571680" y="3500280"/>
                <a:ext cx="369072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Rectangle 4"/>
          <p:cNvSpPr/>
          <p:nvPr/>
        </p:nvSpPr>
        <p:spPr>
          <a:xfrm>
            <a:off x="18000" y="14040"/>
            <a:ext cx="7745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ная работа «Мозговой штур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3960" y="6573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857160" y="5072040"/>
            <a:ext cx="692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4. ( х + 5)² + ( у – 4)² =0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Object 1"/>
              <p:cNvSpPr txBox="1"/>
              <p:nvPr/>
            </p:nvSpPr>
            <p:spPr>
              <a:xfrm>
                <a:off x="857160" y="1857240"/>
                <a:ext cx="6168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Rectangle 3"/>
          <p:cNvSpPr/>
          <p:nvPr/>
        </p:nvSpPr>
        <p:spPr>
          <a:xfrm>
            <a:off x="4639320" y="519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2428920" y="50004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бота в групп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1513800" y="128592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шить уравн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17:12:40Z</dcterms:created>
  <dc:creator>User</dc:creator>
  <dc:description/>
  <dc:language>en-US</dc:language>
  <cp:lastModifiedBy>User</cp:lastModifiedBy>
  <dcterms:modified xsi:type="dcterms:W3CDTF">2015-02-08T17:41:10Z</dcterms:modified>
  <cp:revision>3</cp:revision>
  <dc:subject/>
  <dc:title>Слайд 1</dc:title>
</cp:coreProperties>
</file>