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E62B-5F40-4B61-A0E2-D1C91A29F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01B1-FB4B-4AE1-B8A4-A24C81FD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B302-B54D-449A-8B26-D34B2A330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DB6A-535A-4B33-8D3D-6626DAFA1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0E40-6771-4C1D-BE84-59F13F005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5B3C-3FF8-4664-A471-206BB970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2948-94A9-4DA5-BB7E-BEA9E476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B425-9C62-4D84-A68C-0C90A273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7CB4-A36D-4BE8-830D-C3D0F3DD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4582-5B23-470C-9A76-DE05E3D9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A953-2F67-4256-AD15-C41F0FEA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7F41-D909-4B5F-A8F2-380AB96B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6008-9CAD-4075-A166-506042AF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18ED-062C-458B-B632-6CF4BCCB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83D3-7A59-405C-B3E4-E974E1D0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B7A4-890B-4D7F-A0D4-EA30F5079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7DD1-B4A1-499B-9838-85F4DCCB6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0C7DD-87EB-46C3-B9FA-4270FF20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DE434-7AEB-4722-847A-AFCFE904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25A28-2C83-4FE0-BA05-604A3910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2E1C9-6B70-4B56-9123-8ACEFEF2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2FBAF-8F7D-4075-923C-E5F2FFBC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E91C-DB2C-4FBF-AA41-BBDB3418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F6511-8BFC-4B4A-A998-74D49B4F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1605B-61D3-4C80-AD56-EA776064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5DBA7-2438-4FCB-98BA-88855D8A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190BB-DFC8-4A43-A479-68E4F927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8A8A0-8617-4A01-9DF5-85B0A64D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67E56-83D0-4D04-8FFE-2013A7DC0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96636-7B4B-4B61-ADC1-FB4839A9D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54B9B-3843-4CE9-B26B-C2C0C7CF2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EA855-8D37-45A2-8839-55080538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4E5A0-954A-40B5-8A4D-87570551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67A4-8BD3-48BB-B546-884034CB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10924-D399-4827-BC6A-5C46D6C8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27288-B3C7-4D5E-8328-56BD9C4A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3E48C-CEB8-48E6-BAC2-6C03DB26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5262B-2F4A-43A4-85EC-2ACC3CE8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E21F2-EFE6-42D9-A185-41811C70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8054C-DD2A-49DC-ACD1-13BA4C8B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085AC-AC5D-46A4-A72F-54896371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75A6C-D20D-44DB-B5B7-98A5CCB98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A6F35-DB1A-4B37-BDB2-D3AA5847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57931-B41B-42AC-BE5F-E06AB3852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E98C-2717-42C0-BE6D-7246EAFD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70EC9-D511-4118-B839-D0A822D7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95CDE-3674-4A54-9C94-28467462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96AC1-1295-44F9-8119-E4E2CC9B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E59EC-9307-4233-9C27-66C320BF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9B88A-B671-44FD-8995-D4CA11C0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0C6DD-89DF-47B2-B727-694DA13F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75D09-D6AE-47E1-A463-AF8A6DC2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12C94-9586-4374-93FF-81D4379E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C3BAC-E1E5-4392-B7F9-B91E6C12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BC46A-D6EA-4265-9AC8-E2BDB3095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E1FD-170A-4E9E-82A6-89BC2B04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D7E1D-C6E4-443D-8793-488D22EDF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26831-72ED-46A7-8C3D-B3C70491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64189-E044-40CD-A824-421D7293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6A2E8-C4A7-4D57-8CBB-BC1F74EE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4122E-82F2-4FF0-A700-280614CB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6E3EC-B436-45F1-895A-83E7A354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69E87-5681-4F5D-8A41-3F138F21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B5303-1860-44FD-BB42-FD5D7018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B36A5-C387-4D48-A7F1-DF9E5936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51F20-2204-4727-B2B2-F68063CF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C525-557A-4BB1-B932-4712DE67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B8543-EABA-4A5E-955B-C9652A4D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04A9B-B80F-4F2B-BA12-2D79C4204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29CB6-2F6C-49D1-B50B-01F2F728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E9CBF-9CCC-4456-9FC5-3AA7D49B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939C8-1DEB-4120-B1D8-42241B18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A643B-58F9-4894-A73C-F86C9BB1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837BF-8EFB-4FC8-A55A-889B1D2A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2D46A-17B9-48E0-9C91-7512D1DB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4F157-9CA8-42A1-90D7-DDCD38BF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ECB6D-F2F5-4E10-8F4B-CC8ECEFC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5C23-1ADF-4A1C-80E3-D7683F0B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716A2-F749-4686-8C43-6A37F802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352D1-1CA2-49B3-BBEE-B9408DD6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0B4F5-836B-42A0-BAE0-B6A7D162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9913B-2339-440D-8405-E09D99670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33469-14D7-462A-B94D-E0616378F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60C3-3BCB-4FB0-B431-E292DDE0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1F6D-3C42-4EFD-8918-8E7BDFCC080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5160-11CA-4895-9414-C358B6FB1B3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C1F4-3CC2-4E5C-BFA7-1EB34EA7BC2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F78A-C51B-44C1-80CF-01215B36E81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0356-EA41-48AE-89FE-5AAADE4BCC9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51C8-8FCC-4BF0-9662-8DA6591A1C2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278B-97F2-427B-9CF6-D41F7DAAF98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1"/>
          <p:cNvSpPr/>
          <p:nvPr/>
        </p:nvSpPr>
        <p:spPr>
          <a:xfrm>
            <a:off x="928800" y="1214280"/>
            <a:ext cx="7000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Задания к уроку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«Решение показательных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              </a:t>
            </a: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уравнений»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Object 1"/>
              <p:cNvSpPr txBox="1"/>
              <p:nvPr/>
            </p:nvSpPr>
            <p:spPr>
              <a:xfrm>
                <a:off x="1428840" y="1143000"/>
                <a:ext cx="1981080" cy="254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3"/>
              <p:cNvSpPr txBox="1"/>
              <p:nvPr/>
            </p:nvSpPr>
            <p:spPr>
              <a:xfrm>
                <a:off x="4857840" y="1500120"/>
                <a:ext cx="2195280" cy="20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0,7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&gt;</m:t>
                        </m:r>
                        <m:sSup>
                          <m:e>
                            <m:r>
                              <m:t xml:space="preserve">0,7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&lt;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5"/>
              <p:cNvSpPr txBox="1"/>
              <p:nvPr/>
            </p:nvSpPr>
            <p:spPr>
              <a:xfrm>
                <a:off x="1465200" y="4143240"/>
                <a:ext cx="2500200" cy="211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5" name="TextBox 10"/>
          <p:cNvSpPr/>
          <p:nvPr/>
        </p:nvSpPr>
        <p:spPr>
          <a:xfrm>
            <a:off x="888840" y="428760"/>
            <a:ext cx="736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1.Устная работа «Найди ошибку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Object 1"/>
              <p:cNvSpPr txBox="1"/>
              <p:nvPr/>
            </p:nvSpPr>
            <p:spPr>
              <a:xfrm>
                <a:off x="714240" y="1214280"/>
                <a:ext cx="3386160" cy="530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Решить уравнение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0,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5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5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5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3"/>
              <p:cNvSpPr txBox="1"/>
              <p:nvPr/>
            </p:nvSpPr>
            <p:spPr>
              <a:xfrm>
                <a:off x="4857840" y="1143000"/>
                <a:ext cx="3835440" cy="46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Решить неравенство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&lt;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8</m:t>
                            </m:r>
                            <m:r>
                              <m:t xml:space="preserve">x</m:t>
                            </m:r>
                          </m:sup>
                        </m:sSup>
                      </m:e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8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&lt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0" name="TextBox 5"/>
          <p:cNvSpPr/>
          <p:nvPr/>
        </p:nvSpPr>
        <p:spPr>
          <a:xfrm>
            <a:off x="1285920" y="0"/>
            <a:ext cx="642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Работа в парах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1"/>
              <p:cNvSpPr txBox="1"/>
              <p:nvPr/>
            </p:nvSpPr>
            <p:spPr>
              <a:xfrm>
                <a:off x="500040" y="1214280"/>
                <a:ext cx="3281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3"/>
              <p:cNvSpPr txBox="1"/>
              <p:nvPr/>
            </p:nvSpPr>
            <p:spPr>
              <a:xfrm>
                <a:off x="285840" y="2500200"/>
                <a:ext cx="40845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5"/>
              <p:cNvSpPr txBox="1"/>
              <p:nvPr/>
            </p:nvSpPr>
            <p:spPr>
              <a:xfrm>
                <a:off x="214200" y="3714840"/>
                <a:ext cx="43372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7"/>
              <p:cNvSpPr txBox="1"/>
              <p:nvPr/>
            </p:nvSpPr>
            <p:spPr>
              <a:xfrm>
                <a:off x="357120" y="4714920"/>
                <a:ext cx="284976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9"/>
              <p:cNvSpPr txBox="1"/>
              <p:nvPr/>
            </p:nvSpPr>
            <p:spPr>
              <a:xfrm>
                <a:off x="4929120" y="1285920"/>
                <a:ext cx="385776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11"/>
              <p:cNvSpPr txBox="1"/>
              <p:nvPr/>
            </p:nvSpPr>
            <p:spPr>
              <a:xfrm>
                <a:off x="5143680" y="2643120"/>
                <a:ext cx="30002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9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den>
                            </m:f>
                          </m:e>
                        </m:d>
                      </m:e>
                      <m:sup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13"/>
              <p:cNvSpPr txBox="1"/>
              <p:nvPr/>
            </p:nvSpPr>
            <p:spPr>
              <a:xfrm>
                <a:off x="5000760" y="4071960"/>
                <a:ext cx="285732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5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15"/>
              <p:cNvSpPr txBox="1"/>
              <p:nvPr/>
            </p:nvSpPr>
            <p:spPr>
              <a:xfrm>
                <a:off x="1857240" y="5643720"/>
                <a:ext cx="584676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8</m:t>
                                    </m:r>
                                  </m:e>
                                </m:rad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8</m:t>
                                    </m:r>
                                  </m:e>
                                </m:rad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7" name="TextBox 17"/>
          <p:cNvSpPr/>
          <p:nvPr/>
        </p:nvSpPr>
        <p:spPr>
          <a:xfrm>
            <a:off x="1643040" y="285840"/>
            <a:ext cx="66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Блиц-опрос(работа в группах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1"/>
              <p:cNvSpPr txBox="1"/>
              <p:nvPr/>
            </p:nvSpPr>
            <p:spPr>
              <a:xfrm>
                <a:off x="500040" y="1571760"/>
                <a:ext cx="785808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0" name="TextBox 3"/>
          <p:cNvSpPr/>
          <p:nvPr/>
        </p:nvSpPr>
        <p:spPr>
          <a:xfrm>
            <a:off x="1000080" y="28584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Проверка домашнего зада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TextBox 4"/>
          <p:cNvSpPr/>
          <p:nvPr/>
        </p:nvSpPr>
        <p:spPr>
          <a:xfrm>
            <a:off x="716040" y="1071720"/>
            <a:ext cx="34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1.Решить уравнени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25"/>
              <p:cNvSpPr txBox="1"/>
              <p:nvPr/>
            </p:nvSpPr>
            <p:spPr>
              <a:xfrm>
                <a:off x="857160" y="3429000"/>
                <a:ext cx="4214880" cy="20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4" name="TextBox 31"/>
          <p:cNvSpPr/>
          <p:nvPr/>
        </p:nvSpPr>
        <p:spPr>
          <a:xfrm>
            <a:off x="858960" y="2643120"/>
            <a:ext cx="34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2.Решить уравнени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1"/>
              <p:cNvSpPr txBox="1"/>
              <p:nvPr/>
            </p:nvSpPr>
            <p:spPr>
              <a:xfrm>
                <a:off x="1254240" y="2130480"/>
                <a:ext cx="33890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х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7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3"/>
              <p:cNvSpPr txBox="1"/>
              <p:nvPr/>
            </p:nvSpPr>
            <p:spPr>
              <a:xfrm>
                <a:off x="1189080" y="3422520"/>
                <a:ext cx="648324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х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х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х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9" name="TextBox 5"/>
          <p:cNvSpPr/>
          <p:nvPr/>
        </p:nvSpPr>
        <p:spPr>
          <a:xfrm>
            <a:off x="714240" y="571680"/>
            <a:ext cx="771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Тренировочные упражнения в группах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TextBox 6"/>
          <p:cNvSpPr/>
          <p:nvPr/>
        </p:nvSpPr>
        <p:spPr>
          <a:xfrm>
            <a:off x="585000" y="1500120"/>
            <a:ext cx="32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Решить уравнени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1" name="Object 3"/>
              <p:cNvSpPr txBox="1"/>
              <p:nvPr/>
            </p:nvSpPr>
            <p:spPr>
              <a:xfrm>
                <a:off x="642960" y="2214720"/>
                <a:ext cx="421488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2"/>
              <p:cNvSpPr txBox="1"/>
              <p:nvPr/>
            </p:nvSpPr>
            <p:spPr>
              <a:xfrm>
                <a:off x="857160" y="1214280"/>
                <a:ext cx="4160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1"/>
              <p:cNvSpPr txBox="1"/>
              <p:nvPr/>
            </p:nvSpPr>
            <p:spPr>
              <a:xfrm>
                <a:off x="571680" y="3500280"/>
                <a:ext cx="3690720" cy="119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  <m:sup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Rectangle 4"/>
          <p:cNvSpPr/>
          <p:nvPr/>
        </p:nvSpPr>
        <p:spPr>
          <a:xfrm>
            <a:off x="18000" y="14040"/>
            <a:ext cx="7745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стная работа «Мозговой штур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3960" y="65736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Прямоугольник 8"/>
          <p:cNvSpPr/>
          <p:nvPr/>
        </p:nvSpPr>
        <p:spPr>
          <a:xfrm>
            <a:off x="857160" y="5072040"/>
            <a:ext cx="692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4. ( х + 5)² + ( у – 4)² =0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7" name="Object 1"/>
              <p:cNvSpPr txBox="1"/>
              <p:nvPr/>
            </p:nvSpPr>
            <p:spPr>
              <a:xfrm>
                <a:off x="857160" y="1857240"/>
                <a:ext cx="61689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8" name="Rectangle 3"/>
          <p:cNvSpPr/>
          <p:nvPr/>
        </p:nvSpPr>
        <p:spPr>
          <a:xfrm>
            <a:off x="4639320" y="5194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TextBox 4"/>
          <p:cNvSpPr/>
          <p:nvPr/>
        </p:nvSpPr>
        <p:spPr>
          <a:xfrm>
            <a:off x="2428920" y="500040"/>
            <a:ext cx="300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Работа в группах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TextBox 5"/>
          <p:cNvSpPr/>
          <p:nvPr/>
        </p:nvSpPr>
        <p:spPr>
          <a:xfrm>
            <a:off x="1513800" y="1285920"/>
            <a:ext cx="32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Решить уравнени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8T17:12:40Z</dcterms:created>
  <dc:creator>User</dc:creator>
  <dc:description/>
  <dc:language>en-US</dc:language>
  <cp:lastModifiedBy>User</cp:lastModifiedBy>
  <dcterms:modified xsi:type="dcterms:W3CDTF">2015-02-08T17:41:10Z</dcterms:modified>
  <cp:revision>3</cp:revision>
  <dc:subject/>
  <dc:title>Слайд 1</dc:title>
</cp:coreProperties>
</file>