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7B4B-E7B0-401C-BD0C-FCEE0B4BD6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6A74-2CC4-4BDD-AD62-E2E5355AA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6B4-C86E-41D3-803A-38B0C01D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8BC-AC04-4070-851C-111BFDC4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E2B09-F512-4E97-993E-7C8B6637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D5C64-5186-47E6-AA72-17EF7713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B7697-A88E-4703-A73F-7AA595BC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3CD6B-0970-4462-BF43-36E7CA22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CA866-A8EF-482C-8DB5-5FB12D40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B247A-D645-4387-A9EA-9786242B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03453-CDA4-4C17-97B0-B12C1B42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71F0F-3E52-45CC-A94A-6EDD3177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3D25D-E9AC-47A4-9702-FA03D2F3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ED500-2314-46CA-8ED5-3CC29E93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7F3-51D7-4E12-B71C-DD7B8E03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A32F9-8006-4EB9-A28F-01CAE299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CE389-B5F2-4472-BC25-F22AA442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289A2-AD1E-449B-AE33-64DFAF81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CE0C8-C6D6-459C-AE1D-915BA54D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4CEFA-3781-4818-A8A4-91E99DBC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6A1D3-C5D6-421B-9AB1-05EAF1E0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3179B-9625-407F-B1EE-3A0A34DC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3D07D-42ED-4DE6-A6EA-6F5BD1FF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DA73C-95CB-4F21-BB43-F45E7920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3306E-4C43-4000-98AB-B3FE4292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4AC-42C5-4C11-BA9E-54FF2595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502F6-A529-4C32-BF25-B63391F4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DF853-2DF1-4344-B553-5A1C064E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26AC5-3DC7-4561-A005-FF20DB0A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2364F-086D-4B6E-82CA-1B7A7323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FAB47-2E32-486A-82FF-17B009E3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43610-D07D-499A-9521-C5300A34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96AC5-DDEF-4D8A-A9C2-11DBA6E7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C9C50-9B34-4963-AF21-23D51960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36B2E-A0F5-437E-BEA9-D24DFD49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BB9F3-8917-4B77-84F0-CE8708D5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0ED8-6879-4D25-8404-A51BC72B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2386D-39FD-45FD-90CE-94E0BBE7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69825-DC8B-47B2-89A8-292C91DA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260BB-6F9C-43D6-AB5E-517E6783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58B8A-7632-45FE-82CE-22F65C2C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F05E3-45C4-41A8-AB1F-BF195973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FFF05-F96B-45C3-B9EB-E2960E1D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D644E-B415-4B30-82A6-0FA27656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D6D1F-046F-4D5A-9A28-489BABC6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02129-F7F4-44BE-8712-D1F01B08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278F6-9A55-49D3-BB40-E960913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E21A-1CA8-4F41-854C-85208F59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BCC56-1225-45E5-B4EB-5277D426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13952-901F-4581-9FE3-617169A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C914C-26A2-44EE-8746-DDC30DE9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6853D-64FC-4CE8-AEC1-ABD949B8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AA3E7-2EB2-4DF8-BDF2-167CF6DE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7797-C93D-4096-BD82-F1355810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1B5C-B877-49E6-BD4D-481AB2E2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EB95-1315-492A-9351-F0C69C12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EAA1-1C20-4209-A353-858BABD4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1C0E-D4B2-451E-9F8B-D9845E1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BF4-355A-45F6-AB54-6940308A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4632-ABE7-4D50-9C2E-5BC68F08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5831-C4A7-4456-93D4-1E536CE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840D-BF05-4F99-875D-1C6D0425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4365-CA10-47CB-8E56-3DFBC8A5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8494-3040-41E0-9B93-D0BFEBD8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0225-0E62-4817-B514-994F7DE6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E1E0-BA9B-4E78-A3C5-A78C08B8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1ADD-112E-4198-9F61-223A1045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B6C9-6F5D-449C-A0CB-11C5B12F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C2EC-0E9B-4548-8158-8ACB4D68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1A4-26D6-4267-8837-833F68BC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337A-CF97-4C64-BE0D-E917E1A7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F3E8-37D2-4D44-BAC3-D6797148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E947-EB5F-4813-8B95-1408850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58FF-D675-4F66-8CC8-D5892FB1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59AD-DBFA-45BE-BEE7-48696433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B729-BE2E-4658-AAD4-2271CF72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68C2-21AC-4C5B-9A24-580C5857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E93D-0C42-459B-BDF9-A30BB363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8CD1D-A703-4976-BB2B-7024E93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4983-05BC-4DF3-BE13-919C439C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8BB-D5AE-4F01-8B46-5EEE258E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43FF1-D602-43A9-AD51-86058C24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E5C7-9CFA-47E9-B5AE-DD438FDE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8498-6C7B-4D22-83CC-970F4534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E5A8-511E-459C-9381-553AF1FC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8552-4DF7-4885-B639-418036D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6A315-C8F1-411A-B80B-B65F019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FDE6C-1FAD-40C5-852D-83065988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579CB-DF52-49F7-841C-9AE0EB45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DE17-27D4-4D87-8EC3-13744F47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F45A1-84AA-4C8F-9FBE-4B08BF06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077-7196-47DE-A517-97A7F3A5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76C0-9204-403D-9FCB-F8990978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A6F88-6C5D-4BA6-955F-878EA2AD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3ED4D-0478-4550-8A9D-E7E4F55A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CAC3D-2DB2-4795-B8B5-907B28FC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069B-C90E-4A82-B3C3-EF6F7557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27905-3B56-4D21-B3B4-B07CB8AA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48AFE-8E6D-463D-9FB9-F535FBB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15C2-251D-4125-8231-43C305B7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5234-D38E-4BFE-A5BB-17CD827D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A6DB-2343-4AA1-9AB1-B86CC7C6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866-B867-456B-9511-D6BA7C0D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EC35-4D71-4F19-B8A0-DC2524E4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40CE3-BD50-4EAC-8919-AA750754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412E4-D14E-4828-9315-396B4468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8EC0A-9B4F-40C2-BCB8-DB7625C2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36090-2015-4D7C-872D-51FD1CE4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6866B-DB38-47F5-B71F-0499C517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3B7C3-047B-4E98-BEAC-80566776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23A6E-F353-427C-9F8B-756643F1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A9993-D570-42D5-B316-B1739E20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E30D5-0203-460D-939F-D5E8B15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7AD-EA12-4CCE-BD9F-45028C9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2B180-81CA-40F0-9658-0E436A0D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285A5-D502-41E5-9929-CD2EF914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BC1D0-3D9D-4B06-B111-42A5BFA8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D33B3-E442-4A78-9AEE-AC9B9878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FB72-8807-4335-84C8-59682B9D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6843E-0BCD-41F8-8EE1-8953EB17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8F8B-2879-4C57-A1B1-96C67B06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13A9-864E-4A88-8ABC-0B437D37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7F895-89FA-4B7A-96E9-607ECC69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A0A8F-93FC-47D4-91F3-FBCCE10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5A5-CE6D-49DE-8D55-F4D8C723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EE5A-3F4E-46E2-9391-B72A60F9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E5ADB-9D9D-4945-9803-83FC7E3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522CF-59A6-40A0-93B3-1F4B68F6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E1271-EC5E-4958-B42C-06507873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7EC7F-D185-4F85-98E5-149A2A6E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686E8-237F-4671-B38B-A97E6111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638A8-30C7-41C3-823F-263D723B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8EBA0-8BC1-471C-A330-FCE8A7CC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BD24E-2D8A-4963-B4BE-9488B70C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56257-B4CE-4518-889E-2B73A92D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1F5-5EFF-4CFD-8B70-45FAF285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A6A1D-09CD-4C6C-8393-C443A0E7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D88FB-C4A7-40FA-92CD-B5609EF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C0F55-27B1-494C-868F-440B102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25A19-882D-48EE-8E62-50ECC982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88857-5B2E-4002-A376-334CD4BE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37358-F4BC-40BA-BF7E-29684B02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223FE-3183-4948-9849-CD3D3F6C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52F19-9F16-47FC-B456-594C7CD5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958C3-F7FD-4EC6-BDA3-83BB4D8E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910B8-733B-47DB-B161-46B3FA22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969C-E665-4568-983E-0562E07CF8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A922-E8D0-4B0C-81AA-52E4B09D3F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3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4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6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8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6067-4577-408A-9553-1085BD06E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4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5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7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0909-AC99-4AFC-988D-FEDD15334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7A71-76FD-430C-A4D4-2E6963A381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83F2-08B3-4EA6-861D-E6F4B8BDA7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8E6D-71DB-4168-A68D-89A999F4DD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0D79-35C1-44EC-BD00-018C489623F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60F8-C456-45DA-822B-CAFC3E7A548D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D3E0-65C6-41DC-A574-24CD466B72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CF1B-FE04-4007-BC6F-22DDFA88CE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FB46-1D5D-4E35-90D4-3DD7169729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БОУ СОШ с.Таремское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оминация: «Литературный перевод стихотворения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езентация «Я – скейтбордер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560" y="45720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Курыхалова Дарья, ученица 8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: Блинова Наталья Николае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8" descr="untitled000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428640" y="525744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1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Понятно мне: я не такой как все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1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Творю я то, что многие не могут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6" descr="C:\Documents and Settings\Пользователь\Рабочий стол\Скейтбордер\стих\pg5zpiW7v5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809520" y="15228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6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0062"/>
                </a:solidFill>
                <a:latin typeface="Monotype Corsiva"/>
              </a:rPr>
              <a:t>Но не хвалюсь, ведь если я на </a:t>
            </a:r>
            <a:r>
              <a:rPr b="1" lang="ru-RU" sz="2800" spc="-1" strike="noStrike">
                <a:solidFill>
                  <a:srgbClr val="e90062"/>
                </a:solidFill>
                <a:latin typeface="Monotype Corsiva"/>
              </a:rPr>
              <a:t>высоте</a:t>
            </a:r>
            <a:r>
              <a:rPr b="1" i="1" lang="ru-RU" sz="2800" spc="-1" strike="noStrike">
                <a:solidFill>
                  <a:srgbClr val="e90062"/>
                </a:solidFill>
                <a:latin typeface="Monotype Corsiv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6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0062"/>
                </a:solidFill>
                <a:latin typeface="Monotype Corsiva"/>
              </a:rPr>
              <a:t>То за талант такой – спасибо Богу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Skateboarder &amp;icy;&amp;zcy;&amp;ocy;&amp;bcy;&amp;rcy;&amp;acy;&amp;zhcy;&amp;iecy;&amp;ncy;&amp;icy;&amp;jcy;, &amp;scy;&amp;tcy;&amp;ocy;&amp;kcy;&amp;ocy;&amp;vcy;&amp;ycy;&amp;khcy; &amp;fcy;&amp;ocy;&amp;tcy;&amp;ocy;&amp;gcy;&amp;rcy;&amp;acy;&amp;fcy;&amp;icy;&amp;jcy; &amp;icy; &amp;icy;&amp;lcy;&amp;lcy;&amp;yucy;&amp;scy;&amp;tcy;&amp;rcy;&amp;acy;&amp;tscy;&amp;icy;&amp;jcy; Bigstock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403848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I f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a skate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ying through the a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ing anything beca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don't really c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ping and gri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l my m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I catch some ai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 I'm in f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nning and tw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my natural-born fla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rling like the bl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is cutting my ha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ng watched by my fa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doing my b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sweat running down my ches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 in my he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'm better than the 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I have to conf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I am the bes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heart that my God gave 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ed in my ch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&amp;Icy;&amp;zcy; &amp;mcy;&amp;icy;&amp;rcy;&amp;acy; &amp;scy;&amp;kcy;&amp;iecy;&amp;jcy;&amp;tcy;&amp;bcy;&amp;ocy;&amp;rcy;&amp;dcy;&amp;icy;&amp;ncy;&amp;gcy;&amp;acy;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reWalls_com-24323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655" name="Rectangle 2" descr=""/>
          <p:cNvPicPr/>
          <p:nvPr/>
        </p:nvPicPr>
        <p:blipFill>
          <a:blip r:embed="rId2"/>
          <a:stretch/>
        </p:blipFill>
        <p:spPr>
          <a:xfrm>
            <a:off x="4187880" y="523800"/>
            <a:ext cx="4674960" cy="100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12" descr="C:\Documents and Settings\Пользователь\Рабочий стол\Скейтбордер\стих\219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990360" y="5409720"/>
            <a:ext cx="7235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22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Monotype Corsiva"/>
              </a:rPr>
              <a:t>Скейтбордер я, и это мой талант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Monotype Corsiva"/>
              </a:rPr>
              <a:t>Порю по воздуху и делаю, что хочется</a:t>
            </a:r>
            <a:r>
              <a:rPr b="1" lang="ru-RU" sz="36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C:\Documents and Settings\Пользователь\Рабочий стол\Скейтбордер\стих\011_6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0" y="55627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Не собираюсь получать я Гран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И не грозит мне в жизни одиночество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5" descr="C:\Documents and Settings\Пользователь\Рабочий стол\Скейтбордер\стих\linksmos-nuotraukos-1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5334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1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Я кувыркаюсь, покоряя воздух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1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Таланту подчиняется стихи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6" descr="C:\Documents and Settings\Пользователь\Рабочий стол\Скейтбордер\стих\0Cj6iDgkaW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152280" y="548604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1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Когда друзья со мной, захватывает дух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1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Ведь делаем мы трюки неплохи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6" descr="C:\Documents and Settings\Пользователь\Рабочий стол\Скейтбордер\стих\yR5XxzfRTz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2590560" y="52574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6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Бывает так опасно, как на лезвии ножа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6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Струится пот, но есть одно желанье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7" descr="C:\Documents and Settings\Пользователь\Рабочий стол\Скейтбордер\стих\photo-19618-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Доделать трюк, доделать не спеша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И знаю, скейт- моё призванье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5-01-31T23:18:3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