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0102-82DA-4B08-8C38-3C2EFF9FD5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B116-99AF-4B88-AF19-842E40B947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042-5152-4522-84C8-CDF40359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DAA5-A728-41B7-8C5A-5A9BC941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04621-2D8A-4705-B8BE-64DF14A6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A3C44-B861-45E5-BCF9-21D9B1BB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63AA5-DC88-410A-9E7C-79E60FB9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CE61C-0D53-451F-A542-339EEA28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A8983-DE8D-49A4-9F23-42B6F530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D4AEF-B9A1-4056-BD52-56994D54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5E065-F9D2-4CFC-8859-5786B7C6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03D27-A073-492F-AFA6-15D81CF9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F2D81-E48E-4695-B197-5B39E7B4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B1E85-DB3A-4C0E-8EB5-9E86F825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D993-D0B3-4E70-9B44-17FE3CCD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E44CD-712C-41B9-AE16-6627B2AD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F0227-D8E3-4A28-8361-972C3264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D6785-39D4-4C9E-A23E-A1A9F148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F20CB-3734-4236-8777-E046D421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AF939-765C-40EA-BF8E-3E5A6A63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6795F-F70E-4AD0-8FE2-7781DA0F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F14DE-7E4C-4C35-A9DA-CCF035AB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6FFAA-DFFA-46C0-B070-2D3D6081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527F5-1029-4B51-AA56-00E3E03C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7AD1F-0671-4BBB-AC70-84FA8BCD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CC2D-4DA8-49CB-856A-795275E0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FD108-8815-4AE4-BCA1-541B88C8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EC6BE-D9A5-4DD9-9C3C-DDF80C7F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B300F-A7C1-4738-936B-E6DECE01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72A95-E399-4315-AF74-C41FC1F9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1FFE1-845A-495E-A717-31600518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A8C08-F9C8-4ADA-8647-868C33E1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FF3D4-2434-4961-A386-4408F602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FA025-0916-4CD4-AD82-E9B888CF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B8F76-647E-4088-87CD-247B0943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ADCEF-86ED-44B0-8923-37832028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1B46-4982-469A-8F86-C8E500B9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2C766-8FCE-45C6-A2FA-265CE092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3F751-572F-4FB4-BDA5-65D0F878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23EF2-7865-442E-8877-4F19D5F5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EB0F7-512E-4223-9AFE-BA81EAE5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86AF1-A75C-491D-9D8B-B7207379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887DF-5940-4CBF-AEE7-8469EEBA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5E6DB-EB96-4B34-AB67-2E30D159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13FA3-ADCB-42A3-9CB8-1353AA49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2BED0-CFE6-439A-A167-CE726573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8ED1E-40F8-443B-9D33-C7D4B225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A308-79D6-4165-BD41-FA4242A8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98CEA-74DB-4289-AB42-E4D0684A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1C72A-6D77-4FA0-BFA2-F94AA70F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03EDE-D0FA-4BEB-8E42-CAAF1A7B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4B075-4DDE-4C72-BB14-1CF76865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39384-A853-4D8B-A615-242246A5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9B48-A7D4-400E-AD61-35E0963B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6094-8582-4623-9280-5284F80D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A407-8911-4046-8094-CB57858B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EF67-EEC2-4CA7-B6E8-D8F9096E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499E-0CEC-48F9-97B5-CBA775D9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26D8-2602-4B65-8EDC-16D09272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F4A9-545D-459D-A313-A63118EE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852C-572D-4CC3-9FF3-FC0AC721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9A24-FFB2-454B-B9A0-C2221DB4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2DF1-C2AD-4ECF-884C-552FC298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C151-B73F-4054-A2E3-96659F2C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0DB7E-BD66-4EE6-8791-35D6FED6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6CA27-378B-4919-8AE6-30390BF6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6E283-1D2E-4500-81EF-51EADD99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3EBD0-2457-407B-B63A-884C97B2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EF6EF-F86A-4D31-B78C-2C89D8B4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22B6-3EE1-47CF-80B6-A44FF80A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D1516-069E-4924-9289-82CAEAA7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561C3-7CFB-44F2-B77B-D658D931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613FA-E74A-4E9C-BE22-D5543D03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C3632-10BC-49A4-B803-C3991C4B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51FC0-8E9E-408A-91AF-2547C678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A8C1F-B76E-496E-9BFF-B1F94CA1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66CD2-5D0E-4493-9B25-F58BA185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1ECDD-9F8F-4491-B959-0C19779D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C9415-3F05-4630-8378-E7190274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01708-8365-4705-84F2-8062EEE3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53E8-C7C8-460C-971B-DCA166A4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ECCDB-8F0D-4883-8EA1-440D3D35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CD613-FD14-4154-928A-C7B1DECC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BD168-8215-4C5C-99AC-3B6BC418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E7915-0225-4298-9E81-CB48209B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8308E-5D78-43B2-A1BA-C4251BCE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E6290-FCE8-4D83-8898-045DA5A9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FAD59-17BD-4087-B79D-14FFF9A0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8C200-E227-477B-8114-46CE2A38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E1AD1-8E75-4A8D-B860-91AC254F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D2359-D6D9-4BF4-97AC-D03392D6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6597-3150-4828-A909-456419C8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58771-C326-45D9-B9E2-8A077874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9CD4D-B128-427D-ACD8-3040BF98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6FFE8-FFEE-4E5C-A7D4-D438D310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265A9-3A67-43CE-9782-864B4475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73FBC-9172-4954-ACA4-E6DB1A9C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124E2-8C15-4082-B51D-15CBC8A1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0E682-EBFD-4749-A1F9-EC4D7FC7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65FA8-F30D-4EEB-AD2B-70AB4277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2522D-3B53-4100-988A-3A9FCCD3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80AC1-0B05-4763-A4DC-D9E8E5D0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C3C5-7C7A-4777-A896-C0BE7CF1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98A98-FB73-4B27-9DF4-A7762997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06EFE-3E84-4227-BAF7-8D8C29F1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DC835-7871-443A-A8F2-54FCED73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613B2-775A-4AE6-ABF1-38BBBD5D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D7C6B-1660-4AF5-B37D-04C5A1D7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9594E-F0C1-410E-9ED1-216AB427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22A21-1887-47E6-8B26-2060B03A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26CEA-8049-47B2-905D-ED171740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592D9-3977-4F3E-AE95-8E3C53B2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4F916-A770-41A1-B2D8-7E1499B7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37A2-17FF-4DC4-AEFD-D7305CA3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F2A5B-AAB7-4FB9-9862-1B259EAA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20289-556C-406B-94E4-ECA69331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043BA-1D57-4B22-9426-7A7ED5F1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C7F9B-34C2-4ED8-89A4-FF0C0750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DD024-B291-4287-97C3-8C9B724A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B73FE-7982-4D3B-8818-F1769337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6835B-8EA9-4659-B6BD-19F5F5D6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A67E7-82D6-4A85-BD60-27D20828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F298E-F081-452D-959F-2AD6341C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EBFD0-95CE-477D-B2F9-551301C6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164B-8914-4F82-852D-22E1DAB5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66674-1A02-413E-8ECA-59531731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7E3AE-FD01-4819-9B5C-B7A8C8A6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CB169-57AA-4457-8E66-41EDE237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0236B-0C95-428C-9045-6D5C16D9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213E4-7ACD-4CA3-B368-C71EA263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1612E-1237-48FE-9A33-ADDADF46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1EA9A-31C4-4DB8-A501-C5DD7681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44CAC-4D4A-46B7-9B33-2B0829B1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8607D-F1E9-4C30-ADAF-E0F6212D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CE1C4-C217-4F85-9A23-DEAF7E60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EE5-23B3-452E-8671-79A23C98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16F41-A74D-4A56-BD0A-CC40AD22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91376-817F-4914-993B-5FEEE73B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F6FFF-CD91-4AF6-8676-F341EA94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04A1C-6602-40F9-94FF-B57DA2B6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EDA1E-539E-4158-A150-640524A0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DFC95-4232-49A3-B04E-031890E5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BCF6E-535B-4084-83D0-20E26D19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3E853-6896-4A7A-8D76-DEAC4A81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86972-D52B-45BA-B354-9DD6325F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0C00C-0FD6-42AA-8EC1-29FAD532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9797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EA85-7473-4FB2-99B9-82D0F65948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9797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3E24-5F33-458A-B7E3-F454A5A5AB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3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4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6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8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0741-0015-4CC3-8FC7-B587ABA428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3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4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5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7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9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92AD-2905-4456-A0DB-043D2CB214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9797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6E49-F8E6-4CC4-B09A-6476D74B17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9797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98D6-8760-4E0F-840C-9061372132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9797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047A-C768-4825-8223-B7584A98FB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9797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16D3-FA9A-4459-861F-D88F1095FEC0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9797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9B12-66A7-4B86-AC3D-D1B450314522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9797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6462-5626-4518-8ABF-C90D9DEB1B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9797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7837-7699-4702-BF60-29847EBAB6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9797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D28E-6D2A-45F6-8FDE-F838F97A92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МБОУ СОШ с.Таремское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Номинация: «Литературный перевод стихотворения»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резентация «Я – скейтбордер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560" y="457200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а: Курыхалова Дарья, ученица 8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ководитель: Блинова Наталья Николаев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8" descr="untitled000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3428640" y="5257440"/>
            <a:ext cx="5715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31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Monotype Corsiva"/>
              </a:rPr>
              <a:t>Понятно мне: я не такой как все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1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Monotype Corsiva"/>
              </a:rPr>
              <a:t>Творю я то, что многие не могут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6" descr="C:\Documents and Settings\Пользователь\Рабочий стол\Скейтбордер\стих\pg5zpiW7v5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bc2665"/>
            </a:solidFill>
            <a:miter/>
          </a:ln>
        </p:spPr>
      </p:pic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3809520" y="152280"/>
            <a:ext cx="53341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26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90062"/>
                </a:solidFill>
                <a:latin typeface="Monotype Corsiva"/>
              </a:rPr>
              <a:t>Но не хвалюсь, ведь если я на </a:t>
            </a:r>
            <a:r>
              <a:rPr b="1" lang="ru-RU" sz="2800" spc="-1" strike="noStrike">
                <a:solidFill>
                  <a:srgbClr val="e90062"/>
                </a:solidFill>
                <a:latin typeface="Monotype Corsiva"/>
              </a:rPr>
              <a:t>высоте</a:t>
            </a:r>
            <a:r>
              <a:rPr b="1" i="1" lang="ru-RU" sz="2800" spc="-1" strike="noStrike">
                <a:solidFill>
                  <a:srgbClr val="e90062"/>
                </a:solidFill>
                <a:latin typeface="Monotype Corsiv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6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90062"/>
                </a:solidFill>
                <a:latin typeface="Monotype Corsiva"/>
              </a:rPr>
              <a:t>То за талант такой – спасибо Богу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Skateboarder &amp;icy;&amp;zcy;&amp;ocy;&amp;bcy;&amp;rcy;&amp;acy;&amp;zhcy;&amp;iecy;&amp;ncy;&amp;icy;&amp;jcy;, &amp;scy;&amp;tcy;&amp;ocy;&amp;kcy;&amp;ocy;&amp;vcy;&amp;ycy;&amp;khcy; &amp;fcy;&amp;ocy;&amp;tcy;&amp;ocy;&amp;gcy;&amp;rcy;&amp;acy;&amp;fcy;&amp;icy;&amp;jcy; &amp;icy; &amp;icy;&amp;lcy;&amp;lcy;&amp;yucy;&amp;scy;&amp;tcy;&amp;rcy;&amp;acy;&amp;tscy;&amp;icy;&amp;jcy; Bigstock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403848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I f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am a skatebo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ying through the ai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ing anything beca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don't really c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ipping and gri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all my m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I catch some ai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know I'm in fl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nning and twi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my natural-born flai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rling like the bl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is cutting my hai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ng watched by my fa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doing my b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 sweat running down my ches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know in my he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'm better than the 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I have to conf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I am the bes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the heart that my God gave 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ed in my ch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&amp;Icy;&amp;zcy; &amp;mcy;&amp;icy;&amp;rcy;&amp;acy; &amp;scy;&amp;kcy;&amp;iecy;&amp;jcy;&amp;tcy;&amp;bcy;&amp;ocy;&amp;rcy;&amp;dcy;&amp;icy;&amp;ncy;&amp;gcy;&amp;acy;"/>
          <p:cNvPicPr/>
          <p:nvPr/>
        </p:nvPicPr>
        <p:blipFill>
          <a:blip r:embed="rId2"/>
          <a:stretch/>
        </p:blipFill>
        <p:spPr>
          <a:xfrm>
            <a:off x="4876920" y="4038480"/>
            <a:ext cx="4267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5" descr="reWalls_com-24323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655" name="Rectangle 2" descr=""/>
          <p:cNvPicPr/>
          <p:nvPr/>
        </p:nvPicPr>
        <p:blipFill>
          <a:blip r:embed="rId2"/>
          <a:stretch/>
        </p:blipFill>
        <p:spPr>
          <a:xfrm>
            <a:off x="4187880" y="523800"/>
            <a:ext cx="4674960" cy="1006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12" descr="C:\Documents and Settings\Пользователь\Рабочий стол\Скейтбордер\стих\219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bc2665"/>
            </a:solidFill>
            <a:miter/>
          </a:ln>
        </p:spPr>
      </p:pic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990360" y="5409720"/>
            <a:ext cx="7235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222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0062"/>
                </a:solidFill>
                <a:latin typeface="Monotype Corsiva"/>
              </a:rPr>
              <a:t>Скейтбордер я, и это мой талант,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0062"/>
                </a:solidFill>
                <a:latin typeface="Monotype Corsiva"/>
              </a:rPr>
              <a:t>Порю по воздуху и делаю, что хочется</a:t>
            </a:r>
            <a:r>
              <a:rPr b="1" lang="ru-RU" sz="3600" spc="-1" strike="noStrike">
                <a:solidFill>
                  <a:srgbClr val="e90062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5" descr="C:\Documents and Settings\Пользователь\Рабочий стол\Скейтбордер\стих\011_6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bc2665"/>
            </a:solidFill>
            <a:miter/>
          </a:ln>
        </p:spPr>
      </p:pic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0" y="556272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4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Monotype Corsiva"/>
              </a:rPr>
              <a:t>Не собираюсь получать я Гран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Monotype Corsiva"/>
              </a:rPr>
              <a:t>И не грозит мне в жизни одиночество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5" descr="C:\Documents and Settings\Пользователь\Рабочий стол\Скейтбордер\стих\linksmos-nuotraukos-1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bc2665"/>
            </a:solidFill>
            <a:miter/>
          </a:ln>
        </p:spPr>
      </p:pic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-360" y="151920"/>
            <a:ext cx="5334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31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Monotype Corsiva"/>
              </a:rPr>
              <a:t>Я кувыркаюсь, покоряя воздух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1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Monotype Corsiva"/>
              </a:rPr>
              <a:t>Таланту подчиняется стихия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6" descr="C:\Documents and Settings\Пользователь\Рабочий стол\Скейтбордер\стих\0Cj6iDgkaW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bc2665"/>
            </a:solidFill>
            <a:miter/>
          </a:ln>
        </p:spPr>
      </p:pic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152280" y="5486040"/>
            <a:ext cx="65534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31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Monotype Corsiva"/>
              </a:rPr>
              <a:t>Когда друзья со мной, захватывает дух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1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Monotype Corsiva"/>
              </a:rPr>
              <a:t>Ведь делаем мы трюки неплохие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6" descr="C:\Documents and Settings\Пользователь\Рабочий стол\Скейтбордер\стих\yR5XxzfRTz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bc2665"/>
            </a:solidFill>
            <a:miter/>
          </a:ln>
        </p:spPr>
      </p:pic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2590560" y="525744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26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Monotype Corsiva"/>
              </a:rPr>
              <a:t>Бывает так опасно, как на лезвии ножа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26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Monotype Corsiva"/>
              </a:rPr>
              <a:t>Струится пот, но есть одно желанье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7" descr="C:\Documents and Settings\Пользователь\Рабочий стол\Скейтбордер\стих\photo-19618-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bc2665"/>
            </a:solidFill>
            <a:miter/>
          </a:ln>
        </p:spPr>
      </p:pic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17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Monotype Corsiva"/>
              </a:rPr>
              <a:t>Доделать трюк, доделать не спеша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7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Monotype Corsiva"/>
              </a:rPr>
              <a:t>И знаю, скейт- моё призванье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</cp:lastModifiedBy>
  <dcterms:modified xsi:type="dcterms:W3CDTF">2015-01-31T23:18:3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