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E05A-6BF8-470A-B9E5-3C06B8489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0D9-3B10-400C-9003-80C37E1E9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953-6EB8-48A8-8541-856E96DDE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FBD3-2A63-4E0E-9F05-7E35EC13A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46B-92F3-42D4-95AA-EDB2385C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4BE-517F-4B8A-98D7-7E91AC8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41F-3535-439D-9710-CBA1E43E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C8D-29E7-479F-BC7D-83009CDA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D94-4439-4BEE-9115-844DB7B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171-9B71-41AD-8CB8-DE104153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8DB-6C13-49EC-BCBA-8B5C590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CA0-08EA-4893-B49D-A864BE0A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07B-B3FD-40DA-BF39-3FAF579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5C5-49D5-46CF-8546-29DCA57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BF2-F461-49EF-875B-1D6202A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416-6CB2-49C2-A5AC-4F5CECB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DF9-A237-4A89-9A65-8DEB1E5CE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yandex.ru/images/search?source=wiz&amp;img_url=http://baby.web-3.ru/data/articles/1026/2408517_3c6c1fa7.jpg&amp;uinfo=sw-1280-sh-1024-ww-1263-wh-855-pd-1-wp-5x4_1280x1024&amp;_=1413862388032&amp;viewport=wide&amp;p=1&amp;text=&#1080;&#1079;&#1086;&#1073;&#1088;&#1072;&#1078;&#1077;&#1085;&#1080;&#1077;%20%20&#1079;&#1072;&#1076;&#1091;&#1084;&#1095;&#1080;&#1074;&#1086;&#1075;&#1086;%20&#1088;&#1077;&#1073;&#1105;&#1085;&#1082;&#1072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59&amp;rpt=simage&amp;lr=194&amp;pin=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psykology.ucoz.ru/a86c1599e3a8.jpg&amp;uinfo=sw-1280-sh-1024-ww-1263-wh-855-pd-1-wp-5x4_1280x1024&amp;_=1413862068733&amp;viewport=wide&amp;p=1&amp;text=&#1080;&#1079;&#1086;&#1073;&#1088;&#1072;&#1078;&#1077;&#1085;&#1080;&#1077;%20%20&#1084;&#1072;&#1083;&#1100;&#1095;&#1080;&#1082;&#1072;%20&#1080;%20&#1076;&#1077;&#1074;&#1086;&#1095;&#1082;&#1080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41&amp;rpt=simage&amp;lr=194&amp;pin=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yandex.ru/images/search?source=wiz&amp;img_url=http://t1.ftcdn.net/jpg/00/15/64/06/110_F_15640606_7MRh0gXSsxtOP7mNvmLYgEAESP9bCZO9.jpg&amp;uinfo=sw-1280-sh-1024-ww-1263-wh-855-pd-1-wp-5x4_1280x1024-lt-1001&amp;text=&#1080;&#1079;&#1086;&#1073;&#1088;&#1072;&#1078;&#1077;&#1085;&#1080;&#1077;%20%20&#1084;&#1072;&#1083;&#1100;&#1095;&#1080;&#1082;&#1072;%20&#1080;%20&#1076;&#1077;&#1074;&#1086;&#1095;&#1082;&#1080;%20&#1076;&#1083;&#1103;%20&#1087;&#1088;&#1077;&#1079;&#1077;&#1085;&#1090;&#1072;&#1094;&#1080;&#1080;%20&#1087;&#1086;%20&#1088;&#1091;&#1089;&#1089;&#1082;&#1086;&#1084;&#1091;%20&#1103;&#1079;&#1099;&#1082;&#1091;%20&#1082;&#1072;&#1088;&#1090;&#1080;&#1085;&#1082;&#1080;&amp;noreask=1&amp;pos=19&amp;lr=194&amp;rpt=simage&amp;pin=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yandex.ru/images/search?source=wiz&amp;img_url=http://thumb7.shutterstock.com/thumb_small/403330/110799755/stock-vector-cartoon-wise-owl-in-graduation-cap-sitting-on-the-school-board-there-is-place-for-your-text-110799755.jpg&amp;uinfo=sw-1280-sh-1024-ww-1263-wh-855-pd-1-wp-5x4_1280x1024&amp;_=1413861718482&amp;viewport=wide&amp;p=4&amp;text=&#1080;&#1079;&#1086;&#1073;&#1088;&#1072;&#1078;&#1077;&#1085;&#1080;&#1077;%20&#1084;&#1091;&#1076;&#1088;&#1086;&#1081;%20&#1089;&#1086;&#1074;&#1099;%20&#1082;&#1072;&#1088;&#1090;&#1080;&#1085;&#1082;&#1080;&amp;noreask=1&amp;pos=139&amp;rpt=simage&amp;lr=194&amp;pin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нструирование» предложения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ыпь слов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ьшой, удача, успех, с, малый, начин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еза принакрылась сне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395280" y="1844640"/>
            <a:ext cx="1440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276720" y="364500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979640" y="1844640"/>
            <a:ext cx="2879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95280" y="3645000"/>
            <a:ext cx="2521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ая?                         чь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 под моим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их?                         какой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1692360" y="1844640"/>
            <a:ext cx="143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324000" y="2997360"/>
            <a:ext cx="302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276720" y="59500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24000" y="5950080"/>
            <a:ext cx="2663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971640" y="119700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4572000" y="119700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5364000" y="5300640"/>
            <a:ext cx="1381320" cy="239760"/>
          </a:xfrm>
          <a:custGeom>
            <a:avLst/>
            <a:gdLst>
              <a:gd name="textAreaLeft" fmla="*/ 0 w 1381320"/>
              <a:gd name="textAreaRight" fmla="*/ 1381680 w 1381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"/>
          <p:cNvSpPr/>
          <p:nvPr/>
        </p:nvSpPr>
        <p:spPr>
          <a:xfrm>
            <a:off x="5867280" y="4149720"/>
            <a:ext cx="1381320" cy="239760"/>
          </a:xfrm>
          <a:custGeom>
            <a:avLst/>
            <a:gdLst>
              <a:gd name="textAreaLeft" fmla="*/ 0 w 1381320"/>
              <a:gd name="textAreaRight" fmla="*/ 1381680 w 1381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3"/>
          <p:cNvSpPr/>
          <p:nvPr/>
        </p:nvSpPr>
        <p:spPr>
          <a:xfrm>
            <a:off x="2195640" y="4149720"/>
            <a:ext cx="1380960" cy="2397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70" h="151">
                <a:moveTo>
                  <a:pt x="869" y="133"/>
                </a:moveTo>
                <a:lnTo>
                  <a:pt x="870" y="9"/>
                </a:lnTo>
                <a:lnTo>
                  <a:pt x="1" y="0"/>
                </a:lnTo>
                <a:lnTo>
                  <a:pt x="0" y="15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324000" y="1773360"/>
            <a:ext cx="1295280" cy="712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3995640" y="1773360"/>
            <a:ext cx="1295640" cy="71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900000" y="4724280"/>
            <a:ext cx="2087640" cy="7308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9"/>
          <p:cNvSpPr/>
          <p:nvPr/>
        </p:nvSpPr>
        <p:spPr>
          <a:xfrm>
            <a:off x="4572000" y="4724280"/>
            <a:ext cx="1728720" cy="73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4572000" y="5877000"/>
            <a:ext cx="1224000" cy="73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16" h="45">
                <a:moveTo>
                  <a:pt x="0" y="45"/>
                </a:moveTo>
                <a:cubicBezTo>
                  <a:pt x="34" y="22"/>
                  <a:pt x="68" y="0"/>
                  <a:pt x="91" y="0"/>
                </a:cubicBezTo>
                <a:cubicBezTo>
                  <a:pt x="114" y="0"/>
                  <a:pt x="113" y="45"/>
                  <a:pt x="136" y="45"/>
                </a:cubicBezTo>
                <a:cubicBezTo>
                  <a:pt x="159" y="45"/>
                  <a:pt x="204" y="0"/>
                  <a:pt x="227" y="0"/>
                </a:cubicBezTo>
                <a:cubicBezTo>
                  <a:pt x="250" y="0"/>
                  <a:pt x="249" y="45"/>
                  <a:pt x="272" y="45"/>
                </a:cubicBezTo>
                <a:cubicBezTo>
                  <a:pt x="295" y="45"/>
                  <a:pt x="340" y="0"/>
                  <a:pt x="363" y="0"/>
                </a:cubicBezTo>
                <a:cubicBezTo>
                  <a:pt x="386" y="0"/>
                  <a:pt x="385" y="45"/>
                  <a:pt x="408" y="45"/>
                </a:cubicBezTo>
                <a:cubicBezTo>
                  <a:pt x="431" y="45"/>
                  <a:pt x="476" y="0"/>
                  <a:pt x="499" y="0"/>
                </a:cubicBezTo>
                <a:cubicBezTo>
                  <a:pt x="522" y="0"/>
                  <a:pt x="521" y="45"/>
                  <a:pt x="544" y="45"/>
                </a:cubicBezTo>
                <a:cubicBezTo>
                  <a:pt x="567" y="45"/>
                  <a:pt x="612" y="0"/>
                  <a:pt x="635" y="0"/>
                </a:cubicBezTo>
                <a:cubicBezTo>
                  <a:pt x="658" y="0"/>
                  <a:pt x="657" y="45"/>
                  <a:pt x="680" y="45"/>
                </a:cubicBezTo>
                <a:cubicBezTo>
                  <a:pt x="703" y="45"/>
                  <a:pt x="748" y="0"/>
                  <a:pt x="771" y="0"/>
                </a:cubicBezTo>
                <a:cubicBezTo>
                  <a:pt x="794" y="0"/>
                  <a:pt x="805" y="22"/>
                  <a:pt x="816" y="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00"/>
                            </p:stCondLst>
                            <p:childTnLst>
                              <p:par>
                                <p:cTn id="294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5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680"/>
                            </p:stCondLst>
                            <p:childTnLst>
                              <p:par>
                                <p:cTn id="29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Определ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торостепенный член предложения, который отвечает на вопросы к а к о 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ч е 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и обозначает признак предм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Определения обычно выражаются прилагатель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981000"/>
          <a:ext cx="8712000" cy="5616720"/>
        </p:xfrm>
        <a:graphic>
          <a:graphicData uri="http://schemas.openxmlformats.org/drawingml/2006/table">
            <a:tbl>
              <a:tblPr/>
              <a:tblGrid>
                <a:gridCol w="2178000"/>
                <a:gridCol w="2574720"/>
                <a:gridCol w="2652840"/>
                <a:gridCol w="130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существитель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с которым связано действие или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просы косвенных падеж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 Ч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уществительным или местоим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ательны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821844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БЕРИТЕ ОПРЕДЕЛЕНИЯ, КОТОРЫЕ НАЗЫВАЮТ ПРИЗНАКИ ИЗОБРАЖЁННЫХ ПРЕДМ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63x4"/>
          <p:cNvPicPr/>
          <p:nvPr/>
        </p:nvPicPr>
        <p:blipFill>
          <a:blip r:embed="rId1"/>
          <a:stretch/>
        </p:blipFill>
        <p:spPr>
          <a:xfrm>
            <a:off x="34920" y="44280"/>
            <a:ext cx="9433080" cy="676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обик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333399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animal_020"/>
          <p:cNvPicPr/>
          <p:nvPr/>
        </p:nvPicPr>
        <p:blipFill>
          <a:blip r:embed="rId1"/>
          <a:stretch/>
        </p:blipFill>
        <p:spPr>
          <a:xfrm>
            <a:off x="1476360" y="-316080"/>
            <a:ext cx="6120000" cy="724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33cc33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unset&amp;Rainbow004"/>
          <p:cNvPicPr/>
          <p:nvPr/>
        </p:nvPicPr>
        <p:blipFill>
          <a:blip r:embed="rId1"/>
          <a:stretch/>
        </p:blipFill>
        <p:spPr>
          <a:xfrm>
            <a:off x="34920" y="27000"/>
            <a:ext cx="8929800" cy="669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малой у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чинается больш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765e76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airy"/>
          <p:cNvPicPr/>
          <p:nvPr/>
        </p:nvPicPr>
        <p:blipFill>
          <a:blip r:embed="rId1"/>
          <a:stretch/>
        </p:blipFill>
        <p:spPr>
          <a:xfrm>
            <a:off x="2233440" y="-28440"/>
            <a:ext cx="4677120" cy="691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89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ПРОБУЕМ САМИ УКРАСИТЬ ПРЕДЛОЖЕНИЯ ОПРЕДЕЛ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Осен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Падают листь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Пошёл дож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832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ределения помогут сделать вашу речь образной, выразительной, музыкальн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042920" y="4365720"/>
            <a:ext cx="7129440" cy="22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6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50000">
                      <a:srgbClr val="333399"/>
                    </a:gs>
                    <a:gs pos="100000">
                      <a:srgbClr val="bbe0e3"/>
                    </a:gs>
                  </a:gsLst>
                  <a:lin ang="18900000"/>
                </a:gradFill>
                <a:latin typeface="Times New Roman"/>
              </a:rPr>
              <a:t>        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50000">
                    <a:srgbClr val="333399"/>
                  </a:gs>
                  <a:gs pos="100000">
                    <a:srgbClr val="bbe0e3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pic>
        <p:nvPicPr>
          <p:cNvPr id="114" name="Picture 7" descr="аним_ученик"/>
          <p:cNvPicPr/>
          <p:nvPr/>
        </p:nvPicPr>
        <p:blipFill>
          <a:blip r:embed="rId1"/>
          <a:stretch/>
        </p:blipFill>
        <p:spPr>
          <a:xfrm>
            <a:off x="5940360" y="-100080"/>
            <a:ext cx="300672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ылая пора! очей очарованье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ятна мне твоя прощальная краса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агрец и золото одетые лес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х сенях ветра шум и свежее дыхань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глой волнистою покрыты небес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едкий солнца луч, и первые мороз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даленные седой зимы угр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http://im2-tub-ru.yandex.net/i?id=da0d0818d6f8e664303681030c0283e0-58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052640"/>
            <a:ext cx="61214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 186 или 187 (по выбору),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http://im3-tub-ru.yandex.net/i?id=bf8d878aedd441f73a29118cfc264048-63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http://im1-tub-ru.yandex.net/i?id=c0a9a377d0ca04fd5e174aab493707e4-80-144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http://im3-tub-ru.yandex.net/i?id=bc6bf07d4b1b27163145ed6a02263ad4-43-144&amp;n=21"/>
          <p:cNvPicPr/>
          <p:nvPr/>
        </p:nvPicPr>
        <p:blipFill>
          <a:blip r:embed="rId1"/>
          <a:stretch/>
        </p:blipFill>
        <p:spPr>
          <a:xfrm>
            <a:off x="1116000" y="981000"/>
            <a:ext cx="5796000" cy="3789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http://im3-tub-ru.yandex.net/i?id=9211662c04d2c61b0b0b5238d1a4b432-12-144&amp;n=21"/>
          <p:cNvPicPr/>
          <p:nvPr/>
        </p:nvPicPr>
        <p:blipFill>
          <a:blip r:embed="rId2"/>
          <a:stretch/>
        </p:blipFill>
        <p:spPr>
          <a:xfrm>
            <a:off x="6372360" y="115920"/>
            <a:ext cx="248436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festival.1september.ru/articles/526852/img.gif"/>
          <p:cNvPicPr/>
          <p:nvPr/>
        </p:nvPicPr>
        <p:blipFill>
          <a:blip r:embed="rId1"/>
          <a:stretch/>
        </p:blipFill>
        <p:spPr>
          <a:xfrm>
            <a:off x="3492360" y="2060640"/>
            <a:ext cx="5400720" cy="2189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im3-tub-ru.yandex.net/i?id=ab56d1e9572e1e37ae14b71b3af913d9-43-144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89000"/>
            <a:ext cx="313200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108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52640"/>
          <a:ext cx="8229600" cy="4116240"/>
        </p:xfrm>
        <a:graphic>
          <a:graphicData uri="http://schemas.openxmlformats.org/drawingml/2006/table">
            <a:tbl>
              <a:tblPr/>
              <a:tblGrid>
                <a:gridCol w="2746440"/>
                <a:gridCol w="1728720"/>
                <a:gridCol w="2016000"/>
                <a:gridCol w="173844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31784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1224000"/>
                <a:gridCol w="130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т какого слова зависи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обозна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с которым связано действие или при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какие вопросы отвечае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просы косвенных падеж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Какой частью речи выраж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уществительным или местоим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7"/>
          <p:cNvSpPr txBox="1"/>
          <p:nvPr/>
        </p:nvSpPr>
        <p:spPr>
          <a:xfrm>
            <a:off x="826920" y="1413000"/>
            <a:ext cx="770580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КРАСИ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ВОЮ РЕ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1116000" y="1268280"/>
            <a:ext cx="727380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УЧИМ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 МАСТЕР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3280" y="115920"/>
            <a:ext cx="5483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03640" y="1052280"/>
            <a:ext cx="5256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моим ок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жною кай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Есенин"/>
          <p:cNvPicPr/>
          <p:nvPr/>
        </p:nvPicPr>
        <p:blipFill>
          <a:blip r:embed="rId2"/>
          <a:stretch/>
        </p:blipFill>
        <p:spPr>
          <a:xfrm>
            <a:off x="179280" y="260280"/>
            <a:ext cx="2859120" cy="374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4" name="4.L.V.BEETHOVEN - MOONLIGHT SONATA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920" y="692280"/>
            <a:ext cx="957744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ая береза под моим ок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692360" y="1844640"/>
            <a:ext cx="143964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24000" y="2997360"/>
            <a:ext cx="302400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276720" y="5950080"/>
            <a:ext cx="122400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24000" y="5950080"/>
            <a:ext cx="266364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3:48:45Z</dcterms:created>
  <dc:creator>Ю.А.С.</dc:creator>
  <dc:description/>
  <dc:language>en-US</dc:language>
  <cp:lastModifiedBy>Пользователь</cp:lastModifiedBy>
  <dcterms:modified xsi:type="dcterms:W3CDTF">2015-02-08T09:16:34Z</dcterms:modified>
  <cp:revision>18</cp:revision>
  <dc:subject/>
  <dc:title>Слайд 1</dc:title>
</cp:coreProperties>
</file>