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18.gif" ContentType="image/gif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5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3.png" ContentType="image/png"/>
  <Override PartName="/ppt/media/image14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E10-95F8-46B8-95EF-6BD756B6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E7A-E92E-49A8-B260-305510E5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E9C-9B31-4F31-B392-1D6E99FF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383-4D92-4740-8A09-D574C8BD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0CBB-A547-4456-BAB4-E7A916EF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70CB-4366-4FC9-9134-993A7407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1BA6-C283-4ACD-B025-A052662C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0B07-547E-4BA9-BACD-E0E9BFDB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70AA-5247-4C74-88E3-CE20076A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EA9D-2959-4E22-8D9A-4CE4238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D481-6C74-4971-B717-E58AA9D2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B51-8612-48D1-B8AD-C59AA267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29E3-517B-47F9-9489-3208A0B5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2C41-7A1D-4232-875C-7A2ADDF7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2550-2723-4BCE-B735-75715B1C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8F24-2E20-499E-9C06-6CC9DDBD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F0D8-ACC1-42C5-9C40-95B851F9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8B7C-E730-44CE-BA9D-52F45ABB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8A75-D03F-419E-8664-3EB50E2A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F28CC-58F8-4CF3-BF15-65140BBF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F73E-3D5D-4C04-B84A-8E5CA589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0704-6D8E-45B7-B993-DE88F3E6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061-2233-4310-8F40-3C944E96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72AD-47FD-4F24-BB5E-1C3B1017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E6CF-A06F-41EB-9C31-33916F5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8DDF-ECE6-495E-BC2F-72CE2034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65EE-F36A-4CB8-88B7-56600452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D4F2-B9EF-4485-944E-E4D88AD7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647C-AAFF-47EE-9322-33A0AA0B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FE46-3502-4A69-A83E-E6018356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75B09-CAA3-419D-8C84-810DC592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7B05-D416-426E-A9A6-04FD57F9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8146-3A34-4016-B4BB-031BA60C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B8B-1EA0-49CF-9440-CFDDF85E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96A1A-88A6-4CFC-BA48-F075CC29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293D4-E485-4167-A1E9-2D2E53C6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5490C-F018-4FC7-976E-CB8233D8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B027F-9BFD-468E-8EAB-72060B8B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C4F2-45CA-4A77-991E-D59B7755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04F6A-6579-4204-B657-96E4BDAC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2BE9A-0B12-4E95-861A-2C3BE434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6FA89-CA8D-41F2-9E4C-924E5390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00D8-C270-4E2A-A0D2-5B75A840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EDBA4-39EE-4367-916D-0BB32E2D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DD6-22E3-4873-8E93-BE952EF1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17389-578D-4434-9215-951BD9CD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E2C2B-AEB6-4691-B5A9-DECA7B13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A91E7-45F2-4099-815F-0EDB849C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F2970-AF53-4937-ABBF-D2E99A0F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0FD6D-7382-40B2-B236-6172C2D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DE355-5829-40E2-A3EE-C64A535C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6777B-F5C4-4922-A326-2E5ACCB7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78D7-C0BD-4698-B6E7-32E3F885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8BEAF-ACDF-42E3-8AB2-E5E7CAAD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259B2-3DF3-45E6-9502-DA8816AB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E04-EE26-4AE3-9F58-1BD2055C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4F206-2926-4BC8-8836-3F982D33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0E5-202C-4D49-B039-706CFF40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43C-227A-4B40-97E4-FE052FE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421-F09F-47E1-85D6-E6877AA2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07A1-0D8A-4E69-BC8F-06E3A561EE3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4971-272F-4483-81E1-321BDD50C9E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592D-283E-42EF-8258-153D830FEFFB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C511-1105-4900-9940-C8FC378F94A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8515-F1CB-48D8-9A39-74AD64E41844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hape 23"/>
          <p:cNvSpPr/>
          <p:nvPr/>
        </p:nvSpPr>
        <p:spPr>
          <a:xfrm>
            <a:off x="2357280" y="0"/>
            <a:ext cx="64882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«Городок детст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hape 24"/>
          <p:cNvSpPr/>
          <p:nvPr/>
        </p:nvSpPr>
        <p:spPr>
          <a:xfrm>
            <a:off x="3071880" y="4929120"/>
            <a:ext cx="564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ца 1А 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батова Алекса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ющева Нин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Shape 25" descr=""/>
          <p:cNvPicPr/>
          <p:nvPr/>
        </p:nvPicPr>
        <p:blipFill>
          <a:blip r:embed="rId1"/>
          <a:stretch/>
        </p:blipFill>
        <p:spPr>
          <a:xfrm>
            <a:off x="714240" y="2571840"/>
            <a:ext cx="3602160" cy="2428920"/>
          </a:xfrm>
          <a:prstGeom prst="rect">
            <a:avLst/>
          </a:prstGeom>
          <a:ln w="0">
            <a:noFill/>
          </a:ln>
        </p:spPr>
      </p:pic>
      <p:pic>
        <p:nvPicPr>
          <p:cNvPr id="264" name="Shape 26" descr=""/>
          <p:cNvPicPr/>
          <p:nvPr/>
        </p:nvPicPr>
        <p:blipFill>
          <a:blip r:embed="rId2"/>
          <a:stretch/>
        </p:blipFill>
        <p:spPr>
          <a:xfrm>
            <a:off x="4786200" y="2428920"/>
            <a:ext cx="3221280" cy="2571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Users\Pobeda\Desktop\Новый точечный рисунок.bmp"/>
          <p:cNvPicPr/>
          <p:nvPr/>
        </p:nvPicPr>
        <p:blipFill>
          <a:blip r:embed="rId3"/>
          <a:stretch/>
        </p:blipFill>
        <p:spPr>
          <a:xfrm>
            <a:off x="239760" y="5025960"/>
            <a:ext cx="1523880" cy="145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Users\Pobeda\Desktop\Новый точечный рисунок.bmp"/>
          <p:cNvPicPr/>
          <p:nvPr/>
        </p:nvPicPr>
        <p:blipFill>
          <a:blip r:embed="rId4"/>
          <a:stretch/>
        </p:blipFill>
        <p:spPr>
          <a:xfrm>
            <a:off x="239760" y="5025960"/>
            <a:ext cx="1523880" cy="1467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5"/>
          <a:stretch/>
        </p:blipFill>
        <p:spPr>
          <a:xfrm>
            <a:off x="357120" y="285840"/>
            <a:ext cx="24289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2" descr=""/>
          <p:cNvPicPr/>
          <p:nvPr/>
        </p:nvPicPr>
        <p:blipFill>
          <a:blip r:embed="rId1"/>
          <a:stretch/>
        </p:blipFill>
        <p:spPr>
          <a:xfrm>
            <a:off x="396720" y="317520"/>
            <a:ext cx="80820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944640" y="871560"/>
            <a:ext cx="6578640" cy="5662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071720" y="-360"/>
            <a:ext cx="2714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Гипотез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hape 32"/>
          <p:cNvSpPr/>
          <p:nvPr/>
        </p:nvSpPr>
        <p:spPr>
          <a:xfrm>
            <a:off x="357120" y="295200"/>
            <a:ext cx="852192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ьтесь, это мой дво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hape 33"/>
          <p:cNvSpPr/>
          <p:nvPr/>
        </p:nvSpPr>
        <p:spPr>
          <a:xfrm>
            <a:off x="-2922480" y="43498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Shape 34"/>
          <p:cNvCxnSpPr/>
          <p:nvPr/>
        </p:nvCxnSpPr>
        <p:spPr>
          <a:xfrm>
            <a:off x="4395960" y="1002960"/>
            <a:ext cx="18000" cy="5910840"/>
          </a:xfrm>
          <a:prstGeom prst="straightConnector1">
            <a:avLst/>
          </a:prstGeom>
          <a:ln w="38160">
            <a:solidFill>
              <a:srgbClr val="1155cc"/>
            </a:solidFill>
            <a:miter/>
          </a:ln>
        </p:spPr>
      </p:cxnSp>
      <p:sp>
        <p:nvSpPr>
          <p:cNvPr id="274" name="Shape 35"/>
          <p:cNvSpPr/>
          <p:nvPr/>
        </p:nvSpPr>
        <p:spPr>
          <a:xfrm>
            <a:off x="357120" y="1112760"/>
            <a:ext cx="2500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нр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hape 36"/>
          <p:cNvSpPr/>
          <p:nvPr/>
        </p:nvSpPr>
        <p:spPr>
          <a:xfrm>
            <a:off x="4572000" y="1112760"/>
            <a:ext cx="30002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не нр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Shape 37" descr=""/>
          <p:cNvPicPr/>
          <p:nvPr/>
        </p:nvPicPr>
        <p:blipFill>
          <a:blip r:embed="rId1"/>
          <a:stretch/>
        </p:blipFill>
        <p:spPr>
          <a:xfrm>
            <a:off x="4718160" y="4432320"/>
            <a:ext cx="2949480" cy="2211480"/>
          </a:xfrm>
          <a:prstGeom prst="rect">
            <a:avLst/>
          </a:prstGeom>
          <a:ln w="0">
            <a:noFill/>
          </a:ln>
        </p:spPr>
      </p:pic>
      <p:pic>
        <p:nvPicPr>
          <p:cNvPr id="277" name="Shape 38" descr=""/>
          <p:cNvPicPr/>
          <p:nvPr/>
        </p:nvPicPr>
        <p:blipFill>
          <a:blip r:embed="rId2"/>
          <a:stretch/>
        </p:blipFill>
        <p:spPr>
          <a:xfrm>
            <a:off x="4686480" y="1835280"/>
            <a:ext cx="2065320" cy="1850760"/>
          </a:xfrm>
          <a:prstGeom prst="rect">
            <a:avLst/>
          </a:prstGeom>
          <a:ln w="0">
            <a:noFill/>
          </a:ln>
        </p:spPr>
      </p:pic>
      <p:pic>
        <p:nvPicPr>
          <p:cNvPr id="278" name="Shape 39" descr=""/>
          <p:cNvPicPr/>
          <p:nvPr/>
        </p:nvPicPr>
        <p:blipFill>
          <a:blip r:embed="rId3"/>
          <a:stretch/>
        </p:blipFill>
        <p:spPr>
          <a:xfrm>
            <a:off x="272880" y="4627440"/>
            <a:ext cx="3505320" cy="1973520"/>
          </a:xfrm>
          <a:prstGeom prst="rect">
            <a:avLst/>
          </a:prstGeom>
          <a:ln w="0">
            <a:noFill/>
          </a:ln>
        </p:spPr>
      </p:pic>
      <p:pic>
        <p:nvPicPr>
          <p:cNvPr id="279" name="Shape 40" descr=""/>
          <p:cNvPicPr/>
          <p:nvPr/>
        </p:nvPicPr>
        <p:blipFill>
          <a:blip r:embed="rId4"/>
          <a:stretch/>
        </p:blipFill>
        <p:spPr>
          <a:xfrm>
            <a:off x="196920" y="1787400"/>
            <a:ext cx="2592360" cy="1946520"/>
          </a:xfrm>
          <a:prstGeom prst="rect">
            <a:avLst/>
          </a:prstGeom>
          <a:ln w="0">
            <a:noFill/>
          </a:ln>
        </p:spPr>
      </p:pic>
      <p:pic>
        <p:nvPicPr>
          <p:cNvPr id="280" name="Shape 41" descr=""/>
          <p:cNvPicPr/>
          <p:nvPr/>
        </p:nvPicPr>
        <p:blipFill>
          <a:blip r:embed="rId5"/>
          <a:stretch/>
        </p:blipFill>
        <p:spPr>
          <a:xfrm>
            <a:off x="1924200" y="3301920"/>
            <a:ext cx="2319120" cy="1920960"/>
          </a:xfrm>
          <a:prstGeom prst="rect">
            <a:avLst/>
          </a:prstGeom>
          <a:ln w="0">
            <a:noFill/>
          </a:ln>
        </p:spPr>
      </p:pic>
      <p:sp>
        <p:nvSpPr>
          <p:cNvPr id="281" name="Shape 42"/>
          <p:cNvSpPr/>
          <p:nvPr/>
        </p:nvSpPr>
        <p:spPr>
          <a:xfrm>
            <a:off x="2727360" y="2665440"/>
            <a:ext cx="1789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hape 43"/>
          <p:cNvSpPr/>
          <p:nvPr/>
        </p:nvSpPr>
        <p:spPr>
          <a:xfrm>
            <a:off x="272880" y="6108840"/>
            <a:ext cx="1236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hape 44"/>
          <p:cNvSpPr/>
          <p:nvPr/>
        </p:nvSpPr>
        <p:spPr>
          <a:xfrm>
            <a:off x="425520" y="4016520"/>
            <a:ext cx="1217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hape 45"/>
          <p:cNvSpPr/>
          <p:nvPr/>
        </p:nvSpPr>
        <p:spPr>
          <a:xfrm>
            <a:off x="4792680" y="6140520"/>
            <a:ext cx="38019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ы на площа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Shape 46" descr=""/>
          <p:cNvPicPr/>
          <p:nvPr/>
        </p:nvPicPr>
        <p:blipFill>
          <a:blip r:embed="rId6"/>
          <a:stretch/>
        </p:blipFill>
        <p:spPr>
          <a:xfrm>
            <a:off x="6751800" y="3122640"/>
            <a:ext cx="2206440" cy="1784160"/>
          </a:xfrm>
          <a:prstGeom prst="rect">
            <a:avLst/>
          </a:prstGeom>
          <a:ln w="0">
            <a:noFill/>
          </a:ln>
        </p:spPr>
      </p:pic>
      <p:sp>
        <p:nvSpPr>
          <p:cNvPr id="286" name="Shape 47"/>
          <p:cNvSpPr/>
          <p:nvPr/>
        </p:nvSpPr>
        <p:spPr>
          <a:xfrm>
            <a:off x="5338800" y="3879720"/>
            <a:ext cx="12175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hape 48"/>
          <p:cNvSpPr/>
          <p:nvPr/>
        </p:nvSpPr>
        <p:spPr>
          <a:xfrm>
            <a:off x="6796080" y="2286000"/>
            <a:ext cx="166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бран с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hape 49"/>
          <p:cNvSpPr/>
          <p:nvPr/>
        </p:nvSpPr>
        <p:spPr>
          <a:xfrm>
            <a:off x="181080" y="6573960"/>
            <a:ext cx="4136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0" descr=""/>
          <p:cNvPicPr/>
          <p:nvPr/>
        </p:nvPicPr>
        <p:blipFill>
          <a:blip r:embed="rId7"/>
          <a:stretch/>
        </p:blipFill>
        <p:spPr>
          <a:xfrm>
            <a:off x="2857680" y="1071720"/>
            <a:ext cx="1504800" cy="1504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1" descr=""/>
          <p:cNvPicPr/>
          <p:nvPr/>
        </p:nvPicPr>
        <p:blipFill>
          <a:blip r:embed="rId8"/>
          <a:stretch/>
        </p:blipFill>
        <p:spPr>
          <a:xfrm>
            <a:off x="7358040" y="100008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ape 54"/>
          <p:cNvSpPr/>
          <p:nvPr/>
        </p:nvSpPr>
        <p:spPr>
          <a:xfrm>
            <a:off x="260280" y="31680"/>
            <a:ext cx="8653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hape 55"/>
          <p:cNvSpPr/>
          <p:nvPr/>
        </p:nvSpPr>
        <p:spPr>
          <a:xfrm>
            <a:off x="928800" y="1143000"/>
            <a:ext cx="72151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не нравится, когда на площадке нет мусора и снега, но  не нравится ,когда сломаны качели и нет дерев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hape 56" descr=""/>
          <p:cNvPicPr/>
          <p:nvPr/>
        </p:nvPicPr>
        <p:blipFill>
          <a:blip r:embed="rId1"/>
          <a:stretch/>
        </p:blipFill>
        <p:spPr>
          <a:xfrm>
            <a:off x="279360" y="4302000"/>
            <a:ext cx="2992320" cy="2248200"/>
          </a:xfrm>
          <a:prstGeom prst="rect">
            <a:avLst/>
          </a:prstGeom>
          <a:ln w="0">
            <a:noFill/>
          </a:ln>
        </p:spPr>
      </p:pic>
      <p:pic>
        <p:nvPicPr>
          <p:cNvPr id="294" name="Shape 57" descr=""/>
          <p:cNvPicPr/>
          <p:nvPr/>
        </p:nvPicPr>
        <p:blipFill>
          <a:blip r:embed="rId2"/>
          <a:stretch/>
        </p:blipFill>
        <p:spPr>
          <a:xfrm>
            <a:off x="3500280" y="4286160"/>
            <a:ext cx="2732400" cy="2211480"/>
          </a:xfrm>
          <a:prstGeom prst="rect">
            <a:avLst/>
          </a:prstGeom>
          <a:ln w="0">
            <a:noFill/>
          </a:ln>
        </p:spPr>
      </p:pic>
      <p:pic>
        <p:nvPicPr>
          <p:cNvPr id="295" name="Shape 58" descr=""/>
          <p:cNvPicPr/>
          <p:nvPr/>
        </p:nvPicPr>
        <p:blipFill>
          <a:blip r:embed="rId3"/>
          <a:stretch/>
        </p:blipFill>
        <p:spPr>
          <a:xfrm>
            <a:off x="6458040" y="4419720"/>
            <a:ext cx="2316240" cy="2135160"/>
          </a:xfrm>
          <a:prstGeom prst="rect">
            <a:avLst/>
          </a:prstGeom>
          <a:ln w="0">
            <a:noFill/>
          </a:ln>
        </p:spPr>
      </p:pic>
      <p:sp>
        <p:nvSpPr>
          <p:cNvPr id="296" name="Shape 59"/>
          <p:cNvSpPr/>
          <p:nvPr/>
        </p:nvSpPr>
        <p:spPr>
          <a:xfrm>
            <a:off x="181080" y="6497640"/>
            <a:ext cx="4136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тографии учеников в своих двор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hape 136"/>
          <p:cNvSpPr/>
          <p:nvPr/>
        </p:nvSpPr>
        <p:spPr>
          <a:xfrm>
            <a:off x="304920" y="11160"/>
            <a:ext cx="8362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hape 137"/>
          <p:cNvSpPr/>
          <p:nvPr/>
        </p:nvSpPr>
        <p:spPr>
          <a:xfrm>
            <a:off x="417600" y="1038240"/>
            <a:ext cx="838188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ла правила "Соблюдайте правила и чистоту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Arial"/>
              </a:rPr>
              <a:t>Не разбрасывать мус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Arial"/>
              </a:rPr>
              <a:t>Не рисовать на забор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Arial"/>
              </a:rPr>
              <a:t>Не топтать цветы на клумбах! Не ломать дере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Arial"/>
              </a:rPr>
              <a:t>Соблюдайте прав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Shape 139" descr=""/>
          <p:cNvPicPr/>
          <p:nvPr/>
        </p:nvPicPr>
        <p:blipFill>
          <a:blip r:embed="rId1"/>
          <a:stretch/>
        </p:blipFill>
        <p:spPr>
          <a:xfrm>
            <a:off x="1835280" y="1693800"/>
            <a:ext cx="4190760" cy="2878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C:\Users\Pobeda\Desktop\2911236.jpg"/>
          <p:cNvPicPr/>
          <p:nvPr/>
        </p:nvPicPr>
        <p:blipFill>
          <a:blip r:embed="rId2"/>
          <a:stretch/>
        </p:blipFill>
        <p:spPr>
          <a:xfrm>
            <a:off x="1835280" y="1612800"/>
            <a:ext cx="419076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hape 127"/>
          <p:cNvSpPr/>
          <p:nvPr/>
        </p:nvSpPr>
        <p:spPr>
          <a:xfrm>
            <a:off x="304920" y="11160"/>
            <a:ext cx="8362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hape 128"/>
          <p:cNvSpPr/>
          <p:nvPr/>
        </p:nvSpPr>
        <p:spPr>
          <a:xfrm>
            <a:off x="388800" y="1017720"/>
            <a:ext cx="83822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 родителями сфотографировали положительные и отрицательные стороны в своем д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hape 131"/>
          <p:cNvSpPr/>
          <p:nvPr/>
        </p:nvSpPr>
        <p:spPr>
          <a:xfrm>
            <a:off x="433440" y="5816520"/>
            <a:ext cx="710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C:\Users\Pobeda\Desktop\slider_7.jpg"/>
          <p:cNvPicPr/>
          <p:nvPr/>
        </p:nvPicPr>
        <p:blipFill>
          <a:blip r:embed="rId1"/>
          <a:stretch/>
        </p:blipFill>
        <p:spPr>
          <a:xfrm>
            <a:off x="1633680" y="1973160"/>
            <a:ext cx="4711680" cy="20941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C:\Users\Pobeda\Desktop\2911236.jpg"/>
          <p:cNvPicPr/>
          <p:nvPr/>
        </p:nvPicPr>
        <p:blipFill>
          <a:blip r:embed="rId2"/>
          <a:stretch/>
        </p:blipFill>
        <p:spPr>
          <a:xfrm>
            <a:off x="20520" y="4191120"/>
            <a:ext cx="3902040" cy="2590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C:\Users\Pobeda\Desktop\19500_4661.jpg"/>
          <p:cNvPicPr/>
          <p:nvPr/>
        </p:nvPicPr>
        <p:blipFill>
          <a:blip r:embed="rId3"/>
          <a:stretch/>
        </p:blipFill>
        <p:spPr>
          <a:xfrm>
            <a:off x="5000760" y="4214880"/>
            <a:ext cx="380988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000160" y="2428920"/>
            <a:ext cx="7143840" cy="4000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indent="0" algn="ctr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Trebuchet MS"/>
              </a:rPr>
              <a:t>за внимание.</a:t>
            </a:r>
            <a:endParaRPr b="0" lang="en-US" sz="8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1143000" y="500040"/>
            <a:ext cx="37321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2-08T14:36:03Z</dcterms:modified>
  <cp:revision>21</cp:revision>
  <dc:subject/>
  <dc:title>Слайд 1</dc:title>
</cp:coreProperties>
</file>