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270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1"/>
              <c:showVal val="0"/>
              <c:showCatName val="1"/>
              <c:showSerName val="0"/>
              <c:showPercent val="1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1"/>
              <c:showVal val="0"/>
              <c:showCatName val="1"/>
              <c:showSerName val="0"/>
              <c:showPercent val="1"/>
              <c:separator> </c:separator>
            </c:dLbl>
            <c:txPr>
              <a:bodyPr wrap="non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1"/>
            <c:showVal val="0"/>
            <c:showCatName val="1"/>
            <c:showSerName val="0"/>
            <c:showPercent val="1"/>
            <c:separator> </c:separator>
            <c:showLeaderLines val="1"/>
          </c:dLbls>
          <c:cat>
            <c:strRef>
              <c:f>categories</c:f>
              <c:strCache>
                <c:ptCount val="2"/>
                <c:pt idx="0">
                  <c:v>Шампунь</c:v>
                </c:pt>
                <c:pt idx="1">
                  <c:v>Мыл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9</c:v>
                </c:pt>
                <c:pt idx="1">
                  <c:v>0.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2"/>
                <c:pt idx="0">
                  <c:v>Шампунь</c:v>
                </c:pt>
                <c:pt idx="1">
                  <c:v>Мыло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3.2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solidFill>
            <a:srgbClr val="b3b3b3"/>
          </a:solidFill>
        </a:ln>
      </c:spPr>
      <c:txPr>
        <a:bodyPr/>
        <a:lstStyle/>
        <a:p>
          <a:pPr>
            <a:defRPr b="0" sz="1908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294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layoutTarget val="inner"/>
          <c:xMode val="edge"/>
          <c:yMode val="edge"/>
          <c:x val="0.214228466361793"/>
          <c:y val="0.105991167402716"/>
          <c:w val="0.513459997171279"/>
          <c:h val="0.722939755020415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1"/>
              <c:showVal val="0"/>
              <c:showCatName val="1"/>
              <c:showSerName val="0"/>
              <c:showPercent val="1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1"/>
              <c:showVal val="0"/>
              <c:showCatName val="1"/>
              <c:showSerName val="0"/>
              <c:showPercent val="1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1"/>
              <c:showVal val="0"/>
              <c:showCatName val="1"/>
              <c:showSerName val="0"/>
              <c:showPercent val="1"/>
              <c:separator> </c:separator>
            </c:dLbl>
            <c:txPr>
              <a:bodyPr wrap="non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1"/>
            <c:showVal val="0"/>
            <c:showCatName val="1"/>
            <c:showSerName val="0"/>
            <c:showPercent val="1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массажки и расчёски</c:v>
                </c:pt>
                <c:pt idx="1">
                  <c:v>рассчёска</c:v>
                </c:pt>
                <c:pt idx="2">
                  <c:v>массажка, щётк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7</c:v>
                </c:pt>
                <c:pt idx="1">
                  <c:v>13</c:v>
                </c:pt>
                <c:pt idx="2">
                  <c:v>80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27782754231295"/>
          <c:y val="0.758770102491459"/>
          <c:w val="0.247666195190948"/>
          <c:h val="0.172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layoutTarget val="inner"/>
          <c:xMode val="edge"/>
          <c:yMode val="edge"/>
          <c:x val="0.20448348985156"/>
          <c:y val="0.186664351449905"/>
          <c:w val="0.515298394425932"/>
          <c:h val="0.713926028824449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solidFill>
                  <a:srgbClr val="000000"/>
                </a:solidFill>
              </a:ln>
            </c:spPr>
          </c:dPt>
          <c:dPt>
            <c:idx val="1"/>
            <c:spPr>
              <a:solidFill>
                <a:srgbClr val="ff420e"/>
              </a:solidFill>
              <a:ln w="0">
                <a:solidFill>
                  <a:srgbClr val="000000"/>
                </a:solidFill>
              </a:ln>
            </c:spPr>
          </c:dPt>
          <c:dPt>
            <c:idx val="2"/>
            <c:spPr>
              <a:solidFill>
                <a:srgbClr val="ffd320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1"/>
              <c:showVal val="0"/>
              <c:showCatName val="1"/>
              <c:showSerName val="0"/>
              <c:showPercent val="1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1"/>
              <c:showVal val="0"/>
              <c:showCatName val="1"/>
              <c:showSerName val="0"/>
              <c:showPercent val="1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1"/>
              <c:showVal val="0"/>
              <c:showCatName val="1"/>
              <c:showSerName val="0"/>
              <c:showPercent val="1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1"/>
            <c:showVal val="0"/>
            <c:showCatName val="1"/>
            <c:showSerName val="0"/>
            <c:showPercent val="1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любят делать причёски</c:v>
                </c:pt>
                <c:pt idx="1">
                  <c:v>различают причёски</c:v>
                </c:pt>
                <c:pt idx="2">
                  <c:v>косички, хвостики, шишки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7</c:v>
                </c:pt>
                <c:pt idx="1">
                  <c:v>23</c:v>
                </c:pt>
                <c:pt idx="2">
                  <c:v>60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653488841765122"/>
          <c:y val="0.0532210453203681"/>
          <c:w val="0.328048472607927"/>
          <c:h val="0.17973430580880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7CB-C6B9-4103-AF68-2C84C949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459-28CB-41DC-AC08-D93A59CF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0FC-FEA7-4B05-8159-02300647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4BC-7C52-4C11-81A3-A4CD71D6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21BB-4A2E-4E99-AE4F-E4940DDC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EFFC-CCEC-460D-B5BD-D02F4968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5F4A-AC04-4604-BF16-18290DF3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E6C8-D5E6-45EF-8D2F-4FBABE10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E2BF-5607-4178-9E72-D23A0095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4A6F-8FAB-4117-A112-461A7955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5C56-34DC-4CBB-9F39-1AB40504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332-0A7C-4AAB-90A1-9F221047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AA53-46A1-488A-B254-9BB882D3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1188-F3FB-428E-BB52-6C322C7D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926F-B77F-4BD5-9EAA-D88CF9C5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4385-1069-4DCE-BEE9-9D4926D5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AA8F-BCAD-4132-A000-205B75C0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81B-A35E-4FC4-9FC9-089C63DF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FB2-8F86-4817-99DB-CA74ED60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4B1-A8F9-4382-B089-1AE2D9B4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B1E-F473-4A05-83FA-1BC0F6C9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341-309D-44F3-AC14-083DE06E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909-8D77-4C25-BE16-E3D44CF2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420-1813-45E7-B932-1D117C49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2A673-91DA-4A81-A447-15BF4D47642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0360" cy="6093000"/>
            <a:chOff x="168120" y="228600"/>
            <a:chExt cx="8820360" cy="609300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0360" cy="6093000"/>
            </a:xfrm>
            <a:prstGeom prst="roundRect">
              <a:avLst>
                <a:gd name="adj" fmla="val 11046"/>
              </a:avLst>
            </a:prstGeom>
            <a:noFill/>
            <a:ln cap="sq"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2840" cy="0"/>
            </a:xfrm>
            <a:prstGeom prst="line">
              <a:avLst/>
            </a:prstGeom>
            <a:ln cap="sq"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38A72DD-AF4D-4997-A7B2-F9442F6D99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14560" y="70920"/>
            <a:ext cx="51134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600" spc="-1" strike="noStrike">
                <a:solidFill>
                  <a:srgbClr val="336666"/>
                </a:solidFill>
                <a:latin typeface="Arial"/>
              </a:rPr>
              <a:t>Проект:</a:t>
            </a:r>
            <a:br>
              <a:rPr sz="56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«Модные причёски 2014 для девочек, девушек и женщин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40360" y="2016000"/>
            <a:ext cx="3135240" cy="4176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3040" y="2014560"/>
            <a:ext cx="278424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60360" y="390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1480" indent="0">
              <a:lnSpc>
                <a:spcPct val="100000"/>
              </a:lnSpc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Практическая часть исследовани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100000"/>
              </a:lnSpc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Таблица№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100000"/>
              </a:lnSpc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«Косметический уход за волосами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100000"/>
              </a:lnSpc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99960" y="2212920"/>
          <a:ext cx="8008560" cy="3630600"/>
        </p:xfrm>
        <a:graphic>
          <a:graphicData uri="http://schemas.openxmlformats.org/drawingml/2006/table">
            <a:tbl>
              <a:tblPr/>
              <a:tblGrid>
                <a:gridCol w="1343880"/>
                <a:gridCol w="1524960"/>
                <a:gridCol w="1067400"/>
                <a:gridCol w="1296000"/>
                <a:gridCol w="1296360"/>
                <a:gridCol w="1479960"/>
              </a:tblGrid>
              <a:tr h="1514520">
                <a:tc>
                  <a:txBody>
                    <a:bodyPr lIns="90000" rIns="90000" tIns="777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Возрас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77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Кодличес-тво опрошен-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77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Шам-пун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77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мы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77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Допол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77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Использо-вание тра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7844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10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(8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1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7392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-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(8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9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5772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5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9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(1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7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5320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Таблица №2</a:t>
            </a:r>
            <a:br>
              <a:rPr sz="3100"/>
            </a:b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«Уход за волосами: щётки, расчёски»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93800" y="2033640"/>
          <a:ext cx="7397640" cy="3725640"/>
        </p:xfrm>
        <a:graphic>
          <a:graphicData uri="http://schemas.openxmlformats.org/drawingml/2006/table">
            <a:tbl>
              <a:tblPr/>
              <a:tblGrid>
                <a:gridCol w="1479600"/>
                <a:gridCol w="1479600"/>
                <a:gridCol w="1479240"/>
                <a:gridCol w="1479600"/>
                <a:gridCol w="1479600"/>
              </a:tblGrid>
              <a:tr h="136764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шен-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ётки (массаж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чёс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жки и расчё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1568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6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9984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-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9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1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4248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5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9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(1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8916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Таблица №3</a:t>
            </a:r>
            <a:br>
              <a:rPr sz="3100"/>
            </a:b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«Модные причёски»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93800" y="2033640"/>
          <a:ext cx="7397640" cy="3727440"/>
        </p:xfrm>
        <a:graphic>
          <a:graphicData uri="http://schemas.openxmlformats.org/drawingml/2006/table">
            <a:tbl>
              <a:tblPr/>
              <a:tblGrid>
                <a:gridCol w="1479600"/>
                <a:gridCol w="1479600"/>
                <a:gridCol w="1479240"/>
                <a:gridCol w="1479600"/>
                <a:gridCol w="1479600"/>
              </a:tblGrid>
              <a:tr h="1368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шен-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ички, хвост, ши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причё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т / не знают модные причё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1604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(8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(40%) / 6 (6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002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-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10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(50%) / 5(5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4284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5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(7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60%) / 4 (4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720720"/>
            <a:ext cx="822960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5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Диаграмма №1</a:t>
            </a:r>
            <a:br>
              <a:rPr sz="3100"/>
            </a:b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«Косметический уход за волосами»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47640" y="720720"/>
          <a:ext cx="7848720" cy="5759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98560" y="404640"/>
            <a:ext cx="73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46280" y="1938240"/>
          <a:ext cx="7635600" cy="431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Диаграмма №2</a:t>
            </a:r>
            <a:br>
              <a:rPr sz="3100"/>
            </a:b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«Уход за волосами»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14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Диаграмма №3</a:t>
            </a:r>
            <a:br>
              <a:rPr sz="3100"/>
            </a:b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«Модные причёски»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88960" y="2058840"/>
          <a:ext cx="7129440" cy="4146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1640" y="503280"/>
            <a:ext cx="82965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 u="sng">
                <a:solidFill>
                  <a:srgbClr val="99284c"/>
                </a:solidFill>
                <a:uFillTx/>
                <a:latin typeface="Arial"/>
              </a:rPr>
              <a:t>Рекомендации</a:t>
            </a:r>
            <a:br>
              <a:rPr sz="41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1. Девочки, девушки, женщины, творите,фантазируйте со своими причёсками!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2. Любите себя, ищите себя!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3. Берегите волосы и ухаживайте за ними!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4. Будьте всегда красивы!</a:t>
            </a: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17560" y="2131920"/>
            <a:ext cx="3754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776640" y="-1736640"/>
            <a:ext cx="2511360" cy="3176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5841800" y="-360360"/>
            <a:ext cx="2446200" cy="299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5635160" y="-1244520"/>
            <a:ext cx="2652840" cy="3260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5739920" y="-1011240"/>
            <a:ext cx="2548080" cy="2882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751280" y="2519280"/>
            <a:ext cx="3703680" cy="3959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762120" y="2898720"/>
            <a:ext cx="348588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Спасибо за внимание!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871640" y="1511280"/>
            <a:ext cx="49672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1560" y="574560"/>
            <a:ext cx="7696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6b0094"/>
                </a:solidFill>
                <a:uFillTx/>
                <a:latin typeface="Times New Roman CYR"/>
                <a:ea typeface="Times New Roman CYR"/>
              </a:rPr>
              <a:t>Цель:</a:t>
            </a:r>
            <a:br>
              <a:rPr sz="2000"/>
            </a:br>
            <a:r>
              <a:rPr b="1" i="1" lang="ru-RU" sz="2000" spc="-1" strike="noStrike" u="sng">
                <a:solidFill>
                  <a:srgbClr val="6b0094"/>
                </a:solidFill>
                <a:uFillTx/>
                <a:latin typeface="Times New Roman CYR"/>
                <a:ea typeface="Times New Roman CYR"/>
              </a:rPr>
              <a:t>выяснить, пользуются ли девочки, девушки, женщины новыми модными прическами  ухаживая за своими волосами.</a:t>
            </a:r>
            <a:br>
              <a:rPr sz="2000"/>
            </a:br>
            <a:r>
              <a:rPr b="1" i="1" lang="ru-RU" sz="2000" spc="-1" strike="noStrike" u="sng">
                <a:solidFill>
                  <a:srgbClr val="6b0094"/>
                </a:solidFill>
                <a:uFillTx/>
                <a:latin typeface="Times New Roman CYR"/>
                <a:ea typeface="Times New Roman CYR"/>
              </a:rPr>
              <a:t>Задачи:</a:t>
            </a:r>
            <a:br>
              <a:rPr sz="2000"/>
            </a:br>
            <a:r>
              <a:rPr b="1" i="1" lang="ru-RU" sz="2000" spc="-1" strike="noStrike" u="sng">
                <a:solidFill>
                  <a:srgbClr val="6b0094"/>
                </a:solidFill>
                <a:uFillTx/>
                <a:latin typeface="Times New Roman CYR"/>
                <a:ea typeface="Times New Roman CYR"/>
              </a:rPr>
              <a:t>Собрать информацию о правильном уходе за волосами, о моде на причёски в 2014 году;</a:t>
            </a:r>
            <a:br>
              <a:rPr sz="2000"/>
            </a:br>
            <a:r>
              <a:rPr b="1" i="1" lang="ru-RU" sz="2000" spc="-1" strike="noStrike" u="sng">
                <a:solidFill>
                  <a:srgbClr val="6b0094"/>
                </a:solidFill>
                <a:uFillTx/>
                <a:latin typeface="Times New Roman CYR"/>
                <a:ea typeface="Times New Roman CYR"/>
              </a:rPr>
              <a:t>Провести анкетирование среди девочек начального, среднего и старшего звена, женщин разного возраста на выяснение ухода за волосами, знание модных причёсок 2014 года;</a:t>
            </a:r>
            <a:br>
              <a:rPr sz="2000"/>
            </a:br>
            <a:r>
              <a:rPr b="1" i="1" lang="ru-RU" sz="2000" spc="-1" strike="noStrike" u="sng">
                <a:solidFill>
                  <a:srgbClr val="6b0094"/>
                </a:solidFill>
                <a:uFillTx/>
                <a:latin typeface="Times New Roman CYR"/>
                <a:ea typeface="Times New Roman CYR"/>
              </a:rPr>
              <a:t>На основе биологических и медицинских данных определить влияние волос на здоровье человека;</a:t>
            </a:r>
            <a:br>
              <a:rPr sz="2000"/>
            </a:br>
            <a:r>
              <a:rPr b="1" i="1" lang="ru-RU" sz="2000" spc="-1" strike="noStrike" u="sng">
                <a:solidFill>
                  <a:srgbClr val="6b0094"/>
                </a:solidFill>
                <a:uFillTx/>
                <a:latin typeface="Times New Roman CYR"/>
                <a:ea typeface="Times New Roman CYR"/>
              </a:rPr>
              <a:t>На основе психологических данных определить роль волос в жизни девочек;</a:t>
            </a:r>
            <a:br>
              <a:rPr sz="2000"/>
            </a:br>
            <a:r>
              <a:rPr b="1" i="1" lang="ru-RU" sz="2000" spc="-1" strike="noStrike" u="sng">
                <a:solidFill>
                  <a:srgbClr val="6b0094"/>
                </a:solidFill>
                <a:uFillTx/>
                <a:latin typeface="Times New Roman CYR"/>
                <a:ea typeface="Times New Roman CYR"/>
              </a:rPr>
              <a:t>Выработать предложения и выводы по данной проблеме.</a:t>
            </a:r>
            <a:br>
              <a:rPr sz="2000"/>
            </a:b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131560"/>
            <a:ext cx="8291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Гипотеза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74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b0094"/>
                </a:solidFill>
                <a:latin typeface="Times New Roman CYR"/>
                <a:ea typeface="Times New Roman CYR"/>
              </a:rPr>
              <a:t>Девочки, девушки и женщины в повседневной жизни,  ухаживая за своими волосами,   используют новые модные прически.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7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2422440"/>
            <a:ext cx="7365960" cy="15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-637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История причёсок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1739880"/>
            <a:ext cx="808200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19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1640" y="1152360"/>
            <a:ext cx="7920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умаете причёска это привилегия современности? Совсем наоборот, история ухода за волосами приходит из далёких первобытных времён. Археологи находят кости-гребни в волосах охотников на мамонтов и других древних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ресно, что археологические раскопки скульптур на Мальте обнаруживают женские статуи с разнообразными причёсками - то выложены пряди зигзагоподобно, то начёсаны на одну сторону плеч, заплетённые в косу, перевязанные лентами, ремешк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86120" y="4535640"/>
            <a:ext cx="2585880" cy="1885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975280" y="4176720"/>
            <a:ext cx="2664000" cy="244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20720" y="453564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0000" y="476280"/>
            <a:ext cx="705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История причёсок Древней Руси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74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333333"/>
                </a:solidFill>
                <a:latin typeface="Times New Roman CYR"/>
                <a:ea typeface="Times New Roman CYR"/>
              </a:rPr>
              <a:t> </a:t>
            </a:r>
            <a:r>
              <a:rPr b="0" lang="ru-RU" sz="2200" spc="-1" strike="noStrike">
                <a:solidFill>
                  <a:srgbClr val="333333"/>
                </a:solidFill>
                <a:latin typeface="Times New Roman CYR"/>
                <a:ea typeface="Times New Roman CYR"/>
              </a:rPr>
              <a:t>О внимании уделяемом славянами уходу за волосами, свидетельствуют, в частности, обнаруженные археологами гребни, а также другие орудия труда употребляемые парикмахерами в настоящее время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1800" y="3456000"/>
            <a:ext cx="3398760" cy="2879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248000" y="3456000"/>
            <a:ext cx="420552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63640" y="502920"/>
            <a:ext cx="77248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0" lang="ru-RU" sz="2400" spc="-1" strike="noStrike">
                <a:solidFill>
                  <a:srgbClr val="6b0094"/>
                </a:solidFill>
                <a:latin typeface="Times New Roman CYR"/>
                <a:ea typeface="Times New Roman CYR"/>
              </a:rPr>
              <a:t>Замужние женщины носили волосы собранные и спрятанные под платком, а девушки открытые волосы, иногда лишь повязку и чёлку. Их волосы были распущены или заплетались в косу.</a:t>
            </a:r>
            <a:br>
              <a:rPr sz="2400"/>
            </a:br>
            <a:r>
              <a:rPr b="0" lang="ru-RU" sz="2400" spc="-1" strike="noStrike">
                <a:solidFill>
                  <a:srgbClr val="6b0094"/>
                </a:solidFill>
                <a:latin typeface="Times New Roman CYR"/>
                <a:ea typeface="Times New Roman CYR"/>
              </a:rPr>
              <a:t>Косы из трёх и более прядей связывали шерстяным шнуром и пристёгивали янтарным украш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467400" y="3595680"/>
            <a:ext cx="2028960" cy="2451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03640" y="3429000"/>
            <a:ext cx="2519280" cy="2690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76360" y="3311640"/>
            <a:ext cx="324000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45920" y="1938240"/>
            <a:ext cx="76374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700" spc="-1" strike="noStrike">
                <a:solidFill>
                  <a:srgbClr val="333333"/>
                </a:solidFill>
                <a:latin typeface="Arial"/>
              </a:rPr>
              <a:t>        </a:t>
            </a:r>
            <a:br>
              <a:rPr sz="1600"/>
            </a:b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Times New Roman CYR"/>
                <a:ea typeface="Times New Roman CYR"/>
              </a:rPr>
              <a:t>Модные стрижки 2014 года для девочек и девушек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6360" y="1357200"/>
            <a:ext cx="2592360" cy="2890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168720" y="1871640"/>
            <a:ext cx="3062160" cy="2087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29440" y="1511280"/>
            <a:ext cx="2243160" cy="302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3024360" y="4041720"/>
            <a:ext cx="3238200" cy="2293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03280" y="4368960"/>
            <a:ext cx="2455920" cy="1895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321600" y="4605480"/>
            <a:ext cx="216036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12524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500"/>
            </a:br>
            <a:br>
              <a:rPr sz="2500"/>
            </a:b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6360" y="576360"/>
            <a:ext cx="78483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b2394"/>
                </a:solidFill>
                <a:latin typeface="Arial"/>
              </a:rPr>
              <a:t>Модные прически 2014 на длинные волосы для девочек и деву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84400" y="1557360"/>
            <a:ext cx="2919600" cy="247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31640" y="1252440"/>
            <a:ext cx="2543400" cy="2978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904000" y="1336680"/>
            <a:ext cx="2592360" cy="3127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008000" y="4224240"/>
            <a:ext cx="2040120" cy="2327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816360" y="4149720"/>
            <a:ext cx="1703520" cy="2043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119640" y="4608360"/>
            <a:ext cx="1944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45920" y="1938240"/>
            <a:ext cx="76374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Times New Roman CYR"/>
                <a:ea typeface="Times New Roman CYR"/>
              </a:rPr>
              <a:t>Модные прически 2014 для женщин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343320" y="2457360"/>
            <a:ext cx="2200320" cy="3014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92000" y="1368360"/>
            <a:ext cx="2494080" cy="2692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641920" y="1938240"/>
            <a:ext cx="2710080" cy="3335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20720" y="4173480"/>
            <a:ext cx="2055960" cy="216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0:10:08Z</dcterms:created>
  <dc:creator>Admin</dc:creator>
  <dc:description/>
  <dc:language>en-US</dc:language>
  <cp:lastModifiedBy>Loner-XP</cp:lastModifiedBy>
  <dcterms:modified xsi:type="dcterms:W3CDTF">2010-09-21T05:58:34Z</dcterms:modified>
  <cp:revision>11</cp:revision>
  <dc:subject/>
  <dc:title>Стрижки</dc:title>
</cp:coreProperties>
</file>