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27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1"/>
            <c:showVal val="0"/>
            <c:showCatName val="1"/>
            <c:showSerName val="0"/>
            <c:showPercent val="1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Шампунь</c:v>
                </c:pt>
                <c:pt idx="1">
                  <c:v>Мыл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9</c:v>
                </c:pt>
                <c:pt idx="1">
                  <c:v>0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Шампунь</c:v>
                </c:pt>
                <c:pt idx="1">
                  <c:v>Мыло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3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solidFill>
            <a:srgbClr val="b3b3b3"/>
          </a:solidFill>
        </a:ln>
      </c:spPr>
      <c:txPr>
        <a:bodyPr/>
        <a:lstStyle/>
        <a:p>
          <a:pPr>
            <a:defRPr b="0" sz="1908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294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214228466361793"/>
          <c:y val="0.105991167402716"/>
          <c:w val="0.513459997171279"/>
          <c:h val="0.72293975502041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1"/>
            <c:showVal val="0"/>
            <c:showCatName val="1"/>
            <c:showSerName val="0"/>
            <c:showPercent val="1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массажки и расчёски</c:v>
                </c:pt>
                <c:pt idx="1">
                  <c:v>рассчёска</c:v>
                </c:pt>
                <c:pt idx="2">
                  <c:v>массажка, щёт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7</c:v>
                </c:pt>
                <c:pt idx="1">
                  <c:v>13</c:v>
                </c:pt>
                <c:pt idx="2">
                  <c:v>80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27782754231295"/>
          <c:y val="0.758770102491459"/>
          <c:w val="0.247666195190948"/>
          <c:h val="0.172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20448348985156"/>
          <c:y val="0.186664351449905"/>
          <c:w val="0.515298394425932"/>
          <c:h val="0.713926028824449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spPr>
              <a:solidFill>
                <a:srgbClr val="ff420e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spPr>
              <a:solidFill>
                <a:srgbClr val="ffd320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1"/>
              <c:showVal val="0"/>
              <c:showCatName val="1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1"/>
            <c:showVal val="0"/>
            <c:showCatName val="1"/>
            <c:showSerName val="0"/>
            <c:showPercent val="1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любят делать причёски</c:v>
                </c:pt>
                <c:pt idx="1">
                  <c:v>различают причёски</c:v>
                </c:pt>
                <c:pt idx="2">
                  <c:v>косички, хвостики, шишк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7</c:v>
                </c:pt>
                <c:pt idx="1">
                  <c:v>23</c:v>
                </c:pt>
                <c:pt idx="2">
                  <c:v>60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3488841765122"/>
          <c:y val="0.0532210453203681"/>
          <c:w val="0.328048472607927"/>
          <c:h val="0.17973430580880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84D-F033-457E-9402-4FF1D86F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647-8CE8-4C02-9BAD-CD65EB2D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A88-1DAA-482D-A045-F2B15D29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E92-B10E-4210-82B9-5E22E544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06FA-427E-4711-B136-985F48C4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3213-23CC-4DBB-814D-D9BB3DAA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EE55-BBC0-49E7-AAEB-3BA0703B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7342-C176-469F-8998-E6314A6F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93F9-9024-4080-A7A8-B77BAD88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3E55-9DC7-41C0-B918-768F5CA3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7EB3-49F9-40A9-8E38-5B836635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2A2-FEFB-4187-A5C5-33EB4F61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480C-1B2A-4B98-B843-489FAB76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9337-6221-4AD9-9CCC-7898CA73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4727-4A61-4195-979F-6AD01FD6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151C-F3BD-47DB-BA78-B2730B74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60C4-9663-4244-9F9E-F9940848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085-D334-4062-AA10-26DE44A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D73-7EB1-4265-AFCA-9FCC4248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D1D-770E-49B8-B17E-2DF51CFB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CAC-F3BC-411B-90FE-1DDAD337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908-FE34-4470-9EC9-79E5B14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1FA-89D9-46D2-8C70-1F420577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70A-A3EB-4347-BF49-CB8390AC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CEE73-BD68-49D1-83F9-37458AABAE9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0360" cy="6093000"/>
            <a:chOff x="168120" y="228600"/>
            <a:chExt cx="8820360" cy="609300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0360" cy="609300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284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829606-A1B3-4112-860B-99D7FF99A8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14560" y="70920"/>
            <a:ext cx="51134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600" spc="-1" strike="noStrike">
                <a:solidFill>
                  <a:srgbClr val="336666"/>
                </a:solidFill>
                <a:latin typeface="Arial"/>
              </a:rPr>
              <a:t>Проект:</a:t>
            </a:r>
            <a:br>
              <a:rPr sz="56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«Модные причёски 2014 для девочек, девушек и женщин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40360" y="2016000"/>
            <a:ext cx="3135240" cy="417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3040" y="2014560"/>
            <a:ext cx="27842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60360" y="390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14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Практическая часть исследован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Таблица№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«Косметический уход за волосами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99960" y="2212920"/>
          <a:ext cx="8008560" cy="3630600"/>
        </p:xfrm>
        <a:graphic>
          <a:graphicData uri="http://schemas.openxmlformats.org/drawingml/2006/table">
            <a:tbl>
              <a:tblPr/>
              <a:tblGrid>
                <a:gridCol w="1343880"/>
                <a:gridCol w="1524960"/>
                <a:gridCol w="1067400"/>
                <a:gridCol w="1296000"/>
                <a:gridCol w="1296360"/>
                <a:gridCol w="1479960"/>
              </a:tblGrid>
              <a:tr h="1514520"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озра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одличес-тво опрошен-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Шам-пу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мы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Допол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7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Использо-вание тр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7844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739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7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5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7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5320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Таблица №2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Уход за волосами: щётки, расчёск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93800" y="2033640"/>
          <a:ext cx="7397640" cy="3725640"/>
        </p:xfrm>
        <a:graphic>
          <a:graphicData uri="http://schemas.openxmlformats.org/drawingml/2006/table">
            <a:tbl>
              <a:tblPr/>
              <a:tblGrid>
                <a:gridCol w="1479600"/>
                <a:gridCol w="1479600"/>
                <a:gridCol w="1479240"/>
                <a:gridCol w="1479600"/>
                <a:gridCol w="1479600"/>
              </a:tblGrid>
              <a:tr h="13676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шен-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ётки (массаж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ё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жки и расчё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156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6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998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24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5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891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Таблица №3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Модные причёск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93800" y="2033640"/>
          <a:ext cx="7397640" cy="3727440"/>
        </p:xfrm>
        <a:graphic>
          <a:graphicData uri="http://schemas.openxmlformats.org/drawingml/2006/table">
            <a:tbl>
              <a:tblPr/>
              <a:tblGrid>
                <a:gridCol w="1479600"/>
                <a:gridCol w="1479600"/>
                <a:gridCol w="1479240"/>
                <a:gridCol w="1479600"/>
                <a:gridCol w="1479600"/>
              </a:tblGrid>
              <a:tr h="1368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шен-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чки, хвост, ш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причё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т / не знают модные причё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160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(40%) / 6 (6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00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(50%) / 5(5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28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5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(7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60%) / 4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720720"/>
            <a:ext cx="82296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5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Диаграмма №1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Косметический уход за волосам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47640" y="720720"/>
          <a:ext cx="7848720" cy="575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98560" y="404640"/>
            <a:ext cx="73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46280" y="1938240"/>
          <a:ext cx="7635600" cy="431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Диаграмма №2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Уход за волосам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14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Диаграмма №3</a:t>
            </a:r>
            <a:br>
              <a:rPr sz="3100"/>
            </a:b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«Модные причёски»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88960" y="2058840"/>
          <a:ext cx="7129440" cy="4146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1640" y="503280"/>
            <a:ext cx="82965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99284c"/>
                </a:solidFill>
                <a:uFillTx/>
                <a:latin typeface="Arial"/>
              </a:rPr>
              <a:t>Рекомендации</a:t>
            </a:r>
            <a:br>
              <a:rPr sz="41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1. Девочки, девушки, женщины, творите,фантазируйте со своими причёсками!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2. Любите себя, ищите себя!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3. Берегите волосы и ухаживайте за ними!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4. Будьте всегда красивы!</a:t>
            </a: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17560" y="2131920"/>
            <a:ext cx="3754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776640" y="-1736640"/>
            <a:ext cx="2511360" cy="3176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5841800" y="-360360"/>
            <a:ext cx="244620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5635160" y="-1244520"/>
            <a:ext cx="2652840" cy="3260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5739920" y="-1011240"/>
            <a:ext cx="2548080" cy="2882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751280" y="2519280"/>
            <a:ext cx="3703680" cy="3959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62120" y="2898720"/>
            <a:ext cx="348588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Спасибо за внимание!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71640" y="1511280"/>
            <a:ext cx="49672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1560" y="574560"/>
            <a:ext cx="7696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Цель: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выяснить, пользуются ли девочки, девушки, женщины новыми модными прическами  ухаживая за своими волосами.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Задачи: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Собрать информацию о правильном уходе за волосами, о моде на причёски в 2014 году;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Провести анкетирование среди девочек начального, среднего и старшего звена, женщин разного возраста на выяснение ухода за волосами, знание модных причёсок 2014 года;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На основе биологических и медицинских данных определить влияние волос на здоровье человека;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На основе психологических данных определить роль волос в жизни девочек;</a:t>
            </a:r>
            <a:br>
              <a:rPr sz="2000"/>
            </a:br>
            <a:r>
              <a:rPr b="1" i="1" lang="ru-RU" sz="2000" spc="-1" strike="noStrike" u="sng">
                <a:solidFill>
                  <a:srgbClr val="6b0094"/>
                </a:solidFill>
                <a:uFillTx/>
                <a:latin typeface="Times New Roman CYR"/>
                <a:ea typeface="Times New Roman CYR"/>
              </a:rPr>
              <a:t>Выработать предложения и выводы по данной проблеме.</a:t>
            </a:r>
            <a:br>
              <a:rPr sz="2000"/>
            </a:b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156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Гипотеза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74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b0094"/>
                </a:solidFill>
                <a:latin typeface="Times New Roman CYR"/>
                <a:ea typeface="Times New Roman CYR"/>
              </a:rPr>
              <a:t>Девочки, девушки и женщины в повседневной жизни,  ухаживая за своими волосами,   используют новые модные прически.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7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2422440"/>
            <a:ext cx="736596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637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История причёсок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739880"/>
            <a:ext cx="80820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1640" y="1152360"/>
            <a:ext cx="7920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умаете причёска это привилегия современности? Совсем наоборот, история ухода за волосами приходит из далёких первобытных времён. Археологи находят кости-гребни в волосах охотников на мамонтов и других древних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есно, что археологические раскопки скульптур на Мальте обнаруживают женские статуи с разнообразными причёсками - то выложены пряди зигзагоподобно, то начёсаны на одну сторону плеч, заплетённые в косу, перевязанные лентами, ремеш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86120" y="4535640"/>
            <a:ext cx="2585880" cy="188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975280" y="4176720"/>
            <a:ext cx="2664000" cy="244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20720" y="453564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476280"/>
            <a:ext cx="705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История причёсок Древней Руси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74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333333"/>
                </a:solidFill>
                <a:latin typeface="Times New Roman CYR"/>
                <a:ea typeface="Times New Roman CYR"/>
              </a:rPr>
              <a:t> </a:t>
            </a:r>
            <a:r>
              <a:rPr b="0" lang="ru-RU" sz="2200" spc="-1" strike="noStrike">
                <a:solidFill>
                  <a:srgbClr val="333333"/>
                </a:solidFill>
                <a:latin typeface="Times New Roman CYR"/>
                <a:ea typeface="Times New Roman CYR"/>
              </a:rPr>
              <a:t>О внимании уделяемом славянами уходу за волосами, свидетельствуют, в частности, обнаруженные археологами гребни, а также другие орудия труда употребляемые парикмахерами в настоящее время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1800" y="3456000"/>
            <a:ext cx="3398760" cy="2879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48000" y="3456000"/>
            <a:ext cx="420552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63640" y="502920"/>
            <a:ext cx="77248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0" lang="ru-RU" sz="2400" spc="-1" strike="noStrike">
                <a:solidFill>
                  <a:srgbClr val="6b0094"/>
                </a:solidFill>
                <a:latin typeface="Times New Roman CYR"/>
                <a:ea typeface="Times New Roman CYR"/>
              </a:rPr>
              <a:t>Замужние женщины носили волосы собранные и спрятанные под платком, а девушки открытые волосы, иногда лишь повязку и чёлку. Их волосы были распущены или заплетались в косу.</a:t>
            </a:r>
            <a:br>
              <a:rPr sz="2400"/>
            </a:br>
            <a:r>
              <a:rPr b="0" lang="ru-RU" sz="2400" spc="-1" strike="noStrike">
                <a:solidFill>
                  <a:srgbClr val="6b0094"/>
                </a:solidFill>
                <a:latin typeface="Times New Roman CYR"/>
                <a:ea typeface="Times New Roman CYR"/>
              </a:rPr>
              <a:t>Косы из трёх и более прядей связывали шерстяным шнуром и пристёгивали янтарным украш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67400" y="3595680"/>
            <a:ext cx="2028960" cy="2451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03640" y="3429000"/>
            <a:ext cx="2519280" cy="2690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76360" y="3311640"/>
            <a:ext cx="32400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45920" y="1938240"/>
            <a:ext cx="76374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333333"/>
                </a:solidFill>
                <a:latin typeface="Arial"/>
              </a:rPr>
              <a:t>        </a:t>
            </a:r>
            <a:br>
              <a:rPr sz="1600"/>
            </a:b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 CYR"/>
                <a:ea typeface="Times New Roman CYR"/>
              </a:rPr>
              <a:t>Модные стрижки 2014 года для девочек и девушек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6360" y="1357200"/>
            <a:ext cx="2592360" cy="2890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168720" y="1871640"/>
            <a:ext cx="3062160" cy="2087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29440" y="1511280"/>
            <a:ext cx="2243160" cy="302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024360" y="4041720"/>
            <a:ext cx="3238200" cy="2293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03280" y="4368960"/>
            <a:ext cx="2455920" cy="1895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321600" y="4605480"/>
            <a:ext cx="216036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12524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br>
              <a:rPr sz="2500"/>
            </a:br>
            <a:endParaRPr b="1" i="1" lang="en-US" sz="25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6360" y="576360"/>
            <a:ext cx="7848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b2394"/>
                </a:solidFill>
                <a:latin typeface="Arial"/>
              </a:rPr>
              <a:t>Модные прически 2014 на длинные волосы для девочек и дев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84400" y="1557360"/>
            <a:ext cx="2919600" cy="247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31640" y="1252440"/>
            <a:ext cx="2543400" cy="2978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904000" y="1336680"/>
            <a:ext cx="2592360" cy="312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008000" y="4224240"/>
            <a:ext cx="2040120" cy="2327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816360" y="4149720"/>
            <a:ext cx="1703520" cy="204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119640" y="460836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45920" y="1938240"/>
            <a:ext cx="76374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 CYR"/>
                <a:ea typeface="Times New Roman CYR"/>
              </a:rPr>
              <a:t>Модные прически 2014 для женщин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343320" y="2457360"/>
            <a:ext cx="2200320" cy="301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92000" y="1368360"/>
            <a:ext cx="2494080" cy="2692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641920" y="1938240"/>
            <a:ext cx="2710080" cy="3335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20720" y="4173480"/>
            <a:ext cx="2055960" cy="21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10:08Z</dcterms:created>
  <dc:creator>Admin</dc:creator>
  <dc:description/>
  <dc:language>en-US</dc:language>
  <cp:lastModifiedBy>Loner-XP</cp:lastModifiedBy>
  <dcterms:modified xsi:type="dcterms:W3CDTF">2010-09-21T05:58:34Z</dcterms:modified>
  <cp:revision>11</cp:revision>
  <dc:subject/>
  <dc:title>Стрижки</dc:title>
</cp:coreProperties>
</file>