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4FD-D4D7-4888-B6C3-4AEEA158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0BA-0621-4D80-A51D-F29564E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3B5-3D19-4F6A-B26B-91A77973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6A1-0DBA-488E-8D08-37D611D3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96D-E294-48B9-9D8A-C8B6B75B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31AB-31F4-4CA7-BB86-F6C7B05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EC7E-95D9-4EE7-B586-B6AD311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DB0F-BB13-4B90-8479-9B8364C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412-1E1D-48A5-A9CF-8B914B4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9160-4860-44CA-A08E-3E11D480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0F2-75C1-471A-9381-EE8251D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329-4B5B-42E5-8F54-6F3AB96A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360-0C11-42C9-82EB-095DDA7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81C-145C-4054-A883-D10D79D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5503-03B9-49EB-8942-01302139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BEF2-7D6F-45A7-B6E9-4ED0CAB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CC8-6EC5-44F1-AED9-37E18C33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280F-3E5F-4E46-AB43-4029198D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FE9F-1FA0-4A44-A1A3-E6D4FD1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CAAF-9E24-4A38-BF79-1597DAC4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EBA8-A576-4225-A41C-DA9F6FFB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CB4E-4B68-46F4-878D-B0EA7627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DFD-C13D-400A-9EF2-102BADB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5B5E-34FE-4C72-A459-D3698F7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8584-9AB4-44FB-B6AF-601A27D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C17E-CD37-4C91-9568-DAF9FC2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2D5CA-C954-4D1A-AA8E-B57617E3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20B8-2EC3-4AC1-9FF5-308F0707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9283-C140-4586-B439-7AB7210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3FF4-0722-4E52-8C4C-572F06C2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F5E0-BFD4-4F2D-85D5-A91E36DA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A87E-F405-48E4-86F1-60765D8B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3F34-F4D9-4A36-988B-A33AFF8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9CC-5D52-4322-BBD1-86A2363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24F7-63DA-48C5-A4DD-7C53FBA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DE0D-FFDF-4E40-A046-AB01CE8B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15A4-9D1A-409A-9B29-96B88F9F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CE4D-0F50-4473-A691-B644737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C6FB-B925-4089-B269-6D04296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179F-DBD3-47FA-8AA5-B682E60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CE71-4AB0-418E-B1F2-B3874A36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4244E-6668-4979-9021-BB1F2D21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7E54A-2DA3-4B69-9258-127A52E7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79FC-5C92-4EFD-AB8E-1D2CB6F6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526-FD3B-4571-B8C8-1942EAD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D829-C810-47A2-9CF1-EE3216F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DA53-8879-4B5F-A42F-7AA738A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3328-51D1-42A5-A513-734B22BF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528F-F86C-495A-B5CB-1E4F450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27021-2277-4AD4-8767-2E14AF9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3F83-EA4E-4BB6-AF45-F5970826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6BA8-F860-4685-AB4B-9638329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EE2C-E15C-42A5-A89D-45F1F265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6179-2809-4095-9936-73A45E27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E862-4AAF-4495-B2E3-DD275DDA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B35-E04D-4B4E-908E-93C9E05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1697-ACBE-4389-9B8A-0E80B5A9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65522-28FD-45CC-92C9-D488BE6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50E8-F83D-4782-8CCE-9E20D6A8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DA20-6094-4063-A04C-35D0B29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F170-681E-48FD-AEAB-F2CBB45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A3541-EB24-4D03-BB0F-B313AF6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D5B1-23EB-4CCA-ADE9-C5CFE880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722A-43D9-4DE0-B4D0-0749849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B559-5161-4661-9F42-38FC694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343F2-6D83-4344-91E8-9FC7AEDC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064-E2EC-42BE-87FB-62D1DFD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D314-4816-4CF8-9E50-F7FD3F18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3A8EB-F074-40DA-B0B6-2F6FD08A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F19B-95B5-413A-9493-14725D96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F79-953D-42B5-BAB0-4A8F740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534-E7BA-492A-AD01-6BA926D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5E2C-1B3C-41D9-BE9D-332A9A9BC27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960-99DD-4E97-B728-DC74A9CCE5F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44C-1C10-45A5-A076-0A50A0FC5F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740-9A6B-4420-9045-274A5DB3CFF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C30-2FE6-48D4-ABA6-B85F83DA7CB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177-9997-455E-82B2-A9BD39CF28C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706320" y="1805040"/>
            <a:ext cx="8285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для человека означает дом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собенно люди ценят в своем дом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ы, наши дети и наш до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щение и досуг вместе с детьм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мейные традиции и праздники"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Анкета для родителей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Довольны ли вы своими деть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Есть ли между вами и детьми взаимопонимани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Бывают ли друзья вашего ребенка у вас дом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Помогают ли вам дети в домашних и хозяйственных делах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Обсуждаете ли вы вместе с детьми прочитанные книг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428760"/>
            <a:ext cx="7467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Обсуждаете ли вы вместе с детьми просмотренные телепередачи, кинофильм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Участвуете ли вы вместе с детьми в прогулках, поход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Проводите ли вы вместе с детьми отпус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Сколько времени ежедневно вы уделяете своему ребен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Какое семейное мероприятие больше всего запомнилось вашему ребен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Заповеди для родителей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7467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носитесь к ребенку как к ли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унижайте ребен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морализируй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вымогайте обещани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отакай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мейте слушать и слышат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удьте строгими с деть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удьте справедливыми к своим детя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7467480" cy="10000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умение родителей учитывать возрастные изменения в психике ребенк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граничение активности, самостоятельности подростка в авторитарной форм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лонение от контакта с детьми, чтобы избежать конфликт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уждение при предъявлении требований вместо объяснения необходимости их вы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жденность, что наказание приносит пользу, а не вре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онимание потребностей де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норирование личных интересов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щение ребенку заниматься любимым 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иболее распространенные ошибки родителей в воспитании детей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терпимость родителей к различиям темпераментов своих де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жденность в том, что все заложено природой и что домашняя среда не влияет на воспитание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думное удовлетворение потребностей детей при полном отсутствии представления о цене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лощенность только миром "земных" потреб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2:33:01Z</dcterms:created>
  <dc:creator>Гость</dc:creator>
  <dc:description/>
  <dc:language>en-US</dc:language>
  <cp:lastModifiedBy>Сергей</cp:lastModifiedBy>
  <dcterms:modified xsi:type="dcterms:W3CDTF">2015-02-08T07:50:19Z</dcterms:modified>
  <cp:revision>7</cp:revision>
  <dc:subject/>
  <dc:title>Тема: "Ребенок учится тому, что видит у себя в дому"    </dc:title>
</cp:coreProperties>
</file>