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7DE-BBDB-4563-9B27-F7A003A1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D9E-2AF0-4F40-B0C9-D08C490B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2C0-D1FC-4947-B90F-66797850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265-FC2D-45C4-B52C-27C9A414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FBA4-90CB-4FA6-A5F0-79DC6B12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06AB-316A-4880-8914-864977DC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B24A-C0C3-4D09-B786-93A3732B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62FB-589B-4A5B-9996-5B5C3BCA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8A11-AAEA-4695-A5EE-5DFDEA2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5611-990E-4EB0-8E85-38B8B3AE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CDCD-CBB6-4E45-9D4E-63341FA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011-35FB-489B-BEB8-7617BA85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D1B3-332B-40EA-8464-EF358E6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F00E-00A6-44EA-B67B-0496E43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D735-A537-4FD0-BE8A-52206CD0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7091-DFD5-43C7-88EB-39C36E87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0966-C4E4-4B99-A055-CB7A4311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FBCE-9461-4D56-8C39-2CA3CC6D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09572-59D3-4838-A390-87073CAD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8A92-50DE-451F-8476-E29D4F9E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E1F6-8B26-40F4-8BD7-708E1DD2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1414-D0D3-4962-9CED-B9CFC0B9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3BF-450B-4722-972D-F042C6D1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9624-FD2D-4AA5-BD24-658610EE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665A-2253-4619-AEEC-70D8D71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B344-6A3F-4D18-B884-371C00BA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6BA3-8A2A-4A66-91D9-DAA60245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EB3A-295F-439C-99FE-B7E702DE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96F7-9DF0-4AF6-B571-8441C101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1CF4-B00D-4FEC-95AB-F1C0B2BE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63B5-2172-4790-AD84-8C7E1CA2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B16A-1A2D-4C56-A00E-C5F12147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778A-D252-4105-BDE2-A97AF85A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2A8-93A7-495B-A3D3-06D23AE9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7A21-38A5-4240-8577-1C13360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76BF3-BBF1-457A-BC57-BA696FD5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2428-3387-40B3-AE70-EC7D676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892E-2171-4445-B6EC-E8627E65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6C32-65EC-42B8-849E-83ED6C87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C620-4C2F-4D8C-9E8A-4CA4094D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5A3E-DF35-4E0C-B5F7-AF11ADB3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B59E7-FD34-44B9-A961-7E9B850C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0FDA-B1CE-4577-8118-EBEB76F3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228E2-CA40-4B4F-8921-B53879BF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A46-F804-4FF1-9CFD-50DC0666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E537-FC6B-495A-88C7-B7CD842B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BE646-604E-42FA-B826-1A4D9D43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542A-08E6-487C-97C0-76E25D15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A8FD8-D9D0-49E2-B716-3F004695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42D59-F4A6-461A-9E35-3BFE833D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71331-4579-40CC-BC96-BADA20D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B7CA1-4D4B-4935-935F-7FB37AA2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6E05-9D9D-4FDF-A125-F67D2FAD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9B552-A084-46D3-AD67-81883F9B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6D4E1-CA05-4125-9D3F-F7B23D46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EFC-3934-4D1F-9006-D5A05A15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D195E-7BAD-4CB1-BA1B-63734C39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7B09-C98F-436E-A37D-AF6876DE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0DE2-B844-4908-A2C5-8A7621B4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F4DA-44AB-4C42-8EA4-6B446131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04E14-F7B3-4805-9FC7-A86EA6A6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5BBE-8DCE-498F-AD7F-756D1DDC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AB062-624A-4928-B62E-C7595DA2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50D36-E8BE-48EF-AF71-DAE300F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55E9-57B2-4AFA-BB89-09856BA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005B5-0948-4C26-871C-A984BE5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826-72F6-47DB-98D5-D72B689F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6A558-98BA-4251-9B6B-9E4DE1A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AAB53-1BCF-413C-8CA2-B635B68F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55C0B-0A6B-498C-965A-1CCFF8BC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A48-EFE1-4EAD-8937-1956E914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BE5-A6EE-4CB5-A9EE-99C223A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F71-8356-4FDA-9BB8-F7635C1E47A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9DC9-9533-46DE-B402-C7BDC941513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04C9-9567-4674-8D54-2006A3DF6FF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5D9D-13DC-4645-A82F-C2B6007D968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B87A-632B-4AE5-B083-358042A1030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A685-E546-45EE-BD3F-9EAED5649D4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706320" y="1805040"/>
            <a:ext cx="8285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для человека означает дом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собенно люди ценят в своем доме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ы, наши дети и наш дом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щение и досуг вместе с детьм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емейные традиции и праздники"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Анкета для родителей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Довольны ли вы своими детьм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Есть ли между вами и детьми взаимопонимание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Бывают ли друзья вашего ребенка у вас дом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 Помогают ли вам дети в домашних и хозяйственных делах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 Обсуждаете ли вы вместе с детьми прочитанные книг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428760"/>
            <a:ext cx="7467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Обсуждаете ли вы вместе с детьми просмотренные телепередачи, кинофильмы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Участвуете ли вы вместе с детьми в прогулках, поход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Проводите ли вы вместе с детьми отпус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Сколько времени ежедневно вы уделяете своему ребен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Какое семейное мероприятие больше всего запомнилось вашему ребен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Заповеди для родителей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143000"/>
            <a:ext cx="7467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тноситесь к ребенку как к лич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унижайте ребен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морализируйт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вымогайте обещани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потакайт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мейте слушать и слышат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удьте строгими с деть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удьте справедливыми к своим детя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467480" cy="10000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Наиболее распространенные ошибки родителей в воспитании детей:</a:t>
            </a:r>
            <a:br>
              <a:rPr sz="4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умение родителей учитывать возрастные изменения в психике ребенк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граничение активности, самостоятельности подростка в авторитарной форм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лонение от контакта с детьми, чтобы избежать конфликт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Наиболее распространенные ошибки родителей в воспитании детей:</a:t>
            </a:r>
            <a:br>
              <a:rPr sz="4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уждение при предъявлении требований вместо объяснения необходимости их вы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жденность, что наказание приносит пользу, а не вре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онимание потребностей де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норирование личных интересов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рещение ребенку заниматься любимым 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иболее распространенные ошибки родителей в воспитании детей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терпимость родителей к различиям темпераментов своих де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жденность в том, что все заложено природой и что домашняя среда не влияет на воспитание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думное удовлетворение потребностей детей при полном отсутствии представления о цене тр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глощенность только миром "земных" потребно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02:33:01Z</dcterms:created>
  <dc:creator>Гость</dc:creator>
  <dc:description/>
  <dc:language>en-US</dc:language>
  <cp:lastModifiedBy>Сергей</cp:lastModifiedBy>
  <dcterms:modified xsi:type="dcterms:W3CDTF">2015-02-08T07:50:19Z</dcterms:modified>
  <cp:revision>7</cp:revision>
  <dc:subject/>
  <dc:title>Тема: "Ребенок учится тому, что видит у себя в дому"    </dc:title>
</cp:coreProperties>
</file>