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gif" ContentType="image/gif"/>
  <Override PartName="/ppt/media/image1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187B-34E6-40CF-B98D-4FA1BF172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AFE5-73CC-4A21-A66B-2B498BF8F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7CF1-41E9-48FA-8659-4C6F2DE34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5B96-046B-487C-8EBF-FA134602B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E0AA-BAC8-492E-B2E2-FD7D3909C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9458-78CE-45FD-838C-427A3568D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E34F-13C1-4DC0-974A-580BAAE37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121C-F06C-4023-9BAF-4C79E8BF6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0627-AA62-4EAF-82A9-B4F5A0C76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C70D-C184-4F84-9912-4A756102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172F-B5E3-4445-B529-6FFF2952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A1DE-9765-4B6C-BF62-0358C043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5B820-E488-4979-BC5F-95B45A5130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google.ru/url?sa=i&amp;rct=j&amp;q=&amp;esrc=s&amp;source=images&amp;cd=&amp;cad=rja&amp;docid=_mTDKT7GAT8DtM&amp;tbnid=HOddGgaMC5FN4M:&amp;ved=0CAUQjRw&amp;url=http://ceteratura.ru/tolkovyiy-slovar-dalya-nastoyashhiy-skrin&amp;ei=zMn0UqiwGeH-ygPG4YI4&amp;bvm=bv.60799247,d.bGQ&amp;psig=AFQjCNGL8jksUdxJ2M9BoNswguacVMBe9w&amp;ust=1391860535872242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5" descr="grass1.jpg"/>
          <p:cNvPicPr/>
          <p:nvPr/>
        </p:nvPicPr>
        <p:blipFill>
          <a:blip r:embed="rId1"/>
          <a:stretch/>
        </p:blipFill>
        <p:spPr>
          <a:xfrm>
            <a:off x="179280" y="260280"/>
            <a:ext cx="8998200" cy="65977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http://content.foto.mail.ru/mail/natalisladkova/_animated/i-478.gif"/>
          <p:cNvPicPr/>
          <p:nvPr/>
        </p:nvPicPr>
        <p:blipFill>
          <a:blip r:embed="rId2"/>
          <a:stretch/>
        </p:blipFill>
        <p:spPr>
          <a:xfrm>
            <a:off x="971640" y="333360"/>
            <a:ext cx="2741400" cy="27478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D:\Женя\Шаблоны для презентаций\125_nabor_fonov_12\nabor_fonov_12\6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D:\Женя\Шаблоны для презентаций\125_nabor_fonov_12\nabor_fonov_12\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Box 2"/>
          <p:cNvSpPr/>
          <p:nvPr/>
        </p:nvSpPr>
        <p:spPr>
          <a:xfrm>
            <a:off x="755640" y="620640"/>
            <a:ext cx="8137440" cy="79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4240" indent="-714240">
              <a:lnSpc>
                <a:spcPct val="100000"/>
              </a:lnSpc>
              <a:spcAft>
                <a:spcPts val="1199"/>
              </a:spcAft>
              <a:buClr>
                <a:srgbClr val="00206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andara"/>
              </a:rPr>
              <a:t> </a:t>
            </a:r>
            <a:r>
              <a:rPr b="1" i="1" lang="ru-RU" sz="4400" spc="-1" strike="noStrike">
                <a:solidFill>
                  <a:srgbClr val="002060"/>
                </a:solidFill>
                <a:latin typeface="Candara"/>
              </a:rPr>
              <a:t>Твой друг получает плохие отметки за четверть и тебе запрещают  с ним дружи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Aft>
                <a:spcPts val="1199"/>
              </a:spcAft>
              <a:buClr>
                <a:srgbClr val="00206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andara"/>
              </a:rPr>
              <a:t>Твой друг предлагает тебе поступить плох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Aft>
                <a:spcPts val="1199"/>
              </a:spcAft>
              <a:buClr>
                <a:srgbClr val="00206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andara"/>
              </a:rPr>
              <a:t>Твой друг что-то натворил, а наказали тебя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" descr="D:\Женя\Учитель года 2014\Новая папка\С‡РµР»РѕРІРµС‡РµРє 3.jpg"/>
          <p:cNvPicPr/>
          <p:nvPr/>
        </p:nvPicPr>
        <p:blipFill>
          <a:blip r:embed="rId2"/>
          <a:stretch/>
        </p:blipFill>
        <p:spPr>
          <a:xfrm>
            <a:off x="7589880" y="2054160"/>
            <a:ext cx="15606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D:\Женя\Шаблоны для презентаций\125_nabor_fonov_12\nabor_fonov_12\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3"/>
          <p:cNvSpPr/>
          <p:nvPr/>
        </p:nvSpPr>
        <p:spPr>
          <a:xfrm>
            <a:off x="395280" y="1557360"/>
            <a:ext cx="87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0099"/>
                </a:solidFill>
                <a:latin typeface="Monotype Corsiva"/>
              </a:rPr>
              <a:t>Тес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D:\Женя\Учитель года 2014\Новая папка\depositphotos_2081696-3d-man--tick-cross-signs.jpg"/>
          <p:cNvPicPr/>
          <p:nvPr/>
        </p:nvPicPr>
        <p:blipFill>
          <a:blip r:embed="rId2"/>
          <a:stretch/>
        </p:blipFill>
        <p:spPr>
          <a:xfrm>
            <a:off x="5219640" y="2933640"/>
            <a:ext cx="392436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D:\Женя\Шаблоны для презентаций\125_nabor_fonov_12\nabor_fonov_12\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Box 1"/>
          <p:cNvSpPr/>
          <p:nvPr/>
        </p:nvSpPr>
        <p:spPr>
          <a:xfrm>
            <a:off x="684360" y="363600"/>
            <a:ext cx="8459640" cy="67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99"/>
                </a:solidFill>
                <a:latin typeface="Monotype Corsiva"/>
              </a:rPr>
              <a:t>Оценка результатов тес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Если ты набрал </a:t>
            </a:r>
            <a:r>
              <a:rPr b="1" lang="ru-RU" sz="3200" spc="-1" strike="noStrike">
                <a:solidFill>
                  <a:srgbClr val="c00000"/>
                </a:solidFill>
                <a:latin typeface="Georgia"/>
                <a:ea typeface="Times New Roman"/>
              </a:rPr>
              <a:t>6 – 9 баллов</a:t>
            </a:r>
            <a:r>
              <a:rPr b="0" lang="ru-RU" sz="2400" spc="-1" strike="noStrike">
                <a:solidFill>
                  <a:srgbClr val="10253f"/>
                </a:solidFill>
                <a:latin typeface="Georgia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твои друзья могут сказать, что ты настоящий друг и на тебя можно положиться в любой ситуации. Ты заботливый, чуткий и внимательный товарищ.  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Если у тебя </a:t>
            </a:r>
            <a:r>
              <a:rPr b="1" lang="ru-RU" sz="3200" spc="-1" strike="noStrike">
                <a:solidFill>
                  <a:srgbClr val="c00000"/>
                </a:solidFill>
                <a:latin typeface="Georgia"/>
                <a:ea typeface="Times New Roman"/>
              </a:rPr>
              <a:t>10 – 14 баллов</a:t>
            </a: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, то стоит немного присмотреться к себе, так как в трудной ситуации есть вероятность, что ты окажешься в одиночеств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Если у тебя </a:t>
            </a:r>
            <a:r>
              <a:rPr b="1" lang="ru-RU" sz="3200" spc="-1" strike="noStrike">
                <a:solidFill>
                  <a:srgbClr val="c00000"/>
                </a:solidFill>
                <a:latin typeface="Georgia"/>
                <a:ea typeface="Times New Roman"/>
              </a:rPr>
              <a:t>15 – 18 баллов</a:t>
            </a: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, то все зависит только от тебя, если ты хочешь измениться. Стоит научиться прощать и не забывать, что с другими нужно поступать так, как ты хотел бы, чтобы поступили с то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D:\Женя\Шаблоны для презентаций\125_nabor_fonov_12\nabor_fonov_12\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Box 4"/>
          <p:cNvSpPr/>
          <p:nvPr/>
        </p:nvSpPr>
        <p:spPr>
          <a:xfrm>
            <a:off x="500040" y="357120"/>
            <a:ext cx="8429760" cy="71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99"/>
                </a:solidFill>
                <a:latin typeface="Monotype Corsiva"/>
              </a:rPr>
              <a:t>Законы настоящей дружб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600" spc="-1" strike="noStrike">
                <a:solidFill>
                  <a:srgbClr val="002060"/>
                </a:solidFill>
                <a:latin typeface="Candara"/>
              </a:rPr>
              <a:t>1. Не нарушай прав своего друг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ndara"/>
              </a:rPr>
              <a:t> </a:t>
            </a:r>
            <a:r>
              <a:rPr b="1" i="1" lang="ru-RU" sz="3600" spc="-1" strike="noStrike">
                <a:solidFill>
                  <a:srgbClr val="002060"/>
                </a:solidFill>
                <a:latin typeface="Candara"/>
              </a:rPr>
              <a:t>2.  Если друг не прав, объясни ему его ошибк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ndara"/>
              </a:rPr>
              <a:t>3.  Не злорадствуй, если у друга неприятность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ndara"/>
              </a:rPr>
              <a:t>4. Научи друга тому, что умеешь сам. Учись тому, что умеет ДРУГ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ndara"/>
              </a:rPr>
              <a:t>5. Радуйся вместе с другом его успехам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D:\Женя\Шаблоны для презентаций\125_nabor_fonov_12\nabor_fonov_12\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1"/>
          <p:cNvSpPr/>
          <p:nvPr/>
        </p:nvSpPr>
        <p:spPr>
          <a:xfrm>
            <a:off x="3238560" y="699120"/>
            <a:ext cx="568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7375e"/>
                </a:solidFill>
                <a:latin typeface="Monotype Corsiva"/>
              </a:rPr>
              <a:t>– </a:t>
            </a:r>
            <a:r>
              <a:rPr b="1" i="1" lang="ru-RU" sz="4000" spc="-1" strike="noStrike">
                <a:solidFill>
                  <a:srgbClr val="17375e"/>
                </a:solidFill>
                <a:latin typeface="Monotype Corsiva"/>
              </a:rPr>
              <a:t>разговор был интересен и полезе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"/>
          <p:cNvSpPr/>
          <p:nvPr/>
        </p:nvSpPr>
        <p:spPr>
          <a:xfrm>
            <a:off x="3022560" y="2574000"/>
            <a:ext cx="6048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7375e"/>
                </a:solidFill>
                <a:latin typeface="Monotype Corsiva"/>
              </a:rPr>
              <a:t>– </a:t>
            </a:r>
            <a:r>
              <a:rPr b="1" i="1" lang="ru-RU" sz="4000" spc="-1" strike="noStrike">
                <a:solidFill>
                  <a:srgbClr val="17375e"/>
                </a:solidFill>
                <a:latin typeface="Monotype Corsiva"/>
              </a:rPr>
              <a:t>обязательно следует продолжить разговор на эту тем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"/>
          <p:cNvSpPr/>
          <p:nvPr/>
        </p:nvSpPr>
        <p:spPr>
          <a:xfrm>
            <a:off x="2590920" y="4734720"/>
            <a:ext cx="6553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7375e"/>
                </a:solidFill>
                <a:latin typeface="Monotype Corsiva"/>
              </a:rPr>
              <a:t>–  </a:t>
            </a:r>
            <a:r>
              <a:rPr b="1" i="1" lang="ru-RU" sz="4000" spc="-1" strike="noStrike">
                <a:solidFill>
                  <a:srgbClr val="17375e"/>
                </a:solidFill>
                <a:latin typeface="Monotype Corsiva"/>
              </a:rPr>
              <a:t>разговор был непродуктивным и неинтересны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http://www.techbullet.com/images/flower_green.png"/>
          <p:cNvPicPr/>
          <p:nvPr/>
        </p:nvPicPr>
        <p:blipFill>
          <a:blip r:embed="rId2"/>
          <a:stretch/>
        </p:blipFill>
        <p:spPr>
          <a:xfrm>
            <a:off x="719280" y="333360"/>
            <a:ext cx="2162160" cy="2152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http://i060.radikal.ru/0902/1f/85057a051d9c.png"/>
          <p:cNvPicPr/>
          <p:nvPr/>
        </p:nvPicPr>
        <p:blipFill>
          <a:blip r:embed="rId3"/>
          <a:stretch/>
        </p:blipFill>
        <p:spPr>
          <a:xfrm>
            <a:off x="574560" y="2351160"/>
            <a:ext cx="2306880" cy="2295360"/>
          </a:xfrm>
          <a:prstGeom prst="rect">
            <a:avLst/>
          </a:prstGeom>
          <a:ln w="0">
            <a:noFill/>
          </a:ln>
        </p:spPr>
      </p:pic>
      <p:pic>
        <p:nvPicPr>
          <p:cNvPr id="91" name="il_fi" descr="http://t2.ftcdn.net/jpg/00/02/64/89/400_F_2648933_uzNtmHJph4wKLrNtGH5bTz0FGmIJLq.jpg"/>
          <p:cNvPicPr/>
          <p:nvPr/>
        </p:nvPicPr>
        <p:blipFill>
          <a:blip r:embed="rId4"/>
          <a:stretch/>
        </p:blipFill>
        <p:spPr>
          <a:xfrm>
            <a:off x="501480" y="4581360"/>
            <a:ext cx="216252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1" descr="grass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http://content.foto.mail.ru/mail/natalisladkova/_animated/i-478.gif"/>
          <p:cNvPicPr/>
          <p:nvPr/>
        </p:nvPicPr>
        <p:blipFill>
          <a:blip r:embed="rId2"/>
          <a:stretch/>
        </p:blipFill>
        <p:spPr>
          <a:xfrm>
            <a:off x="2786040" y="1071720"/>
            <a:ext cx="4343400" cy="4143240"/>
          </a:xfrm>
          <a:prstGeom prst="rect">
            <a:avLst/>
          </a:prstGeom>
          <a:ln w="0">
            <a:noFill/>
          </a:ln>
        </p:spPr>
      </p:pic>
      <p:sp>
        <p:nvSpPr>
          <p:cNvPr id="94" name="TextBox 3"/>
          <p:cNvSpPr/>
          <p:nvPr/>
        </p:nvSpPr>
        <p:spPr>
          <a:xfrm rot="20418000">
            <a:off x="423720" y="542520"/>
            <a:ext cx="4000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17375e"/>
                </a:solidFill>
                <a:latin typeface="Monotype Corsiva"/>
              </a:rPr>
              <a:t>Спасибо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17375e"/>
                </a:solidFill>
                <a:latin typeface="Monotype Corsiva"/>
              </a:rPr>
              <a:t>за работу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D:\Женя\Шаблоны для презентаций\125_nabor_fonov_12\nabor_fonov_12\6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:\Женя\Шаблоны для презентаций\125_nabor_fonov_12\nabor_fonov_12\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3"/>
          <p:cNvSpPr/>
          <p:nvPr/>
        </p:nvSpPr>
        <p:spPr>
          <a:xfrm>
            <a:off x="1116000" y="1773360"/>
            <a:ext cx="73436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0099"/>
                </a:solidFill>
                <a:latin typeface="Monotype Corsiva"/>
              </a:rPr>
              <a:t>Умеешь ли ты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0099"/>
                </a:solidFill>
                <a:latin typeface="Monotype Corsiva"/>
              </a:rPr>
              <a:t>дружить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" descr="D:\Женя\Учитель года 2014\Новая папка\С‡РµР»РѕРІРµС‡РµРє 3.jpg"/>
          <p:cNvPicPr/>
          <p:nvPr/>
        </p:nvPicPr>
        <p:blipFill>
          <a:blip r:embed="rId2"/>
          <a:stretch/>
        </p:blipFill>
        <p:spPr>
          <a:xfrm>
            <a:off x="6724800" y="4645080"/>
            <a:ext cx="2425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D:\Женя\Шаблоны для презентаций\125_nabor_fonov_12\nabor_fonov_12\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Box 2"/>
          <p:cNvSpPr/>
          <p:nvPr/>
        </p:nvSpPr>
        <p:spPr>
          <a:xfrm>
            <a:off x="2286000" y="4572000"/>
            <a:ext cx="30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Monotype Corsiva"/>
                <a:ea typeface="Times New Roman"/>
              </a:rPr>
              <a:t>Видеорол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D:\Женя\Шаблоны для презентаций\125_nabor_fonov_12\nabor_fonov_12\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"/>
          <p:cNvSpPr/>
          <p:nvPr/>
        </p:nvSpPr>
        <p:spPr>
          <a:xfrm>
            <a:off x="826920" y="1800"/>
            <a:ext cx="81439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Georgia"/>
                <a:ea typeface="Times New Roman"/>
              </a:rPr>
              <a:t>«</a:t>
            </a:r>
            <a:r>
              <a:rPr b="1" i="1" lang="ru-RU" sz="80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Дружба </a:t>
            </a:r>
            <a:r>
              <a:rPr b="0" lang="ru-RU" sz="4800" spc="-1" strike="noStrike">
                <a:solidFill>
                  <a:srgbClr val="002060"/>
                </a:solidFill>
                <a:latin typeface="Georgia"/>
                <a:ea typeface="Times New Roman"/>
              </a:rPr>
              <a:t>-…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i="1" lang="ru-RU" sz="4800" spc="-1" strike="noStrike">
                <a:solidFill>
                  <a:srgbClr val="215968"/>
                </a:solidFill>
                <a:latin typeface="Georgia"/>
                <a:ea typeface="Times New Roman"/>
              </a:rPr>
              <a:t>бескорыстная стойкая приязнь</a:t>
            </a:r>
            <a:r>
              <a:rPr b="0" lang="ru-RU" sz="4800" spc="-1" strike="noStrike">
                <a:solidFill>
                  <a:srgbClr val="215968"/>
                </a:solidFill>
                <a:latin typeface="Georgia"/>
                <a:ea typeface="Times New Roman"/>
              </a:rPr>
              <a:t>»</a:t>
            </a:r>
            <a:r>
              <a:rPr b="0" lang="ru-RU" sz="4800" spc="-1" strike="noStrike">
                <a:solidFill>
                  <a:srgbClr val="215968"/>
                </a:solidFill>
                <a:latin typeface="Georgi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Monotype Corsiva"/>
                <a:ea typeface="Times New Roman"/>
              </a:rPr>
              <a:t>Владимир Иванович Даль «Толковый словар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http://ceteratura.ru/wp-content/uploads/2012/09/Tolkovyiy-slovar-Dalya.jpg">
            <a:hlinkClick r:id="rId2"/>
          </p:cNvPr>
          <p:cNvPicPr/>
          <p:nvPr/>
        </p:nvPicPr>
        <p:blipFill>
          <a:blip r:embed="rId3">
            <a:lum bright="20000"/>
          </a:blip>
          <a:stretch/>
        </p:blipFill>
        <p:spPr>
          <a:xfrm rot="764400">
            <a:off x="6869160" y="4169880"/>
            <a:ext cx="2023920" cy="2495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Владимир Иванович Даль. Портрет кисти Василия Перова"/>
          <p:cNvPicPr/>
          <p:nvPr/>
        </p:nvPicPr>
        <p:blipFill>
          <a:blip r:embed="rId4">
            <a:lum bright="20000"/>
          </a:blip>
          <a:stretch/>
        </p:blipFill>
        <p:spPr>
          <a:xfrm rot="21301200">
            <a:off x="545760" y="4227120"/>
            <a:ext cx="20448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D:\Женя\Шаблоны для презентаций\125_nabor_fonov_12\nabor_fonov_12\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Box 1"/>
          <p:cNvSpPr/>
          <p:nvPr/>
        </p:nvSpPr>
        <p:spPr>
          <a:xfrm>
            <a:off x="468360" y="571680"/>
            <a:ext cx="8675640" cy="79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Monotype Corsiva"/>
              </a:rPr>
              <a:t>Выскажите своё мнение. Продолжите фразы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99"/>
                </a:solidFill>
                <a:latin typeface="Candara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215968"/>
                </a:solidFill>
                <a:latin typeface="Candara"/>
              </a:rPr>
              <a:t>-Настоящий друг всегда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215968"/>
                </a:solidFill>
                <a:latin typeface="Candara"/>
              </a:rPr>
              <a:t>                                             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2060"/>
                </a:solidFill>
                <a:latin typeface="Candara"/>
              </a:rPr>
              <a:t>-Настоящий друг никогда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D:\Женя\Шаблоны для презентаций\125_nabor_fonov_12\nabor_fonov_12\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"/>
          <p:cNvSpPr/>
          <p:nvPr/>
        </p:nvSpPr>
        <p:spPr>
          <a:xfrm>
            <a:off x="971640" y="-604080"/>
            <a:ext cx="8172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Monotype Corsiva"/>
              </a:rPr>
              <a:t>Соотнесите понятия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4"/>
          <p:cNvSpPr/>
          <p:nvPr/>
        </p:nvSpPr>
        <p:spPr>
          <a:xfrm>
            <a:off x="468360" y="1413000"/>
            <a:ext cx="5543640" cy="9712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5"/>
          <p:cNvSpPr/>
          <p:nvPr/>
        </p:nvSpPr>
        <p:spPr>
          <a:xfrm>
            <a:off x="468360" y="2349360"/>
            <a:ext cx="5543640" cy="151128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6"/>
          <p:cNvSpPr/>
          <p:nvPr/>
        </p:nvSpPr>
        <p:spPr>
          <a:xfrm>
            <a:off x="468360" y="4869000"/>
            <a:ext cx="5543640" cy="1439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7"/>
          <p:cNvSpPr/>
          <p:nvPr/>
        </p:nvSpPr>
        <p:spPr>
          <a:xfrm>
            <a:off x="468360" y="3860640"/>
            <a:ext cx="5543640" cy="97164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8"/>
          <p:cNvSpPr/>
          <p:nvPr/>
        </p:nvSpPr>
        <p:spPr>
          <a:xfrm>
            <a:off x="6012000" y="1413000"/>
            <a:ext cx="3024000" cy="97128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9"/>
          <p:cNvSpPr/>
          <p:nvPr/>
        </p:nvSpPr>
        <p:spPr>
          <a:xfrm>
            <a:off x="6012000" y="3860640"/>
            <a:ext cx="3024000" cy="971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0"/>
          <p:cNvSpPr/>
          <p:nvPr/>
        </p:nvSpPr>
        <p:spPr>
          <a:xfrm>
            <a:off x="6012000" y="2349360"/>
            <a:ext cx="3024000" cy="15112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1"/>
          <p:cNvSpPr/>
          <p:nvPr/>
        </p:nvSpPr>
        <p:spPr>
          <a:xfrm>
            <a:off x="6012000" y="4869000"/>
            <a:ext cx="3024000" cy="143964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68360" y="1413000"/>
          <a:ext cx="8567640" cy="4906800"/>
        </p:xfrm>
        <a:graphic>
          <a:graphicData uri="http://schemas.openxmlformats.org/drawingml/2006/table">
            <a:tbl>
              <a:tblPr/>
              <a:tblGrid>
                <a:gridCol w="5540400"/>
                <a:gridCol w="3027240"/>
              </a:tblGrid>
              <a:tr h="1892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ловек, с которым мы просто здороваемся  на улице, во дворе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10253f"/>
                          </a:solidFill>
                          <a:latin typeface="Monotype Corsiva"/>
                          <a:ea typeface="Times New Roman"/>
                        </a:rPr>
                        <a:t>товарищ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2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ловек,  которому доверяете свои тайны, с которым делите радости и печали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10253f"/>
                          </a:solidFill>
                          <a:latin typeface="Monotype Corsiva"/>
                          <a:ea typeface="Times New Roman"/>
                        </a:rPr>
                        <a:t>знакомый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2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ловек (одноклассник), с которым за 8 лет съеден пуд соли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10253f"/>
                          </a:solidFill>
                          <a:latin typeface="Monotype Corsiva"/>
                          <a:ea typeface="Times New Roman"/>
                        </a:rPr>
                        <a:t>приятель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1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ловек, с которым время от времени обсуждаем какие-то события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10253f"/>
                          </a:solidFill>
                          <a:latin typeface="Monotype Corsiva"/>
                          <a:ea typeface="Times New Roman"/>
                        </a:rPr>
                        <a:t>друг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D:\Женя\Шаблоны для презентаций\125_nabor_fonov_12\nabor_fonov_12\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3"/>
          <p:cNvSpPr/>
          <p:nvPr/>
        </p:nvSpPr>
        <p:spPr>
          <a:xfrm>
            <a:off x="1116000" y="1773360"/>
            <a:ext cx="7343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0099"/>
                </a:solidFill>
                <a:latin typeface="Monotype Corsiva"/>
              </a:rPr>
              <a:t>Качества друг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" descr="D:\Женя\Учитель года 2014\Новая папка\С‡РµР»РѕРІРµС‡РµРє 3.jpg"/>
          <p:cNvPicPr/>
          <p:nvPr/>
        </p:nvPicPr>
        <p:blipFill>
          <a:blip r:embed="rId2"/>
          <a:stretch/>
        </p:blipFill>
        <p:spPr>
          <a:xfrm>
            <a:off x="6724800" y="4645080"/>
            <a:ext cx="2425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D:\Женя\Шаблоны для презентаций\125_nabor_fonov_12\nabor_fonov_12\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3"/>
          <p:cNvSpPr/>
          <p:nvPr/>
        </p:nvSpPr>
        <p:spPr>
          <a:xfrm>
            <a:off x="1116000" y="1773360"/>
            <a:ext cx="7343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0099"/>
                </a:solidFill>
                <a:latin typeface="Monotype Corsiva"/>
              </a:rPr>
              <a:t>Что значит дружить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" descr="D:\Женя\Учитель года 2014\Новая папка\С‡РµР»РѕРІРµС‡РµРє 3.jpg"/>
          <p:cNvPicPr/>
          <p:nvPr/>
        </p:nvPicPr>
        <p:blipFill>
          <a:blip r:embed="rId2"/>
          <a:stretch/>
        </p:blipFill>
        <p:spPr>
          <a:xfrm>
            <a:off x="6724800" y="4645080"/>
            <a:ext cx="2425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D:\Женя\Шаблоны для презентаций\125_nabor_fonov_12\nabor_fonov_12\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Box 1"/>
          <p:cNvSpPr/>
          <p:nvPr/>
        </p:nvSpPr>
        <p:spPr>
          <a:xfrm>
            <a:off x="539640" y="285840"/>
            <a:ext cx="8604360" cy="87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Monotype Corsiva"/>
              </a:rPr>
              <a:t>Что Важно для дружб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Georgia"/>
              </a:rPr>
              <a:t>Давать друг другу списывать контрольные работы и домашние зад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Georgia"/>
              </a:rPr>
              <a:t>Защищать друг друга от обидч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Georgia"/>
              </a:rPr>
              <a:t>Угощать друг друга сладост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Georgia"/>
              </a:rPr>
              <a:t>Уметь сказать друг другу правду, даже если она не очень прият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Georgia"/>
              </a:rPr>
              <a:t>Уметь уступать друг дру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Georgia"/>
              </a:rPr>
              <a:t>Часто ходить друг к другу в г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Georgia"/>
              </a:rPr>
              <a:t>Помогать друг дру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Georgia"/>
              </a:rPr>
              <a:t>Не ссориться друг с другом по пустяк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Georgia"/>
              </a:rPr>
              <a:t>Искренне радоваться успехам друг дру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" descr="D:\Женя\Учитель года 2014\Новая папка\С‡РµР»РѕРІРµС‡РµРє 3.jpg"/>
          <p:cNvPicPr/>
          <p:nvPr/>
        </p:nvPicPr>
        <p:blipFill>
          <a:blip r:embed="rId2"/>
          <a:stretch/>
        </p:blipFill>
        <p:spPr>
          <a:xfrm>
            <a:off x="7589880" y="3925800"/>
            <a:ext cx="15606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7T08:27:11Z</dcterms:created>
  <dc:creator>Win 7</dc:creator>
  <dc:description/>
  <dc:language>en-US</dc:language>
  <cp:lastModifiedBy>Win 7</cp:lastModifiedBy>
  <dcterms:modified xsi:type="dcterms:W3CDTF">2014-12-05T10:38:57Z</dcterms:modified>
  <cp:revision>28</cp:revision>
  <dc:subject/>
  <dc:title>Слайд 1</dc:title>
</cp:coreProperties>
</file>