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8FB-602C-4710-9B49-E3D0E9DF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1E7-24D6-42A7-ABDD-78C3C432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2FB-910F-42E0-B514-F8EE9DF8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EC2-1682-4C5B-BD0B-158AD5BB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987-06FF-46A6-8873-C5487327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06B-14AC-4150-9002-5561F3B1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A1A-0CD6-447B-AE42-D71C8EDC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F7D-8CF9-4D52-9C82-9B50B4CF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6D5-5230-45E6-86E7-47915A03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72F-5136-4800-8CFD-C3DB5B1B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B39-95A5-4774-B4B4-E38E045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582-4B14-40F8-86B4-3AF62F8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31C9-C06C-43B4-9960-6F6FCA5CE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ru/url?sa=i&amp;rct=j&amp;q=&amp;esrc=s&amp;source=images&amp;cd=&amp;cad=rja&amp;docid=_mTDKT7GAT8DtM&amp;tbnid=HOddGgaMC5FN4M:&amp;ved=0CAUQjRw&amp;url=http://ceteratura.ru/tolkovyiy-slovar-dalya-nastoyashhiy-skrin&amp;ei=zMn0UqiwGeH-ygPG4YI4&amp;bvm=bv.60799247,d.bGQ&amp;psig=AFQjCNGL8jksUdxJ2M9BoNswguacVMBe9w&amp;ust=1391860535872242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grass1.jpg"/>
          <p:cNvPicPr/>
          <p:nvPr/>
        </p:nvPicPr>
        <p:blipFill>
          <a:blip r:embed="rId1"/>
          <a:stretch/>
        </p:blipFill>
        <p:spPr>
          <a:xfrm>
            <a:off x="179280" y="260280"/>
            <a:ext cx="8998200" cy="659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ttp://content.foto.mail.ru/mail/natalisladkova/_animated/i-478.gif"/>
          <p:cNvPicPr/>
          <p:nvPr/>
        </p:nvPicPr>
        <p:blipFill>
          <a:blip r:embed="rId2"/>
          <a:stretch/>
        </p:blipFill>
        <p:spPr>
          <a:xfrm>
            <a:off x="971640" y="333360"/>
            <a:ext cx="2741400" cy="2747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Женя\Шаблоны для презентаций\125_nabor_fonov_12\nabor_fonov_12\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755640" y="620640"/>
            <a:ext cx="8137440" cy="79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Candara"/>
              </a:rPr>
              <a:t>Твой друг получает плохие отметки за четверть и тебе запрещают  с ним друж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ndara"/>
              </a:rPr>
              <a:t>Твой друг предлагает тебе поступить плох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ndara"/>
              </a:rPr>
              <a:t>Твой друг что-то натворил, а наказали тебя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7589880" y="2054160"/>
            <a:ext cx="1560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395280" y="15573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Тес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D:\Женя\Учитель года 2014\Новая папка\depositphotos_2081696-3d-man--tick-cross-signs.jpg"/>
          <p:cNvPicPr/>
          <p:nvPr/>
        </p:nvPicPr>
        <p:blipFill>
          <a:blip r:embed="rId2"/>
          <a:stretch/>
        </p:blipFill>
        <p:spPr>
          <a:xfrm>
            <a:off x="5219640" y="293364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84360" y="363600"/>
            <a:ext cx="845964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Monotype Corsiva"/>
              </a:rPr>
              <a:t>Оценка результатов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Если ты набрал 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6 – 9 баллов</a:t>
            </a:r>
            <a:r>
              <a:rPr b="0" lang="ru-RU" sz="2400" spc="-1" strike="noStrike">
                <a:solidFill>
                  <a:srgbClr val="10253f"/>
                </a:solidFill>
                <a:latin typeface="Georgia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твои друзья могут сказать, что ты настоящий друг и на тебя можно положиться в любой ситуации. Ты заботливый, чуткий и внимательный товарищ.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Если у тебя 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10 – 14 баллов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, то стоит немного присмотреться к себе, так как в трудной ситуации есть вероятность, что ты окажешься в одиноче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Если у тебя 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15 – 18 баллов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, то все зависит только от тебя, если ты хочешь измениться. Стоит научиться прощать и не забывать, что с другими нужно поступать так, как ты хотел бы, чтобы поступили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500040" y="357120"/>
            <a:ext cx="842976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Monotype Corsiva"/>
              </a:rPr>
              <a:t>Законы настоящей друж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1. Не нарушай прав своего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2.  Если друг не прав, объясни ему его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3.  Не злорадствуй, если у друга неприятн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4. Научи друга тому, что умеешь сам. Учись тому, что умеет ДРУ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5. Радуйся вместе с другом его успех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3238560" y="69912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разговор был интересен и полез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3022560" y="2574000"/>
            <a:ext cx="60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обязательно следует продолжить разговор на эту тем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2590920" y="473472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разговор был непродуктивным и неинтерес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techbullet.com/images/flower_green.png"/>
          <p:cNvPicPr/>
          <p:nvPr/>
        </p:nvPicPr>
        <p:blipFill>
          <a:blip r:embed="rId2"/>
          <a:stretch/>
        </p:blipFill>
        <p:spPr>
          <a:xfrm>
            <a:off x="719280" y="333360"/>
            <a:ext cx="2162160" cy="2152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http://i060.radikal.ru/0902/1f/85057a051d9c.png"/>
          <p:cNvPicPr/>
          <p:nvPr/>
        </p:nvPicPr>
        <p:blipFill>
          <a:blip r:embed="rId3"/>
          <a:stretch/>
        </p:blipFill>
        <p:spPr>
          <a:xfrm>
            <a:off x="574560" y="2351160"/>
            <a:ext cx="2306880" cy="2295360"/>
          </a:xfrm>
          <a:prstGeom prst="rect">
            <a:avLst/>
          </a:prstGeom>
          <a:ln w="0">
            <a:noFill/>
          </a:ln>
        </p:spPr>
      </p:pic>
      <p:pic>
        <p:nvPicPr>
          <p:cNvPr id="91" name="il_fi" descr="http://t2.ftcdn.net/jpg/00/02/64/89/400_F_2648933_uzNtmHJph4wKLrNtGH5bTz0FGmIJLq.jpg"/>
          <p:cNvPicPr/>
          <p:nvPr/>
        </p:nvPicPr>
        <p:blipFill>
          <a:blip r:embed="rId4"/>
          <a:stretch/>
        </p:blipFill>
        <p:spPr>
          <a:xfrm>
            <a:off x="501480" y="4581360"/>
            <a:ext cx="21625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gras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http://content.foto.mail.ru/mail/natalisladkova/_animated/i-478.gif"/>
          <p:cNvPicPr/>
          <p:nvPr/>
        </p:nvPicPr>
        <p:blipFill>
          <a:blip r:embed="rId2"/>
          <a:stretch/>
        </p:blipFill>
        <p:spPr>
          <a:xfrm>
            <a:off x="2786040" y="1071720"/>
            <a:ext cx="4343400" cy="4143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 rot="20418000">
            <a:off x="423720" y="542520"/>
            <a:ext cx="400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Monotype Corsiva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Monotype Corsiva"/>
              </a:rPr>
              <a:t>за работу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D:\Женя\Шаблоны для презентаций\125_nabor_fonov_12\nabor_fonov_12\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1116000" y="1773360"/>
            <a:ext cx="7343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Умеешь ли ты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дружить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6724800" y="4645080"/>
            <a:ext cx="2425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286000" y="457200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Monotype Corsiva"/>
                <a:ea typeface="Times New Roman"/>
              </a:rPr>
              <a:t>Видеоро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826920" y="1800"/>
            <a:ext cx="8143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eorgia"/>
                <a:ea typeface="Times New Roman"/>
              </a:rPr>
              <a:t>«</a:t>
            </a:r>
            <a:r>
              <a:rPr b="1" i="1" lang="ru-RU" sz="8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Дружба </a:t>
            </a:r>
            <a:r>
              <a:rPr b="0" lang="ru-RU" sz="4800" spc="-1" strike="noStrike">
                <a:solidFill>
                  <a:srgbClr val="002060"/>
                </a:solidFill>
                <a:latin typeface="Georgia"/>
                <a:ea typeface="Times New Roman"/>
              </a:rPr>
              <a:t>-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i="1" lang="ru-RU" sz="4800" spc="-1" strike="noStrike">
                <a:solidFill>
                  <a:srgbClr val="215968"/>
                </a:solidFill>
                <a:latin typeface="Georgia"/>
                <a:ea typeface="Times New Roman"/>
              </a:rPr>
              <a:t>бескорыстная стойкая приязнь</a:t>
            </a:r>
            <a:r>
              <a:rPr b="0" lang="ru-RU" sz="4800" spc="-1" strike="noStrike">
                <a:solidFill>
                  <a:srgbClr val="215968"/>
                </a:solidFill>
                <a:latin typeface="Georgia"/>
                <a:ea typeface="Times New Roman"/>
              </a:rPr>
              <a:t>»</a:t>
            </a:r>
            <a:r>
              <a:rPr b="0" lang="ru-RU" sz="4800" spc="-1" strike="noStrike">
                <a:solidFill>
                  <a:srgbClr val="215968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Monotype Corsiva"/>
                <a:ea typeface="Times New Roman"/>
              </a:rPr>
              <a:t>Владимир Иванович Даль «Толковый словар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ceteratura.ru/wp-content/uploads/2012/09/Tolkovyiy-slovar-Dalya.jpg">
            <a:hlinkClick r:id="rId2"/>
          </p:cNvPr>
          <p:cNvPicPr/>
          <p:nvPr/>
        </p:nvPicPr>
        <p:blipFill>
          <a:blip r:embed="rId3">
            <a:lum bright="20000"/>
          </a:blip>
          <a:stretch/>
        </p:blipFill>
        <p:spPr>
          <a:xfrm rot="764400">
            <a:off x="6869160" y="4169880"/>
            <a:ext cx="2023920" cy="249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Владимир Иванович Даль. Портрет кисти Василия Перова"/>
          <p:cNvPicPr/>
          <p:nvPr/>
        </p:nvPicPr>
        <p:blipFill>
          <a:blip r:embed="rId4">
            <a:lum bright="20000"/>
          </a:blip>
          <a:stretch/>
        </p:blipFill>
        <p:spPr>
          <a:xfrm rot="21301200">
            <a:off x="545760" y="4227120"/>
            <a:ext cx="2044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468360" y="571680"/>
            <a:ext cx="8675640" cy="79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Monotype Corsiva"/>
              </a:rPr>
              <a:t>Выскажите своё мнение. Продолжите фраз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Candar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15968"/>
                </a:solidFill>
                <a:latin typeface="Candara"/>
              </a:rPr>
              <a:t>-Настоящий друг всегда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15968"/>
                </a:solidFill>
                <a:latin typeface="Candara"/>
              </a:rPr>
              <a:t>     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ndara"/>
              </a:rPr>
              <a:t>-Настоящий друг никогда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971640" y="-604080"/>
            <a:ext cx="81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Monotype Corsiva"/>
              </a:rPr>
              <a:t>Соотнесите понят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468360" y="1413000"/>
            <a:ext cx="5543640" cy="971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468360" y="2349360"/>
            <a:ext cx="5543640" cy="1511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468360" y="4869000"/>
            <a:ext cx="5543640" cy="143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468360" y="3860640"/>
            <a:ext cx="5543640" cy="971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6012000" y="1413000"/>
            <a:ext cx="3024000" cy="9712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6012000" y="3860640"/>
            <a:ext cx="3024000" cy="97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6012000" y="2349360"/>
            <a:ext cx="3024000" cy="1511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6012000" y="4869000"/>
            <a:ext cx="3024000" cy="1439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413000"/>
          <a:ext cx="8567640" cy="4906800"/>
        </p:xfrm>
        <a:graphic>
          <a:graphicData uri="http://schemas.openxmlformats.org/drawingml/2006/table">
            <a:tbl>
              <a:tblPr/>
              <a:tblGrid>
                <a:gridCol w="5540400"/>
                <a:gridCol w="3027240"/>
              </a:tblGrid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, с которым мы просто здороваемся  на улице, во дворе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10253f"/>
                          </a:solidFill>
                          <a:latin typeface="Monotype Corsiva"/>
                          <a:ea typeface="Times New Roman"/>
                        </a:rPr>
                        <a:t>товарищ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,  которому доверяете свои тайны, с которым делите радости и печали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10253f"/>
                          </a:solidFill>
                          <a:latin typeface="Monotype Corsiva"/>
                          <a:ea typeface="Times New Roman"/>
                        </a:rPr>
                        <a:t>знакомы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(одноклассник), с которым за 8 лет съеден пуд соли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10253f"/>
                          </a:solidFill>
                          <a:latin typeface="Monotype Corsiva"/>
                          <a:ea typeface="Times New Roman"/>
                        </a:rPr>
                        <a:t>приятел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, с которым время от времени обсуждаем какие-то события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10253f"/>
                          </a:solidFill>
                          <a:latin typeface="Monotype Corsiva"/>
                          <a:ea typeface="Times New Roman"/>
                        </a:rPr>
                        <a:t>дру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1116000" y="177336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Качества друг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6724800" y="4645080"/>
            <a:ext cx="2425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1116000" y="177336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Что значит дружить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6724800" y="4645080"/>
            <a:ext cx="2425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539640" y="285840"/>
            <a:ext cx="8604360" cy="87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Monotype Corsiva"/>
              </a:rPr>
              <a:t>Что Важно для дружб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Давать друг другу списывать контрольные работы и домашни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Защищать друг друга от обидч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Угощать друг друга слад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Уметь сказать друг другу правду, даже если она не очень прият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Уметь уступать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Часто ходить друг к другу в г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Помогать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Не ссориться друг с другом по пустя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Искренне радоваться успехам друг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7589880" y="3925800"/>
            <a:ext cx="1560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8:27:11Z</dcterms:created>
  <dc:creator>Win 7</dc:creator>
  <dc:description/>
  <dc:language>en-US</dc:language>
  <cp:lastModifiedBy>Win 7</cp:lastModifiedBy>
  <dcterms:modified xsi:type="dcterms:W3CDTF">2014-12-05T10:38:57Z</dcterms:modified>
  <cp:revision>28</cp:revision>
  <dc:subject/>
  <dc:title>Слайд 1</dc:title>
</cp:coreProperties>
</file>