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508-EB2E-411A-BE06-94124D97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470-1BA7-47EA-830E-D6F878BB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2E2-8DAF-48E4-BFB9-7B53DB7A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2E6-A4AB-48AF-AD85-75701FF9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9E2-D813-4365-8F10-A8BA63C9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900-FFB5-46D9-814C-54D0181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D26-A7E0-42FB-B9E1-F43D7D5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975-C80E-440B-BEFA-4B7454A5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B45A-8282-4190-8550-137A155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69AE-A0EC-4083-956C-A862108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AD01-255D-4B75-85C2-DBCB87F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50C-70E9-4F63-B024-FFF321B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916A-BE05-41DA-9296-8DF4767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A438-02E2-4780-93A5-2C7C855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A6C-1A18-49C1-9F09-833B779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F22-79FC-42A9-9214-EC27BE2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A56F-FE7C-4E56-945F-EFB77A44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FAE3-DD37-4D2A-90B4-C754332E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0456-9FC4-40B4-AE6D-75B929E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E8FA-32B6-4529-9761-313CFA60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E2D8-E89C-41EF-93E0-CF61BB0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44AB-0716-4EE3-8553-201C8C9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007-A4A4-4519-865B-3D93A2EE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1D09-121D-43FA-8EB3-EB7C3398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EFBD-DA18-40B7-A8F5-40A0E1C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975F-76B7-4E79-ADAE-0D78CBD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1FD5-582D-4EAC-91DD-5B2B8E5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3148-28EE-4A68-9C3A-0A80489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049C-4B33-4723-9F81-5FEF346E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E2C2-40C7-4623-A7CA-7030E416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C9D0-E3F6-45E9-8CC9-2402016E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5314-FCB6-4F7D-82E9-14E9402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C0AE-6DCD-4FBC-AD73-3C835CF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F91-96F2-4765-A328-FF751211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0CCF-0A16-4F2F-A107-B2EFC78B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15BA-6D2B-4250-AEA5-57EFB3D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4E7F-C910-45E0-9938-F51A33B2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BF99-B43C-4079-91B8-072751D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9A40-5E9A-42D3-BFB3-F9632EFA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65E2-D9F7-42C1-890F-B00A13A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44BF-BCE3-48B9-888C-2B42CE6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E04E-9A21-463C-BB95-A2F10E4C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1AFE-AFA7-48D7-8C19-46A530CB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8C363-70E4-4815-95C8-41E7BD92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A86-18EC-429C-9593-F8FB423A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9C4D-2841-4E25-A05C-B20E66B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52DE-C4B0-4254-BAE9-5E83CE9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117AE-D87D-41CA-941C-6F724378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42D2-403E-425E-9498-2488F11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B061-4965-4C7F-91EC-9876A694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245D-E138-4BFB-9989-628BEE3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11DB-3E3C-4053-B94E-65FC7C0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4F26-05D8-4A16-9AC2-4778ADB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7AAA-E46A-4E33-9847-9CEEC50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0B79-C0A1-4AA4-888B-CD1DAFE3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C83-1048-40DD-86ED-7CA629CA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A40B-A86A-4D66-AB38-3476DB53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1978-616D-4E68-BC78-35CFDFDF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6C2A-5400-4ACB-9793-2C8B1E13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49C19-A172-4C0A-B3C8-E6AECCF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412F5-5875-46BD-A48E-5DB29BF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F2A1-E572-4787-9A7B-C8E22604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ABEA8-F8DD-44D9-BAD8-97043D55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7A0A5-8FE1-42AF-8B4A-10E62D99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EFFE-A42F-432C-B3B2-6DB034B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80482-E1AA-42DD-93B0-F437280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F60-0439-4E1F-8853-69E9113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2D89-6573-4478-98C5-A8B8DB8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D8B3-6D82-4D39-9388-86C77925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42C5-4713-4962-BB8A-08A1D0F2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894A-6D6D-4962-8648-4E3D6AD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D6AA-F923-4D8F-98E1-7FF94F55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26A7-E3F5-4637-B633-FDEFFEF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8E32-6C96-4982-B96F-2AA7B862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D01C-5BC7-4EFC-84DD-FCF0996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7CE62-3F4E-4F1D-8C1F-138622F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2609-69A4-4FE8-83AD-AAA0DBD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01D-764F-45CB-BAA7-3034787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7223-AAA6-4BA6-A9A2-3EE601A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AE191-30F8-4B73-83A2-A732F2F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C247-EECB-4211-8997-E39FA9F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AB5A-7281-498C-BF36-EBB58DAE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23BE-1F4A-400E-9473-DAB7A645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F25-AC5A-4B3D-BC0A-40C83EA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9B3-A0D7-45DA-8DB0-579F2F0710B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14BE-05AF-4496-A72C-D366EAF631A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940-3DE4-4D23-8EC0-31DF710B8D9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D28-CE07-4F11-8587-8AC7A981500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1DF7-F2DE-4E60-AA40-E325C2CE83C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0DB-F2DE-451B-8CCD-6DEBD72AA0D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461-A19B-40A2-A0E2-85AFD91BCDB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924280"/>
            <a:ext cx="7408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Презентация  к  уроку  русского  языка  в  7  класс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Подготовила учитель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русского  языку  и  литературы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 МОУ Мало-Андосовская  ООШ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 Бузанова  Т.В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Употребление  дееепричастий  в  ре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33"/>
          <p:cNvSpPr txBox="1"/>
          <p:nvPr/>
        </p:nvSpPr>
        <p:spPr>
          <a:xfrm>
            <a:off x="1979640" y="404640"/>
            <a:ext cx="52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bbfe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 исследования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00bbfe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3348000" y="1557360"/>
            <a:ext cx="5472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розаических произведениях А.С. Пушкина и Н.В. Г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оэтических тек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ословицах, поговорках, фразеолог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8" descr="ED00019_"/>
          <p:cNvPicPr/>
          <p:nvPr/>
        </p:nvPicPr>
        <p:blipFill>
          <a:blip r:embed="rId5"/>
          <a:stretch/>
        </p:blipFill>
        <p:spPr>
          <a:xfrm>
            <a:off x="-108000" y="1484280"/>
            <a:ext cx="39117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Bookman Old Style"/>
              </a:rPr>
              <a:t>Роль деепричастий в реч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1" name="Picture 11" descr="NA01357_"/>
          <p:cNvPicPr/>
          <p:nvPr/>
        </p:nvPicPr>
        <p:blipFill>
          <a:blip r:embed="rId1"/>
          <a:stretch/>
        </p:blipFill>
        <p:spPr>
          <a:xfrm>
            <a:off x="1631880" y="3700440"/>
            <a:ext cx="1911600" cy="1405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NA01358_"/>
          <p:cNvPicPr/>
          <p:nvPr/>
        </p:nvPicPr>
        <p:blipFill>
          <a:blip r:embed="rId2"/>
          <a:stretch/>
        </p:blipFill>
        <p:spPr>
          <a:xfrm>
            <a:off x="179280" y="1700280"/>
            <a:ext cx="1920960" cy="14508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9"/>
          <p:cNvSpPr/>
          <p:nvPr/>
        </p:nvSpPr>
        <p:spPr>
          <a:xfrm>
            <a:off x="2340000" y="170028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епричастия дорисовывают основное действие, делают речь точнее и яр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324000" y="386064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ложения с деепричастиями более выразительны, живопис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1"/>
          <p:cNvSpPr/>
          <p:nvPr/>
        </p:nvSpPr>
        <p:spPr>
          <a:xfrm>
            <a:off x="324000" y="4365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3"/>
          <p:cNvSpPr/>
          <p:nvPr/>
        </p:nvSpPr>
        <p:spPr>
          <a:xfrm>
            <a:off x="104292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7008e"/>
                </a:solidFill>
                <a:uFillTx/>
                <a:latin typeface="Bookman Old Style"/>
              </a:rPr>
              <a:t>Минуты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5" descr="SO00333_"/>
          <p:cNvPicPr/>
          <p:nvPr/>
        </p:nvPicPr>
        <p:blipFill>
          <a:blip r:embed="rId1"/>
          <a:stretch/>
        </p:blipFill>
        <p:spPr>
          <a:xfrm>
            <a:off x="2430360" y="1197000"/>
            <a:ext cx="4356360" cy="4008240"/>
          </a:xfrm>
          <a:prstGeom prst="rect">
            <a:avLst/>
          </a:prstGeom>
          <a:ln w="0">
            <a:noFill/>
          </a:ln>
        </p:spPr>
      </p:pic>
      <p:sp>
        <p:nvSpPr>
          <p:cNvPr id="428" name="WordArt 67"/>
          <p:cNvSpPr txBox="1"/>
          <p:nvPr/>
        </p:nvSpPr>
        <p:spPr>
          <a:xfrm>
            <a:off x="468360" y="5300640"/>
            <a:ext cx="820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има   в  нашем    селе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118728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608472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059280" y="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тогов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"/>
          <p:cNvGraphicFramePr/>
          <p:nvPr/>
        </p:nvGraphicFramePr>
        <p:xfrm>
          <a:off x="250920" y="5805360"/>
          <a:ext cx="8713800" cy="8082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сломя голо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не разгибая сп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засучив рук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положа руку на серд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Picture 15" descr="AG00090_"/>
          <p:cNvPicPr/>
          <p:nvPr/>
        </p:nvPicPr>
        <p:blipFill>
          <a:blip r:embed="rId2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9"/>
          <p:cNvSpPr/>
          <p:nvPr/>
        </p:nvSpPr>
        <p:spPr>
          <a:xfrm>
            <a:off x="468360" y="692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1. Какое из слов не является деепричаст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4"/>
          <p:cNvSpPr/>
          <p:nvPr/>
        </p:nvSpPr>
        <p:spPr>
          <a:xfrm>
            <a:off x="684360" y="1484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2. На месте каких цифр должны стоять запят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50920" y="1916280"/>
          <a:ext cx="8642160" cy="828360"/>
        </p:xfrm>
        <a:graphic>
          <a:graphicData uri="http://schemas.openxmlformats.org/drawingml/2006/table">
            <a:tbl>
              <a:tblPr/>
              <a:tblGrid>
                <a:gridCol w="4322520"/>
                <a:gridCol w="43196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 шёл по дороге (1) и (2) опустив голову (3) что-то иск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 бросил писать (1) и (2) отойдя к окну (3) открыл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1,2,3                  Б) 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1,2,3                     Б) 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Text Box 80"/>
          <p:cNvSpPr/>
          <p:nvPr/>
        </p:nvSpPr>
        <p:spPr>
          <a:xfrm>
            <a:off x="611280" y="2781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3. Найдите слова с ударением на третьем слог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3213000"/>
          <a:ext cx="8713800" cy="360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балуясь;  Б) черпая;  В) углубивши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облегчив;  Б) прибыв;  В) закупор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Text Box 112"/>
          <p:cNvSpPr/>
          <p:nvPr/>
        </p:nvSpPr>
        <p:spPr>
          <a:xfrm>
            <a:off x="468360" y="3573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4. Выберите правильное продолжение фра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250920" y="4005360"/>
          <a:ext cx="8713800" cy="1341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дя у костр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 к лес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незапно налетел вете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етер стал как будто сильне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мы завороженно глядели на огон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уже чувствуется осенняя свеже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мне вспомнилась ночь на Днеп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мы посмотрели на комп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Text Box 135"/>
          <p:cNvSpPr/>
          <p:nvPr/>
        </p:nvSpPr>
        <p:spPr>
          <a:xfrm>
            <a:off x="0" y="5373720"/>
            <a:ext cx="79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5. Подбери синоним к фразеологиз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50920" y="1125360"/>
          <a:ext cx="8642160" cy="335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аря;  Б) гиря;  В) жар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оля;  Б) деля;  В) п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5" name="Picture 182" descr="SY00170_"/>
          <p:cNvPicPr/>
          <p:nvPr/>
        </p:nvPicPr>
        <p:blipFill>
          <a:blip r:embed="rId3"/>
          <a:stretch/>
        </p:blipFill>
        <p:spPr>
          <a:xfrm>
            <a:off x="7740720" y="5805360"/>
            <a:ext cx="1258920" cy="79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18728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608472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059280" y="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AG00090_"/>
          <p:cNvPicPr/>
          <p:nvPr/>
        </p:nvPicPr>
        <p:blipFill>
          <a:blip r:embed="rId1"/>
          <a:stretch/>
        </p:blipFill>
        <p:spPr>
          <a:xfrm>
            <a:off x="324000" y="26028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1" descr="AN00790_"/>
          <p:cNvPicPr/>
          <p:nvPr/>
        </p:nvPicPr>
        <p:blipFill>
          <a:blip r:embed="rId2"/>
          <a:stretch/>
        </p:blipFill>
        <p:spPr>
          <a:xfrm>
            <a:off x="2700360" y="1197000"/>
            <a:ext cx="3657600" cy="381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AG00090_"/>
          <p:cNvPicPr/>
          <p:nvPr/>
        </p:nvPicPr>
        <p:blipFill>
          <a:blip r:embed="rId3"/>
          <a:stretch/>
        </p:blipFill>
        <p:spPr>
          <a:xfrm>
            <a:off x="8244000" y="260280"/>
            <a:ext cx="48888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468360" y="907920"/>
          <a:ext cx="8137440" cy="5545440"/>
        </p:xfrm>
        <a:graphic>
          <a:graphicData uri="http://schemas.openxmlformats.org/drawingml/2006/table">
            <a:tbl>
              <a:tblPr/>
              <a:tblGrid>
                <a:gridCol w="4032360"/>
                <a:gridCol w="4105080"/>
              </a:tblGrid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А-быс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А-беспреры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Б-усерд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Б-откров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057 P.Mauriat_Love is blue.mp3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35"/>
          <p:cNvSpPr txBox="1"/>
          <p:nvPr/>
        </p:nvSpPr>
        <p:spPr>
          <a:xfrm>
            <a:off x="-612720" y="47628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рошую  речь хорошо  и  слуш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WordArt 36"/>
          <p:cNvSpPr txBox="1"/>
          <p:nvPr/>
        </p:nvSpPr>
        <p:spPr>
          <a:xfrm rot="21310200">
            <a:off x="6443640" y="2421000"/>
            <a:ext cx="237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928000"/>
                </a:gradFill>
                <a:latin typeface="Impact"/>
              </a:rPr>
              <a:t>русская пословиц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928000"/>
              </a:gradFill>
              <a:latin typeface="Impact"/>
              <a:ea typeface="Impact"/>
            </a:endParaRPr>
          </a:p>
        </p:txBody>
      </p:sp>
      <p:pic>
        <p:nvPicPr>
          <p:cNvPr id="458" name="Picture 83" descr="MCj03608300000[1]"/>
          <p:cNvPicPr/>
          <p:nvPr/>
        </p:nvPicPr>
        <p:blipFill>
          <a:blip r:embed="rId2"/>
          <a:stretch/>
        </p:blipFill>
        <p:spPr>
          <a:xfrm>
            <a:off x="2071800" y="3490920"/>
            <a:ext cx="103176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5491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7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9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0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1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0" descr="J0199609"/>
          <p:cNvPicPr/>
          <p:nvPr/>
        </p:nvPicPr>
        <p:blipFill>
          <a:blip r:embed="rId1"/>
          <a:stretch/>
        </p:blipFill>
        <p:spPr>
          <a:xfrm>
            <a:off x="826920" y="476280"/>
            <a:ext cx="1818000" cy="1555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1" descr="J0200279"/>
          <p:cNvPicPr/>
          <p:nvPr/>
        </p:nvPicPr>
        <p:blipFill>
          <a:blip r:embed="rId2"/>
          <a:stretch/>
        </p:blipFill>
        <p:spPr>
          <a:xfrm>
            <a:off x="7093080" y="4437000"/>
            <a:ext cx="1635120" cy="1847880"/>
          </a:xfrm>
          <a:prstGeom prst="rect">
            <a:avLst/>
          </a:prstGeom>
          <a:ln w="0">
            <a:noFill/>
          </a:ln>
        </p:spPr>
      </p:pic>
      <p:sp>
        <p:nvSpPr>
          <p:cNvPr id="347" name="WordArt 53"/>
          <p:cNvSpPr txBox="1"/>
          <p:nvPr/>
        </p:nvSpPr>
        <p:spPr>
          <a:xfrm>
            <a:off x="539640" y="1268280"/>
            <a:ext cx="82821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Употребление деепричастий в речи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8" name="WordArt 54"/>
          <p:cNvSpPr txBox="1"/>
          <p:nvPr/>
        </p:nvSpPr>
        <p:spPr>
          <a:xfrm>
            <a:off x="3132000" y="1341360"/>
            <a:ext cx="31719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</a:t>
            </a:r>
            <a:endParaRPr b="1" lang="en-US" sz="4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7"/>
          <p:cNvSpPr txBox="1"/>
          <p:nvPr/>
        </p:nvSpPr>
        <p:spPr>
          <a:xfrm>
            <a:off x="3348000" y="54936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Цели урока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357" name="Picture 18" descr="J0200273"/>
          <p:cNvPicPr/>
          <p:nvPr/>
        </p:nvPicPr>
        <p:blipFill>
          <a:blip r:embed="rId1"/>
          <a:stretch/>
        </p:blipFill>
        <p:spPr>
          <a:xfrm>
            <a:off x="1187280" y="260280"/>
            <a:ext cx="1816200" cy="1584360"/>
          </a:xfrm>
          <a:prstGeom prst="rect">
            <a:avLst/>
          </a:prstGeom>
          <a:ln w="0">
            <a:noFill/>
          </a:ln>
        </p:spPr>
      </p:pic>
      <p:sp>
        <p:nvSpPr>
          <p:cNvPr id="358" name="WordArt 20"/>
          <p:cNvSpPr txBox="1"/>
          <p:nvPr/>
        </p:nvSpPr>
        <p:spPr>
          <a:xfrm>
            <a:off x="324000" y="2060640"/>
            <a:ext cx="845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нать особенности употребления деепричастий;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21"/>
          <p:cNvSpPr txBox="1"/>
          <p:nvPr/>
        </p:nvSpPr>
        <p:spPr>
          <a:xfrm>
            <a:off x="324000" y="328464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меть использовать деепричастия в предложении и тексте;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22"/>
          <p:cNvSpPr txBox="1"/>
          <p:nvPr/>
        </p:nvSpPr>
        <p:spPr>
          <a:xfrm>
            <a:off x="324000" y="4437000"/>
            <a:ext cx="845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адуматься о роли деепричастий в устной и письменной речи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 spd="med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6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9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2" descr="SY00170_"/>
          <p:cNvPicPr/>
          <p:nvPr/>
        </p:nvPicPr>
        <p:blipFill>
          <a:blip r:embed="rId4"/>
          <a:stretch/>
        </p:blipFill>
        <p:spPr>
          <a:xfrm>
            <a:off x="4140360" y="4797360"/>
            <a:ext cx="2447640" cy="15130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00000" y="907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делите в каждом столбике деепричас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4360" y="1700280"/>
          <a:ext cx="7775280" cy="218916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закры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работавши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закрывшийс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абота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закры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работ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32"/>
          <p:cNvSpPr/>
          <p:nvPr/>
        </p:nvSpPr>
        <p:spPr>
          <a:xfrm>
            <a:off x="684360" y="42926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каким признакам определили деепричас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8" descr="SO00289_"/>
          <p:cNvPicPr/>
          <p:nvPr/>
        </p:nvPicPr>
        <p:blipFill>
          <a:blip r:embed="rId4"/>
          <a:stretch/>
        </p:blipFill>
        <p:spPr>
          <a:xfrm>
            <a:off x="3635280" y="4508640"/>
            <a:ext cx="1408320" cy="21873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90800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износите прави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8360" y="1700280"/>
          <a:ext cx="8209080" cy="2706480"/>
        </p:xfrm>
        <a:graphic>
          <a:graphicData uri="http://schemas.openxmlformats.org/drawingml/2006/table">
            <a:tbl>
              <a:tblPr/>
              <a:tblGrid>
                <a:gridCol w="3855960"/>
                <a:gridCol w="4353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ве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ег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</a:t>
                      </a:r>
                      <a:r>
                        <a:rPr b="1" i="1" lang="ru-RU" sz="2800" spc="-1" strike="noStrike">
                          <a:solidFill>
                            <a:srgbClr val="e82c00"/>
                          </a:solidFill>
                          <a:latin typeface="Arial"/>
                        </a:rPr>
                        <a:t>ы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п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</a:t>
                      </a:r>
                      <a:r>
                        <a:rPr b="1" i="1" lang="ru-RU" sz="2800" spc="-1" strike="noStrike">
                          <a:solidFill>
                            <a:srgbClr val="e82c00"/>
                          </a:solidFill>
                          <a:latin typeface="Arial"/>
                        </a:rPr>
                        <a:t>у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Picture 28" descr="AG00090_"/>
          <p:cNvPicPr/>
          <p:nvPr/>
        </p:nvPicPr>
        <p:blipFill>
          <a:blip r:embed="rId5"/>
          <a:stretch/>
        </p:blipFill>
        <p:spPr>
          <a:xfrm>
            <a:off x="1116000" y="620640"/>
            <a:ext cx="488880" cy="503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0" descr="AG00090_"/>
          <p:cNvPicPr/>
          <p:nvPr/>
        </p:nvPicPr>
        <p:blipFill>
          <a:blip r:embed="rId6"/>
          <a:stretch/>
        </p:blipFill>
        <p:spPr>
          <a:xfrm>
            <a:off x="759636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5" descr="J0285796"/>
          <p:cNvPicPr/>
          <p:nvPr/>
        </p:nvPicPr>
        <p:blipFill>
          <a:blip r:embed="rId4"/>
          <a:stretch/>
        </p:blipFill>
        <p:spPr>
          <a:xfrm>
            <a:off x="6877080" y="1052640"/>
            <a:ext cx="1874880" cy="11332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24000" y="33336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правьте Егоркины объя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1341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ходя мимо витрины, стекло может разби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7"/>
          <p:cNvSpPr/>
          <p:nvPr/>
        </p:nvSpPr>
        <p:spPr>
          <a:xfrm>
            <a:off x="539640" y="2565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яйте деньги, не отходя от кас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8" descr="J0285808"/>
          <p:cNvPicPr/>
          <p:nvPr/>
        </p:nvPicPr>
        <p:blipFill>
          <a:blip r:embed="rId5"/>
          <a:stretch/>
        </p:blipFill>
        <p:spPr>
          <a:xfrm>
            <a:off x="5724360" y="1989000"/>
            <a:ext cx="1225800" cy="18147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9"/>
          <p:cNvSpPr/>
          <p:nvPr/>
        </p:nvSpPr>
        <p:spPr>
          <a:xfrm>
            <a:off x="539640" y="386064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ходя в магазин, собаки должны остаться на улиц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0" descr="J0285822"/>
          <p:cNvPicPr/>
          <p:nvPr/>
        </p:nvPicPr>
        <p:blipFill>
          <a:blip r:embed="rId6"/>
          <a:stretch/>
        </p:blipFill>
        <p:spPr>
          <a:xfrm>
            <a:off x="7093080" y="3573360"/>
            <a:ext cx="1909800" cy="1079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1"/>
          <p:cNvSpPr/>
          <p:nvPr/>
        </p:nvSpPr>
        <p:spPr>
          <a:xfrm>
            <a:off x="611280" y="4797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но ли какое-нибудь объявление повесить в мага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2" descr="J0292278"/>
          <p:cNvPicPr/>
          <p:nvPr/>
        </p:nvPicPr>
        <p:blipFill>
          <a:blip r:embed="rId7"/>
          <a:stretch/>
        </p:blipFill>
        <p:spPr>
          <a:xfrm>
            <a:off x="5435640" y="5445000"/>
            <a:ext cx="18064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00280"/>
          <a:ext cx="9144000" cy="3673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дойдя к дому, собака встретила меня радостным ла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Сидя у окна, в комнату влетел вороб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Заигравшись до позднего вечера, мама рассердилась на на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катавшись на катке, сильно болят но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звращаясь домой, пошёл дожд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селившись в деревне, его мечта осталась прежн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34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1908000" y="260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Отредактируйт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0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4" descr="SO01063_"/>
          <p:cNvPicPr/>
          <p:nvPr/>
        </p:nvPicPr>
        <p:blipFill>
          <a:blip r:embed="rId2"/>
          <a:stretch/>
        </p:blipFill>
        <p:spPr>
          <a:xfrm>
            <a:off x="3348000" y="4724280"/>
            <a:ext cx="2403360" cy="1900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3" descr="AG00090_"/>
          <p:cNvPicPr/>
          <p:nvPr/>
        </p:nvPicPr>
        <p:blipFill>
          <a:blip r:embed="rId3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1700280"/>
          <a:ext cx="9144000" cy="3678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6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Я подошёл к дому, и собака встретила меня радостным ла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я сидел у окна, в комнату влетел воробе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Мы заигрались до позднего вечера, и мама рассердилась на нас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покатаешься на катке, сильно болят но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мы возвращались домой, пошёл дожд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н поселился в деревне, а его мечта осталась прежне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Text Box 11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3492360" y="333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9" descr="J0295069"/>
          <p:cNvPicPr/>
          <p:nvPr/>
        </p:nvPicPr>
        <p:blipFill>
          <a:blip r:embed="rId2"/>
          <a:stretch/>
        </p:blipFill>
        <p:spPr>
          <a:xfrm>
            <a:off x="3635280" y="5013360"/>
            <a:ext cx="2262240" cy="1627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AG00090_"/>
          <p:cNvPicPr/>
          <p:nvPr/>
        </p:nvPicPr>
        <p:blipFill>
          <a:blip r:embed="rId3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ВОДОПАД_звук_0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3" descr="SY00170_"/>
          <p:cNvPicPr/>
          <p:nvPr/>
        </p:nvPicPr>
        <p:blipFill>
          <a:blip r:embed="rId2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SY00170_"/>
          <p:cNvPicPr/>
          <p:nvPr/>
        </p:nvPicPr>
        <p:blipFill>
          <a:blip r:embed="rId3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SY00170_"/>
          <p:cNvPicPr/>
          <p:nvPr/>
        </p:nvPicPr>
        <p:blipFill>
          <a:blip r:embed="rId4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2" descr="26"/>
          <p:cNvPicPr/>
          <p:nvPr/>
        </p:nvPicPr>
        <p:blipFill>
          <a:blip r:embed="rId5"/>
          <a:stretch/>
        </p:blipFill>
        <p:spPr>
          <a:xfrm>
            <a:off x="0" y="-130320"/>
            <a:ext cx="9252000" cy="69883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4"/>
          <p:cNvSpPr/>
          <p:nvPr/>
        </p:nvSpPr>
        <p:spPr>
          <a:xfrm>
            <a:off x="250920" y="-100080"/>
            <a:ext cx="7632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п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п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т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в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ым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ув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кая, шур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вясь и спе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зя, обним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ясь и встреч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скаясь, бунтуя, ле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я, дробясь, шелес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стая, взлетая, шат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летаясь, звеня, клоко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иваясь, вертясь, грохо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щинясь, волнуясь, кат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аясь, меняясь, воркуя, шу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метаясь и пенясь, ликуя, г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жа, разливаясь, смеясь и бол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ясь, извиваясь, стремясь, вырас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ёд и вперёд убегая в свободолюбивом задоре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адают бурные воды в сверкающем, быстром Лодор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6"/>
          <p:cNvSpPr/>
          <p:nvPr/>
        </p:nvSpPr>
        <p:spPr>
          <a:xfrm>
            <a:off x="5219640" y="333360"/>
            <a:ext cx="3456000" cy="503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219640" y="4039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 Саути «Лодорский водоп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6120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0:51:15Z</dcterms:created>
  <dc:creator>User</dc:creator>
  <dc:description/>
  <dc:language>en-US</dc:language>
  <cp:lastModifiedBy>школа</cp:lastModifiedBy>
  <dcterms:modified xsi:type="dcterms:W3CDTF">2015-02-04T09:36:19Z</dcterms:modified>
  <cp:revision>16</cp:revision>
  <dc:subject/>
  <dc:title>Слайд 1</dc:title>
</cp:coreProperties>
</file>