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wmf" ContentType="image/x-wmf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744-5264-4FA3-9F55-27AA42BA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AA2-34E0-4CF9-B6CF-A03F071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8DB-752A-47C7-85DF-8DB4AFA2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13B-19F4-4DA9-B7F3-336747F1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D07-CC9A-42F8-9CBC-317719C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D2E-925F-427F-98A7-DBFCD062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92E-24E5-41ED-9971-C05AE5A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265-141F-4717-9BA7-41FA909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209-FD0D-43AB-93CE-890BA24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98A-D01F-4072-B89A-B3CFF19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7D3-1EA8-45E1-870F-3E36F98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06D-E0DC-467A-AAB4-B9FF0B47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828-2F86-4BC3-B8B7-BFD6A1BD0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браузер лучше выбрать для работы в сети интер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05160" y="3352320"/>
            <a:ext cx="3733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05 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йбыш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йчикова Васил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рон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733920" y="61722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 Самара, 2015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380988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391520" y="430200"/>
            <a:ext cx="144756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5AF-D810-40E8-993E-FED24E470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ый компактный интерфей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асшир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ие обн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амая высокая производитель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6705720" y="511200"/>
            <a:ext cx="1981080" cy="17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3DAC-7C15-4DB4-9F1E-E5D41AE8D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9718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Explorer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узер, который идет по умолчанию с любой версие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го не нужно скачивать или устанавливать, но рекомендуется обновля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048120" cy="29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FB7-3400-4592-823A-59E6363D0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запуск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ьше требует оперативн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ный интерфей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л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ет слишком много во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уитивно трудно настраиваем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904760" cy="18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201-D8CD-423C-82F8-E58CF1D66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5105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й ветеран рынка. Первая версия этого браузера была выпущена еще в далеком 1995 году, но набрал популярность проект только спустя 10 лет, когда перешел на бесплатную осн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3dlogonew0pp"/>
          <p:cNvPicPr/>
          <p:nvPr/>
        </p:nvPicPr>
        <p:blipFill>
          <a:blip r:embed="rId1"/>
          <a:stretch/>
        </p:blipFill>
        <p:spPr>
          <a:xfrm>
            <a:off x="5410080" y="3200400"/>
            <a:ext cx="2914920" cy="24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6CD2-03FD-4F8C-824F-F08511320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уско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ый менеджер загру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й и простой в осво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ая скорость обработки скр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х версиях удалили «заклад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dlogonew0pp"/>
          <p:cNvPicPr/>
          <p:nvPr/>
        </p:nvPicPr>
        <p:blipFill>
          <a:blip r:embed="rId1"/>
          <a:stretch/>
        </p:blipFill>
        <p:spPr>
          <a:xfrm>
            <a:off x="6705720" y="609480"/>
            <a:ext cx="207648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DA6-3A32-4361-BE2E-217A5244C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ндекс.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ндекс. Браузер – разработка, принадлежащая компании Яндекс. Представляет собой все тот ж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 существенно переработанный в сторону упрощения и улучшения быстро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353040" cy="25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910-A664-4C59-8EB7-42E25A40B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жеты самый посещаемых сайтов на новых вклад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 файлов в форма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видных минусов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BE8-3B3D-4FDB-90F2-F7A9B8D70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ножества интернет пользователей этот критерий имеет первоочередную важность. Ведь на просторах сети встречаются мошенники и аферисты, которые непременно захотят использовать уязвимости браузера, чтобы навредить любым доступным спосо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8687-2D5E-4A3D-8FDC-969A562D1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ром на данный момент считается одним из самых безопасных браузеров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Благодаря регулярным обновлениям заполняются все бреши в защите и пополняется встроенный черный список сай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Google-Chrome-Logo-500x500"/>
          <p:cNvPicPr/>
          <p:nvPr/>
        </p:nvPicPr>
        <p:blipFill>
          <a:blip r:embed="rId1"/>
          <a:stretch/>
        </p:blipFill>
        <p:spPr>
          <a:xfrm>
            <a:off x="6324480" y="457200"/>
            <a:ext cx="2400480" cy="24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45CE-146E-4A7A-B4E1-F1F3C2024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 безопасностью в Яндекс Браузере тоже все в порядк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истема предупреждает о ресурсах, имеющих отношение к интернет - мошенничеству, хакерству и прочим противозаконным занят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629400" y="531720"/>
            <a:ext cx="2057400" cy="15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D56-400B-401C-80EF-DAE50276B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моей работы – исследовать, каким интернет браузером чаще всего пользуются и поч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43200" cy="186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EA2-06C6-4BE9-8C87-275187317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 Opera есть множество детальных настрое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позволяющих скрыть пользовательскую активность, мгновенно удалив историю посещенных страниц, Cookie файлы и кэш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dlogonew0pp"/>
          <p:cNvPicPr/>
          <p:nvPr/>
        </p:nvPicPr>
        <p:blipFill>
          <a:blip r:embed="rId1"/>
          <a:stretch/>
        </p:blipFill>
        <p:spPr>
          <a:xfrm>
            <a:off x="5562720" y="533520"/>
            <a:ext cx="2914560" cy="24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416C-4E3F-4D3B-9CC1-ADDB423DE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Mozilla для защиты пользователей от фишинговых ресурсов и сайтов с опасным содержимым использует технологию SafeBrowsing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спользуемую в Яндекс Браузере, Chrome и прочих проектах на базе разработки компании Goo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209680" cy="18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41D2-AFB2-4725-B72D-D5B03C891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ределить, какой   интернет браузер используется чаще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чащиеся 7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анкет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кетиров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анке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17DE-7FF9-41D2-86CF-6F5B4C4AC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380880" y="76356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E33-DC3A-4209-AAE5-55F58DDDD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часто вы пользуетесь Chrome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380880" y="2133720"/>
          <a:ext cx="82296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F76-4D85-4CF8-B0E5-744AE2BE2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вольны ли вы Chrome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685800" y="2133720"/>
          <a:ext cx="76960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6960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0C21-B3BC-443C-BF7E-E023D11D5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м другим браузером вы пользуете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61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0DA-205F-4D91-A4AD-C33774E73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интернет браузеров у вас установле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838080" y="2133720"/>
          <a:ext cx="75438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438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F9C9-DE55-41EB-830F-402E7F052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делала вывод, что самым популярным интернет браузером всё же явля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Chro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большинство людей используют Яндекс. Брау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965-7803-4228-8241-7F29C6815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295280" y="1809720"/>
            <a:ext cx="6782040" cy="466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850-7F30-4BE9-9823-CC62B6747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бобщение результатов исследования проблемы, содержащихся в литературе и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бор удобного интернет браузера непосредственно для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риобретение навыков обработки фактического материала, представление его в форме таблиц, диаграмм, графиков и их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667240" cy="18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062-A21F-48BF-8C9F-8FF9D464B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тернет брауз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б-обозреватель или браузер – это прикладное ПО для просмотра веб-страниц; программа, позволяющая просматривать на дисплее компьютера информацию из компьютерной сети и перемещаться по страницам Интер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003-3E7B-4695-87FE-43A53B3FB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многие разработчики браузеров сосредоточили свои усилия на повышении удобства пользовательского интерфейса браузеров для их использования в аппаратных устройствах. Браузеры распространяю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сплат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70DC-47EE-424F-B4AA-326E866AD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готипы основных интернет брауз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4602240" cy="31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80988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7E6-0CE1-4AA3-ACE7-5EE030F65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oogle Chr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Chrome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узер, созданный на базе движ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kit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завоевал признание пользователей благодаря удобству, функциональности и самому брен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282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FA78-0C8B-4A54-A635-99F232D0C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оинст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возможные расши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язычный интерфей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атические обн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работает с множеством открытых вкла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встроенных визуальных закла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Google-Chrome-Logo-500x500"/>
          <p:cNvPicPr/>
          <p:nvPr/>
        </p:nvPicPr>
        <p:blipFill>
          <a:blip r:embed="rId1"/>
          <a:stretch/>
        </p:blipFill>
        <p:spPr>
          <a:xfrm>
            <a:off x="7010280" y="60948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C4B-8DA8-4E7E-9A8D-48EE2FEC5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zilla Firef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510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zilla Firefox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ретий в мире по популярности браузер, причем в некоторых странах его доля на рынке превышает 4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ой дл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o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ит движок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ct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бственной разработки компани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z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74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0:32:44Z</dcterms:created>
  <dc:creator>Лариса</dc:creator>
  <dc:description/>
  <dc:language>en-US</dc:language>
  <cp:lastModifiedBy>Юлёк</cp:lastModifiedBy>
  <dcterms:modified xsi:type="dcterms:W3CDTF">2015-02-07T23:19:1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