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wmf" ContentType="image/x-wmf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62E-F339-4F87-BC4F-1AB447D3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D30-5175-4311-90DE-263A2F46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6E8-ACCD-4219-8C8A-73D471DC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052-B1B7-47A9-847D-279A30F2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EAD-46F4-4EA7-8948-6F486D13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B49-D075-4C42-BD1D-DB627960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9D3-872A-4EFE-B8EC-354BCBB9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B7B-5E90-46D0-AB3F-1A89EBB7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29C-76E6-4C67-8AA2-C0DEE0D4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B37-5AF8-4202-8093-16B4A5F6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64A-3069-42DE-874A-73FA5A46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D98-C3A6-4B90-9BF4-7A41C695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E1C0-A2F7-459B-A620-E09BE535D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й браузер лучше выбрать для работы в сети интерн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105160" y="3352320"/>
            <a:ext cx="3733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еница 7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105 г.о. 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йбыше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йчикова Васили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ный 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иронова Ю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733920" y="61722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. Самара, 2015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3809880" cy="259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7391520" y="430200"/>
            <a:ext cx="1447560" cy="118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AA3E-AAD1-4342-890D-5A115124D8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оин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ный компактный интерфей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расшир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ие обно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у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амая высокая производительн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6705720" y="511200"/>
            <a:ext cx="1981080" cy="170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C4DD-BE15-4C6D-BD69-F7D911BD17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97180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Explorer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узер, который идет по умолчанию с любой версие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его не нужно скачивать или устанавливать, но рекомендуется обновлять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3048120" cy="295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3F2C-FAA2-4DB1-95A7-241D1953D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оин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 запуск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ьше требует оперативной пам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ный интерфей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у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ле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ет слишком много вопро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уитивно трудно настраиваем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6705720" y="609480"/>
            <a:ext cx="1904760" cy="184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08E5-E9EB-4047-AD33-49A75022D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p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2666880"/>
            <a:ext cx="5105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оящий ветеран рынка. Первая версия этого браузера была выпущена еще в далеком 1995 году, но набрал популярность проект только спустя 10 лет, когда перешел на бесплатную осно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3dlogonew0pp"/>
          <p:cNvPicPr/>
          <p:nvPr/>
        </p:nvPicPr>
        <p:blipFill>
          <a:blip r:embed="rId1"/>
          <a:stretch/>
        </p:blipFill>
        <p:spPr>
          <a:xfrm>
            <a:off x="5410080" y="3200400"/>
            <a:ext cx="2914920" cy="240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0E08-E957-4DFC-AC91-94814A491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оин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жим уско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бный менеджер загруз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ональный и простой в осво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у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хая скорость обработки скри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них версиях удалили «заклад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3dlogonew0pp"/>
          <p:cNvPicPr/>
          <p:nvPr/>
        </p:nvPicPr>
        <p:blipFill>
          <a:blip r:embed="rId1"/>
          <a:stretch/>
        </p:blipFill>
        <p:spPr>
          <a:xfrm>
            <a:off x="6705720" y="609480"/>
            <a:ext cx="2076480" cy="17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BCE6-B091-499E-839C-03F30BD6C8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ндекс. Брауз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4572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ндекс. Браузер – разработка, принадлежащая компании Яндекс. Представляет собой все тот ж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e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о существенно переработанный в сторону упрощения и улучшения быстродей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181480" y="3200400"/>
            <a:ext cx="3353040" cy="250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A1BA-8F27-4C47-835F-CD9861764C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оин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жеты самый посещаемых сайтов на новых вклад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мотр файлов в форма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у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видных минусов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553080" y="685800"/>
            <a:ext cx="2210040" cy="16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A799-4B26-4F8A-ACAF-ECC00B565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множества интернет пользователей этот критерий имеет первоочередную важность. Ведь на просторах сети встречаются мошенники и аферисты, которые непременно захотят использовать уязвимости браузера, чтобы навредить любым доступным спосо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DAB8-BC47-4F6B-BEE3-987620140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ром на данный момент считается одним из самых безопасных браузеров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Благодаря регулярным обновлениям заполняются все бреши в защите и пополняется встроенный черный список сай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Google-Chrome-Logo-500x500"/>
          <p:cNvPicPr/>
          <p:nvPr/>
        </p:nvPicPr>
        <p:blipFill>
          <a:blip r:embed="rId1"/>
          <a:stretch/>
        </p:blipFill>
        <p:spPr>
          <a:xfrm>
            <a:off x="6324480" y="457200"/>
            <a:ext cx="2400480" cy="240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0912-87C3-4182-8C65-D2CA887B2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 безопасностью в Яндекс Браузере тоже все в порядк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система предупреждает о ресурсах, имеющих отношение к интернет - мошенничеству, хакерству и прочим противозаконным заняти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629400" y="531720"/>
            <a:ext cx="2057400" cy="15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B9E9-160D-4540-97EF-1CB806BB18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Цел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3047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 моей работы – исследовать, каким интернет браузером чаще всего пользуются и поче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791320" y="609480"/>
            <a:ext cx="2743200" cy="186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C200-A3FC-44ED-8404-565CD3E11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2971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 Opera есть множество детальных настрое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позволяющих скрыть пользовательскую активность, мгновенно удалив историю посещенных страниц, Cookie файлы и кэш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3dlogonew0pp"/>
          <p:cNvPicPr/>
          <p:nvPr/>
        </p:nvPicPr>
        <p:blipFill>
          <a:blip r:embed="rId1"/>
          <a:stretch/>
        </p:blipFill>
        <p:spPr>
          <a:xfrm>
            <a:off x="5562720" y="533520"/>
            <a:ext cx="2914560" cy="240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7FFB-5E72-4B04-AB73-EA2E73CF80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Mozilla для защиты пользователей от фишинговых ресурсов и сайтов с опасным содержимым использует технологию SafeBrowsing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используемую в Яндекс Браузере, Chrome и прочих проектах на базе разработки компании Goog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209680" cy="189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19D3-C832-492E-8A73-0923043635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ределить, какой   интернет браузер используется чаще вс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чащиеся 7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и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анкет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сти анкетирова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анкет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вы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B79C-07A1-4B09-B3CB-0FC34AD03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380880" y="763560"/>
            <a:ext cx="7772400" cy="533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B7FC-8C58-40B7-86DD-753ED1B7C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часто вы пользуетесь Chrome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380880" y="2133720"/>
          <a:ext cx="82296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229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1E80-0BD8-4CFC-A136-4798643B9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вольны ли вы Chrome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18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685800" y="2133720"/>
          <a:ext cx="76960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6960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3DDF-3530-45FF-A469-20650BD8E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м другим браузером вы пользуетес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ject 5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48720" cy="461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B249-C0E0-4690-9DDB-3E58E1E14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 интернет браузеров у вас установле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838080" y="2133720"/>
          <a:ext cx="75438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5438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4000-C39C-49C2-88F6-567661FE0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сделала вывод, что самым популярным интернет браузером всё же являетс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Chrom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же большинство людей используют Яндекс. Брауз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4985-8065-4AB8-A277-72F373AD7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1295280" y="1809720"/>
            <a:ext cx="6782040" cy="466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59D7-75B3-47C6-BBB3-A19939BF52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Обобщение результатов исследования проблемы, содержащихся в литературе и интер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Выбор удобного интернет браузера непосредственно для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Приобретение навыков обработки фактического материала, представление его в форме таблиц, диаграмм, графиков и их анал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095880" y="457200"/>
            <a:ext cx="2667240" cy="18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D271-1714-4DE1-97CB-EDB3EDD73C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нтернет брауз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б-обозреватель или браузер – это прикладное ПО для просмотра веб-страниц; программа, позволяющая просматривать на дисплее компьютера информацию из компьютерной сети и перемещаться по страницам Интерн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FB6B-4A24-4DC3-AF72-334D66A306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ние годы многие разработчики браузеров сосредоточили свои усилия на повышении удобства пользовательского интерфейса браузеров для их использования в аппаратных устройствах. Браузеры распространяю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есплат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8926-5B95-44CF-999B-3D78832E0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оготипы основных интернет брауз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4602240" cy="313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3809880" cy="312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8EA3-A86B-430F-9944-97CCF7F36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oogle Chr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Chrome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узер, созданный на базе движ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kit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завоевал признание пользователей благодаря удобству, функциональности и самому бренд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581280" cy="282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6387-AEB8-46AE-98BC-4A1364868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оинств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возможные расши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льтиязычный интерфей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матические обн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у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хо работает с множеством открытых вклад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встроенных визуальных заклад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Google-Chrome-Logo-500x500"/>
          <p:cNvPicPr/>
          <p:nvPr/>
        </p:nvPicPr>
        <p:blipFill>
          <a:blip r:embed="rId1"/>
          <a:stretch/>
        </p:blipFill>
        <p:spPr>
          <a:xfrm>
            <a:off x="7010280" y="609480"/>
            <a:ext cx="1943280" cy="19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2965-1C2C-4463-A619-8459C3124A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zilla Firef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5105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zilla Firefox 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третий в мире по популярности браузер, причем в некоторых странах его доля на рынке превышает 4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ой для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efox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ит движок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cto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обственной разработки компани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zi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3200400" cy="274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0:32:44Z</dcterms:created>
  <dc:creator>Лариса</dc:creator>
  <dc:description/>
  <dc:language>en-US</dc:language>
  <cp:lastModifiedBy>Юлёк</cp:lastModifiedBy>
  <dcterms:modified xsi:type="dcterms:W3CDTF">2015-02-07T23:19:1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