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E52-71F0-470C-9901-3348CA35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26E-9EE4-4757-AF06-A651934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7F2-F99F-42B6-9498-9970E035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9F0-648A-480D-BBB3-226BEC65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46AF-7B96-4238-8B13-3896391B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910-73FA-41E1-82F5-D1F8268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535D-9F7D-4EFE-A86D-C0E96B1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07B-6F9E-4ABD-AAE1-013A9DF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1B87-1D97-42E9-B583-A586B64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6DB3-6AE8-4C66-968C-D055F9A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D14-2496-430E-893B-E4BB2D0E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39C-F286-454B-97D4-E3F9AD8F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7B0B-F84B-4DFB-A090-9C78F1FF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8F86-4C7B-42B3-95D9-609C236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935-A180-4327-81A3-DB516DAB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EF6-D33E-44AE-9263-E750721F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0B4C-17C9-4275-B82E-6CB0915E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0B6-62A9-40A3-9F78-89C963D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083-9B98-418B-9E6E-F435C2E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38C-2B55-4690-A06D-5A79229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166-1412-46F6-AB89-92636781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7D1-826E-4767-9F00-D75ECB9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EDB-E4F5-4E56-8F7C-9D3B339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81E-A875-49CB-AD2D-9F025A0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879-2F8C-427E-A87E-0B5C32499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386-ADDD-4088-8318-64222DB17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1904760"/>
            <a:ext cx="80787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Веселый новый год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51280" y="2887560"/>
            <a:ext cx="52927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5456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00720" y="3376440"/>
            <a:ext cx="46432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6:27:32Z</dcterms:created>
  <dc:creator>User</dc:creator>
  <dc:description/>
  <dc:language>en-US</dc:language>
  <cp:lastModifiedBy>User</cp:lastModifiedBy>
  <dcterms:modified xsi:type="dcterms:W3CDTF">2015-01-04T15:47:22Z</dcterms:modified>
  <cp:revision>4</cp:revision>
  <dc:subject/>
  <dc:title>Веселый новый год</dc:title>
</cp:coreProperties>
</file>