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F36-8A7B-433F-BBEC-73148723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22C-D784-4B9C-B7F9-73603DEE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A08-DD5E-460E-9EB7-977E0872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605-296C-4CA9-A62B-727DB3B0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18F1-34F4-4D39-8A70-D3883D14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3BE1-A38B-4243-A3E4-E5D1F97E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849B-129C-4785-A311-C9076196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1135-979D-4EE8-B52E-A31E5B81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9A2E-94AE-4366-84F6-A6D10240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515E-2E9D-4A45-8511-FDF6EE56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364D-24D2-43C5-82BD-B11CBC0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66D-FBD4-472F-A54C-3485CD63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8221-7106-485F-83AC-B3308D5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BEB3-390F-4532-BBFE-02D4FD3D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F846-30B5-4B15-B0CE-847A9CD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65D0-62D9-471F-9DE4-84B0F81B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2E10-C2DD-4CD9-AC85-320C5187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A86-2013-4643-A464-9E9B6A31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51C-CAEE-402A-9C07-2225B490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B68-6E41-496F-832B-A44F0451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C88-B9DD-4E8C-A590-B97A3EE8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F44-5668-4177-AABC-1BF78FC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ECC-487F-4DEF-85DB-5B56A73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555-2590-4BF7-A89D-1CDE1FF6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EA35-DACB-4969-8F8B-B184B9859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E4AA-129F-41D9-A5A5-3FB66B4E3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1904760"/>
            <a:ext cx="80787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Веселый новый год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51280" y="2887560"/>
            <a:ext cx="5292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5456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3427560"/>
            <a:ext cx="4573440" cy="343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500720" y="3376440"/>
            <a:ext cx="46432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16:27:32Z</dcterms:created>
  <dc:creator>User</dc:creator>
  <dc:description/>
  <dc:language>en-US</dc:language>
  <cp:lastModifiedBy>User</cp:lastModifiedBy>
  <dcterms:modified xsi:type="dcterms:W3CDTF">2015-01-04T15:47:22Z</dcterms:modified>
  <cp:revision>4</cp:revision>
  <dc:subject/>
  <dc:title>Веселый новый год</dc:title>
</cp:coreProperties>
</file>