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4CCA-B733-4800-8410-5B628E4AAD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02E1-133E-4E32-89A2-9E9E443E41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2F7-DB0F-4821-90F2-5BF50628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8EAE-D0EC-42A7-8091-9C08F8CD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7C2-B907-49FC-96EA-F35D6F4A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5DCB-0398-406C-8721-0809F1ED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809F-6B54-4440-B474-C72E0830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7502-144F-40A4-AEB2-E3DB1AC6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4A72-1F90-484E-9214-2E31F73B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DA8A-0908-4DCD-A166-2F65BD91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3F02-06F3-4467-896D-48AA0496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E32D-C6D5-4315-B610-A877173D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F6FC-0E17-4BC6-87C7-3F838D0E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8E7D-F505-4D9B-B85C-6CA72E97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8194-0E65-4B33-935F-30B678D1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D008-2C5D-4F9C-95DB-6FDF8F56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3A31-8D6C-428B-A56F-6DC05CB8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A5CE-08F4-4296-A579-AD39B696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2B84-5457-4E00-8A46-3C164907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02EDE-F69E-4FD3-8CFA-C0B0B0D6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82450-A96B-420B-8225-82F87D29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EFE2B-9195-4FDF-9BA0-91E779CA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48FF5-3D29-4A39-ADB7-72CB464A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5B402-4A49-4277-8177-85B6724E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621-0198-4A53-B1C5-0B5B249A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A6000-75FD-4579-9EC5-7523FB2C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41981-5565-4DFC-A8DE-C733878E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6DD9A-4648-4231-B730-A75B730E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B61EF-EC05-46A7-BD43-E206D62A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037AE-566B-4D7A-9968-F1DC3F5E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9BCEF-1A67-4C6A-9C9C-D555110C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D0EB6-F3FA-465A-B0AB-559981C3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270CB-E49A-4509-8478-DC953C0F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8CBFB-51F4-4744-B281-8049A445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3C677-CEB4-4B39-AFE5-65FC592B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5E9C-5B38-491F-BF7F-642E2E1B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FC0B5-15FB-4984-B970-AA2618AE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32DE2-2E09-4D43-8B5B-62B0EFD6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AF2FA-AA67-4DC7-A013-D1AFCA73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C6456-2D00-4DC3-89C3-CE1191CF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4DD01-35C3-4160-9FBC-18AF8AF9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9F14B-4411-48E3-A422-547D4359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8C0E0-622F-4EF1-86B9-FC4E5D7D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9A70B-9EB2-4AE9-81DB-D74527CD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97B0C-9E50-4D8F-8FC2-64630D23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F389A-BFF0-40B6-A13F-0E37A86F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FE57-CF9B-435C-9B30-D7F9BBF7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068A5-04AC-43A9-9FDA-E058B8D0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611B1-81B0-4646-9C5E-4E32FD70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6EF6C-10C4-44BB-A2DD-2C92DAFE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1F717-DFBF-43A1-94E3-1B21DF3E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064B5-01CB-4376-BF06-BCC80BE5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99D8E-F670-44FD-8953-23F60D02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D0BA1-F860-46EB-8B49-CFAFA7EE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91E86-8EC5-4D72-9FF2-597F7F7E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8C933-ED51-4F78-9132-C2032A35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572D8-E21F-4B31-9DD1-3C2711FA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ADA-38B9-4101-9F34-7325A6FF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28203-B25C-4FBB-892D-9808A5D5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385-832C-431D-A8D4-4A86FD92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44B-A137-409B-AC84-C7056BB5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8EE7-A5CB-4DC7-ACB5-92E1ADA5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3553-8014-473A-8D10-C54B6E36163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AC96-68CE-4105-9B31-466E2281A55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73FF-F797-4540-95D5-09B6B085C48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AED1-7B87-445F-A959-EDEA4D2E42C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5CD1-4C9D-470B-BDEA-BEACA3188E8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odviqnaroda.ru/" TargetMode="External"/><Relationship Id="rId2" Type="http://schemas.openxmlformats.org/officeDocument/2006/relationships/hyperlink" Target="http://www.podviqnaroda.ru/" TargetMode="External"/><Relationship Id="rId3" Type="http://schemas.openxmlformats.org/officeDocument/2006/relationships/hyperlink" Target="http://www.podviqnaroda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C:\Users\Алёна\Desktop\2 Мои достижения Языкова\Дедушка Латкин Г.Д\Статья о Латкине Г.Д..jpg"/>
          <p:cNvPicPr/>
          <p:nvPr/>
        </p:nvPicPr>
        <p:blipFill>
          <a:blip r:embed="rId1"/>
          <a:stretch/>
        </p:blipFill>
        <p:spPr>
          <a:xfrm>
            <a:off x="500040" y="1857240"/>
            <a:ext cx="3786120" cy="45738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6"/>
          <p:cNvSpPr/>
          <p:nvPr/>
        </p:nvSpPr>
        <p:spPr>
          <a:xfrm>
            <a:off x="857160" y="35712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ектная 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Великая Отечественная вой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истории семьи. Рассказ о прадедуш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7"/>
          <p:cNvSpPr/>
          <p:nvPr/>
        </p:nvSpPr>
        <p:spPr>
          <a:xfrm>
            <a:off x="4786200" y="3500280"/>
            <a:ext cx="385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боту выполн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Языкова Юл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еница 7а класс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У СОШ №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итель обществознания       Языкова     А. 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C:\Users\Алёна\Desktop\Георгиевская-ленточка_2 - копия.jpg"/>
          <p:cNvPicPr/>
          <p:nvPr/>
        </p:nvPicPr>
        <p:blipFill>
          <a:blip r:embed="rId2"/>
          <a:stretch/>
        </p:blipFill>
        <p:spPr>
          <a:xfrm>
            <a:off x="4572000" y="2357280"/>
            <a:ext cx="4016520" cy="714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Users\Алёна\Desktop\2 Мои достижения Языкова\Дедушка Латкин Г.Д\Латкин Г.Д.и команда - копия.jpg"/>
          <p:cNvPicPr/>
          <p:nvPr/>
        </p:nvPicPr>
        <p:blipFill>
          <a:blip r:embed="rId1"/>
          <a:stretch/>
        </p:blipFill>
        <p:spPr>
          <a:xfrm>
            <a:off x="1785960" y="2000160"/>
            <a:ext cx="5689440" cy="3886200"/>
          </a:xfrm>
          <a:prstGeom prst="rect">
            <a:avLst/>
          </a:prstGeom>
          <a:ln w="0">
            <a:noFill/>
          </a:ln>
        </p:spPr>
      </p:pic>
      <p:grpSp>
        <p:nvGrpSpPr>
          <p:cNvPr id="268" name="TextBox 5"/>
          <p:cNvGrpSpPr/>
          <p:nvPr/>
        </p:nvGrpSpPr>
        <p:grpSpPr>
          <a:xfrm>
            <a:off x="2176560" y="5888160"/>
            <a:ext cx="4651200" cy="531720"/>
            <a:chOff x="2176560" y="5888160"/>
            <a:chExt cx="4651200" cy="531720"/>
          </a:xfrm>
        </p:grpSpPr>
        <p:pic>
          <p:nvPicPr>
            <p:cNvPr id="269" name="TextBox 5" descr=""/>
            <p:cNvPicPr/>
            <p:nvPr/>
          </p:nvPicPr>
          <p:blipFill>
            <a:blip r:embed="rId2"/>
            <a:stretch/>
          </p:blipFill>
          <p:spPr>
            <a:xfrm>
              <a:off x="2176560" y="5888160"/>
              <a:ext cx="4651200" cy="5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286000" y="6000840"/>
              <a:ext cx="442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Прадедушка Гриша – второй в среднем ряду, сле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Прямоугольник 6"/>
          <p:cNvSpPr/>
          <p:nvPr/>
        </p:nvSpPr>
        <p:spPr>
          <a:xfrm>
            <a:off x="571680" y="500040"/>
            <a:ext cx="814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Я горжусь сво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адедушкой Гришей – он настоящий ге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C:\Users\Алёна\Desktop\Георгиевская-ленточка_2 - копия.jpg"/>
          <p:cNvPicPr/>
          <p:nvPr/>
        </p:nvPicPr>
        <p:blipFill>
          <a:blip r:embed="rId3"/>
          <a:stretch/>
        </p:blipFill>
        <p:spPr>
          <a:xfrm>
            <a:off x="6858000" y="214200"/>
            <a:ext cx="1801800" cy="714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3"/>
          <p:cNvSpPr/>
          <p:nvPr/>
        </p:nvSpPr>
        <p:spPr>
          <a:xfrm>
            <a:off x="428760" y="714240"/>
            <a:ext cx="792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готовке материала использова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 бабушки Ермачковой Ларисы Григорье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статьи «Быть достойными отцов и дедов завещал ветеран» Т.Кодзоковой, директора историко-краеведческого музея г.Прохл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сайта «Подвиг народа»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/>
              </a:rPr>
              <a:t>www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2"/>
              </a:rPr>
              <a:t>.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3"/>
              </a:rPr>
              <a:t>podviqnarod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 семейного арх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материал будет оформлен в виде книжки и будет храниться в семье как семейная ц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428760" y="456840"/>
            <a:ext cx="4929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 сожалению, прадедушка умер когда мне исполнился 1 год и о нем мне рассказала моя бабушка Лариса Григорьевна, его дочь, а также у нас была статья из историко-краеведческого музея г.Прохладного КБР о подвиге прадедушки во время Великой Отечественной вой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кументов о наградах у нас не сохранилос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 мы обратились за помощью к сайту «Подвиг народ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де и нашли недостающие факты  военной биографии прадед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Users\Алёна\Desktop\2 Мои достижения Языкова\Дедушка Латкин Г.Д\Латкин Г.Д. в форме - копия (2).jpg"/>
          <p:cNvPicPr/>
          <p:nvPr/>
        </p:nvPicPr>
        <p:blipFill>
          <a:blip r:embed="rId1"/>
          <a:stretch/>
        </p:blipFill>
        <p:spPr>
          <a:xfrm>
            <a:off x="5572080" y="500040"/>
            <a:ext cx="3067200" cy="5689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Users\Алёна\Desktop\2 Мои достижения Языкова\Дедушка Латкин Г.Д\Латкин Г.Д. в форме - копия.jpg"/>
          <p:cNvPicPr/>
          <p:nvPr/>
        </p:nvPicPr>
        <p:blipFill>
          <a:blip r:embed="rId1"/>
          <a:stretch/>
        </p:blipFill>
        <p:spPr>
          <a:xfrm>
            <a:off x="714240" y="714240"/>
            <a:ext cx="3522960" cy="5261040"/>
          </a:xfrm>
          <a:prstGeom prst="rect">
            <a:avLst/>
          </a:prstGeom>
          <a:ln w="0">
            <a:noFill/>
          </a:ln>
        </p:spPr>
      </p:pic>
      <p:grpSp>
        <p:nvGrpSpPr>
          <p:cNvPr id="234" name="TextBox 11"/>
          <p:cNvGrpSpPr/>
          <p:nvPr/>
        </p:nvGrpSpPr>
        <p:grpSpPr>
          <a:xfrm>
            <a:off x="884160" y="5248440"/>
            <a:ext cx="1401840" cy="744480"/>
            <a:chOff x="884160" y="5248440"/>
            <a:chExt cx="1401840" cy="744480"/>
          </a:xfrm>
        </p:grpSpPr>
        <p:pic>
          <p:nvPicPr>
            <p:cNvPr id="235" name="TextBox 11" descr=""/>
            <p:cNvPicPr/>
            <p:nvPr/>
          </p:nvPicPr>
          <p:blipFill>
            <a:blip r:embed="rId2"/>
            <a:stretch/>
          </p:blipFill>
          <p:spPr>
            <a:xfrm>
              <a:off x="884160" y="5248440"/>
              <a:ext cx="140184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000080" y="535788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Прадедушка Гриш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Прямоугольник 4"/>
          <p:cNvSpPr/>
          <p:nvPr/>
        </p:nvSpPr>
        <p:spPr>
          <a:xfrm>
            <a:off x="4286160" y="1143000"/>
            <a:ext cx="4143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одился прадедушка 2 мая 1920 года в Ставропольском крае. Прошел обучение в отряде Балтийского флота г.Кронштадт на машиниста трюмного от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ыл призван в ряды Красной армии Разинским райвоенкомиссариатом г.Баку 5 мая 1939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C:\Users\Алёна\Desktop\Георгиевская-ленточка_2 - копия.jpg"/>
          <p:cNvPicPr/>
          <p:nvPr/>
        </p:nvPicPr>
        <p:blipFill>
          <a:blip r:embed="rId3"/>
          <a:stretch/>
        </p:blipFill>
        <p:spPr>
          <a:xfrm>
            <a:off x="6786720" y="500040"/>
            <a:ext cx="1801800" cy="71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Алёна\Desktop\2 Мои достижения Языкова\Дедушка Латкин Г.Д\Латкин Г.Д. на корабле - копия.jpg"/>
          <p:cNvPicPr/>
          <p:nvPr/>
        </p:nvPicPr>
        <p:blipFill>
          <a:blip r:embed="rId1"/>
          <a:stretch/>
        </p:blipFill>
        <p:spPr>
          <a:xfrm>
            <a:off x="1428840" y="2643120"/>
            <a:ext cx="5857920" cy="3476520"/>
          </a:xfrm>
          <a:prstGeom prst="rect">
            <a:avLst/>
          </a:prstGeom>
          <a:ln w="0">
            <a:noFill/>
          </a:ln>
        </p:spPr>
      </p:pic>
      <p:grpSp>
        <p:nvGrpSpPr>
          <p:cNvPr id="240" name="TextBox 9"/>
          <p:cNvGrpSpPr/>
          <p:nvPr/>
        </p:nvGrpSpPr>
        <p:grpSpPr>
          <a:xfrm>
            <a:off x="2889360" y="5962680"/>
            <a:ext cx="1238040" cy="682560"/>
            <a:chOff x="2889360" y="5962680"/>
            <a:chExt cx="1238040" cy="682560"/>
          </a:xfrm>
        </p:grpSpPr>
        <p:pic>
          <p:nvPicPr>
            <p:cNvPr id="241" name="TextBox 9" descr=""/>
            <p:cNvPicPr/>
            <p:nvPr/>
          </p:nvPicPr>
          <p:blipFill>
            <a:blip r:embed="rId2"/>
            <a:stretch/>
          </p:blipFill>
          <p:spPr>
            <a:xfrm>
              <a:off x="2889360" y="5962680"/>
              <a:ext cx="12380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3000240" y="6072120"/>
              <a:ext cx="1000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Прадедушка Гриш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Прямоугольник 4"/>
          <p:cNvSpPr/>
          <p:nvPr/>
        </p:nvSpPr>
        <p:spPr>
          <a:xfrm>
            <a:off x="285840" y="35712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ажную роль в его жизни и военной  службе играл Балтийский флот. Прадедушка прошел две войны советско-финляндскую 1939-1940 гг., служа в звании старшины  первой статьи Балтийского флота и Великую Отечественную войну командиром отделения трюмных машинистов на корабле-лидере «Ленинград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C:\Users\Алёна\Desktop\Георгиевская-ленточка_2 - копия.jpg"/>
          <p:cNvPicPr/>
          <p:nvPr/>
        </p:nvPicPr>
        <p:blipFill>
          <a:blip r:embed="rId3"/>
          <a:stretch/>
        </p:blipFill>
        <p:spPr>
          <a:xfrm>
            <a:off x="6143760" y="2214720"/>
            <a:ext cx="2516040" cy="357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C:\Users\Алёна\Desktop\2 Мои достижения Языкова\Дедушка Латкин Г.Д\о наградах\filterimage.jpg"/>
          <p:cNvPicPr/>
          <p:nvPr/>
        </p:nvPicPr>
        <p:blipFill>
          <a:blip r:embed="rId1"/>
          <a:stretch/>
        </p:blipFill>
        <p:spPr>
          <a:xfrm>
            <a:off x="428760" y="1500120"/>
            <a:ext cx="6067440" cy="13575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C:\Users\Алёна\Desktop\2 Мои достижения Языкова\Дедушка Латкин Г.Д\о наградах\filterimage (1).jpg"/>
          <p:cNvPicPr/>
          <p:nvPr/>
        </p:nvPicPr>
        <p:blipFill>
          <a:blip r:embed="rId2"/>
          <a:stretch/>
        </p:blipFill>
        <p:spPr>
          <a:xfrm>
            <a:off x="1643040" y="2857680"/>
            <a:ext cx="6500880" cy="23572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5"/>
          <p:cNvSpPr/>
          <p:nvPr/>
        </p:nvSpPr>
        <p:spPr>
          <a:xfrm>
            <a:off x="857160" y="50004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й прадедушка  Латкин Григор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виг настоящего геро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C:\Users\Алёна\Desktop\Вахта памяти\Лидер-Ленинград.jpg"/>
          <p:cNvPicPr/>
          <p:nvPr/>
        </p:nvPicPr>
        <p:blipFill>
          <a:blip r:embed="rId3"/>
          <a:stretch/>
        </p:blipFill>
        <p:spPr>
          <a:xfrm>
            <a:off x="1285920" y="5357880"/>
            <a:ext cx="6357960" cy="1162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C:\Users\Алёна\Desktop\Георгиевская-ленточка_2 - копия.jpg"/>
          <p:cNvPicPr/>
          <p:nvPr/>
        </p:nvPicPr>
        <p:blipFill>
          <a:blip r:embed="rId4"/>
          <a:stretch/>
        </p:blipFill>
        <p:spPr>
          <a:xfrm>
            <a:off x="6786720" y="1428840"/>
            <a:ext cx="1801800" cy="71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award10-sm"/>
          <p:cNvPicPr/>
          <p:nvPr/>
        </p:nvPicPr>
        <p:blipFill>
          <a:blip r:embed="rId1"/>
          <a:stretch/>
        </p:blipFill>
        <p:spPr>
          <a:xfrm>
            <a:off x="357120" y="2357280"/>
            <a:ext cx="1371600" cy="1320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Алёна\Desktop\Вахта памяти\вахта памяти2\дедушка гриша\award9_2-sm.png"/>
          <p:cNvPicPr/>
          <p:nvPr/>
        </p:nvPicPr>
        <p:blipFill>
          <a:blip r:embed="rId2"/>
          <a:stretch/>
        </p:blipFill>
        <p:spPr>
          <a:xfrm>
            <a:off x="7643880" y="3643200"/>
            <a:ext cx="1066680" cy="105408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8"/>
          <p:cNvSpPr/>
          <p:nvPr/>
        </p:nvSpPr>
        <p:spPr>
          <a:xfrm>
            <a:off x="1857240" y="2274840"/>
            <a:ext cx="671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 этот подвиг, «за образцовое выполнение боевых заданий командования на фронте, борьбы с немецкими захватчиками и проявленные при этом доблесть и мужество» прадедушка был награжден Орденом «Красная звезда» (из наградного листа КЭКБФ №2 от I/V 1945г., сайт «Подвиг народа»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C:\Users\Алёна\Desktop\Сайт подвиг народа - копия.jpg"/>
          <p:cNvPicPr/>
          <p:nvPr/>
        </p:nvPicPr>
        <p:blipFill>
          <a:blip r:embed="rId3"/>
          <a:stretch/>
        </p:blipFill>
        <p:spPr>
          <a:xfrm>
            <a:off x="642960" y="571680"/>
            <a:ext cx="8001000" cy="158112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10"/>
          <p:cNvSpPr/>
          <p:nvPr/>
        </p:nvSpPr>
        <p:spPr>
          <a:xfrm>
            <a:off x="642960" y="385776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деном «Отечественной войны 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» (№ наградного документа: 87, сайт «Подвиг народа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1"/>
          <p:cNvSpPr/>
          <p:nvPr/>
        </p:nvSpPr>
        <p:spPr>
          <a:xfrm>
            <a:off x="428760" y="4572000"/>
            <a:ext cx="828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акже прадедушка был награжден медалью «За оборону Ленинграда», «За победу над Германией в Великой Отечественной Войне 1941-1945 гг.» и многими юбилейными медал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из статьи Т.Кодзоковой, директора историко-краеведческого музея г.Прохладны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C:\Users\Алёна\Desktop\Георгиевская-ленточка_2 - копия.jpg"/>
          <p:cNvPicPr/>
          <p:nvPr/>
        </p:nvPicPr>
        <p:blipFill>
          <a:blip r:embed="rId4"/>
          <a:stretch/>
        </p:blipFill>
        <p:spPr>
          <a:xfrm>
            <a:off x="6858000" y="5715000"/>
            <a:ext cx="1801800" cy="71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C:\Users\Алёна\Desktop\2 Мои достижения Языкова\Дедушка Латкин Г.Д\о наградах\1.jpg"/>
          <p:cNvPicPr/>
          <p:nvPr/>
        </p:nvPicPr>
        <p:blipFill>
          <a:blip r:embed="rId1"/>
          <a:stretch/>
        </p:blipFill>
        <p:spPr>
          <a:xfrm>
            <a:off x="714240" y="500040"/>
            <a:ext cx="3803760" cy="5281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F:\filterimage.jpg"/>
          <p:cNvPicPr/>
          <p:nvPr/>
        </p:nvPicPr>
        <p:blipFill>
          <a:blip r:embed="rId2"/>
          <a:stretch/>
        </p:blipFill>
        <p:spPr>
          <a:xfrm>
            <a:off x="4857840" y="500040"/>
            <a:ext cx="3733560" cy="5286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C:\Users\Алёна\Desktop\2 Мои достижения Языкова\Дедушка Латкин Г.Д\Латкин Г.Д. молокозавод - копия.jpg"/>
          <p:cNvPicPr/>
          <p:nvPr/>
        </p:nvPicPr>
        <p:blipFill>
          <a:blip r:embed="rId1"/>
          <a:stretch/>
        </p:blipFill>
        <p:spPr>
          <a:xfrm>
            <a:off x="6572160" y="2786040"/>
            <a:ext cx="2127240" cy="2928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C:\Users\Алёна\Desktop\2 Мои достижения Языкова\Дедушка Латкин Г.Д\Латкин Г.Д. Семейное - копия.jpg"/>
          <p:cNvPicPr/>
          <p:nvPr/>
        </p:nvPicPr>
        <p:blipFill>
          <a:blip r:embed="rId2"/>
          <a:stretch/>
        </p:blipFill>
        <p:spPr>
          <a:xfrm>
            <a:off x="2786040" y="2428920"/>
            <a:ext cx="3706920" cy="285732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6"/>
          <p:cNvSpPr/>
          <p:nvPr/>
        </p:nvSpPr>
        <p:spPr>
          <a:xfrm>
            <a:off x="500040" y="500040"/>
            <a:ext cx="807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ле войны прадедушка женился на прабабушке Ковтуненко Надежде Семеновне. У них была большая дружная семья – 3 детей, 10 внуков и 2 правнучки. С 1958 года прадедушка проживал с семьей в поселке Гвардейское, Прохладненского района, КБР. Работал на молокозаводе мастером и зав.складом на предприятии по заготовке зерна и изготовлению комбикормов,  вышел на пенсию в возрасте 77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C:\Users\Алёна\Desktop\2 Мои достижения Языкова\Дедушка Латкин Г.Д\Латкин Г.Д. Свадьба 4 - копия.jpg"/>
          <p:cNvPicPr/>
          <p:nvPr/>
        </p:nvPicPr>
        <p:blipFill>
          <a:blip r:embed="rId3"/>
          <a:stretch/>
        </p:blipFill>
        <p:spPr>
          <a:xfrm>
            <a:off x="428760" y="2786040"/>
            <a:ext cx="2217600" cy="3071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Алёна\Desktop\Георгиевская-ленточка_2 - копия.jpg"/>
          <p:cNvPicPr/>
          <p:nvPr/>
        </p:nvPicPr>
        <p:blipFill>
          <a:blip r:embed="rId4"/>
          <a:stretch/>
        </p:blipFill>
        <p:spPr>
          <a:xfrm>
            <a:off x="3000240" y="5500800"/>
            <a:ext cx="3143520" cy="71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3"/>
          <p:cNvSpPr/>
          <p:nvPr/>
        </p:nvSpPr>
        <p:spPr>
          <a:xfrm>
            <a:off x="642960" y="64296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мер прадедушка в мае 2002 года. После смерти прадедушки Гриши, прабабушка Надя передала его воспоминания и фотографии военных лет в историко-краеведческий музей г.Прохладный КБ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C:\Users\Алёна\Desktop\2 Мои достижения Языкова\Дедушка Латкин Г.Д\Лиаткин Г.Д. и Латкина Н.С. - копия.jpg"/>
          <p:cNvPicPr/>
          <p:nvPr/>
        </p:nvPicPr>
        <p:blipFill>
          <a:blip r:embed="rId1"/>
          <a:stretch/>
        </p:blipFill>
        <p:spPr>
          <a:xfrm>
            <a:off x="2071800" y="2214720"/>
            <a:ext cx="5153040" cy="3998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C:\Users\Алёна\Desktop\Георгиевская-ленточка_2 - копия.jpg"/>
          <p:cNvPicPr/>
          <p:nvPr/>
        </p:nvPicPr>
        <p:blipFill>
          <a:blip r:embed="rId2"/>
          <a:stretch/>
        </p:blipFill>
        <p:spPr>
          <a:xfrm>
            <a:off x="7000920" y="347760"/>
            <a:ext cx="1571760" cy="295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18:53:41Z</dcterms:created>
  <dc:creator>1</dc:creator>
  <dc:description/>
  <dc:language>en-US</dc:language>
  <cp:lastModifiedBy>Алёна</cp:lastModifiedBy>
  <dcterms:modified xsi:type="dcterms:W3CDTF">2015-02-08T15:15:00Z</dcterms:modified>
  <cp:revision>85</cp:revision>
  <dc:subject/>
  <dc:title>Слайд 1</dc:title>
</cp:coreProperties>
</file>