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33E-4F81-4A0F-9C65-09658DDB5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30E5-1D69-4481-9B5E-09232BD724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D50-9EDB-4AAE-A0A9-89F172C7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D12-357E-4D25-9571-3E53735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A44-FB22-4A7E-941D-24845AF0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53E-924B-409D-96AD-8364790C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7D5-0F0D-47E8-A180-832B4ADF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7653-BDB0-4958-9C1A-8EDE7BB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F607-AF5D-4C94-A5CF-E09A974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B66-726F-4ACF-B7FB-8E44208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200F-540C-4442-BBEE-A6DDCB5F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0ED2-F035-4FB2-9914-3BBCD6D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2C4-0E0E-45C0-BC44-1C82A49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04B-F3AC-4F26-B552-50335B5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49C3-45AB-4441-BC46-258AB3C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2CD9-3FB0-4087-BD96-2E2CB1B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BECC-1A94-4BAE-BF35-A0AE6082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1F4-E3EB-4C9F-BF33-42558D1F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DBC8-1135-4DCB-8EBD-C36DA67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AC9D-4F80-47A6-B817-566578F4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705D-ACCF-4E16-8CF0-E9F5834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3040-CEA0-41AB-AE11-25383C0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897A-5FB5-4BF4-BADF-9F023E3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1F58-5F14-4E19-88FD-E8BECEE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DBA-1FD2-4678-A90E-318B12F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2ADB-4EAC-4384-B451-36A0596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F9E7-1DBE-4A87-A779-20EAC36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F419-1265-408D-8FC9-F96E537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E984-6ED7-4EDE-84B4-02DFCC5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A7CC-B7BC-4C40-B95D-D74557C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8784-085A-4441-B9FA-58E51B6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94B0-BBA4-4BDC-AF81-0157416A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82A7-23DF-45EF-812E-262B210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4EAC-3E5A-47B0-AFEC-8B7F0B90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20E6-1D09-4414-8069-79C9490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155-39F1-4965-8FDD-AEEF0B34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5488-D56F-48B5-9CF2-445F663F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14BD-E9E0-4BA7-B38B-36D127D0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F798-CB09-4106-B8DB-62B222F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0C5F-BC0F-41A9-87ED-CA054F2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3E77-8FAD-4F48-BD34-0A117F5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7430-FB51-4BFC-B0F3-F2A2510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E4B8-83D3-45D2-AA9F-8FA1A2E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48DC-836F-4123-AE6A-B04B5068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C60B-BDE0-4677-8466-52761C78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1065-1C8A-4213-9B55-EA5A3754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5DA-92FA-47B9-8365-085B4484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59F11-2C4F-41F3-AF92-FB2D994D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3E8F-D081-40A1-809E-4757974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5F26D-E7B3-46F4-867E-A8F823D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CF43-861F-44B0-BAE9-3A5F570A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1309-A62E-411A-A4B5-DB35636B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E88F-CE92-4113-ABC3-E2D7450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3337-F787-45E2-9BC7-21A9BFA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B042-3FCA-4E1B-AA70-717DF52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6190-7DB9-4865-8CEC-12C6F3E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DF7A-B5DF-4893-A79F-74039DE5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4CD-2FAF-4810-B77B-65C3B5E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2518-2608-447A-BA70-321871CC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516-BAD7-4F57-8148-220C6801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435-6C3B-48B8-9AEA-F41F82F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F84-06F2-454D-888A-2B61329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3E5-5717-4B74-87EA-BB04D85D70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2A7E-B4CA-4782-B1C7-CA9973B984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08C-0A51-4B64-9176-78A6A83936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063-C198-4BE5-9146-415FE850BD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3A44-3684-4732-BBC4-DE7FADBCA9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dviqnaroda.ru/" TargetMode="External"/><Relationship Id="rId2" Type="http://schemas.openxmlformats.org/officeDocument/2006/relationships/hyperlink" Target="http://www.podviqnaroda.ru/" TargetMode="External"/><Relationship Id="rId3" Type="http://schemas.openxmlformats.org/officeDocument/2006/relationships/hyperlink" Target="http://www.podviqnaroda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Users\Алёна\Desktop\2 Мои достижения Языкова\Дедушка Латкин Г.Д\Статья о Латкине Г.Д..jpg"/>
          <p:cNvPicPr/>
          <p:nvPr/>
        </p:nvPicPr>
        <p:blipFill>
          <a:blip r:embed="rId1"/>
          <a:stretch/>
        </p:blipFill>
        <p:spPr>
          <a:xfrm>
            <a:off x="500040" y="1857240"/>
            <a:ext cx="3786120" cy="4573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857160" y="3571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Великая Отечественная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истории семьи. Рассказ о прадедуш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4786200" y="350028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у 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зыкова Юл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ница 7а клас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У СОШ №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обществознания       Языкова     А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Users\Алёна\Desktop\Георгиевская-ленточка_2 - копия.jpg"/>
          <p:cNvPicPr/>
          <p:nvPr/>
        </p:nvPicPr>
        <p:blipFill>
          <a:blip r:embed="rId2"/>
          <a:stretch/>
        </p:blipFill>
        <p:spPr>
          <a:xfrm>
            <a:off x="4572000" y="2357280"/>
            <a:ext cx="4016520" cy="71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Алёна\Desktop\2 Мои достижения Языкова\Дедушка Латкин Г.Д\Латкин Г.Д.и команда - копия.jpg"/>
          <p:cNvPicPr/>
          <p:nvPr/>
        </p:nvPicPr>
        <p:blipFill>
          <a:blip r:embed="rId1"/>
          <a:stretch/>
        </p:blipFill>
        <p:spPr>
          <a:xfrm>
            <a:off x="1785960" y="2000160"/>
            <a:ext cx="568944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68" name="TextBox 5"/>
          <p:cNvGrpSpPr/>
          <p:nvPr/>
        </p:nvGrpSpPr>
        <p:grpSpPr>
          <a:xfrm>
            <a:off x="2176560" y="5888160"/>
            <a:ext cx="4651200" cy="531720"/>
            <a:chOff x="2176560" y="5888160"/>
            <a:chExt cx="4651200" cy="531720"/>
          </a:xfrm>
        </p:grpSpPr>
        <p:pic>
          <p:nvPicPr>
            <p:cNvPr id="269" name="TextBox 5" descr=""/>
            <p:cNvPicPr/>
            <p:nvPr/>
          </p:nvPicPr>
          <p:blipFill>
            <a:blip r:embed="rId2"/>
            <a:stretch/>
          </p:blipFill>
          <p:spPr>
            <a:xfrm>
              <a:off x="2176560" y="5888160"/>
              <a:ext cx="465120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286000" y="6000840"/>
              <a:ext cx="442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 – второй в среднем ряду, сле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ямоугольник 6"/>
          <p:cNvSpPr/>
          <p:nvPr/>
        </p:nvSpPr>
        <p:spPr>
          <a:xfrm>
            <a:off x="571680" y="500040"/>
            <a:ext cx="814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 горжусь сво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дедушкой Гришей – он настоящий ге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858000" y="214200"/>
            <a:ext cx="1801800" cy="714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3"/>
          <p:cNvSpPr/>
          <p:nvPr/>
        </p:nvSpPr>
        <p:spPr>
          <a:xfrm>
            <a:off x="428760" y="71424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материала использ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бабушки Ермачковой Ларисы Григорь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статьи «Быть достойными отцов и дедов завещал ветеран» Т.Кодзоковой, директора историко-краеведческого музея г.Прохл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сайта «Подвиг народа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3"/>
              </a:rPr>
              <a:t>podviqnaro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 семейного арх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материал будет оформлен в виде книжки и будет храниться в семье как семейная ц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456840"/>
            <a:ext cx="4929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сожалению, прадедушка умер когда мне исполнился 1 год и о нем мне рассказала моя бабушка Лариса Григорьевна, его дочь, а также у нас была статья из историко-краеведческого музея г.Прохладного КБР о подвиге прадедушки во время Великой Отечественн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кументов о наградах у нас не сохранило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мы обратились за помощью к сайту «Подвиг наро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де и нашли недостающие факты  военной биографии прадед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Алёна\Desktop\2 Мои достижения Языкова\Дедушка Латкин Г.Д\Латкин Г.Д. в форме - копия (2).jpg"/>
          <p:cNvPicPr/>
          <p:nvPr/>
        </p:nvPicPr>
        <p:blipFill>
          <a:blip r:embed="rId1"/>
          <a:stretch/>
        </p:blipFill>
        <p:spPr>
          <a:xfrm>
            <a:off x="5572080" y="500040"/>
            <a:ext cx="3067200" cy="568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Алёна\Desktop\2 Мои достижения Языкова\Дедушка Латкин Г.Д\Латкин Г.Д. в форме - копия.jpg"/>
          <p:cNvPicPr/>
          <p:nvPr/>
        </p:nvPicPr>
        <p:blipFill>
          <a:blip r:embed="rId1"/>
          <a:stretch/>
        </p:blipFill>
        <p:spPr>
          <a:xfrm>
            <a:off x="714240" y="714240"/>
            <a:ext cx="3522960" cy="5261040"/>
          </a:xfrm>
          <a:prstGeom prst="rect">
            <a:avLst/>
          </a:prstGeom>
          <a:ln w="0">
            <a:noFill/>
          </a:ln>
        </p:spPr>
      </p:pic>
      <p:grpSp>
        <p:nvGrpSpPr>
          <p:cNvPr id="234" name="TextBox 11"/>
          <p:cNvGrpSpPr/>
          <p:nvPr/>
        </p:nvGrpSpPr>
        <p:grpSpPr>
          <a:xfrm>
            <a:off x="884160" y="5248440"/>
            <a:ext cx="1401840" cy="744480"/>
            <a:chOff x="884160" y="5248440"/>
            <a:chExt cx="1401840" cy="744480"/>
          </a:xfrm>
        </p:grpSpPr>
        <p:pic>
          <p:nvPicPr>
            <p:cNvPr id="235" name="TextBox 11" descr=""/>
            <p:cNvPicPr/>
            <p:nvPr/>
          </p:nvPicPr>
          <p:blipFill>
            <a:blip r:embed="rId2"/>
            <a:stretch/>
          </p:blipFill>
          <p:spPr>
            <a:xfrm>
              <a:off x="884160" y="5248440"/>
              <a:ext cx="140184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000080" y="53578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4"/>
          <p:cNvSpPr/>
          <p:nvPr/>
        </p:nvSpPr>
        <p:spPr>
          <a:xfrm>
            <a:off x="4286160" y="1143000"/>
            <a:ext cx="414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одился прадедушка 2 мая 1920 года в Ставропольском крае. Прошел обучение в отряде Балтийского флота г.Кронштадт на машиниста трюмного 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ыл призван в ряды Красной армии Разинским райвоенкомиссариатом г.Баку 5 мая 1939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786720" y="50004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Алёна\Desktop\2 Мои достижения Языкова\Дедушка Латкин Г.Д\Латкин Г.Д. на корабле - копия.jpg"/>
          <p:cNvPicPr/>
          <p:nvPr/>
        </p:nvPicPr>
        <p:blipFill>
          <a:blip r:embed="rId1"/>
          <a:stretch/>
        </p:blipFill>
        <p:spPr>
          <a:xfrm>
            <a:off x="1428840" y="2643120"/>
            <a:ext cx="5857920" cy="3476520"/>
          </a:xfrm>
          <a:prstGeom prst="rect">
            <a:avLst/>
          </a:prstGeom>
          <a:ln w="0">
            <a:noFill/>
          </a:ln>
        </p:spPr>
      </p:pic>
      <p:grpSp>
        <p:nvGrpSpPr>
          <p:cNvPr id="240" name="TextBox 9"/>
          <p:cNvGrpSpPr/>
          <p:nvPr/>
        </p:nvGrpSpPr>
        <p:grpSpPr>
          <a:xfrm>
            <a:off x="2889360" y="5962680"/>
            <a:ext cx="1238040" cy="682560"/>
            <a:chOff x="2889360" y="5962680"/>
            <a:chExt cx="1238040" cy="682560"/>
          </a:xfrm>
        </p:grpSpPr>
        <p:pic>
          <p:nvPicPr>
            <p:cNvPr id="241" name="TextBox 9" descr=""/>
            <p:cNvPicPr/>
            <p:nvPr/>
          </p:nvPicPr>
          <p:blipFill>
            <a:blip r:embed="rId2"/>
            <a:stretch/>
          </p:blipFill>
          <p:spPr>
            <a:xfrm>
              <a:off x="2889360" y="5962680"/>
              <a:ext cx="1238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000240" y="6072120"/>
              <a:ext cx="100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адедушка Гриш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Прямоугольник 4"/>
          <p:cNvSpPr/>
          <p:nvPr/>
        </p:nvSpPr>
        <p:spPr>
          <a:xfrm>
            <a:off x="285840" y="35712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ую роль в его жизни и военной  службе играл Балтийский флот. Прадедушка прошел две войны советско-финляндскую 1939-1940 гг., служа в звании старшины  первой статьи Балтийского флота и Великую Отечественную войну командиром отделения трюмных машинистов на корабле-лидере «Ленинград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Users\Алёна\Desktop\Георгиевская-ленточка_2 - копия.jpg"/>
          <p:cNvPicPr/>
          <p:nvPr/>
        </p:nvPicPr>
        <p:blipFill>
          <a:blip r:embed="rId3"/>
          <a:stretch/>
        </p:blipFill>
        <p:spPr>
          <a:xfrm>
            <a:off x="6143760" y="2214720"/>
            <a:ext cx="2516040" cy="357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Users\Алёна\Desktop\2 Мои достижения Языкова\Дедушка Латкин Г.Д\о наградах\filterimage.jpg"/>
          <p:cNvPicPr/>
          <p:nvPr/>
        </p:nvPicPr>
        <p:blipFill>
          <a:blip r:embed="rId1"/>
          <a:stretch/>
        </p:blipFill>
        <p:spPr>
          <a:xfrm>
            <a:off x="428760" y="1500120"/>
            <a:ext cx="6067440" cy="1357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C:\Users\Алёна\Desktop\2 Мои достижения Языкова\Дедушка Латкин Г.Д\о наградах\filterimage (1).jpg"/>
          <p:cNvPicPr/>
          <p:nvPr/>
        </p:nvPicPr>
        <p:blipFill>
          <a:blip r:embed="rId2"/>
          <a:stretch/>
        </p:blipFill>
        <p:spPr>
          <a:xfrm>
            <a:off x="1643040" y="2857680"/>
            <a:ext cx="6500880" cy="2357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857160" y="50004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й прадедушка  Латкин Григо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виг настоящего гер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Алёна\Desktop\Вахта памяти\Лидер-Ленинград.jpg"/>
          <p:cNvPicPr/>
          <p:nvPr/>
        </p:nvPicPr>
        <p:blipFill>
          <a:blip r:embed="rId3"/>
          <a:stretch/>
        </p:blipFill>
        <p:spPr>
          <a:xfrm>
            <a:off x="1285920" y="5357880"/>
            <a:ext cx="6357960" cy="1162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6786720" y="142884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award10-sm"/>
          <p:cNvPicPr/>
          <p:nvPr/>
        </p:nvPicPr>
        <p:blipFill>
          <a:blip r:embed="rId1"/>
          <a:stretch/>
        </p:blipFill>
        <p:spPr>
          <a:xfrm>
            <a:off x="357120" y="2357280"/>
            <a:ext cx="1371600" cy="1320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Алёна\Desktop\Вахта памяти\вахта памяти2\дедушка гриша\award9_2-sm.png"/>
          <p:cNvPicPr/>
          <p:nvPr/>
        </p:nvPicPr>
        <p:blipFill>
          <a:blip r:embed="rId2"/>
          <a:stretch/>
        </p:blipFill>
        <p:spPr>
          <a:xfrm>
            <a:off x="7643880" y="3643200"/>
            <a:ext cx="1066680" cy="10540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8"/>
          <p:cNvSpPr/>
          <p:nvPr/>
        </p:nvSpPr>
        <p:spPr>
          <a:xfrm>
            <a:off x="1857240" y="2274840"/>
            <a:ext cx="671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этот подвиг, «за образцовое выполнение боевых заданий командования на фронте, борьбы с немецкими захватчиками и проявленные при этом доблесть и мужество» прадедушка был награжден Орденом «Красная звезда» (из наградного листа КЭКБФ №2 от I/V 1945г., сайт «Подвиг нар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:\Users\Алёна\Desktop\Сайт подвиг народа - копия.jpg"/>
          <p:cNvPicPr/>
          <p:nvPr/>
        </p:nvPicPr>
        <p:blipFill>
          <a:blip r:embed="rId3"/>
          <a:stretch/>
        </p:blipFill>
        <p:spPr>
          <a:xfrm>
            <a:off x="642960" y="571680"/>
            <a:ext cx="8001000" cy="15811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0"/>
          <p:cNvSpPr/>
          <p:nvPr/>
        </p:nvSpPr>
        <p:spPr>
          <a:xfrm>
            <a:off x="642960" y="38577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ом «Отечественной войны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» (№ наградного документа: 87, сайт «Подвиг народ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1"/>
          <p:cNvSpPr/>
          <p:nvPr/>
        </p:nvSpPr>
        <p:spPr>
          <a:xfrm>
            <a:off x="428760" y="4572000"/>
            <a:ext cx="82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же прадедушка был награжден медалью «За оборону Ленинграда», «За победу над Германией в Великой Отечественной Войне 1941-1945 гг.» и многими юбилейными меда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из статьи Т.Кодзоковой, директора историко-краеведческого музея г.Прохлад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6858000" y="5715000"/>
            <a:ext cx="180180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Алёна\Desktop\2 Мои достижения Языкова\Дедушка Латкин Г.Д\о наградах\1.jpg"/>
          <p:cNvPicPr/>
          <p:nvPr/>
        </p:nvPicPr>
        <p:blipFill>
          <a:blip r:embed="rId1"/>
          <a:stretch/>
        </p:blipFill>
        <p:spPr>
          <a:xfrm>
            <a:off x="714240" y="500040"/>
            <a:ext cx="3803760" cy="5281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:\filterimage.jpg"/>
          <p:cNvPicPr/>
          <p:nvPr/>
        </p:nvPicPr>
        <p:blipFill>
          <a:blip r:embed="rId2"/>
          <a:stretch/>
        </p:blipFill>
        <p:spPr>
          <a:xfrm>
            <a:off x="4857840" y="500040"/>
            <a:ext cx="3733560" cy="528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Алёна\Desktop\2 Мои достижения Языкова\Дедушка Латкин Г.Д\Латкин Г.Д. молокозавод - копия.jpg"/>
          <p:cNvPicPr/>
          <p:nvPr/>
        </p:nvPicPr>
        <p:blipFill>
          <a:blip r:embed="rId1"/>
          <a:stretch/>
        </p:blipFill>
        <p:spPr>
          <a:xfrm>
            <a:off x="6572160" y="2786040"/>
            <a:ext cx="2127240" cy="2928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Алёна\Desktop\2 Мои достижения Языкова\Дедушка Латкин Г.Д\Латкин Г.Д. Семейное - копия.jpg"/>
          <p:cNvPicPr/>
          <p:nvPr/>
        </p:nvPicPr>
        <p:blipFill>
          <a:blip r:embed="rId2"/>
          <a:stretch/>
        </p:blipFill>
        <p:spPr>
          <a:xfrm>
            <a:off x="2786040" y="2428920"/>
            <a:ext cx="3706920" cy="28573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6"/>
          <p:cNvSpPr/>
          <p:nvPr/>
        </p:nvSpPr>
        <p:spPr>
          <a:xfrm>
            <a:off x="500040" y="50004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 войны прадедушка женился на прабабушке Ковтуненко Надежде Семеновне. У них была большая дружная семья – 3 детей, 10 внуков и 2 правнучки. С 1958 года прадедушка проживал с семьей в поселке Гвардейское, Прохладненского района, КБР. Работал на молокозаводе мастером и зав.складом на предприятии по заготовке зерна и изготовлению комбикормов,  вышел на пенсию в возрасте 77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Users\Алёна\Desktop\2 Мои достижения Языкова\Дедушка Латкин Г.Д\Латкин Г.Д. Свадьба 4 - копия.jpg"/>
          <p:cNvPicPr/>
          <p:nvPr/>
        </p:nvPicPr>
        <p:blipFill>
          <a:blip r:embed="rId3"/>
          <a:stretch/>
        </p:blipFill>
        <p:spPr>
          <a:xfrm>
            <a:off x="428760" y="2786040"/>
            <a:ext cx="2217600" cy="3071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Алёна\Desktop\Георгиевская-ленточка_2 - копия.jpg"/>
          <p:cNvPicPr/>
          <p:nvPr/>
        </p:nvPicPr>
        <p:blipFill>
          <a:blip r:embed="rId4"/>
          <a:stretch/>
        </p:blipFill>
        <p:spPr>
          <a:xfrm>
            <a:off x="3000240" y="5500800"/>
            <a:ext cx="3143520" cy="71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642960" y="64296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ер прадедушка в мае 2002 года. После смерти прадедушки Гриши, прабабушка Надя передала его воспоминания и фотографии военных лет в историко-краеведческий музей г.Прохладный КБ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Алёна\Desktop\2 Мои достижения Языкова\Дедушка Латкин Г.Д\Лиаткин Г.Д. и Латкина Н.С. - копия.jpg"/>
          <p:cNvPicPr/>
          <p:nvPr/>
        </p:nvPicPr>
        <p:blipFill>
          <a:blip r:embed="rId1"/>
          <a:stretch/>
        </p:blipFill>
        <p:spPr>
          <a:xfrm>
            <a:off x="2071800" y="2214720"/>
            <a:ext cx="5153040" cy="3998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Алёна\Desktop\Георгиевская-ленточка_2 - копия.jpg"/>
          <p:cNvPicPr/>
          <p:nvPr/>
        </p:nvPicPr>
        <p:blipFill>
          <a:blip r:embed="rId2"/>
          <a:stretch/>
        </p:blipFill>
        <p:spPr>
          <a:xfrm>
            <a:off x="7000920" y="347760"/>
            <a:ext cx="1571760" cy="295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8:53:41Z</dcterms:created>
  <dc:creator>1</dc:creator>
  <dc:description/>
  <dc:language>en-US</dc:language>
  <cp:lastModifiedBy>Алёна</cp:lastModifiedBy>
  <dcterms:modified xsi:type="dcterms:W3CDTF">2015-02-08T15:15:00Z</dcterms:modified>
  <cp:revision>85</cp:revision>
  <dc:subject/>
  <dc:title>Слайд 1</dc:title>
</cp:coreProperties>
</file>