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CB4E-5F32-400A-B052-68C65F2B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084E-2747-480C-A8F3-F7A6C214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CCA25F-E005-4967-97F5-7A70AA16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717924-1211-4A69-B877-8605352A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AB031C-D60E-495E-9E83-3B0AE9A9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61D3C0-D5EC-4035-ABA9-94049981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26E008-9B47-4C92-973C-1734ABF0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6919E9-FC4F-447A-92AD-E347AF3C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06C4AF-2B49-469F-9527-882ACFC0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440C4F-14EC-43CA-82AA-A4063620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F34331-197F-4269-BDDC-FA7A57EC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BF582-0D0D-482D-AD26-63DD0D0F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9F5D-EA74-4378-9806-665C3FF6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EB5980-71A2-4BD8-B5C3-FCA13B90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6FAA5C-3BEA-4FFF-9841-6EEEA536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71C0D6-52D4-4FCC-A9A0-5B9C9E65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6EB624-CC04-47AD-A70E-09E28FAA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95515D-6B89-4F3B-856D-7BFF1E6C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F532EE-02E4-4D44-808E-14456F77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D9914A-2302-4FA7-8144-81E8CBAB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673497-2AA2-4A11-8F71-86AB694E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42E25F-A36C-467C-A7A5-579326AA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D0555E-8210-4CAA-88EC-B993FCB0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32DE-056C-48CB-933D-B5D3B173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8F8739-0B62-4933-89E4-EB71CFC4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72587-B87B-4A3C-B0E4-12A508E1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C56DD-E41B-44EF-A4E0-E02099D5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013DC-1F34-479B-8DB7-1B807294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BF2C0-A45C-4AC8-A5C5-1E58D7CE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7A144-1C7E-404E-9D05-51D1E5C2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1E9A6-5506-42D5-AE3D-82B43122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51A3A-8BC4-47C5-954D-11023C40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2E2C7-5E83-4438-89D3-FF1BB7F5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30D47-77C6-43AA-BC3C-C42C9476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4139-8A2B-4EA9-9D91-A34C993D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FBFB9-948B-49B1-AEFC-F3F2926E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63C1C-8861-4572-B8AA-18C27A40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80744-D4AE-4C2F-A9F7-3DA4ACE3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E60847-5266-412D-B4ED-14F14844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B9D151-BD9A-4B68-B0C7-AD5CEAAE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FFA416-F4C1-40F9-A083-4F99AEF4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E0996D-5294-438E-913A-EA09E3D0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F93B77-E119-4457-86E0-E9C7F52D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A7816C-EBE8-4DA2-8EAC-DC4C8526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C9A805-66D4-4E6B-B8C3-A566BDAD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5EC3-B921-4BA2-B264-677337C7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A057E4-1394-4FC0-A835-3CBF89E9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BC496E-7213-424D-9B76-49F96206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0C914F-8EA3-4B9B-97F4-2054C65E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BCB233-BEDE-4BDA-AFB2-26F31F21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505AA4-8F28-41C4-ABDB-161F135F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8A60-B97C-4A27-8910-2C501534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F535-0CB4-4C0F-9245-1650F3F1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CA5D-785D-4F3D-9F68-C413873D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68CD-8C72-4AB0-A777-7600B69C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0E01-3C09-4C63-B471-C1844854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2531-8DAD-4293-A1B2-11FC6C39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62D8-AD8A-4F7B-A224-5099AB4D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C0F1-87A9-443F-A1C0-48FF622C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9C4A-1F7D-45A1-A432-891B28A0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1B3E-B0CE-4461-864A-AF992F6F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9925-067C-41AB-A531-398434D3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5B6A0-674A-4546-82DD-4DD3333C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42D66-A61B-4837-B96B-5AD52098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43141-D11B-4A44-B23F-8DF2A521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E21B1-D59F-4F39-9443-45C362D4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6E34D-3A68-4C00-BB5F-6FEA02BB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D2E5-AC1A-44CD-BCF2-4CC31C12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26AD6-C78F-4987-8188-0CA30DFE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58327-A7F6-4C39-B358-B9806D5A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9CA84-594C-49B6-AFE9-1ADA2519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C50D8-E722-470F-AA52-612E6DC7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8601A-0C0F-4030-9EE1-4BDDDB3A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3D677-CB5B-46C7-9500-FDD4A998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BAFD5-42C0-4C18-B119-E66539F6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9CEE4-EEEC-4C2F-81E6-2108BA3F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6C5E2-0B07-42A9-B478-6C12F245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32DBA-07CB-4B45-A86B-641BC976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BB85-0985-4CCF-AE97-B7BFE157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5438F-5822-46F0-91CE-691628F6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84B64-56DC-47AB-B710-637DB70D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B4975-BD4E-4406-BBD0-4CE91420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4A584-BF04-479C-9CA3-094A7331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62C38-A450-40D6-B7C4-B6CDAE11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9638E-B48D-46A8-9673-2C370D2B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82078-4A9C-46C8-B444-D5CB9161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81780-3AFA-41C5-A2C8-28094481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4423C-5F1D-4FBD-9B2B-F2A7CDBA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8A061-CFF8-4CBF-ABC5-535B4A98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2D1C-482B-4058-B8C9-FB6DB2FC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23EF4-6D45-4357-B9FB-CC641615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C781D-53EA-47DA-8F22-B8CFC2C8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571AA-6F29-4F51-8E74-C7D37EC7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AE3DD-3B92-4546-97AA-E3FABC71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91A42-545A-4DD1-B1C8-D978E825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35F22-8E9E-45CB-97D9-72062911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3EA3E-C744-48BF-9219-D0DECD1C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A6176-5A0F-424E-A00D-C1C1BFDB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F680C-CE31-405C-A1CD-36310BF3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BBA94-CD1F-459E-9CDD-0C59BFAC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EDA2-C093-4B56-AF07-AFC8B439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70158-DC8F-4279-AB2A-7042C332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405F0-275B-4A78-9B9B-FD2BA28A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C8107-53E8-44CC-9165-57BF3F79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731DA-D7DC-4A29-B76A-76B317CA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73D2F-879D-42ED-8B85-52046CF4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F20CC-A944-40D7-9222-F6D06E49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5CC95-BF24-43FE-908C-C184B5CF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CA1EC-CD65-4C83-ACB9-FCBDE897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3644E-DB99-4CFA-940B-D3AD5368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37871-D73A-4870-902A-57AEA145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7C91-7B17-4194-89D3-E5A71FDB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D997B-6F6B-45FA-8CBB-942CFE46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9215C-5572-4CC7-BF2B-8E01431D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71BDF-F906-4B1F-A316-E3DBE2DE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59E38-9BC4-491B-8878-1522BE92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21205-E3BD-48D7-9536-2CB7376B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7A058-09E7-4056-8044-1635DE98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C137B-6B4E-41AD-8C5B-D48FFA7D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12BC4-9B16-4002-9CB1-CB78E759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BF15B-BCAC-4955-9BD9-589F9F1C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0D5CB-1684-4314-9840-A0A6DD7C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E8C-4D82-40AE-ACE9-C64C4A60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351BE-A6F5-4A35-BBBE-94BAE5DD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495F8-B78A-4B62-B5D1-9C08E46A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DC61F-DF13-4F6A-AB2C-D5FDA65C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6EAD6-DCDC-4121-8463-121FBFAA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9234B-E8AE-4F38-9889-DA07D2C9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DD8E3-41B3-4FB2-8004-6F751601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FE179-1388-4965-A2ED-CE22F1C2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E9A0E-1E56-460E-A78F-362DF5EA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5021D-7D3B-460F-B031-AE94F81E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D9736-F4F8-4C2D-87C6-921F94D3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FAC-4B94-416C-A1D1-52A0D2F6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921BC-A23B-4973-B282-9BA23E4C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96523-E177-4BDB-8586-3F14BC9C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A004B-9636-453C-89C8-84C3FFBF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2691B-299C-4AAB-B3DD-978E74B3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E38C6-ECA9-485D-AA5A-0EB0A373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E3F9C-E4EC-42D3-97C5-E2A1A8E5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4DB4B-E6E1-4E05-B44F-21BE0B38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5E98AC-BFDD-491D-8128-CC62D1C2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402604-A3B8-4D97-9409-A8E7D8D3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818E03-C858-4CC2-B18B-F318F03B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3F60-C1CE-4B80-A98C-9CB62E4E643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E2DD-A9E2-463B-B8B8-9239AA83B32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2467-677D-46C0-B6ED-CD4548F5E0A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BC41-19F9-4478-8D07-6B04FC8312B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22A0-25A3-484D-8D32-35DE36E0959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35EB-997C-4071-B756-939CA46C220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53EF-8D13-4A3F-9FE9-966259F7C6A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9AB9-29EE-498A-A8E9-CE3ECFDD373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F7CD-AE44-4D2E-B912-2A7F5C3C200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ABA7-FDC6-4FF2-AB65-E59080BE9CC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BF78-7244-4C50-A50E-4769F6854AB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7C78-08C8-4A52-94CD-DA7563D73C5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6571800" y="5429160"/>
            <a:ext cx="21430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26"/>
                </a:solidFill>
                <a:latin typeface="Georgia"/>
              </a:rPr>
              <a:t>НИКИТЕНКО О.Д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26"/>
                </a:solidFill>
                <a:latin typeface="Georgia"/>
              </a:rPr>
              <a:t>УЧИТЕЛЬ БИОЛОГИИ ВЫСШЕЙ КАТЕГОРИИ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Задания ЕГЭ </a:t>
            </a:r>
            <a:br>
              <a:rPr sz="3800"/>
            </a:b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«Экологические факторы среды».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9). Установите соответствие между характеристикой среды и её фактором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  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ХАРАКТЕРИСТИКА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ФАКТОРЫ СРЕДЫ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А) 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остоянство газового состава атмосферы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Б) 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изменение толщины озонового экрана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В) 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изменение влажности воздуха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Г) 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изменение численности консументов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Д) 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изменение численности продуцентов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Е) 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увеличение численности паразитов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биотические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абиотические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0). К сокращению численности травянистых растений в лесу могут привести следующие антропогенные факторы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величение численности лосей и зубр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ытаптывание растений туриста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величение нор грызун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бор редких растений для букет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5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ырубка дуплистых деревье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6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агрязнение среды обитания растен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1). Основной ограничивающий фактор для растений в степной зоне –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ысокая температур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едостаток влаг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тсутствие перегно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льтрафиолетовые луч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2). Действие антропогенного фактора на живую природу не носит закономерного характера, поэтому у организм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стоянно возникают мута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е сформировались к нему приспособл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ыработались к нему защитные реак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ольшинство мутаций сохраняется естественным отборо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3). Ведущую роль в сокращении рыбных запасов Мирового океана сыграли фактор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нтропогенны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биотическ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иотическ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лиматическ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4). Воздействие друг на друга организмов одного или разных видов относят к фактора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биотически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иотически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нтропогенны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граничивающи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5). Бе́лки, как правило, обитают в хвойном лесу и питаются преимущественно семенами ели. Какие биотические факторы могут привести к сокращению численности популяции белок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6. Факторы, значение которых выходит за пределы выносливости организмов, называютс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кологически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биотически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нтропогенны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граничивающи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7. К биотическим факторам среды относя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оздание заповедник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злив рек при половодь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грызание зайцами коры деревье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днятие грунтовых вод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8. Один из факторов, поддерживающих равновесие в биосфере, –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знообразие видов и взаимоотношений между ни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испособленность к среде обита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езонные изменения в природ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естественный отбор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 Антропогенными называют фактор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вязанные с деятельностью челове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биотического характер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иотического характер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пределяющие функционирование агроценоз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9. Коротковолновые ультрафиолетовые лучи являютс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лезными для живых клето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иотическими фактора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факторами мутагенез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еобходимым условием для жизн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0. К абиотическим факторам относя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дрывание кабанами корн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ильный снегопад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стительный опад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ашествие саранч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 К абиотическим факторам относя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дрывание кабанами корн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ашествие саранч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разование колоний птиц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ильный снегопад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. Фактор, ограничивающий рост травянистых растений в еловом лесу, – недостато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вет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тепл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од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инеральных вещест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. Антропогенным изменением в экосистеме степи считаю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формирование черноземных поч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лебания численности грызун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редование сухих и влажных период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арушение растительного покрова вследствие распашки степ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5). Ограничивающим фактором для жизни растений на больших глубинах является недостато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щ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тепл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вет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ислород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6). Среди экологических факторов укажите биотически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аводн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нкуренция между особями вид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нижение температур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хищничеств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5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едостаток свет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6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разование микориз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7). Все виды деятельности человека относят к фактора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биотически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иотически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нтропогенны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ериодически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8). К биотическим компонентам экосистемы относя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газовый состав атмосфер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остав и структуру почв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собенности климата и погод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одуцентов, консументов, редуцент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6:40:33Z</dcterms:created>
  <dc:creator>Сергей</dc:creator>
  <dc:description/>
  <dc:language>en-US</dc:language>
  <cp:lastModifiedBy>Сергей</cp:lastModifiedBy>
  <dcterms:modified xsi:type="dcterms:W3CDTF">2015-02-08T08:00:40Z</dcterms:modified>
  <cp:revision>4</cp:revision>
  <dc:subject/>
  <dc:title>Задания ЕГЭ  «Экологические факторы среды».</dc:title>
</cp:coreProperties>
</file>