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C9B1-9B3F-41B5-A39A-58D91AA3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17D4-9D30-4BDD-B734-49DB59BE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C324AA-D732-44C6-BBDF-2BDF459B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62AEBE-54AD-4416-8E04-4D0A435A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D18E0B-E6DE-4702-B84A-859701AB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B0441B-6B95-4D7A-B1CC-9804697B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3D6820-9B72-4B51-AB64-800510B3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DBA941-25A1-4324-870F-E195BE86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A3F53A-F40F-41C2-86CC-48CBA8CD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D1EDC1-A978-4822-82A8-47A8D5D4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825812-695D-4DCA-A65A-9439810C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DA53EB-9FEF-413E-B53B-EAEB391E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0A96-DDFD-425B-86D9-971E6823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92F73C-6692-4244-A7C3-07D2A92A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B2F386-1664-4C65-ADD0-99EE580F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851E59-645C-49E0-811A-09A8DD08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8A7415-6C89-4D42-9866-B5FA980D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5B5B0F-2AD2-4636-A005-D0C1579F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5ADFC0-D298-4CAB-8A8A-226814D4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1A2F7B-6B8C-4A7A-B6B4-DB37AC52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ADAC6C-8D1B-4950-A07B-3A6EBE87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B72060-DF37-428A-97AB-D84D6E38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C362D0-79BC-4F5F-82C8-FF45297D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03CF-F94F-49B2-AB6E-386265CE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2173E2-2ED8-49C7-8316-7CFBA7D7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04E37-4369-47DD-A386-AD9D90ED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76E4F-92B6-4EC7-A243-8ECB2F5F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DF346-D583-40CD-85AE-35B95596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22542-8085-471D-A7B7-827869B5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956A1-C653-4E85-8433-2276E3AA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C5BEB-F414-4EE1-AAF7-C7F25095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EB2BD-F932-441D-941B-FC3D54D4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ED52F-9119-4105-B4F9-6EB4E96B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2C491-E1C2-44DA-9010-B67D1FEB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A812-61F0-4579-AC0A-4B290A0E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02E89-F60B-41A5-98C7-27CD10DD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9BB02-48E5-4895-ADAB-8ECA1A1A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24568-BE5D-4DD3-9345-387F0749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AC8625-941E-4D24-9AF4-28769E78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940E7B-0846-4471-8E8C-C504B1A0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6FAD9A-9505-47C9-843A-C25F1F21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0665DC-9D3A-43F7-A81A-7F0F7A4D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4B3BF4-015A-47BF-B05A-1F93DA24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9696AF-B5FC-4BDE-8157-6EA187DC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662ACA-A8C4-4EE2-A7DB-E50936C4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60F6-48EF-46E4-BED3-23B02830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2457FE-9622-4C3A-BD9E-56604CC1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4CD8BA-D287-41F7-B3E4-D2163F0B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A61E70-2985-410A-9E76-AE76410A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3C230A-7CEB-4A8D-A063-2C6573FF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A9CAFB-47E6-46B3-9BD3-1B4DE560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6574-7846-4C0E-B81A-1BC2BFF3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47B1-D084-4666-A80A-B78738F2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8123-69A6-4098-8658-D0169A69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75B6-9440-4F6C-8727-AFBA3072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A572-89AE-4EAF-9BE3-C26FB439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689C-DEC0-4025-961B-277DC90D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2EDD-8F37-4B14-82A5-0FFECE0D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C298-8D08-478B-A9A3-834B3C62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9C41-98C8-4709-9FAA-EC83170F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2960-E0E8-4A74-A88C-45619F00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1DEE-3F3B-4573-AFA8-F226705C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66CBD-948A-44F6-B715-09C60010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CAC3C-CD37-42E4-A15A-B0A20F92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C248D-E38D-4262-981D-6FB5D909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EDC56-7F2B-404A-8896-113DB911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12F78-D782-47D1-855D-68380902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387F-4C56-4938-BE1B-891D41D7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BE271-BD08-4B53-A891-DD39159E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82A40-5AA2-4A9C-97E9-4C392AD5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0268E-61E1-4262-9F19-306198D7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5E94C-44DA-4B95-8E97-083000FB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9B78D-4886-4922-AC8B-0F1F2C0A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4CE21-04A7-452B-A846-0DA1FD9B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8552E-264A-436C-A7BA-54D76C71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D387A-59A1-45AF-B8EE-5FCD0A52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2F8E9-08BC-4C6D-8511-DBC25E41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95C68-757B-4F36-9D4A-80E85FC7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2D11-B0F5-4C0B-ABBD-C3BCCB88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9EB69-A11E-4F11-8914-6E1D9B92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7D1C4-8804-478F-8977-B71B5756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B27BD-2755-4985-8605-B67AFD3C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8A8E2-057C-4BE0-BCC6-449CB5FE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71891-1750-484A-9E65-A9D4B2AA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35BAF-0F97-4197-AE29-312EAF57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65850-EE0D-4923-98AE-D0D83B01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D007B-7D05-4922-858B-17BDCCFF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2E13E-352A-428A-9D73-00AD5AFB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F19F4-F7D6-4762-8B22-535C2CE63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1A94-E3A0-4C9A-B0E3-E7615341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4455A-A87D-4255-ADC9-6E95F87B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072C9-001A-46E0-8CFD-9D2399E6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A28B9-0ED8-4C2A-9A2D-87DB20CC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FE2D3-2C68-45D1-8483-FEFA104E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8329C-2820-406D-9ADA-4EF71792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134AE-BB7A-403D-8BA5-76E8D05E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CEE16-3436-4E67-B07E-7FF4E590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A1B3E-8811-402D-B633-BC0A4804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86F5D-EC36-4C0A-8FC1-49F8E594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7F9ED-5C0F-4A08-9616-4780B217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D6D9-1D2F-40D3-960A-314AC00C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F0FFE-D56C-4F86-B8CD-FD550E80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FBD29-DCBB-456A-A94C-38843ACE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2D0AE-71DD-4E65-BCC7-23458B25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620AC-56E9-42E4-95C5-4D8EA0CA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89439-ACD7-435A-A9E6-3F074DB4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5040B-9097-4358-979A-D8BA3CB0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C9B44-6C6F-4752-A40A-1F20491D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4127B-FA0C-42CF-B129-D4674DCA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C4C9F-AC00-41B5-8C86-06460220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C4F79-ADF2-4E4F-A814-0DD108CF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A297-B56E-4614-AE11-FDD076A4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48F7C-B30F-4017-A915-C837E79F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8DC99-AC40-4262-B510-BF776614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FC21C-7B33-4A73-88FE-F324C712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B3E9A-33CC-49AF-9DA2-717D99C5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B0159-899D-4190-A888-AC284637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05605-6124-4F10-BB3B-D2105029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25AAD-F3A7-4331-B73A-3CCD6D53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E54A1-897E-4119-A3C6-693472C2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F88EB-0ED6-43FA-93AB-8CBA2976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A6580-E6E9-4CA0-9EEF-5E8F065E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0431-009F-404A-BBE3-9812D9D7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E75B5-6775-44CF-BCC6-5EE00402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4DE64-FDAA-4C9D-81AC-C1E9CF78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4451B-8F0A-4DDD-B014-6B16418D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CBE4E-8503-48A9-ADC3-054C9783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48154-823E-4F7F-881B-28C1EF32D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2DAA7-3F92-42EC-8037-37B2DE89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94196-A2FB-43D1-8716-D935F0C8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902C1-6E2E-495C-A8D1-CABD2746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BCE6C-A7CB-433D-807D-C4E8C0FC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8C9C6-2853-48B2-AD01-6B9DB204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3D10-F332-42C5-9A93-541DD462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D9212-E5B7-4A48-9137-6128B31A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F39C5-9A27-42D9-AA84-82B7864A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5F53A-F7A2-4297-BC2E-2C983C87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15F25-9546-4A39-9EB4-07E0292D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F853C-015E-4AFB-AC27-99835E0A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D5909-C306-42DE-8AFA-6637E9C9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08FA5-4B33-4A3F-8AD9-9AC221BB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F48356-6C31-46AC-B8FC-3B9CE654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BEC3CF-26BB-424E-B4DC-718F98BD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7A214B-FD8B-40B7-AFD5-E3821197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B55A-EE25-43FF-829E-2C0A6359065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13D4-2A66-4C89-A570-A4EB7186A1A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45C0-C45D-49E3-83E6-F6D69954AEA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E1CF-ABB1-4396-814A-FE5748803F5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33DC-536D-451A-AE69-2FEFBDB6377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DF5A-FDD2-4BBF-8354-85B8313197F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D861-259C-4AE6-9A69-0F9B7E2B810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2C40-1C84-4964-8DED-D0370575C92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9F3E-AA23-42D5-968E-CFEB0EAB91A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F9EB-94BA-4F86-B2AC-9E72348BB21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A5F5-AECE-4554-802D-C3D5EE6C35C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3C74-CC49-4316-9BB9-1596D550014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6571800" y="5429160"/>
            <a:ext cx="21430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26"/>
                </a:solidFill>
                <a:latin typeface="Georgia"/>
              </a:rPr>
              <a:t>НИКИТЕНКО О.Д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26"/>
                </a:solidFill>
                <a:latin typeface="Georgia"/>
              </a:rPr>
              <a:t>УЧИТЕЛЬ БИОЛОГИИ ВЫСШЕЙ КАТЕГОРИИ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Задания ЕГЭ </a:t>
            </a:r>
            <a:br>
              <a:rPr sz="3800"/>
            </a:b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«Экологические факторы среды».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9). Установите соответствие между характеристикой среды и её фактором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  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Georgia"/>
              </a:rPr>
              <a:t>ХАРАКТЕРИСТИКА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Georgia"/>
              </a:rPr>
              <a:t>ФАКТОРЫ СРЕДЫ</a:t>
            </a: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А) 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остоянство газового состава атмосферы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Б) 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изменение толщины озонового экрана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В) 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изменение влажности воздуха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Г) 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изменение численности консументов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Д) 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изменение численности продуцентов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Е) 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увеличение численности паразитов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биотические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абиотические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0). К сокращению численности травянистых растений в лесу могут привести следующие антропогенные факторы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величение численности лосей и зубр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ытаптывание растений туриста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величение нор грызун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бор редких растений для букет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5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ырубка дуплистых деревье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6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агрязнение среды обитания растен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1). Основной ограничивающий фактор для растений в степной зоне –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ысокая температур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едостаток влаг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тсутствие перегно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льтрафиолетовые луч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2). Действие антропогенного фактора на живую природу не носит закономерного характера, поэтому у организм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стоянно возникают мутац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е сформировались к нему приспособле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ыработались к нему защитные реакци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ольшинство мутаций сохраняется естественным отборо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3). Ведущую роль в сокращении рыбных запасов Мирового океана сыграли фактор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нтропогенны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биотическ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иотическ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лиматическ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4). Воздействие друг на друга организмов одного или разных видов относят к фактора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биотически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иотически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нтропогенны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граничивающи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5). Бе́лки, как правило, обитают в хвойном лесу и питаются преимущественно семенами ели. Какие биотические факторы могут привести к сокращению численности популяции белок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6. Факторы, значение которых выходит за пределы выносливости организмов, называютс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кологически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биотически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нтропогенны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граничивающи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7. К биотическим факторам среды относя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оздание заповедник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злив рек при половодь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грызание зайцами коры деревье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днятие грунтовых вод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8. Один из факторов, поддерживающих равновесие в биосфере, –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знообразие видов и взаимоотношений между ни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испособленность к среде обитан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езонные изменения в природ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естественный отбор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 Антропогенными называют фактор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вязанные с деятельностью челове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биотического характер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иотического характер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пределяющие функционирование агроценоз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9. Коротковолновые ультрафиолетовые лучи являютс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лезными для живых клето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иотическими фактора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факторами мутагенез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еобходимым условием для жизн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0. К абиотическим факторам относя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дрывание кабанами корне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ильный снегопад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стительный опад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ашествие саранч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 К абиотическим факторам относя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дрывание кабанами корне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ашествие саранч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разование колоний птиц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ильный снегопад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. Фактор, ограничивающий рост травянистых растений в еловом лесу, – недостато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вет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тепл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од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инеральных вещест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. Антропогенным изменением в экосистеме степи считаю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формирование черноземных поч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лебания численности грызун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ередование сухих и влажных период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арушение растительного покрова вследствие распашки степ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5). Ограничивающим фактором для жизни растений на больших глубинах является недостато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ищ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тепл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вет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ислород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6). Среди экологических факторов укажите биотически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аводнени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нкуренция между особями вид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нижение температур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хищничеств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5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едостаток свет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6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разование микориз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7). Все виды деятельности человека относят к фактора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биотически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иотически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нтропогенны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ериодически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8). К биотическим компонентам экосистемы относя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газовый состав атмосфер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остав и структуру почв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собенности климата и погод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  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4) 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одуцентов, консументов, редуцент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16:40:33Z</dcterms:created>
  <dc:creator>Сергей</dc:creator>
  <dc:description/>
  <dc:language>en-US</dc:language>
  <cp:lastModifiedBy>Сергей</cp:lastModifiedBy>
  <dcterms:modified xsi:type="dcterms:W3CDTF">2015-02-08T08:00:40Z</dcterms:modified>
  <cp:revision>4</cp:revision>
  <dc:subject/>
  <dc:title>Задания ЕГЭ  «Экологические факторы среды».</dc:title>
</cp:coreProperties>
</file>